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EEB-D75A-4ED5-A703-8728E42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2BD-452B-465F-AFB5-24061337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2D6-F736-4C75-BBC6-C7016C95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3E8-46C1-48EA-84D2-7BA2C313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345-F8D2-4079-B1D3-9550E05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5D1-32B1-46E4-9A8D-B4C84E4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BDE-E800-4AF2-AC54-7B29A0CC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AC5-82A0-4336-9797-6BB6C73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12F-245E-4688-9B37-8464D101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3E9-84F5-4DF9-B8A0-076CDB4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4EA-33D4-40A0-A480-0B250F1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10D-83F5-4C60-9095-9936B49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764-E42C-4B21-94E2-DCDD0F0E2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3.bp.blogspot.com/_3d6pKaCCQHM/R9hBQoE6VmI/AAAAAAAAAak/CWkiZtUIsB8/s1600-h/&#1088;&#1091;&#1095;&#1077;&#1081;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p_Scroll"/>
          <p:cNvPicPr/>
          <p:nvPr/>
        </p:nvPicPr>
        <p:blipFill>
          <a:blip r:embed="rId1"/>
          <a:stretch/>
        </p:blipFill>
        <p:spPr>
          <a:xfrm>
            <a:off x="539640" y="692280"/>
            <a:ext cx="8352000" cy="5113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71640" y="148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профориентационной работы в школьном коллект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587600" y="4102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стова Татьяна Михайловна, учитель физ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 « Белоярская С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LOGGER_PHOTO_ID_5176959525554116194" descr="http://3.bp.blogspot.com/_3d6pKaCCQHM/R9hBQoE6VmI/AAAAAAAAAak/CWkiZtUIsB8/s400/%D1%80%D1%83%D1%87%D0%B5%D0%B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  <p:pic>
        <p:nvPicPr>
          <p:cNvPr id="48" name="Track No04.mp3" descr=""/>
          <p:cNvPicPr/>
          <p:nvPr/>
        </p:nvPicPr>
        <p:blipFill>
          <a:blip r:embed="rId3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02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учение в школе – это лишь ступенька, готовящая школьников к профессиональной деятельности. Успех в профессиональной деятельности во многом зависит от основательного и разумного выбора профессии. Поэтому, систематическое знакомство школьников с профессиями необходимо проводить через интеграцию урочной и внеурочной деятельности, где школьникам предоставлена возможность выбора занятий по интер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учителя по организации профориента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ссный час- соревнование «Профессии наших родителей»- 5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тречи с представителями разных профессий – 6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курсная программа, посвящённая пословицам о труде. – 7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творческих работ «Все работы хоро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на пред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й мастер- класс «Дорога в страну 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 класс - КВН «Много профессий хороших и разны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ошибки при выборе професси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10 самых востребованных профессий»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мастерские «Путь к успех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мастер-класс «Дорога в страну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образовательных ярмарок и выста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в учебные заведения С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на предприя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творческих работ «Все работы хорош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работы 2013-2014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о индивидуальным траекториям выбрали – 11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церкович А, Варлаков М, Горпенченко В, Пылик Д физика, математика; Морозова З, Мухортова Д, Клименко Я, Колесникова В, Сухарева А биология, химия; Гоппе А, Путинцева К обществозн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базовом уровне – 5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джи – 3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 – 10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0A493C9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415880" y="1484280"/>
            <a:ext cx="69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еча ничего не теряет, если от ее пламени зажглась другая свеч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84  P.Mauriat - Love is blue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93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9:14:15Z</dcterms:created>
  <dc:creator>админ</dc:creator>
  <dc:description/>
  <dc:language>en-US</dc:language>
  <cp:lastModifiedBy>Админ</cp:lastModifiedBy>
  <dcterms:modified xsi:type="dcterms:W3CDTF">2015-08-12T11:39:07Z</dcterms:modified>
  <cp:revision>9</cp:revision>
  <dc:subject/>
  <dc:title>Слайд 1</dc:title>
</cp:coreProperties>
</file>