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42B-8CEB-4C6E-8200-88B2C31D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24D-A385-4D37-B3D8-CFDB82CD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19C-CF7C-4F61-BE78-1842A39E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197-7ADB-4D7F-A107-075BC8C9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BA1-C845-4900-B43B-ECF8C1A0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F3E-D65F-4D2C-9DDD-C131E923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D37-9F00-4DB4-8A0E-1A05DD20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CF8-C488-4178-980C-D5F214F2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8F2-1172-4A25-8208-92720F63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085-AA37-4AF1-B7DD-90DE927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A71-E6AF-4A79-AA37-02750548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527-5319-411A-BE21-8B096B7B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2EAD-0675-4935-BDD2-1F721CC5D5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3.bp.blogspot.com/_3d6pKaCCQHM/R9hBQoE6VmI/AAAAAAAAAak/CWkiZtUIsB8/s1600-h/&#1088;&#1091;&#1095;&#1077;&#1081;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p_Scroll"/>
          <p:cNvPicPr/>
          <p:nvPr/>
        </p:nvPicPr>
        <p:blipFill>
          <a:blip r:embed="rId1"/>
          <a:stretch/>
        </p:blipFill>
        <p:spPr>
          <a:xfrm>
            <a:off x="539640" y="692280"/>
            <a:ext cx="8352000" cy="5113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971640" y="148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профориентационной работы в школьном коллект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587600" y="4102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стова Татьяна Михайловна, учитель физик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 « Белоярская С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BLOGGER_PHOTO_ID_5176959525554116194" descr="http://3.bp.blogspot.com/_3d6pKaCCQHM/R9hBQoE6VmI/AAAAAAAAAak/CWkiZtUIsB8/s400/%D1%80%D1%83%D1%87%D0%B5%D0%B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49360"/>
            <a:ext cx="8209080" cy="5904000"/>
          </a:xfrm>
          <a:prstGeom prst="rect">
            <a:avLst/>
          </a:prstGeom>
          <a:ln w="0">
            <a:noFill/>
          </a:ln>
        </p:spPr>
      </p:pic>
      <p:pic>
        <p:nvPicPr>
          <p:cNvPr id="48" name="Track No04.mp3" descr=""/>
          <p:cNvPicPr/>
          <p:nvPr/>
        </p:nvPicPr>
        <p:blipFill>
          <a:blip r:embed="rId3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302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бучение в школе – это лишь ступенька, готовящая школьников к профессиональной деятельности. Успех в профессиональной деятельности во многом зависит от основательного и разумного выбора профессии. Поэтому, систематическое знакомство школьников с профессиями необходимо проводить через интеграцию урочной и внеурочной деятельности, где школьникам предоставлена возможность выбора занятий по интер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ятельность учителя по организации профориентац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ассный час- соревнование «Профессии наших родителей»- 5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тречи с представителями разных профессий – 6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курсная программа, посвящённая пословицам о труде. – 7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 творческих работ «Все работы хорош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 на предпри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ой мастер- класс «Дорога в страну професс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7 класс - КВН «Много профессий хороших и разных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ошибки при выборе професси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10 самых востребованных профессий»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мастерские «Путь к успех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й мастер-класс «Дорога в страну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образовательных ярмарок и выста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 в учебные заведения С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 на предприят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творческих работ «Все работы хорош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 работы 2013-2014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по индивидуальным траекториям выбрали – 11 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церкович А, Варлаков М, Горпенченко В, Пылик Д физика, математика; Морозова З, Мухортова Д, Клименко Я, Колесникова В, Сухарева А биология, химия; Гоппе А, Путинцева К обществозн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на базовом уровне – 5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джи – 3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 – 10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0A493C9"/>
          <p:cNvPicPr/>
          <p:nvPr/>
        </p:nvPicPr>
        <p:blipFill>
          <a:blip r:embed="rId1"/>
          <a:stretch/>
        </p:blipFill>
        <p:spPr>
          <a:xfrm>
            <a:off x="755640" y="404640"/>
            <a:ext cx="7848720" cy="5977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415880" y="1484280"/>
            <a:ext cx="69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еча ничего не теряет, если от ее пламени зажглась другая свеч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84  P.Mauriat - Love is blue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493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9:14:15Z</dcterms:created>
  <dc:creator>админ</dc:creator>
  <dc:description/>
  <dc:language>en-US</dc:language>
  <cp:lastModifiedBy>Админ</cp:lastModifiedBy>
  <dcterms:modified xsi:type="dcterms:W3CDTF">2015-08-12T11:39:07Z</dcterms:modified>
  <cp:revision>9</cp:revision>
  <dc:subject/>
  <dc:title>Слайд 1</dc:title>
</cp:coreProperties>
</file>