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8A0-1E90-4AB9-B84A-FB390F006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D12-D740-4F08-969E-209CA54D6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196B-B745-4862-968A-D11AAEB9C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2104-1151-4FA9-93CF-517BC7DDB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B45-B771-49AF-B6FB-2F0115B77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E94-2377-4D56-BA96-7992B8933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C59-535E-46D4-A945-151012DC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E3B-9437-4B0C-BDF1-9CAE828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AD1-4A11-4EEB-B339-A4B3283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BE7-C4D8-4871-970D-7538AC28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662F-BA98-4FDA-9917-7E8B1057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2D25-28F4-4109-8423-72D8C279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C082-8C27-442B-8685-642C6C0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02B6-7646-4822-B191-AED2FD8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3C03-C009-47A5-AC92-0FF2F60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FDA-A826-4F1E-9506-DE5DA75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B59-CBB7-45FA-92E2-EDA347A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E95-6769-42E6-B72B-86C6D7D1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F4F-D499-4668-99C2-6F1CCBD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3D65-EC3D-4F72-B784-9A07FA6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D132-54F6-4181-A3D0-43AAB34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E87B-D94D-43E4-9033-0F2D0F2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C77-F880-44E2-91E2-685257C2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BBE-C2E0-49AF-8912-5127A4C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31D-B043-49EC-B5DF-CBEAFD6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F50-8CAF-4A79-81B5-7E72A9F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42A-7F7F-4499-BC89-E1306425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D66-4AF8-47CC-A829-6648B60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330-E1D2-4FD4-BA74-C5CEF46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4C-B24C-4398-A8E8-6E29057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712-CCCA-4D7B-968F-E2E35C81F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FF4-A1E3-4628-A044-737854E65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59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1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20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68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2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2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30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33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3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808BE9F0"/>
          <p:cNvPicPr/>
          <p:nvPr/>
        </p:nvPicPr>
        <p:blipFill>
          <a:blip r:embed="rId1"/>
          <a:srcRect l="50104" t="68424" r="37396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378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46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Users\1\Desktop\1475273_html_m36c5381b.jpg"/>
          <p:cNvPicPr/>
          <p:nvPr/>
        </p:nvPicPr>
        <p:blipFill>
          <a:blip r:embed="rId1"/>
          <a:srcRect l="39831" t="39518" r="20221" b="4988"/>
          <a:stretch/>
        </p:blipFill>
        <p:spPr>
          <a:xfrm>
            <a:off x="7391520" y="2050920"/>
            <a:ext cx="1517400" cy="1594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1\Desktop\img30.jpg"/>
          <p:cNvPicPr/>
          <p:nvPr/>
        </p:nvPicPr>
        <p:blipFill>
          <a:blip r:embed="rId2"/>
          <a:srcRect l="43955" t="42337" r="0" b="15005"/>
          <a:stretch/>
        </p:blipFill>
        <p:spPr>
          <a:xfrm>
            <a:off x="2916360" y="2030400"/>
            <a:ext cx="1792080" cy="1023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C:\Users\1\Desktop\1043533_html_45302eca.png"/>
          <p:cNvPicPr/>
          <p:nvPr/>
        </p:nvPicPr>
        <p:blipFill>
          <a:blip r:embed="rId3"/>
          <a:srcRect l="32840" t="42875" r="0" b="0"/>
          <a:stretch/>
        </p:blipFill>
        <p:spPr>
          <a:xfrm>
            <a:off x="3921120" y="1925640"/>
            <a:ext cx="2054160" cy="1128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C:\Users\1\Desktop\1043533_html_68db26cd.png"/>
          <p:cNvPicPr/>
          <p:nvPr/>
        </p:nvPicPr>
        <p:blipFill>
          <a:blip r:embed="rId4"/>
          <a:srcRect l="58731" t="50019" r="0" b="0"/>
          <a:stretch/>
        </p:blipFill>
        <p:spPr>
          <a:xfrm>
            <a:off x="6300720" y="2030400"/>
            <a:ext cx="1382760" cy="1001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1\Desktop\img51.jpg"/>
          <p:cNvPicPr/>
          <p:nvPr/>
        </p:nvPicPr>
        <p:blipFill>
          <a:blip r:embed="rId5"/>
          <a:srcRect l="48297" t="41153" r="10606" b="20057"/>
          <a:stretch/>
        </p:blipFill>
        <p:spPr>
          <a:xfrm>
            <a:off x="5057640" y="2050920"/>
            <a:ext cx="1417680" cy="1003320"/>
          </a:xfrm>
          <a:prstGeom prst="rect">
            <a:avLst/>
          </a:prstGeom>
          <a:ln w="0">
            <a:noFill/>
          </a:ln>
        </p:spPr>
      </p:pic>
      <p:sp>
        <p:nvSpPr>
          <p:cNvPr id="396" name="Овал 6"/>
          <p:cNvSpPr/>
          <p:nvPr/>
        </p:nvSpPr>
        <p:spPr>
          <a:xfrm>
            <a:off x="3276720" y="3138480"/>
            <a:ext cx="21888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6"/>
          <p:cNvSpPr/>
          <p:nvPr/>
        </p:nvSpPr>
        <p:spPr>
          <a:xfrm>
            <a:off x="4379760" y="315756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18"/>
          <p:cNvSpPr/>
          <p:nvPr/>
        </p:nvSpPr>
        <p:spPr>
          <a:xfrm>
            <a:off x="661680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19"/>
          <p:cNvSpPr/>
          <p:nvPr/>
        </p:nvSpPr>
        <p:spPr>
          <a:xfrm>
            <a:off x="7765920" y="315108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0"/>
          <p:cNvSpPr/>
          <p:nvPr/>
        </p:nvSpPr>
        <p:spPr>
          <a:xfrm>
            <a:off x="7985160" y="313848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21"/>
          <p:cNvSpPr/>
          <p:nvPr/>
        </p:nvSpPr>
        <p:spPr>
          <a:xfrm>
            <a:off x="6837480" y="31384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2"/>
          <p:cNvSpPr/>
          <p:nvPr/>
        </p:nvSpPr>
        <p:spPr>
          <a:xfrm>
            <a:off x="5559480" y="31510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23"/>
          <p:cNvSpPr/>
          <p:nvPr/>
        </p:nvSpPr>
        <p:spPr>
          <a:xfrm>
            <a:off x="4599000" y="315756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24"/>
          <p:cNvSpPr/>
          <p:nvPr/>
        </p:nvSpPr>
        <p:spPr>
          <a:xfrm>
            <a:off x="531648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C:\Users\1\Desktop\79129090_large_Princesas__21_.png"/>
          <p:cNvPicPr/>
          <p:nvPr/>
        </p:nvPicPr>
        <p:blipFill>
          <a:blip r:embed="rId6"/>
          <a:stretch/>
        </p:blipFill>
        <p:spPr>
          <a:xfrm>
            <a:off x="324000" y="206280"/>
            <a:ext cx="2412720" cy="2917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C:\Users\1\Desktop\8bc9045f318abcee5c87c373e484267d.gif"/>
          <p:cNvPicPr/>
          <p:nvPr/>
        </p:nvPicPr>
        <p:blipFill>
          <a:blip r:embed="rId7"/>
          <a:stretch/>
        </p:blipFill>
        <p:spPr>
          <a:xfrm>
            <a:off x="2119320" y="3860640"/>
            <a:ext cx="4497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"/>
          <p:cNvSpPr/>
          <p:nvPr/>
        </p:nvSpPr>
        <p:spPr>
          <a:xfrm>
            <a:off x="4376880" y="261468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3801960" y="259380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3219480" y="257976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9"/>
          <p:cNvSpPr/>
          <p:nvPr/>
        </p:nvSpPr>
        <p:spPr>
          <a:xfrm>
            <a:off x="4362480" y="2577960"/>
            <a:ext cx="57456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220920" y="2579760"/>
            <a:ext cx="57492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3"/>
          <p:cNvSpPr/>
          <p:nvPr/>
        </p:nvSpPr>
        <p:spPr>
          <a:xfrm>
            <a:off x="3787920" y="2593800"/>
            <a:ext cx="57456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4" descr="C:\Users\1\Desktop\380-0080.jpg"/>
          <p:cNvPicPr/>
          <p:nvPr/>
        </p:nvPicPr>
        <p:blipFill>
          <a:blip r:embed="rId1"/>
          <a:stretch/>
        </p:blipFill>
        <p:spPr>
          <a:xfrm>
            <a:off x="2832120" y="638280"/>
            <a:ext cx="2925720" cy="194148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"/>
          <p:cNvSpPr/>
          <p:nvPr/>
        </p:nvSpPr>
        <p:spPr>
          <a:xfrm>
            <a:off x="4419360" y="2560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"/>
          <p:cNvSpPr/>
          <p:nvPr/>
        </p:nvSpPr>
        <p:spPr>
          <a:xfrm>
            <a:off x="2758680" y="2544840"/>
            <a:ext cx="3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5"/>
          <p:cNvSpPr/>
          <p:nvPr/>
        </p:nvSpPr>
        <p:spPr>
          <a:xfrm>
            <a:off x="3850200" y="25588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808BE9F0"/>
          <p:cNvPicPr/>
          <p:nvPr/>
        </p:nvPicPr>
        <p:blipFill>
          <a:blip r:embed="rId2"/>
          <a:srcRect l="50105" t="68426" r="37395" b="0"/>
          <a:stretch/>
        </p:blipFill>
        <p:spPr>
          <a:xfrm>
            <a:off x="523800" y="3367080"/>
            <a:ext cx="1325520" cy="216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5F33327B"/>
          <p:cNvPicPr/>
          <p:nvPr/>
        </p:nvPicPr>
        <p:blipFill>
          <a:blip r:embed="rId3"/>
          <a:srcRect l="55406" t="63661" r="0" b="0"/>
          <a:stretch/>
        </p:blipFill>
        <p:spPr>
          <a:xfrm>
            <a:off x="3102120" y="3244680"/>
            <a:ext cx="2808000" cy="4032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1676520" y="3429000"/>
            <a:ext cx="1898640" cy="1878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3B01A7D9"/>
          <p:cNvPicPr/>
          <p:nvPr/>
        </p:nvPicPr>
        <p:blipFill>
          <a:blip r:embed="rId5"/>
          <a:srcRect l="52451" t="68757" r="25214" b="0"/>
          <a:stretch/>
        </p:blipFill>
        <p:spPr>
          <a:xfrm>
            <a:off x="5580000" y="3263760"/>
            <a:ext cx="2197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6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7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8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429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торение изученных букв. Гласные и согласные звуки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99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08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11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16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120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131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134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166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170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177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189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198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00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03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06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10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14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17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223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240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243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246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250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254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63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265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270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273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276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291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294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297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02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06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13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320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325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330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332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338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342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50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12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10" dur="5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09-30T17:49:55Z</dcterms:modified>
  <cp:revision>32</cp:revision>
  <dc:subject/>
  <dc:title>Слайд 1</dc:title>
</cp:coreProperties>
</file>