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B746-AEDB-4000-A794-F7A756053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9100-B201-4997-8643-8A2DE793D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1FA6-A8D8-4F6E-B7CF-BD02EB9CA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851C-26F8-4656-9FBD-348156B22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0E25-B7CB-4B8E-BA3A-ACDD31BA6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57C7-DD59-45B4-B3A2-FE6644E51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5C35-2193-45FF-AC5A-047FEFA41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D22A-EE5D-4B71-9F72-B5248A70E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B4FD-2C3F-49D3-91CE-3548D8A5A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3A0F-8D40-42A8-876F-90AC0168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064C-FAC4-488C-8EE0-CFBE15CE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1E31-73C1-438E-869F-8F1E1F5CE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33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6CF98-9748-4CF3-A394-21A929FB6B6D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2843280" y="1557360"/>
            <a:ext cx="3752640" cy="4876920"/>
          </a:xfrm>
          <a:prstGeom prst="rect">
            <a:avLst/>
          </a:prstGeom>
          <a:ln w="25560">
            <a:solidFill>
              <a:srgbClr val="663300"/>
            </a:solidFill>
            <a:miter/>
          </a:ln>
        </p:spPr>
      </p:pic>
      <p:sp>
        <p:nvSpPr>
          <p:cNvPr id="42" name="Text Box 3"/>
          <p:cNvSpPr/>
          <p:nvPr/>
        </p:nvSpPr>
        <p:spPr>
          <a:xfrm>
            <a:off x="826920" y="549360"/>
            <a:ext cx="831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3300"/>
                </a:solidFill>
                <a:latin typeface="Arial"/>
              </a:rPr>
              <a:t>Да здравствует, Пифагор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211280" y="620640"/>
            <a:ext cx="3678120" cy="72072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ано: прямоугольный треугольник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4" name="Picture 2" descr="http://festival.1september.ru/2005_2006/articles/311519/image4.jpg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1332000" y="620640"/>
            <a:ext cx="2346120" cy="5361120"/>
          </a:xfrm>
          <a:prstGeom prst="rect">
            <a:avLst/>
          </a:prstGeom>
          <a:ln cap="rnd" w="9360">
            <a:solidFill>
              <a:srgbClr val="ff0000"/>
            </a:solidFill>
            <a:custDash>
              <a:ds d="100000" sp="1000"/>
            </a:custDash>
            <a:miter/>
          </a:ln>
        </p:spPr>
      </p:pic>
      <p:sp>
        <p:nvSpPr>
          <p:cNvPr id="65" name=""/>
          <p:cNvSpPr/>
          <p:nvPr/>
        </p:nvSpPr>
        <p:spPr>
          <a:xfrm>
            <a:off x="4211640" y="155736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казать: a2 + b2 = с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067280" y="198900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казательство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3213000"/>
            <a:ext cx="358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 = (a + b)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24360" y="2421000"/>
            <a:ext cx="489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строим прямоугольник до квадрата со стороной a + b, как на рисунк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140360" y="357336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 = S1 + 4 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 rot="10800000">
            <a:off x="3995280" y="3931200"/>
            <a:ext cx="32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2 + 2 ab + b2 = 2 ab+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 rot="10818000">
            <a:off x="3994200" y="4288320"/>
            <a:ext cx="31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 + b)2 = 4 * 1/2 ab +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 rot="10800000">
            <a:off x="3994200" y="4794840"/>
            <a:ext cx="338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a2 + b2 = с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 rot="10800000">
            <a:off x="3922200" y="515592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орема доказа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42920" y="980640"/>
            <a:ext cx="3673440" cy="532764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орема Пифагора имеет большое количество доказательств, благодаря чему попала в книгу рекордов Гиннеса.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2"/>
          <a:stretch/>
        </p:blipFill>
        <p:spPr>
          <a:xfrm>
            <a:off x="4457880" y="1341360"/>
            <a:ext cx="37494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8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0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5" dur="8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6" dur="8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7" dur="8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3300"/>
                </a:solidFill>
                <a:latin typeface="Arial"/>
              </a:rPr>
              <a:t>А вот и «Пифагоровы штаны во все стороны равны»</a:t>
            </a:r>
            <a:r>
              <a:rPr b="1" i="1" lang="ru-RU" sz="4000" spc="-1" strike="noStrike">
                <a:solidFill>
                  <a:srgbClr val="663300"/>
                </a:solidFill>
                <a:latin typeface="Century Gothic"/>
              </a:rPr>
              <a:t>   </a:t>
            </a:r>
            <a:endParaRPr b="1" i="1" lang="en-US" sz="40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211280" y="1916280"/>
            <a:ext cx="4398840" cy="370656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Если дан нам треугольник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 притом с прямым углом,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о квадрат гипотенузы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ы всегда легко найдём: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атеты в квадрат возводим,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умму степеней находим 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 таким простым путём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 результату мы придём.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79" name="Group 4"/>
          <p:cNvGrpSpPr/>
          <p:nvPr/>
        </p:nvGrpSpPr>
        <p:grpSpPr>
          <a:xfrm>
            <a:off x="367200" y="1989000"/>
            <a:ext cx="4234320" cy="4264200"/>
            <a:chOff x="367200" y="1989000"/>
            <a:chExt cx="4234320" cy="4264200"/>
          </a:xfrm>
        </p:grpSpPr>
        <p:sp>
          <p:nvSpPr>
            <p:cNvPr id="80" name="Rectangle 5"/>
            <p:cNvSpPr/>
            <p:nvPr/>
          </p:nvSpPr>
          <p:spPr>
            <a:xfrm rot="8075400">
              <a:off x="2783160" y="4436280"/>
              <a:ext cx="1513440" cy="148896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6"/>
            <p:cNvSpPr/>
            <p:nvPr/>
          </p:nvSpPr>
          <p:spPr>
            <a:xfrm flipV="1">
              <a:off x="1429560" y="1989000"/>
              <a:ext cx="2121840" cy="213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7"/>
            <p:cNvSpPr/>
            <p:nvPr/>
          </p:nvSpPr>
          <p:spPr>
            <a:xfrm rot="10800000">
              <a:off x="1429200" y="1989000"/>
              <a:ext cx="2115720" cy="2139840"/>
            </a:xfrm>
            <a:prstGeom prst="rect">
              <a:avLst/>
            </a:prstGeom>
            <a:solidFill>
              <a:srgbClr val="e4c75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8"/>
            <p:cNvSpPr/>
            <p:nvPr/>
          </p:nvSpPr>
          <p:spPr>
            <a:xfrm rot="8075400">
              <a:off x="671760" y="4447080"/>
              <a:ext cx="1513440" cy="148896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AutoShape 9"/>
            <p:cNvSpPr/>
            <p:nvPr/>
          </p:nvSpPr>
          <p:spPr>
            <a:xfrm rot="18838800">
              <a:off x="1725120" y="3357000"/>
              <a:ext cx="1499400" cy="152964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cover dir="l"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3300"/>
                </a:solidFill>
                <a:latin typeface="Arial"/>
              </a:rPr>
              <a:t>Шаржи</a:t>
            </a: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pic>
        <p:nvPicPr>
          <p:cNvPr id="86" name="Picture 9" descr="Pifagor7"/>
          <p:cNvPicPr/>
          <p:nvPr/>
        </p:nvPicPr>
        <p:blipFill>
          <a:blip r:embed="rId2">
            <a:lum bright="-18000"/>
          </a:blip>
          <a:stretch/>
        </p:blipFill>
        <p:spPr>
          <a:xfrm>
            <a:off x="971640" y="2852640"/>
            <a:ext cx="2174760" cy="3328920"/>
          </a:xfrm>
          <a:prstGeom prst="rect">
            <a:avLst/>
          </a:prstGeom>
          <a:ln w="50760">
            <a:solidFill>
              <a:srgbClr val="80008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87" name="Picture 10" descr="Pifagor9"/>
          <p:cNvPicPr/>
          <p:nvPr/>
        </p:nvPicPr>
        <p:blipFill>
          <a:blip r:embed="rId3">
            <a:lum bright="-18000"/>
          </a:blip>
          <a:stretch/>
        </p:blipFill>
        <p:spPr>
          <a:xfrm>
            <a:off x="3564000" y="1700280"/>
            <a:ext cx="1930320" cy="3500280"/>
          </a:xfrm>
          <a:prstGeom prst="rect">
            <a:avLst/>
          </a:prstGeom>
          <a:ln w="50760">
            <a:solidFill>
              <a:srgbClr val="800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88" name="Picture 13" descr="Pifagor8"/>
          <p:cNvPicPr/>
          <p:nvPr/>
        </p:nvPicPr>
        <p:blipFill>
          <a:blip r:embed="rId4">
            <a:lum bright="-18000"/>
          </a:blip>
          <a:stretch/>
        </p:blipFill>
        <p:spPr>
          <a:xfrm>
            <a:off x="6012000" y="2924280"/>
            <a:ext cx="2547720" cy="3284280"/>
          </a:xfrm>
          <a:prstGeom prst="rect">
            <a:avLst/>
          </a:prstGeom>
          <a:ln w="50760">
            <a:solidFill>
              <a:srgbClr val="800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2800"/>
                            </p:stCondLst>
                            <p:childTnLst>
                              <p:par>
                                <p:cTn id="48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09827E-006 L 0.58298 0.01087 E">
                                      <p:cBhvr>
                                        <p:cTn id="495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2000"/>
                            </p:stCondLst>
                            <p:childTnLst>
                              <p:par>
                                <p:cTn id="49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4000"/>
                            </p:stCondLst>
                            <p:childTnLst>
                              <p:par>
                                <p:cTn id="50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85549E-006 L -0.60538 -0.01388 E">
                                      <p:cBhvr>
                                        <p:cTn id="505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3300"/>
                </a:solidFill>
                <a:latin typeface="Arial"/>
              </a:rPr>
              <a:t>И еще…</a:t>
            </a: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2"/>
          <a:srcRect l="53753" t="6694" r="0" b="35045"/>
          <a:stretch/>
        </p:blipFill>
        <p:spPr>
          <a:xfrm>
            <a:off x="2124000" y="1628640"/>
            <a:ext cx="4788000" cy="4524480"/>
          </a:xfrm>
          <a:prstGeom prst="rect">
            <a:avLst/>
          </a:prstGeom>
          <a:ln w="25560">
            <a:solidFill>
              <a:srgbClr val="663300"/>
            </a:solidFill>
            <a:miter/>
          </a:ln>
        </p:spPr>
      </p:pic>
    </p:spTree>
  </p:cSld>
  <p:transition spd="slow">
    <p:cover dir="r"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3300"/>
                </a:solidFill>
                <a:latin typeface="Arial"/>
              </a:rPr>
              <a:t>Дерево Пифагора</a:t>
            </a: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уществует так называемое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дерево Пифагор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гипотетическое дерево, которое составлено из соединенных между собой прямоугольных треугольников, с построенными на катетах и гипотенузе квадратами.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3" name="Picture 7" descr="tree"/>
          <p:cNvPicPr/>
          <p:nvPr/>
        </p:nvPicPr>
        <p:blipFill>
          <a:blip r:embed="rId2">
            <a:lum bright="-30000"/>
          </a:blip>
          <a:stretch/>
        </p:blipFill>
        <p:spPr>
          <a:xfrm>
            <a:off x="4575240" y="1773360"/>
            <a:ext cx="3654360" cy="3670200"/>
          </a:xfrm>
          <a:prstGeom prst="rect">
            <a:avLst/>
          </a:prstGeom>
          <a:ln w="50760">
            <a:solidFill>
              <a:srgbClr val="800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4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5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6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1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2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3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3300"/>
                </a:solidFill>
                <a:latin typeface="Arial"/>
              </a:rPr>
              <a:t>Афоризмы Пифагора</a:t>
            </a: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00000" y="980640"/>
            <a:ext cx="8244000" cy="107964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делай ничего постыдного ни в присутствии других, ни втайне. Первым твоим законом должно быть уважение к себе самому.      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"/>
          <p:cNvSpPr/>
          <p:nvPr/>
        </p:nvSpPr>
        <p:spPr>
          <a:xfrm>
            <a:off x="900000" y="2133720"/>
            <a:ext cx="763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ля познания нравов какого ни есть народа старайся прежде      изучить его язы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55640" y="2997360"/>
            <a:ext cx="770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можешь быть орлом, не стремись стать первым среди галок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26920" y="3716280"/>
            <a:ext cx="6985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 время гнева не должно ни говорить, ни действовать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 rot="10783200">
            <a:off x="751680" y="4434480"/>
            <a:ext cx="6100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изнь подобна игрищам: иные приходят на них состязаться, иные — торговать, а самые счастливые — смотреть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 rot="10820400">
            <a:off x="682200" y="5515200"/>
            <a:ext cx="763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 ни коротки слова «да» и «нет», все же они требуют самого серьезного размыш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8229600" cy="452592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3300"/>
                </a:solidFill>
                <a:latin typeface="Arial"/>
              </a:rPr>
              <a:t>Суть истины вся в том, что нам она – навечно,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3300"/>
                </a:solidFill>
                <a:latin typeface="Arial"/>
              </a:rPr>
              <a:t>Когда хоть раз в прозрении её увидим свет,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3300"/>
                </a:solidFill>
                <a:latin typeface="Arial"/>
              </a:rPr>
              <a:t>И теорема Пифагора через столько лет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3300"/>
                </a:solidFill>
                <a:latin typeface="Arial"/>
              </a:rPr>
              <a:t>Для нас. Как для него, бесспорна, безупречна…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28440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3300"/>
                </a:solidFill>
                <a:latin typeface="Arial"/>
              </a:rPr>
              <a:t>(Отрывок из стихотворения А. Шамиссо</a:t>
            </a: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push dir="l"/>
  </p:transition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20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81960" cy="402120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3300"/>
                </a:solidFill>
                <a:latin typeface="Arial"/>
              </a:rPr>
              <a:t>Выпускная работа </a:t>
            </a:r>
            <a:endParaRPr b="1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3300"/>
                </a:solidFill>
                <a:latin typeface="Arial"/>
              </a:rPr>
              <a:t>учителя математики </a:t>
            </a:r>
            <a:endParaRPr b="1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3300"/>
                </a:solidFill>
                <a:latin typeface="Arial"/>
              </a:rPr>
              <a:t>ГБОУ лицея 572</a:t>
            </a:r>
            <a:endParaRPr b="1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3300"/>
                </a:solidFill>
                <a:latin typeface="Arial"/>
              </a:rPr>
              <a:t>Казюра Ларисы Николаевны</a:t>
            </a:r>
            <a:endParaRPr b="1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3300"/>
                </a:solidFill>
                <a:latin typeface="Arial"/>
              </a:rPr>
              <a:t>для 8 класса.</a:t>
            </a:r>
            <a:endParaRPr b="1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7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4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1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8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5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63300"/>
                </a:solidFill>
                <a:latin typeface="Arial"/>
              </a:rPr>
              <a:t>ПИФАГОР Самосский</a:t>
            </a:r>
            <a:endParaRPr b="1" i="1" lang="en-US" sz="48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4038480" cy="452592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ИФАГОР Самосский 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6 в. до н. э.), древнегреческий философ, религиозный и политический деятель, основатель пифагореизма, математик. Пифагор впервые ввёл термин «философ»; высказал мысль о шарообразности Земли, ему приписывается изучение свойств целых чисел и пропорций; доказательство теоремы Пифагора.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5" name="Picture 7" descr="Пифагор"/>
          <p:cNvPicPr/>
          <p:nvPr/>
        </p:nvPicPr>
        <p:blipFill>
          <a:blip r:embed="rId2"/>
          <a:stretch/>
        </p:blipFill>
        <p:spPr>
          <a:xfrm>
            <a:off x="4572000" y="1916280"/>
            <a:ext cx="3495600" cy="3884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3300"/>
                </a:solidFill>
                <a:latin typeface="Arial"/>
              </a:rPr>
              <a:t>Легенды и мифы</a:t>
            </a: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8080" y="1412640"/>
            <a:ext cx="3927600" cy="511164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мел разговаривать с птицами и животными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велевал духами и делал предсказания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особен раздваиваться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целял людей 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евоплощённый бог Аполлон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мел  золотое бедро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8" name="Picture 7" descr=""/>
          <p:cNvPicPr/>
          <p:nvPr/>
        </p:nvPicPr>
        <p:blipFill>
          <a:blip r:embed="rId8"/>
          <a:stretch/>
        </p:blipFill>
        <p:spPr>
          <a:xfrm>
            <a:off x="4859280" y="1773360"/>
            <a:ext cx="3316320" cy="4103640"/>
          </a:xfrm>
          <a:prstGeom prst="rect">
            <a:avLst/>
          </a:prstGeom>
          <a:ln w="25560">
            <a:solidFill>
              <a:srgbClr val="663300"/>
            </a:solidFill>
            <a:miter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8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8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8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8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8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8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8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3300"/>
                </a:solidFill>
                <a:latin typeface="Arial"/>
              </a:rPr>
              <a:t>Жизненный путь Пифагора</a:t>
            </a:r>
            <a:endParaRPr b="1" i="1" lang="en-US" sz="40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3280" y="1412640"/>
            <a:ext cx="3524400" cy="456876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 жизни Пифагора известно немного. Он родился в 580 г. до н.э. в Древней Греции на острове Самос, который находится в Эгейском море у берегов Малой Азии, поэтому его называют Пифагором Самосским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1" name="Picture 7" descr=""/>
          <p:cNvPicPr/>
          <p:nvPr/>
        </p:nvPicPr>
        <p:blipFill>
          <a:blip r:embed="rId2"/>
          <a:stretch/>
        </p:blipFill>
        <p:spPr>
          <a:xfrm>
            <a:off x="1187280" y="1484280"/>
            <a:ext cx="3114720" cy="4392720"/>
          </a:xfrm>
          <a:prstGeom prst="rect">
            <a:avLst/>
          </a:prstGeom>
          <a:ln w="2556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663300"/>
                </a:solidFill>
                <a:latin typeface="Arial"/>
              </a:rPr>
              <a:t>Самос</a:t>
            </a:r>
            <a:endParaRPr b="1" i="1" lang="en-US" sz="5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а кровле он стоял высоко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И на Самос богатый око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 весельем гордым преклонял.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«Сколь щедро взыскан я богами!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коль счастлив я между царями!»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Царю Египта он сказал.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strips dir="ld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2"/>
          <a:stretch/>
        </p:blipFill>
        <p:spPr>
          <a:xfrm>
            <a:off x="762120" y="885960"/>
            <a:ext cx="7619760" cy="5086080"/>
          </a:xfrm>
          <a:prstGeom prst="rect">
            <a:avLst/>
          </a:prstGeom>
          <a:ln w="2556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1258920" y="620640"/>
            <a:ext cx="6913440" cy="5114880"/>
          </a:xfrm>
          <a:prstGeom prst="rect">
            <a:avLst/>
          </a:prstGeom>
          <a:ln w="25560">
            <a:solidFill>
              <a:srgbClr val="663300"/>
            </a:solidFill>
            <a:miter/>
          </a:ln>
        </p:spPr>
      </p:pic>
      <p:sp>
        <p:nvSpPr>
          <p:cNvPr id="56" name="Text Box 5"/>
          <p:cNvSpPr/>
          <p:nvPr/>
        </p:nvSpPr>
        <p:spPr>
          <a:xfrm>
            <a:off x="2482920" y="5877000"/>
            <a:ext cx="407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Пифагор с учени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0560" y="-171360"/>
            <a:ext cx="8435880" cy="15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3300"/>
                </a:solidFill>
                <a:latin typeface="Arial"/>
              </a:rPr>
              <a:t>Египетский треугольник</a:t>
            </a: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140360" y="1125000"/>
            <a:ext cx="4325760" cy="510084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ямоугольный треугольник со сторонами 3, 4 и 5 ед. Это единственный прямоугольный треугольник, стороны которого равны трём последовательным натуральным числам. 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кой треугольник был известен ещё древним египтянам. Они использовали его в «правиле верёвки» для построения прямых углов при закладке зданий, храмов, алтарей…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9" name="Picture 8" descr="треугол"/>
          <p:cNvPicPr/>
          <p:nvPr/>
        </p:nvPicPr>
        <p:blipFill>
          <a:blip r:embed="rId2"/>
          <a:srcRect l="2835" t="3436" r="2362" b="3551"/>
          <a:stretch/>
        </p:blipFill>
        <p:spPr>
          <a:xfrm>
            <a:off x="571680" y="2290680"/>
            <a:ext cx="3809880" cy="3143160"/>
          </a:xfrm>
          <a:prstGeom prst="rect">
            <a:avLst/>
          </a:prstGeom>
          <a:ln w="25560">
            <a:solidFill>
              <a:srgbClr val="663300"/>
            </a:solidFill>
            <a:miter/>
          </a:ln>
        </p:spPr>
      </p:pic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8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3300"/>
                </a:solidFill>
                <a:latin typeface="Arial"/>
              </a:rPr>
              <a:t>Теорема Пифагора</a:t>
            </a: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71640" y="1988640"/>
            <a:ext cx="3240000" cy="331164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прямоугольном треугольнике квадрат гипотенузы равен сумме квадратов катетов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2" name="Picture 44" descr="http://vio.fio.ru/Vio_31/cd_site/article_img/zayc-p7.gif"/>
          <p:cNvPicPr/>
          <p:nvPr/>
        </p:nvPicPr>
        <p:blipFill>
          <a:blip r:embed="rId2"/>
          <a:stretch/>
        </p:blipFill>
        <p:spPr>
          <a:xfrm>
            <a:off x="4500720" y="1916280"/>
            <a:ext cx="3673440" cy="337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7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8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4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5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7T03:29:32Z</dcterms:created>
  <dc:creator>Марина</dc:creator>
  <dc:description/>
  <dc:language>en-US</dc:language>
  <cp:lastModifiedBy>Лариса Николавна</cp:lastModifiedBy>
  <dcterms:modified xsi:type="dcterms:W3CDTF">2005-02-05T02:58:06Z</dcterms:modified>
  <cp:revision>12</cp:revision>
  <dc:subject/>
  <dc:title>Слайд 1</dc:title>
</cp:coreProperties>
</file>