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C7C-6038-4008-BDD1-6877AEDD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87B-A341-4C73-93CA-0A14F23E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00E-8281-43A0-A477-6361632B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313-40C9-4407-BC76-D55A9F81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857-21C4-4A28-B379-50672AEC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C78-B7A0-4E98-86D1-10C3921E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2E3-E72A-4DE8-AB89-9AF6794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F3B-5D91-41B4-9F31-9403E01B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BFD-D650-415D-BE65-001D9057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667-6B37-4C43-9904-B7E209F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07F-17CE-40F7-8EF9-E0BDD42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754-DCD8-4775-AD75-3FE47B9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610-0C76-443D-AAAE-4772FF168CD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752640" cy="487692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826920" y="54936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Да здравствует, Пифаго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11280" y="620640"/>
            <a:ext cx="3678120" cy="7207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прям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" name="Picture 2" descr="http://festival.1september.ru/2005_2006/articles/311519/image4.jpg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332000" y="620640"/>
            <a:ext cx="2346120" cy="5361120"/>
          </a:xfrm>
          <a:prstGeom prst="rect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</p:pic>
      <p:sp>
        <p:nvSpPr>
          <p:cNvPr id="65" name=""/>
          <p:cNvSpPr/>
          <p:nvPr/>
        </p:nvSpPr>
        <p:spPr>
          <a:xfrm>
            <a:off x="4211640" y="155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a2 + b2 = с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989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213000"/>
            <a:ext cx="35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(a + b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242100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роим прямоугольник до квадрата со стороной a + b, как на рисун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57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S1 + 4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10800000">
            <a:off x="3995280" y="393120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2 + 2 ab + b2 = 2 ab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 rot="10818000">
            <a:off x="3994200" y="4288320"/>
            <a:ext cx="31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2 = 4 * 1/2 ab 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 rot="10800000">
            <a:off x="3994200" y="4794840"/>
            <a:ext cx="33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2 + b2 = с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3922200" y="515592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3673440" cy="5327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ма Пифагора имеет большое количество доказательств, благодаря чему попала в книгу рекордов Гиннеса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457880" y="1341360"/>
            <a:ext cx="3749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А вот и «Пифагоровы штаны во все стороны равны»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  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11280" y="1916280"/>
            <a:ext cx="4398840" cy="3706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дан нам треугольник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притом с прямым углом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 квадрат гипотенузы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всегда легко найдём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теты в квадрат возводим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мму степеней находим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таким простым путём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 результату мы придём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367200" y="1989000"/>
            <a:ext cx="4234320" cy="4264200"/>
            <a:chOff x="367200" y="1989000"/>
            <a:chExt cx="4234320" cy="4264200"/>
          </a:xfrm>
        </p:grpSpPr>
        <p:sp>
          <p:nvSpPr>
            <p:cNvPr id="80" name="Rectangle 5"/>
            <p:cNvSpPr/>
            <p:nvPr/>
          </p:nvSpPr>
          <p:spPr>
            <a:xfrm rot="8075400">
              <a:off x="2783160" y="4436280"/>
              <a:ext cx="1513440" cy="1488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 flipV="1">
              <a:off x="1429560" y="1989000"/>
              <a:ext cx="2121840" cy="21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 rot="10800000">
              <a:off x="1429200" y="1989000"/>
              <a:ext cx="2115720" cy="2139840"/>
            </a:xfrm>
            <a:prstGeom prst="rect">
              <a:avLst/>
            </a:prstGeom>
            <a:solidFill>
              <a:srgbClr val="e4c7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 rot="8075400">
              <a:off x="671760" y="4447080"/>
              <a:ext cx="1513440" cy="1488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 rot="18838800">
              <a:off x="1725120" y="3357000"/>
              <a:ext cx="1499400" cy="1529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Шаржи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86" name="Picture 9" descr="Pifagor7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71640" y="2852640"/>
            <a:ext cx="2174760" cy="3328920"/>
          </a:xfrm>
          <a:prstGeom prst="rect">
            <a:avLst/>
          </a:prstGeom>
          <a:ln w="50760">
            <a:solidFill>
              <a:srgbClr val="80008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Picture 10" descr="Pifagor9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3564000" y="1700280"/>
            <a:ext cx="1930320" cy="3500280"/>
          </a:xfrm>
          <a:prstGeom prst="rect">
            <a:avLst/>
          </a:prstGeom>
          <a:ln w="507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Picture 13" descr="Pifagor8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6012000" y="2924280"/>
            <a:ext cx="2547720" cy="3284280"/>
          </a:xfrm>
          <a:prstGeom prst="rect">
            <a:avLst/>
          </a:prstGeom>
          <a:ln w="507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800"/>
                            </p:stCondLst>
                            <p:childTnLst>
                              <p:par>
                                <p:cTn id="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9827E-006 L 0.58298 0.01087 E">
                                      <p:cBhvr>
                                        <p:cTn id="49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5549E-006 L -0.60538 -0.01388 E">
                                      <p:cBhvr>
                                        <p:cTn id="50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И еще…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53753" t="6694" r="0" b="35045"/>
          <a:stretch/>
        </p:blipFill>
        <p:spPr>
          <a:xfrm>
            <a:off x="2124000" y="1628640"/>
            <a:ext cx="4788000" cy="452448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p:transition spd="slow">
    <p:cover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Дерево Пифагора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ет так называемо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рево Пифаго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гипотетическое дерево, которое составлено из соединенных между собой прямоугольных треугольников, с построенными на катетах и гипотенузе квадратами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Picture 7" descr="tree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575240" y="1773360"/>
            <a:ext cx="3654360" cy="3670200"/>
          </a:xfrm>
          <a:prstGeom prst="rect">
            <a:avLst/>
          </a:prstGeom>
          <a:ln w="507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Афоризмы Пифагора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8244000" cy="1079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ознания нравов какого ни есть народа старайся прежде      изучить его язы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9973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можешь быть орлом, не стремись стать первым среди галок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371628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гнева не должно ни говорить, ни действова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783200">
            <a:off x="751680" y="4434480"/>
            <a:ext cx="61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ь подобна игрищам: иные приходят на них состязаться, иные — торговать, а самые счастливые — смотреть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 rot="10820400">
            <a:off x="682200" y="5515200"/>
            <a:ext cx="763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и коротки слова «да» и «нет», все же они требуют самого серьезного раз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Суть истины вся в том, что нам она – навечно,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Когда хоть раз в прозрении её увидим свет,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И теорема Пифагора через столько лет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Для нас. Как для него, бесспорна, безупречна…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Arial"/>
              </a:rPr>
              <a:t>(Отрывок из стихотворения А. Шамиссо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l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81960" cy="40212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Выпускная работа 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учителя математики 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ГБОУ лицея 572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Казюра Ларисы Николаевны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для 8 класса.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ПИФАГОР Самосский</a:t>
            </a:r>
            <a:endParaRPr b="1" i="1" lang="en-US" sz="48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403848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ФАГОР Самосский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6 в. до н. э.), древнегреческий философ, религиозный и политический деятель, основатель пифагореизма, математик. Пифагор впервые ввёл термин «философ»; высказал мысль о шарообразности Земли, ему приписывается изучение свойств целых чисел и пропорций; доказательство теоремы Пифагора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Picture 7" descr="Пифагор"/>
          <p:cNvPicPr/>
          <p:nvPr/>
        </p:nvPicPr>
        <p:blipFill>
          <a:blip r:embed="rId2"/>
          <a:stretch/>
        </p:blipFill>
        <p:spPr>
          <a:xfrm>
            <a:off x="4572000" y="1916280"/>
            <a:ext cx="3495600" cy="38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Легенды и мифы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412640"/>
            <a:ext cx="3927600" cy="5111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л разговаривать с птицами и животными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левал духами и делал предсказани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ен раздваиватьс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целял людей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воплощённый бог Аполлон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л  золотое бедро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8"/>
          <a:stretch/>
        </p:blipFill>
        <p:spPr>
          <a:xfrm>
            <a:off x="4859280" y="1773360"/>
            <a:ext cx="3316320" cy="410364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Жизненный путь Пифагора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3524400" cy="45687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жизни Пифагора известно немного. Он родился в 580 г. до н.э. в Древней Греции на острове Самос, который находится в Эгейском море у берегов Малой Азии, поэтому его называют Пифагором Самосским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3114720" cy="439272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3300"/>
                </a:solidFill>
                <a:latin typeface="Arial"/>
              </a:rPr>
              <a:t>Самос</a:t>
            </a:r>
            <a:endParaRPr b="1" i="1" lang="en-US" sz="5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кровле он стоял высоко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на Самос богатый око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весельем гордым преклонял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Сколь щедро взыскан я богами!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оль счастлив я между царями!»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арю Египта он сказал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trips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258920" y="620640"/>
            <a:ext cx="6913440" cy="511488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2482920" y="5877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Пифагор с уче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-171360"/>
            <a:ext cx="843588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Египетский треугольник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4325760" cy="5100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ый треугольник со сторонами 3, 4 и 5 ед. Это единственный прямоугольный треугольник, стороны которого равны трём последовательным натуральным числам.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ой треугольник был известен ещё древним египтянам. Они использовали его в «правиле верёвки» для построения прямых углов при закладке зданий, храмов, алтарей…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" name="Picture 8" descr="треугол"/>
          <p:cNvPicPr/>
          <p:nvPr/>
        </p:nvPicPr>
        <p:blipFill>
          <a:blip r:embed="rId2"/>
          <a:srcRect l="2835" t="3436" r="2362" b="3551"/>
          <a:stretch/>
        </p:blipFill>
        <p:spPr>
          <a:xfrm>
            <a:off x="571680" y="2290680"/>
            <a:ext cx="3809880" cy="314316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Теорема Пифагора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988640"/>
            <a:ext cx="3240000" cy="3311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" name="Picture 44" descr="http://vio.fio.ru/Vio_31/cd_site/article_img/zayc-p7.gif"/>
          <p:cNvPicPr/>
          <p:nvPr/>
        </p:nvPicPr>
        <p:blipFill>
          <a:blip r:embed="rId2"/>
          <a:stretch/>
        </p:blipFill>
        <p:spPr>
          <a:xfrm>
            <a:off x="4500720" y="1916280"/>
            <a:ext cx="3673440" cy="33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3:29:32Z</dcterms:created>
  <dc:creator>Марина</dc:creator>
  <dc:description/>
  <dc:language>en-US</dc:language>
  <cp:lastModifiedBy>Лариса Николавна</cp:lastModifiedBy>
  <dcterms:modified xsi:type="dcterms:W3CDTF">2005-02-05T02:58:06Z</dcterms:modified>
  <cp:revision>12</cp:revision>
  <dc:subject/>
  <dc:title>Слайд 1</dc:title>
</cp:coreProperties>
</file>