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143-00CE-4F9F-9C34-5EC5E58F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6EF-AE13-4AEF-9126-A27DC3D0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EA1-2D2A-49BC-A89B-7AC7E8D4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399-333E-44C8-8008-B3ABC758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FD9-0352-4F22-9CB4-F008601B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EF0-9D9F-4A14-B8A3-FE668FAD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CD6-480F-458C-A1C2-0074BCC6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F4D-1AF0-45BF-9F2F-BEF5EAC7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870-8726-4095-A019-68249A0F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007-D41C-43E3-832A-2E38115F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531-12D4-42AE-87A4-D7448CDC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72B-F913-4CBD-B6DA-5DFE5B3E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DBCB-F70E-4745-81B4-CFC75BC26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6600"/>
                </a:solidFill>
                <a:latin typeface="Arial"/>
              </a:rPr>
              <a:t>2014 год – год </a:t>
            </a:r>
            <a:br>
              <a:rPr sz="9600"/>
            </a:br>
            <a:r>
              <a:rPr b="0" lang="ru-RU" sz="9600" spc="-1" strike="noStrike">
                <a:solidFill>
                  <a:srgbClr val="cc6600"/>
                </a:solidFill>
                <a:latin typeface="Arial"/>
              </a:rPr>
              <a:t>культу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42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В 2014 году Государственному Эрмитажу исполни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250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Свою историю музей начинает с коллекций произведений искусства, которые начал приобретать в частном порядке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Екатери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Павел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Никола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Екатерина </a:t>
            </a: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1590840"/>
            <a:ext cx="3971880" cy="5267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48360" y="1158840"/>
            <a:ext cx="38178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Эрмитаж был открыт для публики в   специально построенном для этой цели здании Нового Эрмитажа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  1852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 1917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 1947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00"/>
                </a:solidFill>
                <a:latin typeface="Arial"/>
              </a:rPr>
              <a:t>В 1852 год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495440"/>
            <a:ext cx="7704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Последовательность работы механизма: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 первой просыпается 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сова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 — символ ночи, звенят колокольчики, подвешенные на клетку, сова двигает головой и лапкой, вращает глазами. Мелодичный звон колокольчиков сопровождают весь процесс. Далее сам 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павлин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 грациозно кланяется маленькой головкой и распускает свой золотой хвост — символ солнца. Павлин поворачивается и показывает оборотную сторону своего хвоста — посеребрённую поверхность, символизирующую ночь. Последним оживает 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петух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4005360"/>
            <a:ext cx="8785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ханизм называ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Часы «Сов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Часы «Павлин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Часы «Пету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2. Часы «Павл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Парадная лестница Зимнего дворца. В XVIII в. лестницу называли Посольской, позже – Иорданской. Иорданской ее назвали в честь праздника: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Рожд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Кре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Тро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7786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к как по ней во время праздника Крещения Господня спускался крестный ход к Неве, где во льду вырубалась для освящения воды прорубь - иордань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2. Кре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44000" y="3246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Кр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465200"/>
            <a:ext cx="817236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Зимний дворец «Октябрьская» лестница. Название «Октябрьская» лестница получила в память 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О революционных событиях октября     191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в память об Александр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оторый скончался 20 октября 1894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 в первых числах октября 1552 года  войско Ивана Грозного овладело Казан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ГОСУДАРСТВЕННЫЙ МУЗЕЙ ЭРМИТ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87487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1. О революционных событиях октября     1917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революционных событиях октября 1917 года, когда отряды штурмующих проникли по ней в Зимний д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ктябрьской же лестнице в 3 часа в ночь с 25 на 26 октября 1917 г. выводили захваченных министров Временного правитель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46814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52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Белому залу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Павильонному залу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Николаевскому з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Особую эффектность интерьеру зала придают сочетание светлого мрамора с позолотой лепного декора и нарядный блеск хрустальных люстр. Зал украшают четыре мраморных фонтана - вариации "Фонтана слез" Бахчисарайского дворца в Кры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В южной части зала в пол вмонтирована мозаика - копия пола, найденного при раскопках древнеримских тер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В зале экспонируются часы "Павлин" (Дж. Кокс, 1770-е), приобретенные Екатериной 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Это описание относится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Павильонный зал</a:t>
            </a: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Малого Эрмитаж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090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Вися́чий сад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 занимает пространство между галереями, соединяющими Северный и Южный павиль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Зимнего двор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Малого Эрми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Эрмитажного теа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2. Малого Эрмит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3600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Руководит Эрмитажем</a:t>
            </a:r>
            <a:br>
              <a:rPr sz="4800"/>
            </a:b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6868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убецкой  Сергей Никитич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Орбели  Иосиф Абгарови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Пиотров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хаил Борисови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3. Пиотровский </a:t>
            </a:r>
            <a:br>
              <a:rPr sz="4800"/>
            </a:b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               Михаил Борисович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8656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Пять зданий, связанные друг с другом на Дворцовой набережной, составляют музейный комплекс Эрмитажа: </a:t>
            </a:r>
            <a:br>
              <a:rPr sz="2800"/>
            </a:b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Малый Эрмитаж </a:t>
            </a:r>
            <a:br>
              <a:rPr sz="2800"/>
            </a:b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Большой Эрмитаж </a:t>
            </a:r>
            <a:br>
              <a:rPr sz="2800"/>
            </a:b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Новый Эрмитаж </a:t>
            </a:r>
            <a:br>
              <a:rPr sz="2800"/>
            </a:b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Эрмитажный театр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Аничков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Мариинский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Зимний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3.Зимний дворе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335320"/>
            <a:ext cx="828036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05360"/>
            <a:ext cx="8291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Белом зал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Рыцарском зал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Николаевском за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08720" y="333360"/>
            <a:ext cx="31780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Эти доспехи можно увидеть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 Рыцарском зале в здании Нового Эрмитажа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3500280"/>
            <a:ext cx="649116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8928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Зимний дворец построи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архитектор Дж. Кваренги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 архитектор В. П. Ст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архитектор Б. Ф. Растрел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98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00"/>
                </a:solidFill>
                <a:latin typeface="Arial"/>
              </a:rPr>
              <a:t>архитектор  Ф.Б. </a:t>
            </a:r>
            <a:br>
              <a:rPr sz="5400"/>
            </a:br>
            <a:r>
              <a:rPr b="0" lang="en-US" sz="5400" spc="-1" strike="noStrike">
                <a:solidFill>
                  <a:srgbClr val="cc6600"/>
                </a:solidFill>
                <a:latin typeface="Arial"/>
              </a:rPr>
              <a:t> Растрелли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Архитектор Ф. Б. Растрелли"/>
          <p:cNvPicPr/>
          <p:nvPr/>
        </p:nvPicPr>
        <p:blipFill>
          <a:blip r:embed="rId1"/>
          <a:stretch/>
        </p:blipFill>
        <p:spPr>
          <a:xfrm>
            <a:off x="4522680" y="189000"/>
            <a:ext cx="4353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ГОСУДАРСТВЕННЫЙ МУЗЕЙ ЭРМИТАЖ в 2014 году отмечает юби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250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275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300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1T08:07:07Z</dcterms:created>
  <dc:creator>USER</dc:creator>
  <dc:description/>
  <dc:language>en-US</dc:language>
  <cp:lastModifiedBy>USER</cp:lastModifiedBy>
  <dcterms:modified xsi:type="dcterms:W3CDTF">2014-01-11T11:46:53Z</dcterms:modified>
  <cp:revision>3</cp:revision>
  <dc:subject/>
  <dc:title>2014 год – год  культуры</dc:title>
</cp:coreProperties>
</file>