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645-5568-43D6-902A-7CE08A6B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97E-FB07-4DB3-A7FA-773B0071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BE4-4025-40D4-A76A-F47CEC92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C2F-40F9-4D45-8E1E-C658D201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7A7-B5B2-4F99-8D9A-8747FB3D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2FC-E76F-4816-B4EE-BA2766C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285-52C9-4127-B95B-D2F178A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07B-D56C-4EAB-A0F7-8E35FB7A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BB4-7DF4-408D-AE60-BEF0AABC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84F-C1B5-4B9F-BD58-0A866BB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1FC-E052-4294-91BA-955E1F8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CE8-D075-4CC8-8CD2-E4E293AB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DDB-C758-446A-8BD6-B2D245D2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6600"/>
                </a:solidFill>
                <a:latin typeface="Arial"/>
              </a:rPr>
              <a:t>2014 год – год </a:t>
            </a:r>
            <a:br>
              <a:rPr sz="9600"/>
            </a:br>
            <a:r>
              <a:rPr b="0" lang="ru-RU" sz="9600" spc="-1" strike="noStrike">
                <a:solidFill>
                  <a:srgbClr val="cc6600"/>
                </a:solidFill>
                <a:latin typeface="Arial"/>
              </a:rPr>
              <a:t>культу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В 2014 году Государственному Эрмитажу исполн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250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Свою историю музей начинает с коллекций произведений искусства, которые начал приобретать в частном порядке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аве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Никола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Екатерина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1590840"/>
            <a:ext cx="3971880" cy="5267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48360" y="1158840"/>
            <a:ext cx="38178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Эрмитаж был открыт для публики в   специально построенном для этой цели здании Нового Эрмитажа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  1852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 191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 194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Arial"/>
              </a:rPr>
              <a:t>В 1852 го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495440"/>
            <a:ext cx="7704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Последовательность работы механизма: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первой просыпается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сова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— символ ночи, звенят колокольчики, подвешенные на клетку, сова двигает головой и лапкой, вращает глазами. Мелодичный звон колокольчиков сопровождают весь процесс. Далее сам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авлин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грациозно кланяется маленькой головкой и распускает свой золотой хвост — символ солнца. Павлин поворачивается и показывает оборотную сторону своего хвоста — посеребрённую поверхность, символизирующую ночь. Последним оживает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етух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400536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м назыв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Часы «С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Часы «Павли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Часы «Пету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2. Часы «Пав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арадная лестница Зимнего дворца. В XVIII в. лестницу называли Посольской, позже – Иорданской. Иорданской ее назвали в честь праздника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Рожд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Кр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Тро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77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 как по ней во время праздника Крещения Господня спускался крестный ход к Неве, где во льду вырубалась для освящения воды прорубь - иордань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2. Кр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4000" y="3246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Кр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465200"/>
            <a:ext cx="81723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Зимний дворец «Октябрьская» лестница. Название «Октябрьская» лестница получила в память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О революционных событиях октября    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 память об Александр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торый скончался 20 октября 189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 в первых числах октября 1552 года  войско Ивана Грозного овладело Казан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ГОСУДАРСТВЕННЫЙ МУЗЕЙ ЭРМИТ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7487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1. О революционных событиях октября     191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революционных событиях октября 1917 года, когда отряды штурмующих проникли по ней в Зимний д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ктябрьской же лестнице в 3 часа в ночь с 25 на 26 октября 1917 г. выводили захваченных министров Временного правитель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4681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52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Белому залу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Павильонному залу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Николаевскому з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Особую эффектность интерьеру зала придают сочетание светлого мрамора с позолотой лепного декора и нарядный блеск хрустальных люстр. Зал украшают четыре мраморных фонтана - вариации "Фонтана слез" Бахчисарайского дворца в Кры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В южной части зала в пол вмонтирована мозаика - копия пола, найденного при раскопках древнеримских те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В зале экспонируются часы "Павлин" (Дж. Кокс, 1770-е), приобретенные Екатериной 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Это описание относ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Павильонный зал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Малого Эрмитаж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09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Вися́чий сад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 занимает пространство между галереями, соединяющими Северный и Южный павиль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Зимнего дво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Малого Эрми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Эрмитажного теа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2. Малого Эрми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360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Руководит Эрмитажем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убецкой  Сергей Никитич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Орбели  Иосиф Абгар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Пиотров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ил Борисови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3. Пиотровский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               Михаил Борисович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865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Пять зданий, связанные друг с другом на Дворцовой набережной, составляют музейный комплекс Эрмитажа: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Малы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Большо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Новы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Эрмитажный теат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Аничков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ариинск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Зим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3.Зимний двор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82803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05360"/>
            <a:ext cx="8291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Белом зал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Рыцарском зал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Николаевском за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08720" y="333360"/>
            <a:ext cx="3178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Эти доспехи можно увидеть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 Рыцарском зале в здании Нового Эрмитажа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3500280"/>
            <a:ext cx="6491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89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Зимний дворец построи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архитектор Дж. Кваренги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архитектор В. П. Ст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архитектор Б. Ф. Растрел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00"/>
                </a:solidFill>
                <a:latin typeface="Arial"/>
              </a:rPr>
              <a:t>архитектор  Ф.Б. </a:t>
            </a:r>
            <a:br>
              <a:rPr sz="5400"/>
            </a:br>
            <a:r>
              <a:rPr b="0" lang="en-US" sz="5400" spc="-1" strike="noStrike">
                <a:solidFill>
                  <a:srgbClr val="cc6600"/>
                </a:solidFill>
                <a:latin typeface="Arial"/>
              </a:rPr>
              <a:t> Растрелл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Архитектор Ф. Б. Растрелли"/>
          <p:cNvPicPr/>
          <p:nvPr/>
        </p:nvPicPr>
        <p:blipFill>
          <a:blip r:embed="rId1"/>
          <a:stretch/>
        </p:blipFill>
        <p:spPr>
          <a:xfrm>
            <a:off x="4522680" y="189000"/>
            <a:ext cx="4353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ГОСУДАРСТВЕННЫЙ МУЗЕЙ ЭРМИТАЖ в 2014 году отмечает юби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250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275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300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08:07:07Z</dcterms:created>
  <dc:creator>USER</dc:creator>
  <dc:description/>
  <dc:language>en-US</dc:language>
  <cp:lastModifiedBy>USER</cp:lastModifiedBy>
  <dcterms:modified xsi:type="dcterms:W3CDTF">2014-01-11T11:46:53Z</dcterms:modified>
  <cp:revision>3</cp:revision>
  <dc:subject/>
  <dc:title>2014 год – год  культуры</dc:title>
</cp:coreProperties>
</file>