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281-0B6F-4774-B315-C772116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B03-6AA9-43C0-9520-1B61E9A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D3B-8305-4C31-B060-E8C48D9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334-99D6-418F-9BBF-994EAC01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3B4-EF4D-4DE6-AA22-9328CAFE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D19-825A-4338-A19B-C602E2F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30A-8EA3-434E-B0ED-470E9655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7D3-AEB2-44EC-8028-D7390B1E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BF0-5C24-4AF6-BD58-3DE70ABE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465-7689-4941-A872-377AFF4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D49-2664-4D8E-9078-6048760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2C7-A892-45EF-8D7A-09B054A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03B-FCFF-4129-BD52-E23CB18DC5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4000" y="787320"/>
            <a:ext cx="1166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нова в город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Мы идём в магазин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Игра в цепочки - Hyundai Accent Club"/>
          <p:cNvPicPr/>
          <p:nvPr/>
        </p:nvPicPr>
        <p:blipFill>
          <a:blip r:embed="rId1"/>
          <a:stretch/>
        </p:blipFill>
        <p:spPr>
          <a:xfrm>
            <a:off x="1763640" y="2305080"/>
            <a:ext cx="51847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241000" y="40464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дуктов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Магазин продуктов метро Обводный канал, продажа бизнеса на B…"/>
          <p:cNvPicPr/>
          <p:nvPr/>
        </p:nvPicPr>
        <p:blipFill>
          <a:blip r:embed="rId1"/>
          <a:stretch/>
        </p:blipFill>
        <p:spPr>
          <a:xfrm>
            <a:off x="826920" y="1162080"/>
            <a:ext cx="73011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а 7 из 60907"/>
          <p:cNvPicPr/>
          <p:nvPr/>
        </p:nvPicPr>
        <p:blipFill>
          <a:blip r:embed="rId1"/>
          <a:stretch/>
        </p:blipFill>
        <p:spPr>
          <a:xfrm>
            <a:off x="755640" y="700200"/>
            <a:ext cx="7926480" cy="5852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640160" y="0"/>
            <a:ext cx="62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тдел овощей, фрук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4 из 34863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77400" y="11592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лебный от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8514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одежд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26920" y="896760"/>
            <a:ext cx="752976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635920" y="11592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обу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63 из 160620"/>
          <p:cNvPicPr/>
          <p:nvPr/>
        </p:nvPicPr>
        <p:blipFill>
          <a:blip r:embed="rId1"/>
          <a:stretch/>
        </p:blipFill>
        <p:spPr>
          <a:xfrm>
            <a:off x="419040" y="692280"/>
            <a:ext cx="8156520" cy="605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40560" y="65160"/>
            <a:ext cx="39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меб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8:57:03Z</dcterms:created>
  <dc:creator>Admin</dc:creator>
  <dc:description/>
  <dc:language>en-US</dc:language>
  <cp:lastModifiedBy>Microsoft Office</cp:lastModifiedBy>
  <dcterms:modified xsi:type="dcterms:W3CDTF">2015-10-19T02:39:12Z</dcterms:modified>
  <cp:revision>21</cp:revision>
  <dc:subject/>
  <dc:title>Слайд 1</dc:title>
</cp:coreProperties>
</file>