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8C07-1663-49ED-A825-9F7B3AFB2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D2E6-38C9-40C8-AE16-7170DFC27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A12E-66C7-4538-8F0E-111E8527C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8ED3-164A-4F29-8270-03A3D459B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6A58-C2CD-4F2C-BBEF-69863927B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1692-3862-442E-B466-6AE7BAB44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DE71-1BEA-447F-A1CF-626FDFFD6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199F-AEEC-45A2-828A-8A663D56A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0879-8DEB-4A8F-B4FB-982F0C14E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8E66-9882-4E2B-B673-13A1562D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332E-8B32-4B60-8DD4-7814E817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FDC6-57FB-4BDD-A9B9-FA5FC0FE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2BF78-0948-4A96-9F28-4A14F060099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324000" y="787320"/>
            <a:ext cx="1166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 снова в городе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Мы идём в магазин)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Picture 4" descr="Игра в цепочки - Hyundai Accent Club"/>
          <p:cNvPicPr/>
          <p:nvPr/>
        </p:nvPicPr>
        <p:blipFill>
          <a:blip r:embed="rId1"/>
          <a:stretch/>
        </p:blipFill>
        <p:spPr>
          <a:xfrm>
            <a:off x="1763640" y="2305080"/>
            <a:ext cx="5184720" cy="38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2"/>
          <p:cNvSpPr/>
          <p:nvPr/>
        </p:nvSpPr>
        <p:spPr>
          <a:xfrm>
            <a:off x="2241000" y="404640"/>
            <a:ext cx="370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Продуктовы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5" descr="Магазин продуктов метро Обводный канал, продажа бизнеса на B…"/>
          <p:cNvPicPr/>
          <p:nvPr/>
        </p:nvPicPr>
        <p:blipFill>
          <a:blip r:embed="rId1"/>
          <a:stretch/>
        </p:blipFill>
        <p:spPr>
          <a:xfrm>
            <a:off x="826920" y="1162080"/>
            <a:ext cx="7301160" cy="54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Картинка 7 из 60907"/>
          <p:cNvPicPr/>
          <p:nvPr/>
        </p:nvPicPr>
        <p:blipFill>
          <a:blip r:embed="rId1"/>
          <a:stretch/>
        </p:blipFill>
        <p:spPr>
          <a:xfrm>
            <a:off x="755640" y="700200"/>
            <a:ext cx="7926480" cy="5852880"/>
          </a:xfrm>
          <a:prstGeom prst="rect">
            <a:avLst/>
          </a:prstGeom>
          <a:ln w="0">
            <a:noFill/>
          </a:ln>
        </p:spPr>
      </p:pic>
      <p:sp>
        <p:nvSpPr>
          <p:cNvPr id="46" name="TextBox 3"/>
          <p:cNvSpPr/>
          <p:nvPr/>
        </p:nvSpPr>
        <p:spPr>
          <a:xfrm>
            <a:off x="1640160" y="0"/>
            <a:ext cx="628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Отдел овощей, фрукт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Картинка 4 из 34863"/>
          <p:cNvPicPr/>
          <p:nvPr/>
        </p:nvPicPr>
        <p:blipFill>
          <a:blip r:embed="rId1"/>
          <a:stretch/>
        </p:blipFill>
        <p:spPr>
          <a:xfrm>
            <a:off x="0" y="0"/>
            <a:ext cx="90727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977400" y="115920"/>
            <a:ext cx="411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Хлебный отде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2"/>
          <p:cNvSpPr/>
          <p:nvPr/>
        </p:nvSpPr>
        <p:spPr>
          <a:xfrm>
            <a:off x="1851480" y="189000"/>
            <a:ext cx="419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газин одежды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826920" y="896760"/>
            <a:ext cx="7529760" cy="564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285840" y="824040"/>
            <a:ext cx="8572320" cy="5715000"/>
          </a:xfrm>
          <a:prstGeom prst="rect">
            <a:avLst/>
          </a:prstGeom>
          <a:ln w="0">
            <a:noFill/>
          </a:ln>
        </p:spPr>
      </p:pic>
      <p:sp>
        <p:nvSpPr>
          <p:cNvPr id="52" name="TextBox 2"/>
          <p:cNvSpPr/>
          <p:nvPr/>
        </p:nvSpPr>
        <p:spPr>
          <a:xfrm>
            <a:off x="2635920" y="115920"/>
            <a:ext cx="364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газин обув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Картинка 63 из 160620"/>
          <p:cNvPicPr/>
          <p:nvPr/>
        </p:nvPicPr>
        <p:blipFill>
          <a:blip r:embed="rId1"/>
          <a:stretch/>
        </p:blipFill>
        <p:spPr>
          <a:xfrm>
            <a:off x="419040" y="692280"/>
            <a:ext cx="8156520" cy="605304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2140560" y="65160"/>
            <a:ext cx="394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газин мебел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4T08:57:03Z</dcterms:created>
  <dc:creator>Admin</dc:creator>
  <dc:description/>
  <dc:language>en-US</dc:language>
  <cp:lastModifiedBy>Microsoft Office</cp:lastModifiedBy>
  <dcterms:modified xsi:type="dcterms:W3CDTF">2015-10-19T02:39:12Z</dcterms:modified>
  <cp:revision>21</cp:revision>
  <dc:subject/>
  <dc:title>Слайд 1</dc:title>
</cp:coreProperties>
</file>