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C4B0-0ED0-46E1-88C7-D5025F268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D9C2-DD5B-47EE-BA02-E4114920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608E-E3FD-476A-9CAC-CD7B1E07B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20A6-BB4F-4A9C-8077-28F8321DD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5C24-B051-4D33-991D-90A9699F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977B-C160-4C2D-8023-3EE36B16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79D8-BCC4-4741-A10A-2F4797F1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AF45-A6C5-406D-BB84-77FCFD70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BD85-80CD-49D5-BBDB-F530D430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C0E5-FAB9-409E-B4CF-BCE15BDC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8B0E-3F9C-4B6B-9912-C4FD06BA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D8B6-4964-45EF-B94F-A2B70541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8B79-25C0-436B-B041-C9AD1469682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73d54"/>
                </a:solidFill>
                <a:latin typeface="Calibri"/>
              </a:rPr>
              <a:t>Исследование воды из разных источников нашей мест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00400" y="4495320"/>
            <a:ext cx="4572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898989"/>
                </a:solidFill>
                <a:latin typeface="Calibri"/>
              </a:rPr>
              <a:t>Работу выполнили учащиеся 6 класса, члены  кружка «Химия для любознательных»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898989"/>
                </a:solidFill>
                <a:latin typeface="Calibri"/>
              </a:rPr>
              <a:t>МОУ «Вилегодская СОШ»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898989"/>
                </a:solidFill>
                <a:latin typeface="Calibri"/>
              </a:rPr>
              <a:t>Учитель – Непеина Т.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Октябрь 2015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Общие выв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a5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6a5650"/>
                </a:solidFill>
                <a:latin typeface="Calibri"/>
              </a:rPr>
              <a:t>Вода из разных источников разна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a5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6a5650"/>
                </a:solidFill>
                <a:latin typeface="Calibri"/>
              </a:rPr>
              <a:t>Важно знать характеристику своей воды, чтобы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6a5650"/>
                </a:solidFill>
                <a:latin typeface="Calibri"/>
              </a:rPr>
              <a:t>-если она с запахом, перед использованием отстаивать или кипятить (запах выйдет, удалятся и вредные газообразные вещества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6a5650"/>
                </a:solidFill>
                <a:latin typeface="Calibri"/>
              </a:rPr>
              <a:t>- если вода жёсткая, смягчать её в домашних условиях можно кипячением, добавлением соды или домашних кисло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Без воды мы жить не сможем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Будем её  беречь, очищать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Чтобы проблем со  здоровьем свои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Н е    с о з д а в а т ь !!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33360" y="228600"/>
            <a:ext cx="65530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акой только воды не бывает на свете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ть вода морская и речна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зерная и ключева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ёртвая и жива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азированная и минеральна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тьевая и индустриальна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одезная и водопроводна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ждевая и болотна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ть даже вода тяжёла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есть вода и весёла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лнечная, чудесная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возная и местна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лшебная, тала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ьшая и мала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очная, проточна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стая и грязная,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у, в общем,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чень разн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Мы исследовали воду из водопровода села Вилегодск, колодезную д. Теринская, Дресвянка.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Запах  определяли органолептическим путё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F:\Новая папка\P1010860.JPG"/>
          <p:cNvPicPr/>
          <p:nvPr/>
        </p:nvPicPr>
        <p:blipFill>
          <a:blip r:embed="rId1"/>
          <a:stretch/>
        </p:blipFill>
        <p:spPr>
          <a:xfrm>
            <a:off x="1600200" y="121932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Заголовок 1"/>
          <p:cNvSpPr/>
          <p:nvPr/>
        </p:nvSpPr>
        <p:spPr>
          <a:xfrm>
            <a:off x="380880" y="58672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Вывод. Вода из разных мест без запа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Запах определяли с дополнительным нагревани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F:\Новая папка\P1010862.JPG"/>
          <p:cNvPicPr/>
          <p:nvPr/>
        </p:nvPicPr>
        <p:blipFill>
          <a:blip r:embed="rId1"/>
          <a:stretch/>
        </p:blipFill>
        <p:spPr>
          <a:xfrm>
            <a:off x="1143000" y="1600200"/>
            <a:ext cx="6370560" cy="3733920"/>
          </a:xfrm>
          <a:prstGeom prst="rect">
            <a:avLst/>
          </a:prstGeom>
          <a:ln w="0">
            <a:noFill/>
          </a:ln>
        </p:spPr>
      </p:pic>
      <p:sp>
        <p:nvSpPr>
          <p:cNvPr id="50" name="Заголовок 1"/>
          <p:cNvSpPr/>
          <p:nvPr/>
        </p:nvSpPr>
        <p:spPr>
          <a:xfrm>
            <a:off x="304920" y="571500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Вывод. Вода из всех источников имеет запах гнилостный или боло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3f32"/>
                </a:solidFill>
                <a:latin typeface="Calibri"/>
              </a:rPr>
              <a:t>Химический состав воды определяли с помощью реактив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F:\Новая папка\P1010863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При добавлении нитрата серебра во всех случаях получили беловатый осад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F:\Новая папка\P1010864.JPG"/>
          <p:cNvPicPr/>
          <p:nvPr/>
        </p:nvPicPr>
        <p:blipFill>
          <a:blip r:embed="rId1"/>
          <a:stretch/>
        </p:blipFill>
        <p:spPr>
          <a:xfrm>
            <a:off x="1066680" y="1295280"/>
            <a:ext cx="7031160" cy="365760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380880" y="51055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Вывод. Вода из всех источников имеет хлорид-ион в нормальных количеств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Вывод. Во всех случаях в воде присутствует количество сульфат-ионов по нор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F:\Новая папка\P1010865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447920" y="1295280"/>
            <a:ext cx="6705360" cy="4191120"/>
          </a:xfrm>
          <a:prstGeom prst="rect">
            <a:avLst/>
          </a:prstGeom>
          <a:ln w="0">
            <a:noFill/>
          </a:ln>
        </p:spPr>
      </p:pic>
      <p:sp>
        <p:nvSpPr>
          <p:cNvPr id="58" name="Заголовок 1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При добавлении сульфата бария во всех случаях получили помут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70c0"/>
                </a:solidFill>
                <a:latin typeface="Calibri"/>
              </a:rPr>
              <a:t>При использовании индикатора фенолфталеина получили бледно малиновый раствор в воде школьной и села Вилегодск (водопроводной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F:\Новая папка\P101086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380880" y="5562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Вывод. Вода мягкая водопровод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124080" cy="38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0070c0"/>
                </a:solidFill>
                <a:latin typeface="Calibri"/>
              </a:rPr>
              <a:t>Для определения жёсткости воды использовали мыльную стружку.</a:t>
            </a:r>
            <a:br>
              <a:rPr sz="2500"/>
            </a:br>
            <a:r>
              <a:rPr b="0" lang="ru-RU" sz="2500" spc="-1" strike="noStrike">
                <a:solidFill>
                  <a:srgbClr val="c00000"/>
                </a:solidFill>
                <a:latin typeface="Calibri"/>
              </a:rPr>
              <a:t>В жёсткой воде дер. Теринская  мыло даёт мало пены и много осадка. </a:t>
            </a:r>
            <a:br>
              <a:rPr sz="2500"/>
            </a:br>
            <a:r>
              <a:rPr b="0" lang="ru-RU" sz="2500" spc="-1" strike="noStrike">
                <a:solidFill>
                  <a:srgbClr val="c00000"/>
                </a:solidFill>
                <a:latin typeface="Calibri"/>
              </a:rPr>
              <a:t>В водопроводной воде много пен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fs00.infourok.ru/images/doc/151/174577/img12.jpg"/>
          <p:cNvPicPr/>
          <p:nvPr/>
        </p:nvPicPr>
        <p:blipFill>
          <a:blip r:embed="rId1"/>
          <a:stretch/>
        </p:blipFill>
        <p:spPr>
          <a:xfrm>
            <a:off x="3884760" y="609480"/>
            <a:ext cx="480204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5-10-19T17:20:38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