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388-FCFB-4139-B209-27F02414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22B-A578-40DC-84FB-F77D48CD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416-4B6E-44D3-97AB-4D166F26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CB4-C54B-4DE5-97BA-2E882857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EB9-2CBC-4043-986C-B1264C79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CB1-CDBE-41A1-9F1D-1934AE4F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284-58B1-415A-A3F0-1C65ABA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E4A-D034-48FE-9F13-3A94D29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5A7-5DC5-42B5-9787-33573DC3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0EF-6233-41FA-A0B9-9D32EF55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677-2B15-42AA-A6E2-F44AE6F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163-424E-491A-83AC-FB1F007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8628-668B-438D-A5A6-6EA187D202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3d54"/>
                </a:solidFill>
                <a:latin typeface="Calibri"/>
              </a:rPr>
              <a:t>Исследование воды из разных источников нашей мест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449532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Работу выполнили учащиеся 6 класса, члены  кружка «Химия для любознательных»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МОУ «Вилегодская СОШ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Учитель – Непеина Т.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Октябрь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щие 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Вода из разных источников разн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Важно знать характеристику своей воды, чтобы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-если она с запахом, перед использованием отстаивать или кипятить (запах выйдет, удалятся и вредные газообразные веществ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a5650"/>
                </a:solidFill>
                <a:latin typeface="Calibri"/>
              </a:rPr>
              <a:t>- если вода жёсткая, смягчать её в домашних условиях можно кипячением, добавлением соды или домашних кисло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ез воды мы жить не сможем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удем её  беречь, очищат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бы проблем со  здоровьем сво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 е    с о з д а в а т ь 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228600"/>
            <a:ext cx="6553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акой только воды не бывает на свет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вода морская и реч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ерная и ключев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ёртвая и жив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зированная и минераль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ьевая и индустриаль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одезная и водопровод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ждевая и болотна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даже вода тяжё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есть вода и весё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ечная, чудесная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озная и мест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шебная, та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ая и мал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чная, проточн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ая и грязная,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, в общем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чень разн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ы исследовали воду из водопровода села Вилегодск, колодезную д. Теринская, Дресвянка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Запах  определяли органолептическим пут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Новая папка\P1010860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380880" y="58672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из разных мест без за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Запах определяли с дополнительным нагрева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Новая папка\P1010862.JPG"/>
          <p:cNvPicPr/>
          <p:nvPr/>
        </p:nvPicPr>
        <p:blipFill>
          <a:blip r:embed="rId1"/>
          <a:stretch/>
        </p:blipFill>
        <p:spPr>
          <a:xfrm>
            <a:off x="1143000" y="1600200"/>
            <a:ext cx="637056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304920" y="5715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из всех источников имеет запах гнилостный или бол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3f32"/>
                </a:solidFill>
                <a:latin typeface="Calibri"/>
              </a:rPr>
              <a:t>Химический состав воды определяли с помощью реактив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Новая папка\P101086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 добавлении нитрата серебра во всех случаях получили беловатый оса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Новая папка\P1010864.JPG"/>
          <p:cNvPicPr/>
          <p:nvPr/>
        </p:nvPicPr>
        <p:blipFill>
          <a:blip r:embed="rId1"/>
          <a:stretch/>
        </p:blipFill>
        <p:spPr>
          <a:xfrm>
            <a:off x="1066680" y="1295280"/>
            <a:ext cx="703116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380880" y="5105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из всех источников имеет хлорид-ион в нормальных количе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 всех случаях в воде присутствует количество сульфат-ионов по нор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F:\Новая папка\P101086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447920" y="1295280"/>
            <a:ext cx="6705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 добавлении сульфата бария во всех случаях получили помут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и использовании индикатора фенолфталеина получили бледно малиновый раствор в воде школьной и села Вилегодск (водопроводной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F:\Новая папка\P101086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3808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ывод. Вода мягкая водопров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2408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Для определения жёсткости воды использовали мыльную стружку.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В жёсткой воде дер. Теринская  мыло даёт мало пены и много осадка. 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В водопроводной воде много пе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fs00.infourok.ru/images/doc/151/174577/img12.jpg"/>
          <p:cNvPicPr/>
          <p:nvPr/>
        </p:nvPicPr>
        <p:blipFill>
          <a:blip r:embed="rId1"/>
          <a:stretch/>
        </p:blipFill>
        <p:spPr>
          <a:xfrm>
            <a:off x="3884760" y="609480"/>
            <a:ext cx="48020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10-19T17:20:3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