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7354-FCB0-44F8-A29D-744FC578F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22E1-B008-4501-AB61-0A3628419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6481-2B26-4E8D-B6AE-381C3D528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0616-29B4-43D4-8933-E5B53C248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8539-3D60-4B75-BA64-69D720006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13BF-4827-412F-9385-659E8CEC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193C-4999-4EEC-A08B-4500FDAF3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0E80-1783-4035-88DE-04976FF93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8B75-1D2A-46E4-BA03-B3E76396F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EE09-D2A6-4EF8-8F7F-814CFA4C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F8CE-ECD9-46A1-A53A-9867C40F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1030-AD8A-4CFE-B14D-55DC68D5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8F5DA-7B28-44C8-90D6-ACFB5C5D4F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Рисунок12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42" name="TextBox 1"/>
          <p:cNvSpPr/>
          <p:nvPr/>
        </p:nvSpPr>
        <p:spPr>
          <a:xfrm>
            <a:off x="1042920" y="404640"/>
            <a:ext cx="65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Муниципальное общеобразовательное учреждение  средняя общеобразовательная школа №1Белокатайского  муниципального района Республики Башкорто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826920" y="1700280"/>
            <a:ext cx="734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сследовательская раб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ема: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зучение биологических особенностей кроликов и их исполь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2195640" y="443700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ыполнил: Десяткин Анто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2508840" y="558972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уководитель: Десяткин Артем Александр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4213800" y="630864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2015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Рисунок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Выбор темы</a:t>
            </a:r>
            <a:r>
              <a:rPr b="1" i="1" lang="ru-RU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связан с широкими возможностями использовать кроликов в личных приусадебных   и фермерских хозяйствах для получения продуктов, а так же в связи с использованием кроликов в педагогической деятельности как объекта для различных биологических исследова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В задачи нашей работы входил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Изучить биологию домашних кроли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Размножение кроли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Условия содержа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Использование  кроликов в школ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Практическая значимость: Работа может наглядно использоваться на уроках биологии в школе, а так же может в дальнейшем изучаться и исследоваться научными бригадами школьников.</a:t>
            </a:r>
            <a:r>
              <a:rPr b="1" lang="ru-RU" sz="2400" spc="-1" strike="noStrike">
                <a:solidFill>
                  <a:srgbClr val="33cc33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Прямоугольник 1" descr=""/>
          <p:cNvPicPr/>
          <p:nvPr/>
        </p:nvPicPr>
        <p:blipFill>
          <a:blip r:embed="rId1"/>
          <a:stretch/>
        </p:blipFill>
        <p:spPr>
          <a:xfrm>
            <a:off x="585720" y="549360"/>
            <a:ext cx="8040600" cy="1339920"/>
          </a:xfrm>
          <a:prstGeom prst="rect">
            <a:avLst/>
          </a:prstGeom>
          <a:ln w="0">
            <a:noFill/>
          </a:ln>
        </p:spPr>
      </p:pic>
      <p:pic>
        <p:nvPicPr>
          <p:cNvPr id="50" name="Схема 3" descr=""/>
          <p:cNvPicPr/>
          <p:nvPr/>
        </p:nvPicPr>
        <p:blipFill>
          <a:blip r:embed="rId2"/>
          <a:stretch/>
        </p:blipFill>
        <p:spPr>
          <a:xfrm>
            <a:off x="1450800" y="1925640"/>
            <a:ext cx="6132600" cy="4140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D:\фото\кролики\кролики\100_07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Разведение кроликов в личных, приусадебных и фермерских хозяйствах - прибыльное дело. Кроличье мясо относится к диетическим продуктам, от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других видов мяса оно отличается высоким содержанием полноценных белков, легко усваивается организмом человека. Высокая плодовитость, скороспелость и быстрота размножения - наиболее ценные биологические особенности кроли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D:\фото\кролики\кролики\100_070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2"/>
          <p:cNvSpPr/>
          <p:nvPr/>
        </p:nvSpPr>
        <p:spPr>
          <a:xfrm>
            <a:off x="1428840" y="0"/>
            <a:ext cx="7715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eece1"/>
                </a:solidFill>
                <a:latin typeface="Calibri"/>
              </a:rPr>
              <a:t>Крольчата рождаются маленькими, голыми слепышами, совершенно беспомощны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11:01:33Z</dcterms:created>
  <dc:creator>Admin</dc:creator>
  <dc:description/>
  <dc:language>en-US</dc:language>
  <cp:lastModifiedBy>1</cp:lastModifiedBy>
  <dcterms:modified xsi:type="dcterms:W3CDTF">2015-10-19T07:42:35Z</dcterms:modified>
  <cp:revision>21</cp:revision>
  <dc:subject/>
  <dc:title>Слайд 1</dc:title>
</cp:coreProperties>
</file>