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54A-6F0F-48F5-A6A9-A769FB3C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D21-0DBA-47F8-8E7F-DC8A1FF0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4FE-FF29-44E1-8E7B-9DDE2A5A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EAF-562E-439D-8934-A8B1A384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9A1-D9F9-41F9-88EE-FCCE76B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6DF-3276-4361-A201-6D8D0C3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4B1-7CF2-423B-9BF1-352CFDA4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5A6-8335-4015-9DEC-C63C17B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9F2-44D4-40BB-A37F-F69F0C8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B28-ED8C-4496-9568-DE5691D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57C-CCAE-4002-8E8D-06899A3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CFE-65E2-4A51-9AFA-4762D38A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AE6-0B38-4561-96BC-0268811BC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042920" y="40464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учреждение  средняя общеобразовательная школа №1Белокатайского  муниципального района Республики Башк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826920" y="1700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следователь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учение биологических особенностей кроликов и их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195640" y="4437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полнил: Десяткин Ант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508840" y="5589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итель: Десяткин Артем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213800" y="63086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01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ыбор темы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вязан с широкими возможностями использовать кроликов в личных приусадебных   и фермерских хозяйствах для получения продуктов, а так же в связи с использованием кроликов в педагогической деятельности как объекта для различных биологических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 задачи нашей работы входи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зучить биологию домашних крол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азмножение крол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словия содерж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спользование  кроликов в школ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актическая значимость: Работа может наглядно использоваться на уроках биологии в школе, а так же может в дальнейшем изучаться и исследоваться научными бригадами школьников.</a:t>
            </a:r>
            <a:r>
              <a:rPr b="1" lang="ru-RU" sz="2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549360"/>
            <a:ext cx="8040600" cy="1339920"/>
          </a:xfrm>
          <a:prstGeom prst="rect">
            <a:avLst/>
          </a:prstGeom>
          <a:ln w="0">
            <a:noFill/>
          </a:ln>
        </p:spPr>
      </p:pic>
      <p:pic>
        <p:nvPicPr>
          <p:cNvPr id="50" name="Схема 3" descr=""/>
          <p:cNvPicPr/>
          <p:nvPr/>
        </p:nvPicPr>
        <p:blipFill>
          <a:blip r:embed="rId2"/>
          <a:stretch/>
        </p:blipFill>
        <p:spPr>
          <a:xfrm>
            <a:off x="1450800" y="1925640"/>
            <a:ext cx="61326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фото\кролики\кролики\100_0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зведение кроликов в личных, приусадебных и фермерских хозяйствах - прибыльное дело. Кроличье мясо относится к диетическим продуктам, о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ругих видов мяса оно отличается высоким содержанием полноценных белков, легко усваивается организмом человека. Высокая плодовитость, скороспелость и быстрота размножения - наиболее ценные биологические особенности крол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фото\кролики\кролики\100_0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428840" y="0"/>
            <a:ext cx="771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рольчата рождаются маленькими, голыми слепышами, совершенно беспомощны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01:33Z</dcterms:created>
  <dc:creator>Admin</dc:creator>
  <dc:description/>
  <dc:language>en-US</dc:language>
  <cp:lastModifiedBy>1</cp:lastModifiedBy>
  <dcterms:modified xsi:type="dcterms:W3CDTF">2015-10-19T07:42:35Z</dcterms:modified>
  <cp:revision>21</cp:revision>
  <dc:subject/>
  <dc:title>Слайд 1</dc:title>
</cp:coreProperties>
</file>