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78A-7974-4C94-ADCD-43CB1F8D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0F0-1E91-4057-A41C-EEB2A820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172-BF32-4111-A0B0-E37664EA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937-776D-43D1-8CD5-E40933A1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A5D-CFA9-446C-97F0-2870F5C2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899-AE8D-4E1B-AD17-6891937C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2B6-569B-4359-A444-3C8BE1EE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240-6AF0-4083-B2E8-CF506C4E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62F-0D30-47D4-963C-F8D15128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5A9-6F40-4E93-8882-6D69B295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11D-50FB-4F39-9491-5EA06F27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131-13E6-4E0C-A51D-27853360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AA76-2393-4A9B-B14E-A0DCBB98D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 flipV="1" rot="10800000">
            <a:off x="900000" y="910080"/>
            <a:ext cx="74088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00"/>
                </a:solidFill>
                <a:latin typeface="Monotype Corsiva"/>
              </a:rPr>
              <a:t>Волшебные камн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</a:rPr>
              <a:t>работы учащихся 1в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</a:rPr>
              <a:t>МБОУ Лицей № 1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Monotype Corsiva"/>
              </a:rPr>
              <a:t>Учитель Баранова А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0088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rcRect l="0" t="20601" r="0" b="0"/>
          <a:stretch/>
        </p:blipFill>
        <p:spPr>
          <a:xfrm>
            <a:off x="1979640" y="836640"/>
            <a:ext cx="514332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rcRect l="0" t="21653" r="0" b="7999"/>
          <a:stretch/>
        </p:blipFill>
        <p:spPr>
          <a:xfrm>
            <a:off x="1763640" y="765000"/>
            <a:ext cx="5811840" cy="54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rcRect l="0" t="0" r="0" b="6951"/>
          <a:stretch/>
        </p:blipFill>
        <p:spPr>
          <a:xfrm>
            <a:off x="2484360" y="260280"/>
            <a:ext cx="409896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9051" t="0" r="14564" b="8000"/>
          <a:stretch/>
        </p:blipFill>
        <p:spPr>
          <a:xfrm>
            <a:off x="826920" y="260280"/>
            <a:ext cx="6985080" cy="631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03:40Z</dcterms:created>
  <dc:creator>Настя</dc:creator>
  <dc:description/>
  <dc:language>en-US</dc:language>
  <cp:lastModifiedBy>1</cp:lastModifiedBy>
  <dcterms:modified xsi:type="dcterms:W3CDTF">2015-10-19T15:18:34Z</dcterms:modified>
  <cp:revision>47</cp:revision>
  <dc:subject/>
  <dc:title>Ваш ребёнок идет в школу</dc:title>
</cp:coreProperties>
</file>