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2BA-1F67-44EC-BEF1-1BF84BD7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20E-14FE-4444-8750-9835BCA8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EA2-F3B4-452F-81C1-D3443590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8C5-EC3B-4D42-ADC1-C81DBB69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67E-1348-4839-BD9B-B79760CA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484-0EE3-4766-A593-32E62FE4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146-6926-4A66-AB17-7AFF4956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7A4-C5FD-49E4-A7E7-56E71A82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04F-26DF-4236-A286-2B537DC5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8B7-2D62-40B8-8F78-F9BEC7E7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EC2-3DEC-4A58-A800-46FEB0B7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3BD-D14E-457E-91D7-E015F35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C581-D4A2-4A4A-8516-901E181B1E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flipV="1" rot="10800000">
            <a:off x="900000" y="910080"/>
            <a:ext cx="74088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Monotype Corsiva"/>
              </a:rPr>
              <a:t>Волшебные камн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</a:rPr>
              <a:t>работы учащихся 1в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</a:rPr>
              <a:t>МБОУ Лицей № 1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Monotype Corsiva"/>
              </a:rPr>
              <a:t>Учитель Баранова А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0088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rcRect l="0" t="20601" r="0" b="0"/>
          <a:stretch/>
        </p:blipFill>
        <p:spPr>
          <a:xfrm>
            <a:off x="1979640" y="836640"/>
            <a:ext cx="51433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rcRect l="0" t="21653" r="0" b="7999"/>
          <a:stretch/>
        </p:blipFill>
        <p:spPr>
          <a:xfrm>
            <a:off x="1763640" y="765000"/>
            <a:ext cx="581184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rcRect l="0" t="0" r="0" b="6951"/>
          <a:stretch/>
        </p:blipFill>
        <p:spPr>
          <a:xfrm>
            <a:off x="2484360" y="260280"/>
            <a:ext cx="409896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9051" t="0" r="14564" b="8000"/>
          <a:stretch/>
        </p:blipFill>
        <p:spPr>
          <a:xfrm>
            <a:off x="826920" y="260280"/>
            <a:ext cx="6985080" cy="631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03:40Z</dcterms:created>
  <dc:creator>Настя</dc:creator>
  <dc:description/>
  <dc:language>en-US</dc:language>
  <cp:lastModifiedBy>1</cp:lastModifiedBy>
  <dcterms:modified xsi:type="dcterms:W3CDTF">2015-10-19T15:18:34Z</dcterms:modified>
  <cp:revision>47</cp:revision>
  <dc:subject/>
  <dc:title>Ваш ребёнок идет в школу</dc:title>
</cp:coreProperties>
</file>