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jpeg" ContentType="image/jpeg"/>
  <Override PartName="/ppt/media/image7.gif" ContentType="image/gif"/>
  <Override PartName="/ppt/media/image14.jpeg" ContentType="image/jpeg"/>
  <Override PartName="/ppt/media/image8.png" ContentType="image/png"/>
  <Override PartName="/ppt/media/image11.jpeg" ContentType="image/jpeg"/>
  <Override PartName="/ppt/media/image6.gif" ContentType="image/gi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645-B354-48E0-B0F8-233A35FC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95B-D5F3-440E-991C-9D2400CA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951-77AB-4BF0-AF5A-AC4833B8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CDA-E798-4E4D-8101-AEF34FD7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BA5D-BFB8-46EB-82F3-3022C4FD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6984-F95B-4EA4-99D7-8D8683D9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2C20-F3C5-4BCF-BFC4-67B5277B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BB4A-5531-4B61-B221-223FA0E5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EA2E-9517-42C4-9FFC-3EC6EE4A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834D-E447-441D-9D57-BF38886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5D29-7C88-40DF-BE2F-56A80E8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99A-1D53-4F34-8376-2C9D0B4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5EBF-31F2-4C6F-B0CC-83E1A33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0CE7-EDC6-4EFD-8B12-548E981A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1DCD-9F54-4B87-ACBD-98D06326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1D2B-8981-4E21-8044-4F26799D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47DD-4A32-46B9-9B5D-FC10083F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62C7-F86F-4A0D-B863-027D1694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4FA5-F2B9-4F75-8C0A-F80461E2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BA47-B684-4438-A850-6CA98544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2466-AE22-43BA-94D6-C4D08127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20C1-3A96-42E6-A75C-CCB1699C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030-556D-41EB-99D4-7028A256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A07D-C6F0-43B3-A663-A42C8B9B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F82F-BAAD-4E93-9C5D-A171477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6E34-92B6-4F86-A6C6-609D19B7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5A75-C3DD-42BE-80B1-B4DA3BBF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8C96-8DCE-49E8-9A08-4D9D9478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FC19-EB59-4074-89F8-289947E7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79D7-A35C-4A3B-B6CA-C105987F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0D1A-4198-482D-9701-B9F08254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2DACB-A0E9-4491-B461-DFFE47AA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3C8D-A597-45F9-B123-C230CBAC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829-D73D-4DFF-A544-FF6CA0A8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B24E-E274-4941-B785-2BE97CF2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22868-B8EF-4233-91CD-12E50B3B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05EF-53D0-4188-ADB3-51316B5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7BE7-A25F-4F89-BA3A-45F8A7C5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D2CEB-E9BE-4E94-9B2A-1395D2D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217A-C18C-48C1-8A5B-8F170BD4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DB4D-FE5F-4650-BBAB-5F3E7FBC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BECBC-2745-4598-90ED-2A844120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9199-3007-4A79-9FBF-F0341D98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60F-A08B-4F2C-A9F6-429B6C73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951-356A-4126-A59A-36A45DEB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FF3-D678-45AD-9BED-8321F52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AD8-1323-4152-B894-B6CD3C0D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BBF-DD43-4520-A084-3EEB5486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EA47-0130-4336-968E-B0415DE475B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CAF7-E400-4DFC-BE66-E71809C373C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127-F1EF-4123-9129-F449B9ACDC0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113A-167A-4829-B249-E5AD9FEBD67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FOUC02"/>
          <p:cNvPicPr/>
          <p:nvPr/>
        </p:nvPicPr>
        <p:blipFill>
          <a:blip r:embed="rId1"/>
          <a:stretch/>
        </p:blipFill>
        <p:spPr>
          <a:xfrm>
            <a:off x="6215040" y="3786120"/>
            <a:ext cx="1928880" cy="14461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1500120" y="57168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Monotype Corsiva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Monotype Corsiva"/>
              <a:ea typeface="Monotype Corsiva"/>
            </a:endParaRPr>
          </a:p>
        </p:txBody>
      </p:sp>
      <p:pic>
        <p:nvPicPr>
          <p:cNvPr id="197" name="Picture 8" descr="FOUC01"/>
          <p:cNvPicPr/>
          <p:nvPr/>
        </p:nvPicPr>
        <p:blipFill>
          <a:blip r:embed="rId2"/>
          <a:stretch/>
        </p:blipFill>
        <p:spPr>
          <a:xfrm>
            <a:off x="1143000" y="3786120"/>
            <a:ext cx="1928880" cy="14461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2"/>
          <p:cNvSpPr/>
          <p:nvPr/>
        </p:nvSpPr>
        <p:spPr>
          <a:xfrm>
            <a:off x="5072040" y="44290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1071720" y="207180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0d0d"/>
                </a:solidFill>
                <a:latin typeface="Times New Roman"/>
              </a:rPr>
              <a:t>Колебания и вол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0" y="5754600"/>
            <a:ext cx="9144000" cy="11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428760" y="308700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колебаний от точки к точке, от частицы к частице в упругой среде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ой вол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крепить один конец упругого шнура, а другому сообщить колебания в направлении, перпендикулярном шнуру, то вдоль него будут распространяться колебания, т. е. будет создаваться волновое движ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а представляет собой колебания, которые при своем распространении не переносят с собой вещество. Волны переносят энергию из одной точки пространства в другую</a:t>
            </a:r>
            <a:r>
              <a:rPr b="0" lang="ru-RU" sz="900" spc="-1" strike="noStrike">
                <a:solidFill>
                  <a:srgbClr val="666666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928800" y="42876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еханические вол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" descr="mehanicheskie_volni_renamed_23898.jpg"/>
          <p:cNvPicPr/>
          <p:nvPr/>
        </p:nvPicPr>
        <p:blipFill>
          <a:blip r:embed="rId1">
            <a:biLevel thresh="50000"/>
          </a:blip>
          <a:srcRect l="0" t="0" r="0" b="14333"/>
          <a:stretch/>
        </p:blipFill>
        <p:spPr>
          <a:xfrm>
            <a:off x="3000240" y="1500120"/>
            <a:ext cx="2928960" cy="165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p_239.jpg"/>
          <p:cNvPicPr/>
          <p:nvPr/>
        </p:nvPicPr>
        <p:blipFill>
          <a:blip r:embed="rId1"/>
          <a:stretch/>
        </p:blipFill>
        <p:spPr>
          <a:xfrm>
            <a:off x="1643040" y="1714680"/>
            <a:ext cx="6215040" cy="3087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571680" y="496512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щение частиц совершается вдоль направления распространения волны, то такие волны 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ь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ичный пример продольной волны – зву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285920" y="50004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родольные вол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p_247.jpg"/>
          <p:cNvPicPr/>
          <p:nvPr/>
        </p:nvPicPr>
        <p:blipFill>
          <a:blip r:embed="rId1"/>
          <a:stretch/>
        </p:blipFill>
        <p:spPr>
          <a:xfrm>
            <a:off x="1785960" y="1500120"/>
            <a:ext cx="5786280" cy="2792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1357200" y="42876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оперечные вол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357120" y="428616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смещение частиц происходит перпендикулярно направлению распространения волны, то волна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еречно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 поперечным относятся волны, бегущие по поверхности воды и вдоль струны, а также электромагнитные волны – векторы напряженности электрического и магнитного полей перпендикулярны вектору скорости вол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"/>
          <p:cNvSpPr/>
          <p:nvPr/>
        </p:nvSpPr>
        <p:spPr>
          <a:xfrm>
            <a:off x="1071720" y="35712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500040" y="122544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леб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1. Свободные колеб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2. Затухающие колеб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3. Вынужденные колеб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4. Резона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рактеристики колеб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Механические волн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1. Продольные вол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2. Поперечные вол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571680" y="642960"/>
            <a:ext cx="8072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леб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один из самых распространенных процессов в природе и технике. Колеблются высотные здания и высоковольтные провода под действием ветра, маятник заведенных часов и автомобиль на рессорах во время движения, уровень реки в течение года и температура человеческого тела при болезн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вук - это колебания плотности и давления воздуха, радиоволны - периодические изменения напряженностей электрического и магнитного полей, видимый свет - тоже электромагнитные колебания, только с несколько иными длиной волны и частотой. Землетрясения - колебания почвы, приливы и отливы - изменение уровня морей и океанов, вызываемое притяжением Луны и достигающее в некоторых местностях 18 метров, биение пульса - периодические сокращения сердечной мышцы человека и т.д. Смена бодрствования и сна, труда и отдыха, зимы и лета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же наше каждодневное хождение на работу и возвращение домой попадает под определение колебаний, которые трактуются как процессы, точно или приближенно повторяющиеся через равные промежутки времени (повторяющееся движение по одной и той же траектории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На рисунке указаны значения частот некоторых колебательных процессов."/>
          <p:cNvPicPr/>
          <p:nvPr/>
        </p:nvPicPr>
        <p:blipFill>
          <a:blip r:embed="rId1"/>
          <a:stretch/>
        </p:blipFill>
        <p:spPr>
          <a:xfrm>
            <a:off x="500040" y="285840"/>
            <a:ext cx="4714920" cy="6303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5286240" y="13572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ебания бываю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ханические, электромагнитные, химические, термодинамическ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различные другие. Несмотря на такое разнообразие, все они имеют между собой много об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График гармонических колебаний"/>
          <p:cNvPicPr/>
          <p:nvPr/>
        </p:nvPicPr>
        <p:blipFill>
          <a:blip r:embed="rId1"/>
          <a:stretch/>
        </p:blipFill>
        <p:spPr>
          <a:xfrm>
            <a:off x="785880" y="1643040"/>
            <a:ext cx="5072040" cy="2343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6286680" y="1643040"/>
            <a:ext cx="25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того как по струне рояля ударит один из молоточков, струна продолжает "сама по себе" совершать колебания -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</a:rPr>
              <a:t>свободные колебания</a:t>
            </a:r>
            <a:r>
              <a:rPr b="1" i="1" lang="ru-RU" sz="18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14200" y="4071960"/>
            <a:ext cx="892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йства свободных колебаний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азвитие движения во времени зависит от того, как оно началос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Движение постепенно затухае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ри своем движении цепь не имеет какой-либо определенной формы; с течением времени форма цепи изменяется (однако в конце движения колебания часто характеризуются более или менее отчетливой формой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Совершенно невозможно указать "частоту" колебаний (с течением времени, однако, движение может принять определенную частоту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000080" y="42876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вободные колеба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График затухающих колебаний"/>
          <p:cNvPicPr/>
          <p:nvPr/>
        </p:nvPicPr>
        <p:blipFill>
          <a:blip r:embed="rId1"/>
          <a:stretch/>
        </p:blipFill>
        <p:spPr>
          <a:xfrm>
            <a:off x="1785960" y="1785960"/>
            <a:ext cx="5668920" cy="2971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500040" y="535788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 характерная особенность свободных колебаний: такие колебания затухают. Этот эффект объясняется наличием трения; иногда его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пфирова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714240" y="428760"/>
            <a:ext cx="792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тухающие колеба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57120" y="1500120"/>
            <a:ext cx="84297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бания, происходящие под действием внешней переменной силы -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 многих случаях эта сила оказывается периодически изменяющей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нешняя сила, действующая на систему, изменяется с течением времени по закону косинуса или синуса, то возникающие в системе вынужденные колебания будут гармоническими. При этом частота вынужденных колебаний будет совпадать с частотой изменения внешней сил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свободных колебаний, когда система получает энергию лишь один раз (при выведении системы из состояния равновесия), в случае вынужденных колебаний система поглощает эту энергию от источника внешней периодической силы непрерывно. Эта энергия восполняет потери, расходуемые на преодоление трения, и вынужденные колебания ок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тухающи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500040" y="357120"/>
            <a:ext cx="864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ынужденные колеба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Резонанс"/>
          <p:cNvPicPr/>
          <p:nvPr/>
        </p:nvPicPr>
        <p:blipFill>
          <a:blip r:embed="rId1"/>
          <a:stretch/>
        </p:blipFill>
        <p:spPr>
          <a:xfrm>
            <a:off x="1214280" y="1714680"/>
            <a:ext cx="4092840" cy="4400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857920" y="1571760"/>
            <a:ext cx="2733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при вынужденных колебания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онанс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кое возрастание амплитуды колебаний, в результате совпадения собственной частоты с частотой вынуждающей си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857680" y="357120"/>
            <a:ext cx="32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езонан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6"/>
          <p:cNvSpPr/>
          <p:nvPr/>
        </p:nvSpPr>
        <p:spPr>
          <a:xfrm>
            <a:off x="0" y="428760"/>
            <a:ext cx="928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Характеристики колебаний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42920" y="1665720"/>
            <a:ext cx="8786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колебани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межуток времени, через который состояния системы принимают одинаковые значен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а колебаний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исло колебаний в 1 секунду, величина, обратная период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яется в герцах (Гц), имеет размерность 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расчетах нередко использу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ую частоту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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колебаний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, показывающая, какая часть колебания прошла с начала процесса. Измеряется в угловых величинах – градусах или радиан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литу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а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ксимальное значение, которое принимает колебательная систе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12:40:14Z</dcterms:created>
  <dc:creator>Наталия</dc:creator>
  <dc:description/>
  <dc:language>en-US</dc:language>
  <cp:lastModifiedBy>Наталия</cp:lastModifiedBy>
  <dcterms:modified xsi:type="dcterms:W3CDTF">2009-12-28T14:47:10Z</dcterms:modified>
  <cp:revision>72</cp:revision>
  <dc:subject/>
  <dc:title>Презентация PowerPoint</dc:title>
</cp:coreProperties>
</file>