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jpeg" ContentType="image/jpeg"/>
  <Override PartName="/ppt/media/image7.gif" ContentType="image/gif"/>
  <Override PartName="/ppt/media/image14.jpeg" ContentType="image/jpeg"/>
  <Override PartName="/ppt/media/image8.png" ContentType="image/png"/>
  <Override PartName="/ppt/media/image11.jpeg" ContentType="image/jpeg"/>
  <Override PartName="/ppt/media/image6.gif" ContentType="image/gi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D0F-5C4C-4A76-9683-7CC62B03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F3D-6012-4BBF-A8F9-DD1AFC97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A82-A956-4877-80D2-E57C18C4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C85-947C-4AF7-AC38-7EC30BA3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732A-5B97-4A42-879B-B4378D7F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1354-11BB-400D-B761-4BD79905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A656-3293-4B64-B077-EFEB3DA2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3A4D-58DA-441B-AA43-E73F38E1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152B-F055-442E-8CF8-58847AF9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937B-20CB-4C7C-9CA4-E2CA13B6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2248-F09D-40E1-B2E9-23E71A6F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D8A-F4DC-43C0-9842-51BE8037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C147-2FAF-435A-B6AC-9ACF03B9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7114-3EB3-4A17-A6B5-606F2704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9F20-27DA-4F36-B3C4-EA02816A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EB99-0F59-4EA5-B739-4822BE13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0F18-032D-4443-B787-DEE1E09E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43EF9-9EE7-489F-83F2-853BFF4B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78BC-BF46-489B-AA9E-3F5DC442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82203-A502-4C2F-B498-D36449B3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8D6E-4D7A-4C17-AB41-9A4CB750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06E92-4A88-48EB-BDA5-994D036F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357-C411-4032-A4E0-FBCB9A08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ED90-58BD-4DDE-8B9C-7EA762D8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1A506-DC37-4CEA-8FEC-3B83D433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16EC-1F19-4217-BB6B-BFBF9C80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DB7F-5475-4F48-960E-3B025207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C80A-EAE9-4308-B8BD-B826DE4A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66A49-6AD0-49B3-9003-AD981C46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CF11-68CB-482A-94DB-356EB60E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595D-25EB-4F8E-987A-A98944B2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45F09-52AE-4123-8B72-4BE97E9E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73A9-0CED-45E0-A09F-72A227F6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C9E-3F28-41C1-9316-076A691C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39F3D-5712-446B-A11E-68E33471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666A6-86CA-4BA3-B3AD-EA9E84B5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E09A-F981-4A00-AA8A-6DFC5A0F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31F1D-3290-4A46-9954-6BE2F5AB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5754-F2A1-4114-B204-AEF4027E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39E39-9593-4A0B-B8FB-1940FC9C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619E-97C0-4E7D-9413-A3253E57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29706-26E6-49D0-BDE0-F4AB310B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1C114-0AE6-4E9D-8923-2DDFF753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887-EA77-462E-8304-F2234F34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CA7-7A02-4F80-AD03-2051B0B0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92B1-2A97-4D1F-B261-078559C7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F8E-55E5-4F72-9EFB-DE6E3EFC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837-8607-49FE-8C2E-E0BA4794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DE80-E47F-42ED-9F79-AA24CADFB09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683A-DC7D-40C2-BC69-1AA6980DF12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3B1B-DD34-4B36-AE5A-9BAFF837E71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F5D1-C1F4-4024-A81F-5B5108AAA1F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FOUC02"/>
          <p:cNvPicPr/>
          <p:nvPr/>
        </p:nvPicPr>
        <p:blipFill>
          <a:blip r:embed="rId1"/>
          <a:stretch/>
        </p:blipFill>
        <p:spPr>
          <a:xfrm>
            <a:off x="6215040" y="3786120"/>
            <a:ext cx="1928880" cy="1446120"/>
          </a:xfrm>
          <a:prstGeom prst="rect">
            <a:avLst/>
          </a:prstGeom>
          <a:ln w="0">
            <a:noFill/>
          </a:ln>
        </p:spPr>
      </p:pic>
      <p:sp>
        <p:nvSpPr>
          <p:cNvPr id="196" name="WordArt 5"/>
          <p:cNvSpPr txBox="1"/>
          <p:nvPr/>
        </p:nvSpPr>
        <p:spPr>
          <a:xfrm>
            <a:off x="1500120" y="57168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Monotype Corsiva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Monotype Corsiva"/>
              <a:ea typeface="Monotype Corsiva"/>
            </a:endParaRPr>
          </a:p>
        </p:txBody>
      </p:sp>
      <p:pic>
        <p:nvPicPr>
          <p:cNvPr id="197" name="Picture 8" descr="FOUC01"/>
          <p:cNvPicPr/>
          <p:nvPr/>
        </p:nvPicPr>
        <p:blipFill>
          <a:blip r:embed="rId2"/>
          <a:stretch/>
        </p:blipFill>
        <p:spPr>
          <a:xfrm>
            <a:off x="1143000" y="3786120"/>
            <a:ext cx="1928880" cy="14461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2"/>
          <p:cNvSpPr/>
          <p:nvPr/>
        </p:nvSpPr>
        <p:spPr>
          <a:xfrm>
            <a:off x="5072040" y="44290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1071720" y="207180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d0d0d"/>
                </a:solidFill>
                <a:latin typeface="Times New Roman"/>
              </a:rPr>
              <a:t>Колебания и вол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3"/>
          <a:stretch/>
        </p:blipFill>
        <p:spPr>
          <a:xfrm>
            <a:off x="0" y="5754600"/>
            <a:ext cx="9144000" cy="110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428760" y="308700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колебаний от точки к точке, от частицы к частице в упругой среде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ой вол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крепить один конец упругого шнура, а другому сообщить колебания в направлении, перпендикулярном шнуру, то вдоль него будут распространяться колебания, т. е. будет создаваться волновое движ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а представляет собой колебания, которые при своем распространении не переносят с собой вещество. Волны переносят энергию из одной точки пространства в другую</a:t>
            </a:r>
            <a:r>
              <a:rPr b="0" lang="ru-RU" sz="900" spc="-1" strike="noStrike">
                <a:solidFill>
                  <a:srgbClr val="666666"/>
                </a:solidFill>
                <a:latin typeface="Verdana"/>
                <a:ea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928800" y="42876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еханические вол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2" descr="mehanicheskie_volni_renamed_23898.jpg"/>
          <p:cNvPicPr/>
          <p:nvPr/>
        </p:nvPicPr>
        <p:blipFill>
          <a:blip r:embed="rId1">
            <a:biLevel thresh="50000"/>
          </a:blip>
          <a:srcRect l="0" t="0" r="0" b="14333"/>
          <a:stretch/>
        </p:blipFill>
        <p:spPr>
          <a:xfrm>
            <a:off x="3000240" y="1500120"/>
            <a:ext cx="2928960" cy="165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p_239.jpg"/>
          <p:cNvPicPr/>
          <p:nvPr/>
        </p:nvPicPr>
        <p:blipFill>
          <a:blip r:embed="rId1"/>
          <a:stretch/>
        </p:blipFill>
        <p:spPr>
          <a:xfrm>
            <a:off x="1643040" y="1714680"/>
            <a:ext cx="6215040" cy="30873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571680" y="496512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щение частиц совершается вдоль направления распространения волны, то такие волны называю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ь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ичный пример продольной волны – зву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285920" y="50004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Продольные вол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p_247.jpg"/>
          <p:cNvPicPr/>
          <p:nvPr/>
        </p:nvPicPr>
        <p:blipFill>
          <a:blip r:embed="rId1"/>
          <a:stretch/>
        </p:blipFill>
        <p:spPr>
          <a:xfrm>
            <a:off x="1785960" y="1500120"/>
            <a:ext cx="5786280" cy="2792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6"/>
          <p:cNvSpPr/>
          <p:nvPr/>
        </p:nvSpPr>
        <p:spPr>
          <a:xfrm>
            <a:off x="1357200" y="428760"/>
            <a:ext cx="67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Поперечные вол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357120" y="428616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смещение частиц происходит перпендикулярно направлению распространения волны, то волна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перечно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 поперечным относятся волны, бегущие по поверхности воды и вдоль струны, а также электромагнитные волны – векторы напряженности электрического и магнитного полей перпендикулярны вектору скорости вол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"/>
          <p:cNvSpPr/>
          <p:nvPr/>
        </p:nvSpPr>
        <p:spPr>
          <a:xfrm>
            <a:off x="1071720" y="35712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500040" y="122544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леба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1. Свободные колеб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2. Затухающие колеб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3. Вынужденные колеб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4. Резона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рактеристики колеб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Механические волн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1. Продольные вол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2. Поперечные вол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571680" y="642960"/>
            <a:ext cx="8072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леб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один из самых распространенных процессов в природе и технике. Колеблются высотные здания и высоковольтные провода под действием ветра, маятник заведенных часов и автомобиль на рессорах во время движения, уровень реки в течение года и температура человеческого тела при болезн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вук - это колебания плотности и давления воздуха, радиоволны - периодические изменения напряженностей электрического и магнитного полей, видимый свет - тоже электромагнитные колебания, только с несколько иными длиной волны и частотой. Землетрясения - колебания почвы, приливы и отливы - изменение уровня морей и океанов, вызываемое притяжением Луны и достигающее в некоторых местностях 18 метров, биение пульса - периодические сокращения сердечной мышцы человека и т.д. Смена бодрствования и сна, труда и отдыха, зимы и лета.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же наше каждодневное хождение на работу и возвращение домой попадает под определение колебаний, которые трактуются как процессы, точно или приближенно повторяющиеся через равные промежутки времени (повторяющееся движение по одной и той же траектории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На рисунке указаны значения частот некоторых колебательных процессов."/>
          <p:cNvPicPr/>
          <p:nvPr/>
        </p:nvPicPr>
        <p:blipFill>
          <a:blip r:embed="rId1"/>
          <a:stretch/>
        </p:blipFill>
        <p:spPr>
          <a:xfrm>
            <a:off x="500040" y="285840"/>
            <a:ext cx="4714920" cy="63039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5286240" y="135720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ебания бываю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ханические, электромагнитные, химические, термодинамическ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различные другие. Несмотря на такое разнообразие, все они имеют между собой много общ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График гармонических колебаний"/>
          <p:cNvPicPr/>
          <p:nvPr/>
        </p:nvPicPr>
        <p:blipFill>
          <a:blip r:embed="rId1"/>
          <a:stretch/>
        </p:blipFill>
        <p:spPr>
          <a:xfrm>
            <a:off x="785880" y="1643040"/>
            <a:ext cx="5072040" cy="23432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6286680" y="1643040"/>
            <a:ext cx="250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того как по струне рояля ударит один из молоточков, струна продолжает "сама по себе" совершать колебания -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</a:rPr>
              <a:t>свободные колебания</a:t>
            </a:r>
            <a:r>
              <a:rPr b="1" i="1" lang="ru-RU" sz="18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214200" y="4071960"/>
            <a:ext cx="8929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йства свободных колебаний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азвитие движения во времени зависит от того, как оно началос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Движение постепенно затухае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ри своем движении цепь не имеет какой-либо определенной формы; с течением времени форма цепи изменяется (однако в конце движения колебания часто характеризуются более или менее отчетливой формой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Совершенно невозможно указать "частоту" колебаний (с течением времени, однако, движение может принять определенную частоту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000080" y="42876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вободные колеба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График затухающих колебаний"/>
          <p:cNvPicPr/>
          <p:nvPr/>
        </p:nvPicPr>
        <p:blipFill>
          <a:blip r:embed="rId1"/>
          <a:stretch/>
        </p:blipFill>
        <p:spPr>
          <a:xfrm>
            <a:off x="1785960" y="1785960"/>
            <a:ext cx="5668920" cy="2971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500040" y="535788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 характерная особенность свободных колебаний: такие колебания затухают. Этот эффект объясняется наличием трения; иногда его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мпфирова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714240" y="428760"/>
            <a:ext cx="792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Затухающие колеба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57120" y="1500120"/>
            <a:ext cx="84297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бания, происходящие под действием внешней переменной силы -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 многих случаях эта сила оказывается периодически изменяющей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нешняя сила, действующая на систему, изменяется с течением времени по закону косинуса или синуса, то возникающие в системе вынужденные колебания будут гармоническими. При этом частота вынужденных колебаний будет совпадать с частотой изменения внешней сил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свободных колебаний, когда система получает энергию лишь один раз (при выведении системы из состояния равновесия), в случае вынужденных колебаний система поглощает эту энергию от источника внешней периодической силы непрерывно. Эта энергия восполняет потери, расходуемые на преодоление трения, и вынужденные колебания ок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тухающим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500040" y="357120"/>
            <a:ext cx="864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ынужденные колеба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Резонанс"/>
          <p:cNvPicPr/>
          <p:nvPr/>
        </p:nvPicPr>
        <p:blipFill>
          <a:blip r:embed="rId1"/>
          <a:stretch/>
        </p:blipFill>
        <p:spPr>
          <a:xfrm>
            <a:off x="1214280" y="1714680"/>
            <a:ext cx="4092840" cy="4400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857920" y="1571760"/>
            <a:ext cx="2733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при вынужденных колебаниях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онанс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кое возрастание амплитуды колебаний, в результате совпадения собственной частоты с частотой вынуждающей си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2857680" y="357120"/>
            <a:ext cx="32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Резонан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6"/>
          <p:cNvSpPr/>
          <p:nvPr/>
        </p:nvSpPr>
        <p:spPr>
          <a:xfrm>
            <a:off x="0" y="428760"/>
            <a:ext cx="928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Характеристики колебаний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142920" y="1665720"/>
            <a:ext cx="8786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колебани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межуток времени, через который состояния системы принимают одинаковые значени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а колебаний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исло колебаний в 1 секунду, величина, обратная период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ряется в герцах (Гц), имеет размерность с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расчетах нередко использу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в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ую частоту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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колебаний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, показывающая, какая часть колебания прошла с начала процесса. Измеряется в угловых величинах – градусах или радиан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литу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а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ксимальное значение, которое принимает колебательная систе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7T12:40:14Z</dcterms:created>
  <dc:creator>Наталия</dc:creator>
  <dc:description/>
  <dc:language>en-US</dc:language>
  <cp:lastModifiedBy>Наталия</cp:lastModifiedBy>
  <dcterms:modified xsi:type="dcterms:W3CDTF">2009-12-28T14:47:10Z</dcterms:modified>
  <cp:revision>72</cp:revision>
  <dc:subject/>
  <dc:title>Презентация PowerPoint</dc:title>
</cp:coreProperties>
</file>