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A682-9AE9-434A-9D48-98F5E6B012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ED21-292C-4BF1-97AF-CF7F82D5E8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се ли условия соблюдаются при организации режимных процессов в вашей группе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акие приемы, стимулирующие стремление ребенка к самостоятельности, освоение способов самоконтроля, оценки результата и его коррекции для достижения удовлетворительного качества, вы используете в своей деятельности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F75F-3DBB-450D-9193-B1816C969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4D4E-4E30-4971-B74E-E5AA26FE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82B7-2DAE-43C9-8A1A-6DA440620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B668-DCAD-4AA8-9DC0-30B3C0ADC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D28B-6219-4E76-AEC8-AE09EAE8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8919-2C41-4D44-BB9C-DF491E19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DE3C-D8D9-4B3F-956C-109A0958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7E37-E293-4D40-A8A8-98B80ED7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0FDC-2342-4582-BCE6-97FEA0DF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D091-4FC6-445F-A0D0-55707EE0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0AA7-FC53-4F91-A797-EA0F93FA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C295-62DF-44D6-9C75-EB9B7A31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0044"/>
            </a:gs>
            <a:gs pos="100000">
              <a:srgbClr val="d6009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D8A1-6A7F-4CEC-9DD3-672F7D9288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1988640"/>
            <a:ext cx="777708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Личностно-ориентированные технологии в организации режимных процес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980360" y="4653000"/>
            <a:ext cx="504036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be0e3"/>
                </a:solidFill>
                <a:latin typeface="Arial"/>
              </a:rPr>
              <a:t>Семинар-практику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ызвать положительный эмоциональный настрой и побудить малышей при этом к освоению позиции субъекта в самообслуживании позволяют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ороткие стихотворения и потеш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4114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Я сегодня утром ра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мывался из-под крана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Я и сам теперь умею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ымыть личико и ше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(А. Кузнецов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не уже четыре го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Я одеться сам мог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Если теплая погода, 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ез пальто во двор бегу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Если ветер сильно дуе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Если слякоть или дождь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 детский садик не пойду 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ез пальто и без калош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В. Зайце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лубоко — не мелко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рабли в тарелках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Лука головк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асная морковк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етрушка, картош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 крупки немножк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от кораблик плывет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плывает прямо в рот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(И. Токмаков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508720" y="333360"/>
            <a:ext cx="17636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Дидактические игры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с использованием игрового персонажа («В гостях у Мойдодыра», «Научим Неумейку» и т.п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спользование дидактических пособий, обеспечивающих в игровой форме упражнения в застегивании, шнуровке, завязыв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онтроль и оценка детской деятельности взрослы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уководя детской деятельностью, воспитатель первоначально сам доброжелательно, но требовательно оценивает ребенка, обращая внимание на способы контроля (Давай проверим, получились у тебя хорошие «мыльные перчатки»?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щущая доверие и привязанность к воспитателю, дети с удовольствием подражают его действиям, стремятся получить положительную оцен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онтроль и оценка детской деятельности от лица игрового персонаж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гровой персонаж активно сопереживает ребенку, но, как правило, замечает только ошибки, не зная как их исправи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Ой, у тебя ботиночки поссорились, носочки в разные стороны смотрят. Как же их помирить?» (ребенок надел правый сапог на левую, а левый – на правую ногу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онструируя возникшую образовательную ситуацию, воспитатель от лица куклы задает вопросы, активизирующие ребенка и позволяющие ему осознать способы самоконтро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овместная оценка детской деятельности от лица игрового персонаж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гровой персонаж, которым умело руководит педагог, неизменно вызывает эмоциональный отклик у детей и тем самым является необходимым условием пробуждения сопереживания сверстни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пользуя эти моменты общения, воспитатель наглядно демонстрирует способы гуманного поведения: как утешить, помочь, порадо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овместная оценка взрослым и ребенком деятельности сверст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Как правило, дети легко замечают ошибки  другого, поэтому задача педагога состоит не в том, чтобы развивать это умение. Важно научить внимательно относиться к товарищу, доброжелательно оценивать, помогая найти и исправить ошиб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Развитие элементарного самоконтро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ледовательное овладение контрольно-проверочными умениями обеспечивает возникновение самоконтроля. Наблюдая за поведением детей, воспитатель фиксирует, как ребенок постепенно перестает нуждаться в постепенном контроле и он переходит во внутренний пл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едует заметить, что вначале действия самоконтроля ярко выражены, носят развернутый характер, а затем сворачиваются. Дети начинают испытывать дискомфорт от грязных рук, неопрятности в одежде, что и побуждает их к самообслуживанию. Необходимость в напоминаниях взрослых практически отпадает, ребенок становится субъектом посильного ему самообслужи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днако происходит это не сразу. Обучение детей самообслуживанию требует от воспитателя большого терпения, спокойствия, понимания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заимодействие воспитателя с родителями дет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временная теория личности рассматривает самостоятельность как стержневое, интегральное личностное качест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ундамент самостоятельности закладывается на границе раннего и дошкольного возра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альнейшее развитие самостоятельности как значимого личностного качества в период дошкольного детства связано с освоением ребенком разнообразных видов детск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Цель работы с родител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струирование в детском саду  и семье единого педагогического процесса, где ребенок поставлен взрослыми в позицию субъекта посильного ему самообслужив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работать единый взгляд на возможности ребенка, определить уровень его самостоятельности и умелости позволя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555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сещение родителями группы детского са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555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смотр и обсуждение вместе с воспитателями видеоматериалов, заснятых в режимные момент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555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астие родителей в педагогической диагностике по выявлению умелости ребенка в самообслужива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Индивидуальные консультаци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оводимые воспитателями детского сада, помогают установить более доверительные отношения с родителями воспитанников, позволяют им получить ответы на вопросы о том, какие условия должны быть созданы дома, чтобы ребенок овладел позицией субъекта в самообслужива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овместное обсуждение  педагогов и родителей данных проблем помогает найти наиболее эффективные приемы, исходя из индивидуальных особенностей ребен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ак правило, в результате такой целенаправленной работы меняется и поведение родител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ни перестают опаздывать в детский сад, проявлять нетерпение, а порой и нервозность, обусловленную неумелостью и медлительностью детей в одевании и раздевании; начинают оказывать ребенку только ту помощь, в которой он действительно нужда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оздание в группе развивающей материальной среды, обеспечивающей стимуляцию контрольно-проверочных и оценочных умений в разных видах детской деятельност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воение ребенком позиции субъекта детской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4643280" y="692280"/>
            <a:ext cx="3962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6600"/>
                </a:solidFill>
                <a:latin typeface="Arial"/>
              </a:rPr>
              <a:t>Освоение ребенком позиции субъекта детской деятельности требует специальной педагогической технологии.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ы предлагаем эффективное средство - наглядно-практические пособия, разработанные педагогами детского с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4321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8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8a2"/>
                </a:solidFill>
                <a:latin typeface="Arial"/>
              </a:rPr>
              <a:t>«Мы дежури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«Мы – помощники взрослы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«Учусь планировать, действовать, достигать цел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cc00"/>
                </a:solidFill>
                <a:latin typeface="Arial"/>
              </a:rPr>
              <a:t>«Учимся готови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Модели последовательности действ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Дидактическое пособие «Мы дежури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0" y="1341360"/>
            <a:ext cx="42480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62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ет алгоритм последовательности действий дежурных по подготовке к приему пищи и по уборке со стол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воляет оценить  работу дежур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ствует  развитию умения ориентироваться во времени (дни недел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ит терминологический словар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конкурс+ (59)"/>
          <p:cNvPicPr/>
          <p:nvPr/>
        </p:nvPicPr>
        <p:blipFill>
          <a:blip r:embed="rId1"/>
          <a:stretch/>
        </p:blipFill>
        <p:spPr>
          <a:xfrm>
            <a:off x="539640" y="1600200"/>
            <a:ext cx="3633840" cy="452592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S7001378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340000" y="620640"/>
            <a:ext cx="3456000" cy="2592360"/>
          </a:xfrm>
          <a:prstGeom prst="rect">
            <a:avLst/>
          </a:prstGeom>
          <a:ln w="38160">
            <a:solidFill>
              <a:srgbClr val="0066ff"/>
            </a:solidFill>
            <a:miter/>
          </a:ln>
        </p:spPr>
      </p:pic>
      <p:pic>
        <p:nvPicPr>
          <p:cNvPr id="88" name="Picture 3" descr="S7001471"/>
          <p:cNvPicPr/>
          <p:nvPr/>
        </p:nvPicPr>
        <p:blipFill>
          <a:blip r:embed="rId2"/>
          <a:stretch/>
        </p:blipFill>
        <p:spPr>
          <a:xfrm>
            <a:off x="6227640" y="1413000"/>
            <a:ext cx="2457720" cy="3166920"/>
          </a:xfrm>
          <a:prstGeom prst="rect">
            <a:avLst/>
          </a:prstGeom>
          <a:ln w="38160">
            <a:solidFill>
              <a:srgbClr val="ff3399"/>
            </a:solidFill>
            <a:miter/>
          </a:ln>
        </p:spPr>
      </p:pic>
      <p:pic>
        <p:nvPicPr>
          <p:cNvPr id="89" name="Picture 4" descr="S7001446"/>
          <p:cNvPicPr/>
          <p:nvPr/>
        </p:nvPicPr>
        <p:blipFill>
          <a:blip r:embed="rId3"/>
          <a:srcRect l="6415" t="17645" r="10186" b="43287"/>
          <a:stretch/>
        </p:blipFill>
        <p:spPr>
          <a:xfrm>
            <a:off x="1187280" y="3500280"/>
            <a:ext cx="4608720" cy="288000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Наглядно-практическое пособие</a:t>
            </a:r>
            <a:br>
              <a:rPr sz="3200"/>
            </a:b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«Мы – помощники взрослых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00000" y="1267920"/>
            <a:ext cx="4176720" cy="51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Определяет за каждым ребенком ответственность за наведение порядка в определенном уголке группы.</a:t>
            </a:r>
            <a:r>
              <a:rPr b="0" i="1" lang="ru-RU" sz="1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а с использованием данного пособия способству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освоению социального опыта трудовой деятель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развитию произвольного поведения, целенаправленности действий и основ планиро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формированию общественных мотивов деятель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 повышение роли детского сознания, самоконтроля и самооценки в осуществлении деятель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развитию таких личностных качеств как самостоятельность, инициативность, ответствен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S7001394"/>
          <p:cNvPicPr/>
          <p:nvPr/>
        </p:nvPicPr>
        <p:blipFill>
          <a:blip r:embed="rId1"/>
          <a:stretch/>
        </p:blipFill>
        <p:spPr>
          <a:xfrm>
            <a:off x="5364000" y="1484280"/>
            <a:ext cx="3411720" cy="4525920"/>
          </a:xfrm>
          <a:prstGeom prst="rect">
            <a:avLst/>
          </a:prstGeom>
          <a:ln w="38160">
            <a:solidFill>
              <a:srgbClr val="00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дача взрослых – помочь ребенку заметить рост своих достижений, ощутить радость переживания успеха в деятельности по самообслуживанию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S7001480"/>
          <p:cNvPicPr/>
          <p:nvPr/>
        </p:nvPicPr>
        <p:blipFill>
          <a:blip r:embed="rId1"/>
          <a:stretch/>
        </p:blipFill>
        <p:spPr>
          <a:xfrm>
            <a:off x="4211640" y="3357720"/>
            <a:ext cx="4138560" cy="310356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94" name="Picture 3" descr="S7001466"/>
          <p:cNvPicPr/>
          <p:nvPr/>
        </p:nvPicPr>
        <p:blipFill>
          <a:blip r:embed="rId2"/>
          <a:stretch/>
        </p:blipFill>
        <p:spPr>
          <a:xfrm>
            <a:off x="4859280" y="404640"/>
            <a:ext cx="2735280" cy="259560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pic>
        <p:nvPicPr>
          <p:cNvPr id="95" name="Picture 4" descr="S7001446"/>
          <p:cNvPicPr/>
          <p:nvPr/>
        </p:nvPicPr>
        <p:blipFill>
          <a:blip r:embed="rId3">
            <a:lum bright="36000"/>
          </a:blip>
          <a:srcRect l="7446" t="62466" r="61781" b="3655"/>
          <a:stretch/>
        </p:blipFill>
        <p:spPr>
          <a:xfrm>
            <a:off x="826920" y="1052640"/>
            <a:ext cx="2305080" cy="338292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Наглядное пособие «Учусь планировать, действовать и достигать цел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бъектная позиция у детей проявляется в умении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поставить определенную цель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, настойчиво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добиваться е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ыполнения собственными силами, действуя при этом сознательно и инициативно как в знакомых обстоятельствах, так и в новых условиях, требующих принятия нестандартных ре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Изображение 059"/>
          <p:cNvPicPr/>
          <p:nvPr/>
        </p:nvPicPr>
        <p:blipFill>
          <a:blip r:embed="rId1"/>
          <a:stretch/>
        </p:blipFill>
        <p:spPr>
          <a:xfrm>
            <a:off x="5435640" y="1557360"/>
            <a:ext cx="3125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Вращающиеся кубики </a:t>
            </a:r>
            <a:br>
              <a:rPr sz="3200"/>
            </a:b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«Учимся готови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S700139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68360" y="1557360"/>
            <a:ext cx="1639800" cy="46371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101" name="Picture 4" descr="S7001379"/>
          <p:cNvPicPr/>
          <p:nvPr/>
        </p:nvPicPr>
        <p:blipFill>
          <a:blip r:embed="rId2"/>
          <a:stretch/>
        </p:blipFill>
        <p:spPr>
          <a:xfrm>
            <a:off x="7093080" y="1484280"/>
            <a:ext cx="1639800" cy="218592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84000" y="1844640"/>
            <a:ext cx="4032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обие способствует упражнению детей в установлении функциональных связей между компонентами трудов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ждый кубик обозначает компонент трудового процесса от целеполагания до получения результата тр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IMGP0448"/>
          <p:cNvPicPr/>
          <p:nvPr/>
        </p:nvPicPr>
        <p:blipFill>
          <a:blip r:embed="rId3"/>
          <a:stretch/>
        </p:blipFill>
        <p:spPr>
          <a:xfrm>
            <a:off x="6516720" y="4149720"/>
            <a:ext cx="2374920" cy="178128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Arial"/>
              </a:rPr>
              <a:t>Наглядные модели последовательности действ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ставляют собой специальные наглядные пособия, способствующие процессу формирования самостоятельности и становлению субъектной позиции старших дошкольников в самообслуживании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дель последовательности действий при умывани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дель последовательности действий при одевани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дели по формированию навыков культуры е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нные пособия позволяют детям представить себе идеальный образец действия, то есть его наглядную мод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S7000198"/>
          <p:cNvPicPr/>
          <p:nvPr/>
        </p:nvPicPr>
        <p:blipFill>
          <a:blip r:embed="rId1"/>
          <a:stretch/>
        </p:blipFill>
        <p:spPr>
          <a:xfrm>
            <a:off x="611280" y="1600200"/>
            <a:ext cx="7705800" cy="218592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владение ребенком позиции субъекта в самообслуживании требует достаточно развитого самоконтроля и самооценки. Как же обеспечить их развитие у ребен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следовательская работа в дошкольных образовательных учреждениях позволила выявить основные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едагогические услови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формирования элементарного самоконтроля и самооценки у дошкольник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5280" y="1989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следовательное освоение ребенком деятельности самообслуживания от микро- до целостного трудового процесс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аличие у воспитателя многообразия приемов, стимулирующих стремление ребенка к самостоятельности, освоение способов самоконтроля, оценки результата и его коррекции для достижения удовлетворительного качеств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ибкое изменение тактики педагогического руководства по отношению к конкретному ребенку в зависимости от его умелости, эмоционального настроя, индивидуальных особенностей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оздание в группе развивающей материальной среды, обеспечивающей стимуляцию контрольно-проверочных и оценочных умений в разных видах детской деятельност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заимодействие воспитателя с родителями дет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6:37:03Z</dcterms:created>
  <dc:creator>comp</dc:creator>
  <dc:description/>
  <dc:language>en-US</dc:language>
  <cp:lastModifiedBy>User</cp:lastModifiedBy>
  <dcterms:modified xsi:type="dcterms:W3CDTF">2015-10-19T18:48:37Z</dcterms:modified>
  <cp:revision>10</cp:revision>
  <dc:subject/>
  <dc:title>Личностно-ориентированные технологии в организации режимных процессов</dc:title>
</cp:coreProperties>
</file>