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66F-13BF-4C81-9490-2B3E82B6A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1F5C-8262-4ADE-BD4B-7B7671717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ли условия соблюдаются при организации режимных процессов в вашей группе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ие приемы, стимулирующие стремление ребенка к самостоятельности, освоение способов самоконтроля, оценки результата и его коррекции для достижения удовлетворительного качества, вы используете в своей деятельности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4EE-4C41-4224-A2C3-BE4D2E3A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3B5-730A-4211-9587-F2F5C76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071-893E-414E-A1C3-E33BE7C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BEB-84F0-41EE-B2A3-2F1FF76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878-A070-4BC4-81C6-D6EE013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79-583D-4A7E-A4DF-73FA23D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BA8-3451-451A-A666-00C1503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DCA-0386-4604-A5F2-232A09B7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630-3F7A-402B-9015-35D653D2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A5B-FDA0-49C2-A1DF-9F7C7E4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573-7936-4B66-9330-6A0044C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E20-FB2E-422A-868D-10E3196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0044"/>
            </a:gs>
            <a:gs pos="100000">
              <a:srgbClr val="d6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3B2-151A-49BF-AF28-3429752DB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остно-ориентированные технологии в организации режимных проце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80360" y="4653000"/>
            <a:ext cx="504036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Семинар-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звать положительный эмоциональный настрой и побудить малышей при этом к освоению позиции субъекта в самообслуживании позволяют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роткие стихотворения и поте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11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сегодня утром ра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мывался из-под кр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и сам теперь умею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ымыть личико и ш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А. Кузнец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уже четыре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одеться сам мо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теплая погода,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з пальто во двор бег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ветер сильно ду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слякоть или дожд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детский садик не пойду 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з пальто и без кало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. Зайце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лубоко — не мелк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рабли в тарелк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ука голов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сная морков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трушка, карт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крупки немнож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т кораблик плыв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плывает прямо в ро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И. Токма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08720" y="333360"/>
            <a:ext cx="1763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дактические игр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 использованием игрового персонажа («В гостях у Мойдодыра», «Научим Неумейку»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пользование дидактических пособий, обеспечивающих в игровой форме упражнения в застегивании, шнуровке, завязы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троль и оценка детской деятельности взросл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уководя детской деятельностью, воспитатель первоначально сам доброжелательно, но требовательно оценивает ребенка, обращая внимание на способы контроля (Давай проверим, получились у тебя хорошие «мыльные перчатки»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щущая доверие и привязанность к воспитателю, дети с удовольствием подражают его действиям, стремятся получить положительную оц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троль и оценка детской деятельности от лица игрового персон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гровой персонаж активно сопереживает ребенку, но, как правило, замечает только ошибки, не зная как их исправ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Ой, у тебя ботиночки поссорились, носочки в разные стороны смотрят. Как же их помирить?» (ребенок надел правый сапог на левую, а левый – на правую ног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нструируя возникшую образовательную ситуацию, воспитатель от лица куклы задает вопросы, активизирующие ребенка и позволяющие ему осознать способы самоконтр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вместная оценка детской деятельности от лица игрового персон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овой персонаж, которым умело руководит педагог, неизменно вызывает эмоциональный отклик у детей и тем самым является необходимым условием пробуждения сопереживания сверст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я эти моменты общения, воспитатель наглядно демонстрирует способы гуманного поведения: как утешить, помочь, порад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вместная оценка взрослым и ребенком деятельности сверс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 правило, дети легко замечают ошибки  другого, поэтому задача педагога состоит не в том, чтобы развивать это умение. Важно научить внимательно относиться к товарищу, доброжелательно оценивать, помогая найти и исправить оши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элементарного само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овательное овладение контрольно-проверочными умениями обеспечивает возникновение самоконтроля. Наблюдая за поведением детей, воспитатель фиксирует, как ребенок постепенно перестает нуждаться в постепенном контроле и он переходит во внутренни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заметить, что вначале действия самоконтроля ярко выражены, носят развернутый характер, а затем сворачиваются. Дети начинают испытывать дискомфорт от грязных рук, неопрятности в одежде, что и побуждает их к самообслуживанию. Необходимость в напоминаниях взрослых практически отпадает, ребенок становится субъектом посильного ему самообслу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ко происходит это не сразу. Обучение детей самообслуживанию требует от воспитателя большого терпения, спокойствия, поним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заимодействие воспитателя с родителями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ая теория личности рассматривает самостоятельность как стержневое, интегральное личностное кач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дамент самостоятельности закладывается на границе раннего и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ьнейшее развитие самостоятельности как значимого личностного качества в период дошкольного детства связано с освоением ребенком разнообразных видов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ель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труирование в детском саду  и семье единого педагогического процесса, где ребенок поставлен взрослыми в позицию субъекта посильного ему самообслужи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ботать единый взгляд на возможности ребенка, определить уровень его самостоятельности и умелости позво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ещение родителями группы детского са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мотр и обсуждение вместе с воспитателями видеоматериалов, заснятых в режимные момен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стие родителей в педагогической диагностике по выявлению умелости ребенка в самообслуж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дивидуальные консультац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водимые воспитателями детского сада, помогают установить более доверительные отношения с родителями воспитанников, позволяют им получить ответы на вопросы о том, какие условия должны быть созданы дома, чтобы ребенок овладел позицией субъекта в самообслужив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вместное обсуждение  педагогов и родителей данных проблем помогает найти наиболее эффективные приемы, исходя из индивидуальных особенностей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равило, в результате такой целенаправленной работы меняется и поведение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и перестают опаздывать в детский сад, проявлять нетерпение, а порой и нервозность, обусловленную неумелостью и медлительностью детей в одевании и раздевании; начинают оказывать ребенку только ту помощь, в которой он действительно нужд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в группе развивающей материальной среды, обеспечивающей стимуляцию контрольно-проверочных и оценочных умений в разных видах детской деятель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воение ребенком позиции субъекта дет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43280" y="692280"/>
            <a:ext cx="3962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Освоение ребенком позиции субъекта детской деятельности требует специальной педагогической технологи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предлагаем эффективное средство - наглядно-практические пособия, разработанные педагогами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8a2"/>
                </a:solidFill>
                <a:latin typeface="Arial"/>
              </a:rPr>
              <a:t>«Мы дежур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«Мы – помощники взросл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Учусь планировать, действовать, достигать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«Учимся готови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одели последовательности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Дидактическое пособие «Мы дежури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248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алгоритм последовательности действий дежурных по подготовке к приему пищи и по уборке со сто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оценить  работу дежур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 развитию умения ориентироваться во времени (дни недел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терминологический слова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онкурс+ (59)"/>
          <p:cNvPicPr/>
          <p:nvPr/>
        </p:nvPicPr>
        <p:blipFill>
          <a:blip r:embed="rId1"/>
          <a:stretch/>
        </p:blipFill>
        <p:spPr>
          <a:xfrm>
            <a:off x="539640" y="1600200"/>
            <a:ext cx="3633840" cy="4525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700137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40000" y="620640"/>
            <a:ext cx="3456000" cy="2592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88" name="Picture 3" descr="S7001471"/>
          <p:cNvPicPr/>
          <p:nvPr/>
        </p:nvPicPr>
        <p:blipFill>
          <a:blip r:embed="rId2"/>
          <a:stretch/>
        </p:blipFill>
        <p:spPr>
          <a:xfrm>
            <a:off x="6227640" y="1413000"/>
            <a:ext cx="2457720" cy="316692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89" name="Picture 4" descr="S7001446"/>
          <p:cNvPicPr/>
          <p:nvPr/>
        </p:nvPicPr>
        <p:blipFill>
          <a:blip r:embed="rId3"/>
          <a:srcRect l="6415" t="17645" r="10186" b="43287"/>
          <a:stretch/>
        </p:blipFill>
        <p:spPr>
          <a:xfrm>
            <a:off x="1187280" y="3500280"/>
            <a:ext cx="4608720" cy="28800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Наглядно-практическое пособие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«Мы – помощники взросл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4176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Определяет за каждым ребенком ответственность за наведение порядка в определенном уголке группы.</a:t>
            </a:r>
            <a:r>
              <a:rPr b="0" i="1" lang="ru-RU" sz="1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 использованием данного пособия способ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своению социального опыта 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витию произвольного поведения, целенаправленности действий и основ план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формированию общественных мотивов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повышение роли детского сознания, самоконтроля и самооценки в осуществлении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витию таких личностных качеств как самостоятельность, инициативность, ответств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7001394"/>
          <p:cNvPicPr/>
          <p:nvPr/>
        </p:nvPicPr>
        <p:blipFill>
          <a:blip r:embed="rId1"/>
          <a:stretch/>
        </p:blipFill>
        <p:spPr>
          <a:xfrm>
            <a:off x="5364000" y="1484280"/>
            <a:ext cx="3411720" cy="4525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 взрослых – помочь ребенку заметить рост своих достижений, ощутить радость переживания успеха в деятельности по самообслуживанию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7001480"/>
          <p:cNvPicPr/>
          <p:nvPr/>
        </p:nvPicPr>
        <p:blipFill>
          <a:blip r:embed="rId1"/>
          <a:stretch/>
        </p:blipFill>
        <p:spPr>
          <a:xfrm>
            <a:off x="4211640" y="3357720"/>
            <a:ext cx="4138560" cy="31035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Picture 3" descr="S7001466"/>
          <p:cNvPicPr/>
          <p:nvPr/>
        </p:nvPicPr>
        <p:blipFill>
          <a:blip r:embed="rId2"/>
          <a:stretch/>
        </p:blipFill>
        <p:spPr>
          <a:xfrm>
            <a:off x="4859280" y="404640"/>
            <a:ext cx="2735280" cy="25956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95" name="Picture 4" descr="S7001446"/>
          <p:cNvPicPr/>
          <p:nvPr/>
        </p:nvPicPr>
        <p:blipFill>
          <a:blip r:embed="rId3">
            <a:lum bright="36000"/>
          </a:blip>
          <a:srcRect l="7446" t="62466" r="61781" b="3655"/>
          <a:stretch/>
        </p:blipFill>
        <p:spPr>
          <a:xfrm>
            <a:off x="826920" y="1052640"/>
            <a:ext cx="2305080" cy="3382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аглядное пособие «Учусь планировать, действовать и достигать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ная позиция у детей проявляется в умении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поставить определенную цель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, настойчиво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обиваться е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полнения собственными силами, действуя при этом сознательно и инициативно как в знакомых обстоятельствах, так и в новых условиях, требующих принятия нестандарт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5435640" y="1557360"/>
            <a:ext cx="312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ращающиеся кубик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«Учимся готови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700139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557360"/>
            <a:ext cx="1639800" cy="4637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01" name="Picture 4" descr="S7001379"/>
          <p:cNvPicPr/>
          <p:nvPr/>
        </p:nvPicPr>
        <p:blipFill>
          <a:blip r:embed="rId2"/>
          <a:stretch/>
        </p:blipFill>
        <p:spPr>
          <a:xfrm>
            <a:off x="7093080" y="1484280"/>
            <a:ext cx="1639800" cy="21859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84000" y="1844640"/>
            <a:ext cx="40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обие способствует упражнению детей в установлении функциональных связей между компонентами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кубик обозначает компонент трудового процесса от целеполагания до получения результата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P0448"/>
          <p:cNvPicPr/>
          <p:nvPr/>
        </p:nvPicPr>
        <p:blipFill>
          <a:blip r:embed="rId3"/>
          <a:stretch/>
        </p:blipFill>
        <p:spPr>
          <a:xfrm>
            <a:off x="6516720" y="4149720"/>
            <a:ext cx="2374920" cy="17812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Наглядные модели последовательности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ют собой специальные наглядные пособия, способствующие процессу формирования самостоятельности и становлению субъектной позиции старших дошкольников в самообслуживани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 последовательности действий при умыван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 последовательности действий при одеван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и по формированию навыков культуры 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пособия позволяют детям представить себе идеальный образец действия, то есть его наглядную мо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7000198"/>
          <p:cNvPicPr/>
          <p:nvPr/>
        </p:nvPicPr>
        <p:blipFill>
          <a:blip r:embed="rId1"/>
          <a:stretch/>
        </p:blipFill>
        <p:spPr>
          <a:xfrm>
            <a:off x="611280" y="1600200"/>
            <a:ext cx="7705800" cy="21859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владение ребенком позиции субъекта в самообслуживании требует достаточно развитого самоконтроля и самооценки. Как же обеспечить их развитие у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в дошкольных образовательных учреждениях позволила выявить основны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дагогические услов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ормирования элементарного самоконтроля и самооценки у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ледовательное освоение ребенком деятельности самообслуживания от микро- до целостного трудового проце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личие у воспитателя многообразия приемов, стимулирующих стремление ребенка к самостоятельности, освоение способов самоконтроля, оценки результата и его коррекции для достижения удовлетворительного каче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ибкое изменение тактики педагогического руководства по отношению к конкретному ребенку в зависимости от его умелости, эмоционального настроя, индивидуальных особенносте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в группе развивающей материальной среды, обеспечивающей стимуляцию контрольно-проверочных и оценочных умений в разных видах детской деятель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заимодействие воспитателя с родителями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6:37:03Z</dcterms:created>
  <dc:creator>comp</dc:creator>
  <dc:description/>
  <dc:language>en-US</dc:language>
  <cp:lastModifiedBy>User</cp:lastModifiedBy>
  <dcterms:modified xsi:type="dcterms:W3CDTF">2015-10-19T18:48:37Z</dcterms:modified>
  <cp:revision>10</cp:revision>
  <dc:subject/>
  <dc:title>Личностно-ориентированные технологии в организации режимных процессов</dc:title>
</cp:coreProperties>
</file>