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2DE8-B8BD-4259-989A-B444DE09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636D-C137-423B-AA0D-54037552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D4BA-44B5-42C0-9767-A6F364D6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D4FD-3071-424B-9E91-EC108D27A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E3B3-4503-4D37-B188-A1410A6B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2101-DC02-4F67-B302-F531A030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786E-ACBD-469D-8AE8-C2D2A2CD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5875-2EC1-4FCD-B719-60920217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C493-D4B3-479B-8A88-CBA38109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3404-C609-4E20-90AF-F5EE2E48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7AD1-1C28-4827-8D97-4451A526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B810-0BDB-4698-A3F9-76953A9A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1B59-2287-411D-BF10-F90E8B15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311E-5755-48FD-A3F1-ED9F131A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D0C0-F839-4DDE-B731-8202430B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C029-38CF-4465-B549-70B803822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2EFE-62FB-4E57-A1C0-A4872BCCA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F9E1-3CEC-4D25-B28E-ECFEAD1F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9DF7-89F0-4FE4-BDE0-82FEAE7E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1D00-87A9-444D-A218-0856CBFB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21DE-8020-467A-ACAD-267416C2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6050-16D1-42BE-A6A5-8BE03E24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0B88-E241-4572-B53A-2B528741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5945-8DE5-44C3-8CCD-3224DB3A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3877-1C68-434E-927A-90DB9D974B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EDC3-8100-478D-B123-926987FF5F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6;&#1089;&#1082;&#1086;&#1074;&#1089;&#1082;&#1080;&#1081;_&#1079;&#1086;&#1086;&#1087;&#1072;&#1088;&#1082;" TargetMode="External"/><Relationship Id="rId2" Type="http://schemas.openxmlformats.org/officeDocument/2006/relationships/hyperlink" Target="http://pics.livejournal.com/taiohara/pic/0016b1d3/s640x480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File:Stamp_of_Azerbaijan_276.jpg&amp;filetimestamp=20081127130854&amp;uselang=ru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commons.wikimedia.org/w/index.php?title=File:Stamp_Kyrgyzstan_Pallas_Cat_2008.jpg&amp;filetimestamp=20090105193323&amp;uselang=ru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commons.wikimedia.org/w/index.php?title=File:Stamp_Tajikistan_Pallas_Cat_souvenir_sheet_500.jpg&amp;filetimestamp=20090105195217&amp;uselang=ru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commons.wikimedia.org/w/index.php?title=File:Stamp_Tajikistan_Pallas_Cat_souvenir_sheet_WWF.jpg&amp;filetimestamp=20090105195920&amp;uselang=ru" TargetMode="External"/><Relationship Id="rId8" Type="http://schemas.openxmlformats.org/officeDocument/2006/relationships/image" Target="../media/image13.jpeg"/><Relationship Id="rId9" Type="http://schemas.openxmlformats.org/officeDocument/2006/relationships/hyperlink" Target="http://ru.wikipedia.org/wiki/&#1058;&#1072;&#1076;&#1078;&#1080;&#1082;&#1080;&#1089;&#1090;&#1072;&#1085;" TargetMode="External"/><Relationship Id="rId10" Type="http://schemas.openxmlformats.org/officeDocument/2006/relationships/hyperlink" Target="http://ru.wikipedia.org/wiki/&#1040;&#1079;&#1077;&#1088;&#1073;&#1072;&#1081;&#1076;&#1078;&#1072;&#1085;" TargetMode="External"/><Relationship Id="rId11" Type="http://schemas.openxmlformats.org/officeDocument/2006/relationships/hyperlink" Target="http://ru.wikipedia.org/wiki/&#1050;&#1080;&#1088;&#1075;&#1080;&#1079;&#1080;&#1103;" TargetMode="External"/><Relationship Id="rId12" Type="http://schemas.openxmlformats.org/officeDocument/2006/relationships/hyperlink" Target="http://ru.wikipedia.org/wiki/&#1058;&#1072;&#1076;&#1078;&#1080;&#1082;&#1080;&#1089;&#1090;&#1072;&#1085;" TargetMode="External"/><Relationship Id="rId13" Type="http://schemas.openxmlformats.org/officeDocument/2006/relationships/hyperlink" Target="http://commons.wikimedia.org/w/index.php?title=File:Stamp_of_Kyrgyzstan_asiafauna.jpg&amp;filetimestamp=20081204112538&amp;uselang=ru" TargetMode="External"/><Relationship Id="rId14" Type="http://schemas.openxmlformats.org/officeDocument/2006/relationships/image" Target="../media/image14.jpeg"/><Relationship Id="rId15" Type="http://schemas.openxmlformats.org/officeDocument/2006/relationships/hyperlink" Target="http://ru.wikipedia.org/wiki/&#1050;&#1080;&#1088;&#1075;&#1080;&#1079;&#1080;&#1103;" TargetMode="External"/><Relationship Id="rId1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3;&#1077;&#1082;&#1086;&#1087;&#1080;&#1090;&#1072;&#1102;&#1097;&#1080;&#1077;" TargetMode="External"/><Relationship Id="rId2" Type="http://schemas.openxmlformats.org/officeDocument/2006/relationships/hyperlink" Target="http://ru.wikipedia.org/wiki/&#1057;&#1077;&#1084;&#1077;&#1081;&#1089;&#1090;&#1074;&#1086;" TargetMode="External"/><Relationship Id="rId3" Type="http://schemas.openxmlformats.org/officeDocument/2006/relationships/hyperlink" Target="http://ru.wikipedia.org/wiki/&#1050;&#1086;&#1096;&#1072;&#1095;&#1100;&#1080;" TargetMode="External"/><Relationship Id="rId4" Type="http://schemas.openxmlformats.org/officeDocument/2006/relationships/hyperlink" Target="http://www.zhaba.ru/_pics/0qibhnujpx92b136.jpg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File:Manul_map.svg&amp;page=1&amp;filetimestamp=20110720080428&amp;uselang=ru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s://ru.wikipedia.org/wiki/&#1062;&#1077;&#1085;&#1090;&#1088;&#1072;&#1083;&#1100;&#1085;&#1072;&#1103;_&#1040;&#1079;&#1080;&#1103;" TargetMode="External"/><Relationship Id="rId4" Type="http://schemas.openxmlformats.org/officeDocument/2006/relationships/hyperlink" Target="https://ru.wikipedia.org/wiki/&#1057;&#1088;&#1077;&#1076;&#1085;&#1103;&#1103;_&#1040;&#1079;&#1080;&#1103;" TargetMode="External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nojs=1&amp;text=&#1084;&#1072;&#1085;&#1091;&#1083;&amp;noreask=1&amp;img_url=img-fotki.yandex.ru%2Fget%2F6302%2F85787023.90%2F0_6a296_65f51fa7_XL&amp;pos=8&amp;rpt=simage&amp;lr=62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zhaba.ru/_pics/ewqyt3s4rbdycjli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/boss-konsulat.72/0_14ab1_2e7520c9_X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6310/78461212.31/0_8561a_98bd64fa_X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s4279.userapi.com/u37085362/-7/x_a3fa84a3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boi.ws/wallpapers/15_6648_oboi_poglad_manula_1440x900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39640" y="1915920"/>
            <a:ext cx="5133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         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2679840" y="4386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20911200">
            <a:off x="1971720" y="2053800"/>
            <a:ext cx="633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66"/>
                </a:solidFill>
                <a:latin typeface="Arial Black"/>
              </a:rPr>
              <a:t>Манул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 Black"/>
              </a:rPr>
              <a:t>Талисман </a:t>
            </a:r>
            <a:r>
              <a:rPr b="1" lang="en-US" sz="3200" spc="-1" strike="noStrike" u="sng">
                <a:solidFill>
                  <a:srgbClr val="99ff66"/>
                </a:solidFill>
                <a:uFillTx/>
                <a:latin typeface="Arial Black"/>
                <a:hlinkClick r:id="rId1"/>
              </a:rPr>
              <a:t>Московского зоопарка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 Black"/>
              </a:rPr>
              <a:t>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1197000"/>
            <a:ext cx="763272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 Black"/>
              </a:rPr>
              <a:t>Почтовые марки с манулами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1768320" cy="2305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08360" y="1916280"/>
            <a:ext cx="1563840" cy="2233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24360" y="4292640"/>
            <a:ext cx="2367000" cy="1774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8360" y="4076640"/>
            <a:ext cx="2592360" cy="2030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00000" y="623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Таджикистан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3572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Азербайджан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51280" y="43045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Киргизия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84720" y="6092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Таджикистан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443640" y="1484280"/>
            <a:ext cx="2305080" cy="1690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93080" y="3212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5"/>
              </a:rPr>
              <a:t>Киргизия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2565360"/>
            <a:ext cx="75214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Берегите                           редких животных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 Black"/>
              </a:rPr>
              <a:t>Ману́л</a:t>
            </a: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 — </a:t>
            </a:r>
            <a:r>
              <a:rPr b="1" lang="ru-RU" sz="3200" spc="-1" strike="noStrike">
                <a:solidFill>
                  <a:srgbClr val="99ff66"/>
                </a:solidFill>
                <a:latin typeface="Arial Black"/>
              </a:rPr>
              <a:t>хищное </a:t>
            </a:r>
            <a:r>
              <a:rPr b="1" lang="ru-RU" sz="3200" spc="-1" strike="noStrike" u="sng">
                <a:solidFill>
                  <a:srgbClr val="99ff66"/>
                </a:solidFill>
                <a:uFillTx/>
                <a:latin typeface="Arial Black"/>
                <a:hlinkClick r:id="rId1"/>
              </a:rPr>
              <a:t>млекопитающее</a:t>
            </a:r>
            <a:r>
              <a:rPr b="1" i="1" lang="ru-RU" sz="32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3200" spc="-1" strike="noStrike" u="sng">
                <a:solidFill>
                  <a:srgbClr val="99ff66"/>
                </a:solidFill>
                <a:uFillTx/>
                <a:latin typeface="Arial Black"/>
                <a:hlinkClick r:id="rId2"/>
              </a:rPr>
              <a:t>семейства</a:t>
            </a:r>
            <a:r>
              <a:rPr b="1" i="1" lang="ru-RU" sz="32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3200" spc="-1" strike="noStrike" u="sng">
                <a:solidFill>
                  <a:srgbClr val="99ff66"/>
                </a:solidFill>
                <a:uFillTx/>
                <a:latin typeface="Arial Black"/>
                <a:hlinkClick r:id="rId3"/>
              </a:rPr>
              <a:t>кошачьих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00000" y="1700280"/>
            <a:ext cx="7128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Ареал обит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205000"/>
            <a:ext cx="3600360" cy="33814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Манул распространё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в 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Центральной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</a:rPr>
              <a:t> и 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Средней Азии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</a:rPr>
              <a:t>, от Южного Закавказья и западного Ирана до Забайкалья, Монголии и Северо-Западного Кита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2637000"/>
            <a:ext cx="4606920" cy="37321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 Black"/>
              </a:rPr>
              <a:t>Длина тела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99ff66"/>
                </a:solidFill>
                <a:latin typeface="Arial Black"/>
              </a:rPr>
              <a:t>52—65 см, хвоста 23—31 см; весит он 2—5кг.</a:t>
            </a:r>
            <a:br>
              <a:rPr sz="2000"/>
            </a:br>
            <a:r>
              <a:rPr b="1" lang="en-US" sz="2000" spc="-1" strike="noStrike">
                <a:solidFill>
                  <a:srgbClr val="99ff66"/>
                </a:solidFill>
                <a:latin typeface="Arial Black"/>
              </a:rPr>
              <a:t> </a:t>
            </a:r>
            <a:r>
              <a:rPr b="1" lang="en-US" sz="2000" spc="-1" strike="noStrike">
                <a:solidFill>
                  <a:srgbClr val="ffff66"/>
                </a:solidFill>
                <a:latin typeface="Arial Black"/>
              </a:rPr>
              <a:t>Мех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99ff66"/>
                </a:solidFill>
                <a:latin typeface="Arial Black"/>
              </a:rPr>
              <a:t>самый пушистый и густой среди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кошачьих</a:t>
            </a:r>
            <a:r>
              <a:rPr b="1" lang="en-US" sz="2000" spc="-1" strike="noStrike">
                <a:solidFill>
                  <a:srgbClr val="99ff66"/>
                </a:solidFill>
                <a:latin typeface="Arial Black"/>
              </a:rPr>
              <a:t>.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       </a:t>
            </a:r>
            <a:r>
              <a:rPr b="1" lang="en-US" sz="2000" spc="-1" strike="noStrike">
                <a:solidFill>
                  <a:srgbClr val="ffff66"/>
                </a:solidFill>
                <a:latin typeface="Arial Black"/>
              </a:rPr>
              <a:t>Окрас меха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- </a:t>
            </a:r>
            <a:r>
              <a:rPr b="1" lang="en-US" sz="2000" spc="-1" strike="noStrike">
                <a:solidFill>
                  <a:srgbClr val="99ff66"/>
                </a:solidFill>
                <a:latin typeface="Arial Black"/>
              </a:rPr>
              <a:t>комбинацию светло-серого и палево-охристого цветов; волоски имеют белые кончики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2565000"/>
            <a:ext cx="80074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773360"/>
            <a:ext cx="6480360" cy="4851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44080"/>
            <a:ext cx="86630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 Black"/>
              </a:rPr>
              <a:t>Манул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 Black"/>
              </a:rPr>
              <a:t>ведёт оседлый образ жизни.</a:t>
            </a:r>
            <a:r>
              <a:rPr b="1" lang="en-US" sz="2000" spc="-1" strike="noStrike">
                <a:solidFill>
                  <a:srgbClr val="99ff66"/>
                </a:solidFill>
                <a:latin typeface="Arial Black"/>
              </a:rPr>
              <a:t> Активен преимущественно в сумерках и ранним утром; днём спит.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1916280"/>
            <a:ext cx="6734160" cy="4636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 Black"/>
              </a:rPr>
              <a:t>Размножается один раз в год.</a:t>
            </a:r>
            <a:r>
              <a:rPr b="1" lang="en-US" sz="2000" spc="-1" strike="noStrike">
                <a:solidFill>
                  <a:srgbClr val="99ff66"/>
                </a:solidFill>
                <a:latin typeface="Arial Black"/>
              </a:rPr>
              <a:t> Котята рождаются в апреле—мае. В помёте 2—6 котят.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663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 Black"/>
              </a:rPr>
              <a:t>Кормится</a:t>
            </a:r>
            <a:r>
              <a:rPr b="1" lang="ru-RU" sz="2000" spc="-1" strike="noStrike">
                <a:solidFill>
                  <a:srgbClr val="99ff66"/>
                </a:solidFill>
                <a:latin typeface="Arial Black"/>
              </a:rPr>
              <a:t> манул почти исключительно пищухами и мышевидными грызунами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66"/>
                </a:solidFill>
                <a:latin typeface="Arial Black"/>
              </a:rPr>
              <a:t>Не приспособлен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99ff66"/>
                </a:solidFill>
                <a:latin typeface="Arial Black"/>
              </a:rPr>
              <a:t>к быстрому бегу. При опасности для него характерно затаивание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2079720"/>
            <a:ext cx="59482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700280"/>
            <a:ext cx="7777440" cy="47592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 Black"/>
              </a:rPr>
              <a:t>Встревоженный манул издаёт хриплое урчание или резкое фырканье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89000"/>
            <a:ext cx="8193240" cy="46548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 Black"/>
              </a:rPr>
              <a:t>Манул занесён в Красную книгу Российской Федерации. Его численность продолжает сокращаться.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17:58:45Z</dcterms:created>
  <dc:creator>Admin</dc:creator>
  <dc:description/>
  <dc:language>en-US</dc:language>
  <cp:lastModifiedBy>Admin</cp:lastModifiedBy>
  <dcterms:modified xsi:type="dcterms:W3CDTF">2015-10-19T14:35:27Z</dcterms:modified>
  <cp:revision>6</cp:revision>
  <dc:subject/>
  <dc:title>Слайд 1</dc:title>
</cp:coreProperties>
</file>