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C948-44E4-48FA-B7EA-7B28C415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73D-4D8B-4D7C-9D3D-134885FA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491-86D0-4E52-BD1D-E225093D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AE78-B20B-41EE-98CA-4F693FAE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B02D-7612-4A3C-8D05-10FB6410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FF4B-2D4D-4A19-9F39-04032BA4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4A6F-F9E0-42A1-B1EC-8C4310AD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AC66-836D-4D01-8656-435269A8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6EF8-11E6-4555-8279-F1C26971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8857-099F-4151-9EDB-13907E85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4176-0396-4D73-97B0-9756568C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88FD-FC01-4241-87AD-6716A2DF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636C-E077-429E-96EF-33FE59DA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EAB9-711D-4CB1-ACBC-B26B8349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441B-8B2F-4987-A60F-A2EA614C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C435-C498-402C-A562-A995901D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7E05-1BFD-45A5-B01E-729DEA97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70E-18CE-4765-9B02-A0FD8445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214-E1D8-46B2-9890-BFAAA4E2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3792-17D0-457B-9BA7-055AF11F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E443-0DA3-4579-91FF-B5D1A0CC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982F-7E4C-4B29-940E-F1B007D7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1613-1DF8-49B9-B31C-0D98BE71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DAE-DC04-424D-972E-C6ED2572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9849-6873-4727-8A8C-77959075C7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10D1-5479-4300-91B4-2FF8D1B255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9;&#1082;&#1086;&#1074;&#1089;&#1082;&#1080;&#1081;_&#1079;&#1086;&#1086;&#1087;&#1072;&#1088;&#1082;" TargetMode="External"/><Relationship Id="rId2" Type="http://schemas.openxmlformats.org/officeDocument/2006/relationships/hyperlink" Target="http://pics.livejournal.com/taiohara/pic/0016b1d3/s640x480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File:Stamp_of_Azerbaijan_276.jpg&amp;filetimestamp=20081127130854&amp;uselang=ru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commons.wikimedia.org/w/index.php?title=File:Stamp_Kyrgyzstan_Pallas_Cat_2008.jpg&amp;filetimestamp=20090105193323&amp;uselang=ru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commons.wikimedia.org/w/index.php?title=File:Stamp_Tajikistan_Pallas_Cat_souvenir_sheet_500.jpg&amp;filetimestamp=20090105195217&amp;uselang=ru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commons.wikimedia.org/w/index.php?title=File:Stamp_Tajikistan_Pallas_Cat_souvenir_sheet_WWF.jpg&amp;filetimestamp=20090105195920&amp;uselang=ru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ru.wikipedia.org/wiki/&#1058;&#1072;&#1076;&#1078;&#1080;&#1082;&#1080;&#1089;&#1090;&#1072;&#1085;" TargetMode="External"/><Relationship Id="rId10" Type="http://schemas.openxmlformats.org/officeDocument/2006/relationships/hyperlink" Target="http://ru.wikipedia.org/wiki/&#1040;&#1079;&#1077;&#1088;&#1073;&#1072;&#1081;&#1076;&#1078;&#1072;&#1085;" TargetMode="External"/><Relationship Id="rId11" Type="http://schemas.openxmlformats.org/officeDocument/2006/relationships/hyperlink" Target="http://ru.wikipedia.org/wiki/&#1050;&#1080;&#1088;&#1075;&#1080;&#1079;&#1080;&#1103;" TargetMode="External"/><Relationship Id="rId12" Type="http://schemas.openxmlformats.org/officeDocument/2006/relationships/hyperlink" Target="http://ru.wikipedia.org/wiki/&#1058;&#1072;&#1076;&#1078;&#1080;&#1082;&#1080;&#1089;&#1090;&#1072;&#1085;" TargetMode="External"/><Relationship Id="rId13" Type="http://schemas.openxmlformats.org/officeDocument/2006/relationships/hyperlink" Target="http://commons.wikimedia.org/w/index.php?title=File:Stamp_of_Kyrgyzstan_asiafauna.jpg&amp;filetimestamp=20081204112538&amp;uselang=ru" TargetMode="External"/><Relationship Id="rId14" Type="http://schemas.openxmlformats.org/officeDocument/2006/relationships/image" Target="../media/image14.jpeg"/><Relationship Id="rId15" Type="http://schemas.openxmlformats.org/officeDocument/2006/relationships/hyperlink" Target="http://ru.wikipedia.org/wiki/&#1050;&#1080;&#1088;&#1075;&#1080;&#1079;&#1080;&#1103;" TargetMode="External"/><Relationship Id="rId1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3;&#1077;&#1082;&#1086;&#1087;&#1080;&#1090;&#1072;&#1102;&#1097;&#1080;&#1077;" TargetMode="External"/><Relationship Id="rId2" Type="http://schemas.openxmlformats.org/officeDocument/2006/relationships/hyperlink" Target="http://ru.wikipedia.org/wiki/&#1057;&#1077;&#1084;&#1077;&#1081;&#1089;&#1090;&#1074;&#1086;" TargetMode="External"/><Relationship Id="rId3" Type="http://schemas.openxmlformats.org/officeDocument/2006/relationships/hyperlink" Target="http://ru.wikipedia.org/wiki/&#1050;&#1086;&#1096;&#1072;&#1095;&#1100;&#1080;" TargetMode="External"/><Relationship Id="rId4" Type="http://schemas.openxmlformats.org/officeDocument/2006/relationships/hyperlink" Target="http://www.zhaba.ru/_pics/0qibhnujpx92b136.jpg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File:Manul_map.svg&amp;page=1&amp;filetimestamp=20110720080428&amp;uselang=ru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s://ru.wikipedia.org/wiki/&#1062;&#1077;&#1085;&#1090;&#1088;&#1072;&#1083;&#1100;&#1085;&#1072;&#1103;_&#1040;&#1079;&#1080;&#1103;" TargetMode="External"/><Relationship Id="rId4" Type="http://schemas.openxmlformats.org/officeDocument/2006/relationships/hyperlink" Target="https://ru.wikipedia.org/wiki/&#1057;&#1088;&#1077;&#1076;&#1085;&#1103;&#1103;_&#1040;&#1079;&#1080;&#1103;" TargetMode="External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nojs=1&amp;text=&#1084;&#1072;&#1085;&#1091;&#1083;&amp;noreask=1&amp;img_url=img-fotki.yandex.ru%2Fget%2F6302%2F85787023.90%2F0_6a296_65f51fa7_XL&amp;pos=8&amp;rpt=simage&amp;lr=62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zhaba.ru/_pics/ewqyt3s4rbdycjli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/boss-konsulat.72/0_14ab1_2e7520c9_X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6310/78461212.31/0_8561a_98bd64fa_X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s4279.userapi.com/u37085362/-7/x_a3fa84a3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boi.ws/wallpapers/15_6648_oboi_poglad_manula_1440x90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39640" y="1915920"/>
            <a:ext cx="5133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2679840" y="4386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0911200">
            <a:off x="1971720" y="2053800"/>
            <a:ext cx="633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66"/>
                </a:solidFill>
                <a:latin typeface="Arial Black"/>
              </a:rPr>
              <a:t>Манул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 Black"/>
              </a:rPr>
              <a:t>Талисман </a:t>
            </a:r>
            <a:r>
              <a:rPr b="1" lang="en-US" sz="32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Московского зоопарка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 Black"/>
              </a:rPr>
              <a:t>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1197000"/>
            <a:ext cx="763272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 Black"/>
              </a:rPr>
              <a:t>Почтовые марки с манулами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1768320" cy="2305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1916280"/>
            <a:ext cx="1563840" cy="2233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24360" y="4292640"/>
            <a:ext cx="2367000" cy="1774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8360" y="4076640"/>
            <a:ext cx="2592360" cy="2030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00000" y="623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Таджикистан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57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Азербайджан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43045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Киргизия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4720" y="6092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Таджикистан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43640" y="1484280"/>
            <a:ext cx="2305080" cy="1690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93080" y="3212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Киргизия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2565360"/>
            <a:ext cx="7521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Берегите                           редких животных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 Black"/>
              </a:rPr>
              <a:t>Ману́л</a:t>
            </a: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 — </a:t>
            </a:r>
            <a:r>
              <a:rPr b="1" lang="ru-RU" sz="3200" spc="-1" strike="noStrike">
                <a:solidFill>
                  <a:srgbClr val="99ff66"/>
                </a:solidFill>
                <a:latin typeface="Arial Black"/>
              </a:rPr>
              <a:t>хищное </a:t>
            </a:r>
            <a:r>
              <a:rPr b="1" lang="ru-RU" sz="32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млекопитающее</a:t>
            </a:r>
            <a:r>
              <a:rPr b="1" i="1" lang="ru-RU" sz="32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3200" spc="-1" strike="noStrike" u="sng">
                <a:solidFill>
                  <a:srgbClr val="99ff66"/>
                </a:solidFill>
                <a:uFillTx/>
                <a:latin typeface="Arial Black"/>
                <a:hlinkClick r:id="rId2"/>
              </a:rPr>
              <a:t>семейства</a:t>
            </a:r>
            <a:r>
              <a:rPr b="1" i="1" lang="ru-RU" sz="32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3200" spc="-1" strike="noStrike" u="sng">
                <a:solidFill>
                  <a:srgbClr val="99ff66"/>
                </a:solidFill>
                <a:uFillTx/>
                <a:latin typeface="Arial Black"/>
                <a:hlinkClick r:id="rId3"/>
              </a:rPr>
              <a:t>кошачьих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1700280"/>
            <a:ext cx="7128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Ареал об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205000"/>
            <a:ext cx="3600360" cy="33814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Манул распространё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в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Центральной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</a:rPr>
              <a:t> и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Средней Азии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</a:rPr>
              <a:t>, от Южного Закавказья и западного Ирана до Забайкалья, Монголии и Северо-Западного Кит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637000"/>
            <a:ext cx="4606920" cy="3732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 Black"/>
              </a:rPr>
              <a:t>Длина тела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99ff66"/>
                </a:solidFill>
                <a:latin typeface="Arial Black"/>
              </a:rPr>
              <a:t>52—65 см, хвоста 23—31 см; весит он 2—5кг.</a:t>
            </a:r>
            <a:br>
              <a:rPr sz="2000"/>
            </a:br>
            <a:r>
              <a:rPr b="1" lang="en-US" sz="2000" spc="-1" strike="noStrike">
                <a:solidFill>
                  <a:srgbClr val="99ff66"/>
                </a:solidFill>
                <a:latin typeface="Arial Black"/>
              </a:rPr>
              <a:t> </a:t>
            </a:r>
            <a:r>
              <a:rPr b="1" lang="en-US" sz="2000" spc="-1" strike="noStrike">
                <a:solidFill>
                  <a:srgbClr val="ffff66"/>
                </a:solidFill>
                <a:latin typeface="Arial Black"/>
              </a:rPr>
              <a:t>Мех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99ff66"/>
                </a:solidFill>
                <a:latin typeface="Arial Black"/>
              </a:rPr>
              <a:t>самый пушистый и густой среди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кошачьих</a:t>
            </a:r>
            <a:r>
              <a:rPr b="1" lang="en-US" sz="2000" spc="-1" strike="noStrike">
                <a:solidFill>
                  <a:srgbClr val="99ff66"/>
                </a:solidFill>
                <a:latin typeface="Arial Black"/>
              </a:rPr>
              <a:t>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en-US" sz="2000" spc="-1" strike="noStrike">
                <a:solidFill>
                  <a:srgbClr val="ffff66"/>
                </a:solidFill>
                <a:latin typeface="Arial Black"/>
              </a:rPr>
              <a:t>Окрас меха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- </a:t>
            </a:r>
            <a:r>
              <a:rPr b="1" lang="en-US" sz="2000" spc="-1" strike="noStrike">
                <a:solidFill>
                  <a:srgbClr val="99ff66"/>
                </a:solidFill>
                <a:latin typeface="Arial Black"/>
              </a:rPr>
              <a:t>комбинацию светло-серого и палево-охристого цветов; волоски имеют белые кончики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565000"/>
            <a:ext cx="80074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773360"/>
            <a:ext cx="6480360" cy="4851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44080"/>
            <a:ext cx="86630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 Black"/>
              </a:rPr>
              <a:t>Манул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 Black"/>
              </a:rPr>
              <a:t>ведёт оседлый образ жизни.</a:t>
            </a:r>
            <a:r>
              <a:rPr b="1" lang="en-US" sz="2000" spc="-1" strike="noStrike">
                <a:solidFill>
                  <a:srgbClr val="99ff66"/>
                </a:solidFill>
                <a:latin typeface="Arial Black"/>
              </a:rPr>
              <a:t> Активен преимущественно в сумерках и ранним утром; днём спит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916280"/>
            <a:ext cx="6734160" cy="4636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 Black"/>
              </a:rPr>
              <a:t>Размножается один раз в год.</a:t>
            </a:r>
            <a:r>
              <a:rPr b="1" lang="en-US" sz="2000" spc="-1" strike="noStrike">
                <a:solidFill>
                  <a:srgbClr val="99ff66"/>
                </a:solidFill>
                <a:latin typeface="Arial Black"/>
              </a:rPr>
              <a:t> Котята рождаются в апреле—мае. В помёте 2—6 котят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663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 Black"/>
              </a:rPr>
              <a:t>Кормится</a:t>
            </a:r>
            <a:r>
              <a:rPr b="1" lang="ru-RU" sz="2000" spc="-1" strike="noStrike">
                <a:solidFill>
                  <a:srgbClr val="99ff66"/>
                </a:solidFill>
                <a:latin typeface="Arial Black"/>
              </a:rPr>
              <a:t> манул почти исключительно пищухами и мышевидными грызунами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66"/>
                </a:solidFill>
                <a:latin typeface="Arial Black"/>
              </a:rPr>
              <a:t>Не приспособлен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99ff66"/>
                </a:solidFill>
                <a:latin typeface="Arial Black"/>
              </a:rPr>
              <a:t>к быстрому бегу. При опасности для него характерно затаивание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079720"/>
            <a:ext cx="59482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00280"/>
            <a:ext cx="7777440" cy="4759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 Black"/>
              </a:rPr>
              <a:t>Встревоженный манул издаёт хриплое урчание или резкое фырканье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8193240" cy="4654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 Black"/>
              </a:rPr>
              <a:t>Манул занесён в Красную книгу Российской Федерации. Его численность продолжает сокращаться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17:58:45Z</dcterms:created>
  <dc:creator>Admin</dc:creator>
  <dc:description/>
  <dc:language>en-US</dc:language>
  <cp:lastModifiedBy>Admin</cp:lastModifiedBy>
  <dcterms:modified xsi:type="dcterms:W3CDTF">2015-10-19T14:35:27Z</dcterms:modified>
  <cp:revision>6</cp:revision>
  <dc:subject/>
  <dc:title>Слайд 1</dc:title>
</cp:coreProperties>
</file>