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wmf" ContentType="image/x-wmf"/>
  <Override PartName="/ppt/media/image9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3.wmf" ContentType="image/x-wmf"/>
  <Override PartName="/ppt/media/image26.wmf" ContentType="image/x-wmf"/>
  <Override PartName="/ppt/media/image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6.wmf" ContentType="image/x-wmf"/>
  <Override PartName="/ppt/media/image14.gif" ContentType="image/gif"/>
  <Override PartName="/ppt/media/image17.png" ContentType="image/png"/>
  <Override PartName="/ppt/media/image27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1086-6735-4909-BE84-8B29DCC488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E13A-51C9-41F4-9E43-756E89571346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30BE-46FE-4660-832A-0DE60C699665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C862-787A-4494-8E63-A7C69D1CFC0C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F54D-0192-44BA-94D5-A5DF52591E94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262B-35EE-4E32-8B92-B1A2ED9FC9A3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E259-BDB9-4F94-8DFE-19DA9E44D2B4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E8BC-6A1E-4C3F-90CD-C9D7F19E8F25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307B-C2B2-4F53-AB98-FC9423E9215B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A1DD-B873-4BBD-AAED-0858744A85B9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F5A9-8E3E-4706-8FDB-DF42A1B19D5B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AECE-34CB-45E4-9702-17F0F8AD0C73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F6EF-3821-4218-B736-61B61707FCC4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53D1-C4E8-4AFE-BB2C-0023A449345A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ADC6-8D62-4516-B303-43B0232DE49F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F08F-6128-4A4D-8A86-6610C2CF668E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54B3-51B3-4EB4-B1B6-4BE9763C91BF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EFB9-2D4D-42F1-B605-2BA1042010E3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EF0E-E229-47F7-8198-6F775105B234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3AE1-C243-4F7B-8632-F14EAED74D2E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21C1-F7DD-462D-9A2F-71EF2FB54E88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0175-F9FD-4A69-B954-F5ECAB12A8D7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BA9C-D03F-41ED-8838-D641B649BA15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B6DB-14C0-4FA8-8895-106B829E2EB6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77BC-93D1-41DF-942B-75E7FECB7E5E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1160-A3A3-435E-AC70-9D668EAB8696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B1C6-087D-447A-AC0A-0C9332A724D7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9BAC-B275-44EF-A996-386A560BE32F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94BA-E6EF-4C7D-AC90-026137F76DB2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BDF5-C575-4774-AACE-970ED8B5BC5C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1CE7-A149-4D25-AD5E-5F7041673F3D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A000-A26D-4E0B-9A79-041F36863A6A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F6F9-EF65-49BF-A429-8CA9A7F9A33B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04A9-915C-4384-B04B-E4A5205A34CB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C4DE-E108-4EBD-9EBE-AF44C74DAEA7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FAB0-24B5-40B3-99B5-4B5EDC9A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57EF-D226-4248-B365-385C8F9F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7843-8D4F-4FDA-8333-7E70F5AA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C52B-D965-4AAE-818D-05EE5F7F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0EC0-EAC0-409B-B09D-02793A66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005B-F776-490A-B070-61E42481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395D-D898-4E06-8144-A6246878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0313-E83E-4F14-8123-837B94F3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1550-87A6-470B-8E9C-FB3CA908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F6C1-E896-48AE-AB6E-B4D9FA04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842B-4F8F-4B2C-A5D2-E0A57432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68F7-8867-4F65-B770-86C6243E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5167-BDF0-4598-A354-74661249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3CAD-B2FA-487C-A20E-9853E2D3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D737-A290-4CB8-AF39-2B459420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9B2B-35A3-418D-83AF-FF95E4C5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41A1-743E-49DE-9400-39227F11E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76E9-52EB-4D1F-9A60-38E1B5FB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F806-88E4-4202-8D2B-88F446F5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585F-A189-44C3-86A4-D4514430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8290-937E-4EEB-B3FB-097C8EE4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A094-04E7-4913-A096-6EE30B9C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8589-0DFF-440D-8BE7-0FC35141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0CE2-317C-434F-B69B-0B04F27A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12CE-287C-438C-A3A5-F0556D31A190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1815-A478-441F-A736-E8DC30BBADA2}" type="slidenum">
              <a:rPr b="0" lang="ru-RU" sz="1400" spc="-1" strike="noStrike">
                <a:solidFill>
                  <a:srgbClr val="57896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prstGeom prst="pie">
            <a:avLst/>
          </a:pr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A3C8-FFC0-4E4C-8DC6-28A8B45DCCCA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DBA4-DE4F-42B1-B15E-7441DCFA8BB7}" type="slidenum">
              <a:rPr b="0" lang="ru-RU" sz="1400" spc="-1" strike="noStrike">
                <a:solidFill>
                  <a:srgbClr val="57896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Дата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24DC-4D71-4C61-BCD8-83E7983CC7CD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ПРЕЗЕНТАЦИЯ </a:t>
            </a:r>
            <a:br>
              <a:rPr sz="3200"/>
            </a:br>
            <a:r>
              <a:rPr b="0" lang="ru-RU" sz="3200" spc="-1" strike="noStrike">
                <a:solidFill>
                  <a:srgbClr val="004c2b"/>
                </a:solidFill>
                <a:latin typeface="Arial"/>
              </a:rPr>
              <a:t>к</a:t>
            </a: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4c2b"/>
                </a:solidFill>
                <a:latin typeface="Arial"/>
              </a:rPr>
              <a:t>методсовету</a:t>
            </a: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 «Современные педагогические технологии как одно из необходимых условий эффективности инновационной деятельности школы»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914400" y="38098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0639-9C13-43AC-A6ED-911E07152A81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907920" y="4343400"/>
            <a:ext cx="22860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Позиция ученика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907920" y="2406600"/>
            <a:ext cx="228600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Функции учителя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907920" y="1568520"/>
            <a:ext cx="2286000" cy="337320"/>
          </a:xfrm>
          <a:prstGeom prst="rect">
            <a:avLst/>
          </a:prstGeom>
          <a:solidFill>
            <a:srgbClr val="ff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Способы усвоения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grpSp>
        <p:nvGrpSpPr>
          <p:cNvPr id="220" name="Group 5"/>
          <p:cNvGrpSpPr/>
          <p:nvPr/>
        </p:nvGrpSpPr>
        <p:grpSpPr>
          <a:xfrm>
            <a:off x="374760" y="914400"/>
            <a:ext cx="8381880" cy="4952880"/>
            <a:chOff x="374760" y="914400"/>
            <a:chExt cx="8381880" cy="4952880"/>
          </a:xfrm>
        </p:grpSpPr>
        <p:sp>
          <p:nvSpPr>
            <p:cNvPr id="221" name="Text Box 6"/>
            <p:cNvSpPr/>
            <p:nvPr/>
          </p:nvSpPr>
          <p:spPr>
            <a:xfrm>
              <a:off x="450720" y="990360"/>
              <a:ext cx="26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33"/>
                  </a:solidFill>
                  <a:latin typeface="Arial"/>
                </a:rPr>
                <a:t>№                </a:t>
              </a:r>
              <a:r>
                <a:rPr b="1" lang="ru-RU" sz="1600" spc="-1" strike="noStrike">
                  <a:solidFill>
                    <a:srgbClr val="333333"/>
                  </a:solidFill>
                  <a:latin typeface="Arial"/>
                </a:rPr>
                <a:t>Особенности</a:t>
              </a:r>
              <a:endParaRPr b="0" lang="en-US" sz="16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222" name="Text Box 7"/>
            <p:cNvSpPr/>
            <p:nvPr/>
          </p:nvSpPr>
          <p:spPr>
            <a:xfrm>
              <a:off x="3193920" y="914400"/>
              <a:ext cx="2666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333333"/>
                  </a:solidFill>
                  <a:latin typeface="Arial"/>
                </a:rPr>
                <a:t>Традиционная   </a:t>
              </a:r>
              <a:r>
                <a:rPr b="1" lang="ru-RU" sz="1600" spc="-1" strike="noStrike">
                  <a:solidFill>
                    <a:srgbClr val="333333"/>
                  </a:solidFill>
                  <a:latin typeface="Arial"/>
                </a:rPr>
                <a:t>«Знаниевая» педагогика</a:t>
              </a:r>
              <a:endParaRPr b="0" lang="en-US" sz="16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223" name="Text Box 8"/>
            <p:cNvSpPr/>
            <p:nvPr/>
          </p:nvSpPr>
          <p:spPr>
            <a:xfrm>
              <a:off x="5860800" y="914400"/>
              <a:ext cx="289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333333"/>
                  </a:solidFill>
                  <a:latin typeface="Arial"/>
                </a:rPr>
                <a:t>Инновационная </a:t>
              </a:r>
              <a:r>
                <a:rPr b="1" lang="ru-RU" sz="1400" spc="-1" strike="noStrike">
                  <a:solidFill>
                    <a:srgbClr val="333333"/>
                  </a:solidFill>
                  <a:latin typeface="Arial"/>
                </a:rPr>
                <a:t>«Способностная» педагогика</a:t>
              </a:r>
              <a:endParaRPr b="0" lang="en-US" sz="1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grpSp>
          <p:nvGrpSpPr>
            <p:cNvPr id="224" name="Group 9"/>
            <p:cNvGrpSpPr/>
            <p:nvPr/>
          </p:nvGrpSpPr>
          <p:grpSpPr>
            <a:xfrm>
              <a:off x="374760" y="914400"/>
              <a:ext cx="8381880" cy="4952880"/>
              <a:chOff x="374760" y="914400"/>
              <a:chExt cx="8381880" cy="4952880"/>
            </a:xfrm>
          </p:grpSpPr>
          <p:sp>
            <p:nvSpPr>
              <p:cNvPr id="225" name="Line 10"/>
              <p:cNvSpPr/>
              <p:nvPr/>
            </p:nvSpPr>
            <p:spPr>
              <a:xfrm>
                <a:off x="374760" y="914400"/>
                <a:ext cx="83818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26" name="Line 11"/>
              <p:cNvSpPr/>
              <p:nvPr/>
            </p:nvSpPr>
            <p:spPr>
              <a:xfrm>
                <a:off x="37476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27" name="Line 12"/>
              <p:cNvSpPr/>
              <p:nvPr/>
            </p:nvSpPr>
            <p:spPr>
              <a:xfrm>
                <a:off x="875664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28" name="Line 13"/>
              <p:cNvSpPr/>
              <p:nvPr/>
            </p:nvSpPr>
            <p:spPr>
              <a:xfrm>
                <a:off x="90792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29" name="Line 14"/>
              <p:cNvSpPr/>
              <p:nvPr/>
            </p:nvSpPr>
            <p:spPr>
              <a:xfrm>
                <a:off x="319392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30" name="Line 15"/>
              <p:cNvSpPr/>
              <p:nvPr/>
            </p:nvSpPr>
            <p:spPr>
              <a:xfrm>
                <a:off x="586080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31" name="Line 16"/>
              <p:cNvSpPr/>
              <p:nvPr/>
            </p:nvSpPr>
            <p:spPr>
              <a:xfrm>
                <a:off x="374760" y="1447560"/>
                <a:ext cx="83818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232" name="Rectangle 17"/>
          <p:cNvSpPr/>
          <p:nvPr/>
        </p:nvSpPr>
        <p:spPr>
          <a:xfrm>
            <a:off x="1108800" y="228600"/>
            <a:ext cx="69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ff"/>
                </a:solidFill>
                <a:uFillTx/>
                <a:latin typeface="Arial"/>
              </a:rPr>
              <a:t>Характеристики образовательных моделей.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33" name="Text Box 18"/>
          <p:cNvSpPr/>
          <p:nvPr/>
        </p:nvSpPr>
        <p:spPr>
          <a:xfrm>
            <a:off x="374760" y="15685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11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3193920" y="1552680"/>
            <a:ext cx="266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Заучивание, деятельность по алгоритму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5861160" y="155268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Поисковая мыслительная деятельность, рефлексия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36" name="Line 21"/>
          <p:cNvSpPr/>
          <p:nvPr/>
        </p:nvSpPr>
        <p:spPr>
          <a:xfrm>
            <a:off x="374760" y="5867280"/>
            <a:ext cx="8381880" cy="0"/>
          </a:xfrm>
          <a:prstGeom prst="line">
            <a:avLst/>
          </a:prstGeom>
          <a:ln w="12708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37" name="Line 22"/>
          <p:cNvSpPr/>
          <p:nvPr/>
        </p:nvSpPr>
        <p:spPr>
          <a:xfrm>
            <a:off x="374760" y="2209680"/>
            <a:ext cx="8381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38" name="Text Box 23"/>
          <p:cNvSpPr/>
          <p:nvPr/>
        </p:nvSpPr>
        <p:spPr>
          <a:xfrm>
            <a:off x="450720" y="2354400"/>
            <a:ext cx="4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12. 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39" name="Text Box 24"/>
          <p:cNvSpPr/>
          <p:nvPr/>
        </p:nvSpPr>
        <p:spPr>
          <a:xfrm>
            <a:off x="3193920" y="2362320"/>
            <a:ext cx="266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носитель информации, хранитель норм и традиций,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40" name="Text Box 25"/>
          <p:cNvSpPr/>
          <p:nvPr/>
        </p:nvSpPr>
        <p:spPr>
          <a:xfrm>
            <a:off x="5861160" y="243036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Организатор сотрудничества, Консультант,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3193920" y="3276720"/>
            <a:ext cx="2667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пропагандист предметно – дисциплинарных знаний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42" name="Text Box 27"/>
          <p:cNvSpPr/>
          <p:nvPr/>
        </p:nvSpPr>
        <p:spPr>
          <a:xfrm>
            <a:off x="5861160" y="34210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Управляющий поисковой работой учащихся, консультант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43" name="Line 28"/>
          <p:cNvSpPr/>
          <p:nvPr/>
        </p:nvSpPr>
        <p:spPr>
          <a:xfrm>
            <a:off x="374760" y="4267080"/>
            <a:ext cx="87692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44" name="Text Box 29"/>
          <p:cNvSpPr/>
          <p:nvPr/>
        </p:nvSpPr>
        <p:spPr>
          <a:xfrm>
            <a:off x="450720" y="4335480"/>
            <a:ext cx="4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13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45" name="Text Box 30"/>
          <p:cNvSpPr/>
          <p:nvPr/>
        </p:nvSpPr>
        <p:spPr>
          <a:xfrm>
            <a:off x="3193920" y="525780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отсутствие мотива к личностному росту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46" name="Text Box 31"/>
          <p:cNvSpPr/>
          <p:nvPr/>
        </p:nvSpPr>
        <p:spPr>
          <a:xfrm>
            <a:off x="5861160" y="525780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наличие интереса к деятельности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47" name="Rectangle 32"/>
          <p:cNvSpPr/>
          <p:nvPr/>
        </p:nvSpPr>
        <p:spPr>
          <a:xfrm>
            <a:off x="3658320" y="4267080"/>
            <a:ext cx="16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Пассивность, 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48" name="Rectangle 33"/>
          <p:cNvSpPr/>
          <p:nvPr/>
        </p:nvSpPr>
        <p:spPr>
          <a:xfrm>
            <a:off x="6433920" y="4267080"/>
            <a:ext cx="141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Активность,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49" name="Rectangle 34"/>
          <p:cNvSpPr/>
          <p:nvPr/>
        </p:nvSpPr>
        <p:spPr>
          <a:xfrm>
            <a:off x="3306240" y="4724280"/>
            <a:ext cx="23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отсутствие интереса, 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50" name="Rectangle 35"/>
          <p:cNvSpPr/>
          <p:nvPr/>
        </p:nvSpPr>
        <p:spPr>
          <a:xfrm>
            <a:off x="5943600" y="464832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наличие мотива к самосовершенствованию,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51" name="AutoShape 36">
            <a:hlinkClick r:id="" action="ppaction://hlinkshowjump?jump=nextslide"/>
          </p:cNvPr>
          <p:cNvSpPr/>
          <p:nvPr/>
        </p:nvSpPr>
        <p:spPr>
          <a:xfrm>
            <a:off x="761364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52" name="AutoShape 37">
            <a:hlinkClick r:id="" action="ppaction://hlinkshowjump?jump=previousslide"/>
          </p:cNvPr>
          <p:cNvSpPr/>
          <p:nvPr/>
        </p:nvSpPr>
        <p:spPr>
          <a:xfrm>
            <a:off x="700416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53" name="Text Box 38"/>
          <p:cNvSpPr/>
          <p:nvPr/>
        </p:nvSpPr>
        <p:spPr>
          <a:xfrm>
            <a:off x="8756640" y="6400800"/>
            <a:ext cx="380880" cy="45972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500"/>
                            </p:stCondLst>
                            <p:childTnLst>
                              <p:par>
                                <p:cTn id="40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60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85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8500"/>
                            </p:stCondLst>
                            <p:childTnLst>
                              <p:par>
                                <p:cTn id="44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35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78D4-DFCF-4194-8E84-8BD31394AD73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55" name="WordArt 2"/>
          <p:cNvSpPr txBox="1"/>
          <p:nvPr/>
        </p:nvSpPr>
        <p:spPr>
          <a:xfrm>
            <a:off x="3117960" y="304920"/>
            <a:ext cx="2895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школ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56" name="WordArt 3"/>
          <p:cNvSpPr txBox="1"/>
          <p:nvPr/>
        </p:nvSpPr>
        <p:spPr>
          <a:xfrm>
            <a:off x="374760" y="533520"/>
            <a:ext cx="2209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"памяти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57" name="WordArt 4"/>
          <p:cNvSpPr txBox="1"/>
          <p:nvPr/>
        </p:nvSpPr>
        <p:spPr>
          <a:xfrm>
            <a:off x="6394320" y="533520"/>
            <a:ext cx="2341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"развития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58" name="WordArt 5"/>
          <p:cNvSpPr txBox="1"/>
          <p:nvPr/>
        </p:nvSpPr>
        <p:spPr>
          <a:xfrm>
            <a:off x="3479760" y="1143000"/>
            <a:ext cx="20001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898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обучение</a:t>
            </a:r>
            <a:endParaRPr b="0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898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3651120" y="2057400"/>
            <a:ext cx="5257800" cy="4780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66ff99"/>
              </a:gs>
              <a:gs pos="50000">
                <a:srgbClr val="ffffff"/>
              </a:gs>
              <a:gs pos="100000">
                <a:srgbClr val="66ff99"/>
              </a:gs>
            </a:gsLst>
            <a:lin ang="0"/>
          </a:gra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Школа "развития" ориентируется на личность обучаемого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Частным случаем развития личности является  овладение учащимися  такими мыслительными операциями, как: синтез, сравнение, обобщение, классификация, индукция, дедукция, абстрагирование и пр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Существенным становится появление у учащихся потребности, интереса, мотива к личностному росту, изменению себя, развитию его эмоционально-образной сферы, приобретению опыта эмоционально-ценностных отношений.                      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60" name="AutoShape 7"/>
          <p:cNvSpPr/>
          <p:nvPr/>
        </p:nvSpPr>
        <p:spPr>
          <a:xfrm>
            <a:off x="298440" y="2057400"/>
            <a:ext cx="3048120" cy="53888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0"/>
          </a:gra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Школа "памяти" строится на традиционных основах: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классно-урочной системе обучения, преобладающем иллюстративно-объяснительном методе "преподавания,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фронтальной форме организации учебного пространства,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контроле и опросе репродуктивного типа и прочих  характеристиках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61" name="AutoShape 8">
            <a:hlinkClick r:id="" action="ppaction://hlinkshowjump?jump=nextslide"/>
          </p:cNvPr>
          <p:cNvSpPr/>
          <p:nvPr/>
        </p:nvSpPr>
        <p:spPr>
          <a:xfrm>
            <a:off x="761364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62" name="AutoShape 9">
            <a:hlinkClick r:id="" action="ppaction://hlinkshowjump?jump=previousslide"/>
          </p:cNvPr>
          <p:cNvSpPr/>
          <p:nvPr/>
        </p:nvSpPr>
        <p:spPr>
          <a:xfrm>
            <a:off x="700416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8756640" y="6400800"/>
            <a:ext cx="380880" cy="45972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8000"/>
                            </p:stCondLst>
                            <p:childTnLst>
                              <p:par>
                                <p:cTn id="481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C19C-B284-4C33-B736-CFEE9CF32170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65" name="WordArt 2"/>
          <p:cNvSpPr txBox="1"/>
          <p:nvPr/>
        </p:nvSpPr>
        <p:spPr>
          <a:xfrm>
            <a:off x="1708200" y="1371600"/>
            <a:ext cx="5448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898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ориентация в обучении</a:t>
            </a:r>
            <a:endParaRPr b="0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898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5861160" y="2057400"/>
            <a:ext cx="2819160" cy="2592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66ff99"/>
              </a:gs>
              <a:gs pos="50000">
                <a:srgbClr val="ffffff"/>
              </a:gs>
              <a:gs pos="100000">
                <a:srgbClr val="66ff99"/>
              </a:gs>
            </a:gsLst>
            <a:lin ang="0"/>
          </a:gra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Критерием развития эмоционально-образной сферы может быть комфортность учащегося в образовательном пространстве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450720" y="2057400"/>
            <a:ext cx="4953240" cy="26053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0"/>
          </a:gra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Целевой установкой этой школы является 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формирование у учащихся знаний, умений, навыков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Ведущий тип деятельности, который осваивается учащимися в рамках этой школы, является воспроизводящим. 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68" name="WordArt 5"/>
          <p:cNvSpPr txBox="1"/>
          <p:nvPr/>
        </p:nvSpPr>
        <p:spPr>
          <a:xfrm>
            <a:off x="1784520" y="4419720"/>
            <a:ext cx="556236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898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результат работы</a:t>
            </a:r>
            <a:endParaRPr b="0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898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9" name="AutoShape 6"/>
          <p:cNvSpPr/>
          <p:nvPr/>
        </p:nvSpPr>
        <p:spPr>
          <a:xfrm>
            <a:off x="5175360" y="4952880"/>
            <a:ext cx="3276360" cy="22813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66ff99"/>
              </a:gs>
              <a:gs pos="50000">
                <a:srgbClr val="ffffff"/>
              </a:gs>
              <a:gs pos="100000">
                <a:srgbClr val="66ff99"/>
              </a:gs>
            </a:gsLst>
            <a:lin ang="0"/>
          </a:gra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Критерием развития деятельностной сферы может быть умение осуществлять деятельность в нетиповой, нестандартной ситуации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603360" y="4952880"/>
            <a:ext cx="3733560" cy="1970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0"/>
          </a:gra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В наилучшем варианте в рамках этой школы происходит обогащение и развитие памяти обучаемого. Поэтому-то ее и называют «школой памяти»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grpSp>
        <p:nvGrpSpPr>
          <p:cNvPr id="271" name="Group 8"/>
          <p:cNvGrpSpPr/>
          <p:nvPr/>
        </p:nvGrpSpPr>
        <p:grpSpPr>
          <a:xfrm>
            <a:off x="374760" y="304920"/>
            <a:ext cx="8361360" cy="914400"/>
            <a:chOff x="374760" y="304920"/>
            <a:chExt cx="8361360" cy="914400"/>
          </a:xfrm>
        </p:grpSpPr>
        <p:sp>
          <p:nvSpPr>
            <p:cNvPr id="272" name="WordArt 9"/>
            <p:cNvSpPr txBox="1"/>
            <p:nvPr/>
          </p:nvSpPr>
          <p:spPr>
            <a:xfrm>
              <a:off x="3117960" y="304920"/>
              <a:ext cx="289584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latin typeface="Arial"/>
                </a:rPr>
                <a:t>школа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  <p:sp>
          <p:nvSpPr>
            <p:cNvPr id="273" name="WordArt 10"/>
            <p:cNvSpPr txBox="1"/>
            <p:nvPr/>
          </p:nvSpPr>
          <p:spPr>
            <a:xfrm>
              <a:off x="374760" y="533520"/>
              <a:ext cx="22100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latin typeface="Arial"/>
                </a:rPr>
                <a:t>"памяти"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  <p:sp>
          <p:nvSpPr>
            <p:cNvPr id="274" name="WordArt 11"/>
            <p:cNvSpPr txBox="1"/>
            <p:nvPr/>
          </p:nvSpPr>
          <p:spPr>
            <a:xfrm>
              <a:off x="6394680" y="533520"/>
              <a:ext cx="23414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6"/>
                    <a:srcRect/>
                    <a:tile tx="0" ty="0" sx="100000" sy="100000" algn="ctr"/>
                  </a:blipFill>
                  <a:latin typeface="Arial"/>
                </a:rPr>
                <a:t>"развития"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</p:grpSp>
      <p:sp>
        <p:nvSpPr>
          <p:cNvPr id="275" name="AutoShape 12">
            <a:hlinkClick r:id="" action="ppaction://hlinkshowjump?jump=nextslide"/>
          </p:cNvPr>
          <p:cNvSpPr/>
          <p:nvPr/>
        </p:nvSpPr>
        <p:spPr>
          <a:xfrm>
            <a:off x="761364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76" name="AutoShape 13">
            <a:hlinkClick r:id="" action="ppaction://hlinkshowjump?jump=previousslide"/>
          </p:cNvPr>
          <p:cNvSpPr/>
          <p:nvPr/>
        </p:nvSpPr>
        <p:spPr>
          <a:xfrm>
            <a:off x="700416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8604360" y="6400800"/>
            <a:ext cx="533160" cy="45972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BC2C-DE32-4555-A5D5-0B28496137CF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79" name="WordArt 2"/>
          <p:cNvSpPr txBox="1"/>
          <p:nvPr/>
        </p:nvSpPr>
        <p:spPr>
          <a:xfrm>
            <a:off x="450720" y="95400"/>
            <a:ext cx="7934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9933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00cc00"/>
                  </a:outerShdw>
                </a:effectLst>
                <a:latin typeface="Times New Roman"/>
              </a:rPr>
              <a:t>Любое ли образовательное пространство</a:t>
            </a:r>
            <a:endParaRPr b="0" lang="en-US" sz="2400" spc="1" strike="noStrike">
              <a:ln w="9360">
                <a:solidFill>
                  <a:srgbClr val="339933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00cc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9933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00cc00"/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339933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00cc00"/>
                  </a:outerShdw>
                </a:effectLst>
                <a:latin typeface="Times New Roman"/>
              </a:rPr>
              <a:t>можно назвать развивающим?</a:t>
            </a:r>
            <a:endParaRPr b="0" lang="en-US" sz="2400" spc="1" strike="noStrike">
              <a:ln w="9360">
                <a:solidFill>
                  <a:srgbClr val="339933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00cc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AutoShape 3"/>
          <p:cNvSpPr/>
          <p:nvPr/>
        </p:nvSpPr>
        <p:spPr>
          <a:xfrm>
            <a:off x="544680" y="1249200"/>
            <a:ext cx="8042040" cy="196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Для того, чтобы ответить на этот вопрос, обратимся к его истории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Около 60 лет назад Л.С. Выготский в работе "Педагогическая психология" проанализировал и выделил </a:t>
            </a: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три научные школы,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которые по-разному решали вопрос о соотношении обучения и развития.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6037200" y="3825720"/>
            <a:ext cx="2948040" cy="253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99"/>
              </a:gs>
            </a:gsLst>
            <a:lin ang="5400000"/>
          </a:gra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Аргументом данной точки зрения является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дидактический принцип доступности, позволяющий учить учащихся лишь тому, что они могут понять и для чего созрели их психические функции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69840" y="2751120"/>
            <a:ext cx="2209680" cy="22294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2229480"/>
              <a:gd name="textAreaBottom" fmla="*/ 2121840 h 2229480"/>
            </a:gdLst>
            <a:ahLst/>
            <a:rect l="textAreaLeft" t="textAreaTop" r="textAreaRight" b="textAreaBottom"/>
            <a:pathLst>
              <a:path w="21600" h="21794">
                <a:moveTo>
                  <a:pt x="3600" y="0"/>
                </a:moveTo>
                <a:arcTo wR="3600" hR="3600" stAng="16200000" swAng="-5400000"/>
                <a:lnTo>
                  <a:pt x="0" y="18194"/>
                </a:lnTo>
                <a:arcTo wR="3600" hR="3600" stAng="10800000" swAng="-5400000"/>
                <a:lnTo>
                  <a:pt x="18000" y="21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lin ang="5400000"/>
          </a:gra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Основателям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ой точки зрения,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по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Л.С.Выготскому. являются -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З.Фрейд, Ж.Пиаже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83" name="AutoShape 6"/>
          <p:cNvSpPr/>
          <p:nvPr/>
        </p:nvSpPr>
        <p:spPr>
          <a:xfrm>
            <a:off x="2556000" y="3228840"/>
            <a:ext cx="3228840" cy="226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dd7e5"/>
              </a:gs>
            </a:gsLst>
            <a:lin ang="5400000"/>
          </a:gra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Ученые предполагали, что </a:t>
            </a: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Arial"/>
              </a:rPr>
              <a:t>обучение и развитие независимые процессы.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Крылатой фразой представителей этой научной школы является то, что "обучение плетется в хвосте у развития"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grpSp>
        <p:nvGrpSpPr>
          <p:cNvPr id="284" name="Group 7"/>
          <p:cNvGrpSpPr/>
          <p:nvPr/>
        </p:nvGrpSpPr>
        <p:grpSpPr>
          <a:xfrm>
            <a:off x="380880" y="2801880"/>
            <a:ext cx="8153640" cy="4056120"/>
            <a:chOff x="380880" y="2801880"/>
            <a:chExt cx="8153640" cy="4056120"/>
          </a:xfrm>
        </p:grpSpPr>
        <p:pic>
          <p:nvPicPr>
            <p:cNvPr id="285" name="Picture 8" descr="C:\Program Files\Microsoft Office\Clipart\standard\stddir1\bd07223_.wmf"/>
            <p:cNvPicPr/>
            <p:nvPr/>
          </p:nvPicPr>
          <p:blipFill>
            <a:blip r:embed="rId2"/>
            <a:stretch/>
          </p:blipFill>
          <p:spPr>
            <a:xfrm>
              <a:off x="7238880" y="2801880"/>
              <a:ext cx="1295640" cy="1222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6" name="Group 9"/>
            <p:cNvGrpSpPr/>
            <p:nvPr/>
          </p:nvGrpSpPr>
          <p:grpSpPr>
            <a:xfrm>
              <a:off x="3428640" y="5516640"/>
              <a:ext cx="2725560" cy="1341360"/>
              <a:chOff x="3428640" y="5516640"/>
              <a:chExt cx="2725560" cy="1341360"/>
            </a:xfrm>
          </p:grpSpPr>
          <p:sp>
            <p:nvSpPr>
              <p:cNvPr id="287" name="Freeform 10"/>
              <p:cNvSpPr/>
              <p:nvPr/>
            </p:nvSpPr>
            <p:spPr>
              <a:xfrm flipH="1">
                <a:off x="3624840" y="6554520"/>
                <a:ext cx="128520" cy="44640"/>
              </a:xfrm>
              <a:prstGeom prst="pi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88" name="Freeform 11"/>
              <p:cNvSpPr/>
              <p:nvPr/>
            </p:nvSpPr>
            <p:spPr>
              <a:xfrm flipH="1">
                <a:off x="4820400" y="6664320"/>
                <a:ext cx="144360" cy="1886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89" name="Freeform 12"/>
              <p:cNvSpPr/>
              <p:nvPr/>
            </p:nvSpPr>
            <p:spPr>
              <a:xfrm flipH="1">
                <a:off x="4709160" y="6662520"/>
                <a:ext cx="195480" cy="193680"/>
              </a:xfrm>
              <a:prstGeom prst="pie">
                <a:avLst/>
              </a:prstGeom>
              <a:solidFill>
                <a:srgbClr val="8a99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90" name="Freeform 13"/>
              <p:cNvSpPr/>
              <p:nvPr/>
            </p:nvSpPr>
            <p:spPr>
              <a:xfrm flipH="1">
                <a:off x="4711320" y="6659640"/>
                <a:ext cx="149040" cy="176040"/>
              </a:xfrm>
              <a:prstGeom prst="pie">
                <a:avLst/>
              </a:prstGeom>
              <a:solidFill>
                <a:srgbClr val="c2d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91" name="Freeform 14"/>
              <p:cNvSpPr/>
              <p:nvPr/>
            </p:nvSpPr>
            <p:spPr>
              <a:xfrm flipH="1">
                <a:off x="3623760" y="6365880"/>
                <a:ext cx="520560" cy="1936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92" name="Freeform 15"/>
              <p:cNvSpPr/>
              <p:nvPr/>
            </p:nvSpPr>
            <p:spPr>
              <a:xfrm flipH="1">
                <a:off x="4104720" y="6456240"/>
                <a:ext cx="501840" cy="730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93" name="Freeform 16"/>
              <p:cNvSpPr/>
              <p:nvPr/>
            </p:nvSpPr>
            <p:spPr>
              <a:xfrm flipH="1">
                <a:off x="4517640" y="6307200"/>
                <a:ext cx="1636560" cy="4586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94" name="Freeform 17"/>
              <p:cNvSpPr/>
              <p:nvPr/>
            </p:nvSpPr>
            <p:spPr>
              <a:xfrm flipH="1">
                <a:off x="5525640" y="6511680"/>
                <a:ext cx="257040" cy="231840"/>
              </a:xfrm>
              <a:prstGeom prst="pie">
                <a:avLst/>
              </a:prstGeom>
              <a:solidFill>
                <a:srgbClr val="a86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95" name="Freeform 18"/>
              <p:cNvSpPr/>
              <p:nvPr/>
            </p:nvSpPr>
            <p:spPr>
              <a:xfrm flipH="1">
                <a:off x="5523480" y="6526080"/>
                <a:ext cx="257400" cy="228600"/>
              </a:xfrm>
              <a:prstGeom prst="pie">
                <a:avLst/>
              </a:prstGeom>
              <a:solidFill>
                <a:srgbClr val="824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96" name="Freeform 19"/>
              <p:cNvSpPr/>
              <p:nvPr/>
            </p:nvSpPr>
            <p:spPr>
              <a:xfrm flipH="1">
                <a:off x="4439520" y="6342120"/>
                <a:ext cx="1105200" cy="3571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97" name="Freeform 20"/>
              <p:cNvSpPr/>
              <p:nvPr/>
            </p:nvSpPr>
            <p:spPr>
              <a:xfrm flipH="1">
                <a:off x="4747320" y="6318000"/>
                <a:ext cx="741240" cy="227160"/>
              </a:xfrm>
              <a:prstGeom prst="pie">
                <a:avLst/>
              </a:pr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98" name="Freeform 21"/>
              <p:cNvSpPr/>
              <p:nvPr/>
            </p:nvSpPr>
            <p:spPr>
              <a:xfrm flipH="1">
                <a:off x="4566600" y="5859360"/>
                <a:ext cx="527040" cy="595440"/>
              </a:xfrm>
              <a:prstGeom prst="pie">
                <a:avLst/>
              </a:prstGeom>
              <a:solidFill>
                <a:srgbClr val="b0c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99" name="Freeform 22"/>
              <p:cNvSpPr/>
              <p:nvPr/>
            </p:nvSpPr>
            <p:spPr>
              <a:xfrm flipH="1">
                <a:off x="4703040" y="5870520"/>
                <a:ext cx="379080" cy="558720"/>
              </a:xfrm>
              <a:prstGeom prst="pie">
                <a:avLst/>
              </a:prstGeom>
              <a:solidFill>
                <a:srgbClr val="8a99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00" name="Freeform 23"/>
              <p:cNvSpPr/>
              <p:nvPr/>
            </p:nvSpPr>
            <p:spPr>
              <a:xfrm flipH="1">
                <a:off x="4709160" y="5940360"/>
                <a:ext cx="322200" cy="297000"/>
              </a:xfrm>
              <a:prstGeom prst="pi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01" name="Freeform 24"/>
              <p:cNvSpPr/>
              <p:nvPr/>
            </p:nvSpPr>
            <p:spPr>
              <a:xfrm flipH="1">
                <a:off x="4496400" y="6208560"/>
                <a:ext cx="104760" cy="19692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02" name="Freeform 25"/>
              <p:cNvSpPr/>
              <p:nvPr/>
            </p:nvSpPr>
            <p:spPr>
              <a:xfrm flipH="1">
                <a:off x="4996440" y="6178320"/>
                <a:ext cx="515880" cy="31608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03" name="Freeform 26"/>
              <p:cNvSpPr/>
              <p:nvPr/>
            </p:nvSpPr>
            <p:spPr>
              <a:xfrm flipH="1">
                <a:off x="4601520" y="5521320"/>
                <a:ext cx="671760" cy="507960"/>
              </a:xfrm>
              <a:prstGeom prst="pie">
                <a:avLst/>
              </a:pr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04" name="Freeform 27"/>
              <p:cNvSpPr/>
              <p:nvPr/>
            </p:nvSpPr>
            <p:spPr>
              <a:xfrm flipH="1">
                <a:off x="4582080" y="5962680"/>
                <a:ext cx="141480" cy="447480"/>
              </a:xfrm>
              <a:prstGeom prst="pie">
                <a:avLst/>
              </a:prstGeom>
              <a:solidFill>
                <a:srgbClr val="d4eb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05" name="Freeform 28"/>
              <p:cNvSpPr/>
              <p:nvPr/>
            </p:nvSpPr>
            <p:spPr>
              <a:xfrm flipH="1">
                <a:off x="4664880" y="5743440"/>
                <a:ext cx="74520" cy="106560"/>
              </a:xfrm>
              <a:prstGeom prst="pie">
                <a:avLst/>
              </a:pr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06" name="Freeform 29"/>
              <p:cNvSpPr/>
              <p:nvPr/>
            </p:nvSpPr>
            <p:spPr>
              <a:xfrm flipH="1">
                <a:off x="5015520" y="5645160"/>
                <a:ext cx="34920" cy="2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07" name="Freeform 30"/>
              <p:cNvSpPr/>
              <p:nvPr/>
            </p:nvSpPr>
            <p:spPr>
              <a:xfrm flipH="1">
                <a:off x="5068080" y="5886360"/>
                <a:ext cx="73080" cy="115920"/>
              </a:xfrm>
              <a:prstGeom prst="pie">
                <a:avLst/>
              </a:pr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08" name="Freeform 31"/>
              <p:cNvSpPr/>
              <p:nvPr/>
            </p:nvSpPr>
            <p:spPr>
              <a:xfrm flipH="1">
                <a:off x="4824000" y="5519520"/>
                <a:ext cx="95040" cy="95400"/>
              </a:xfrm>
              <a:prstGeom prst="pie">
                <a:avLst/>
              </a:pr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09" name="Freeform 32"/>
              <p:cNvSpPr/>
              <p:nvPr/>
            </p:nvSpPr>
            <p:spPr>
              <a:xfrm flipH="1">
                <a:off x="4874760" y="5667120"/>
                <a:ext cx="139680" cy="136800"/>
              </a:xfrm>
              <a:prstGeom prst="pie">
                <a:avLst/>
              </a:pr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10" name="Freeform 33"/>
              <p:cNvSpPr/>
              <p:nvPr/>
            </p:nvSpPr>
            <p:spPr>
              <a:xfrm flipH="1">
                <a:off x="5076360" y="5560920"/>
                <a:ext cx="102960" cy="130320"/>
              </a:xfrm>
              <a:prstGeom prst="pie">
                <a:avLst/>
              </a:pr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11" name="Freeform 34"/>
              <p:cNvSpPr/>
              <p:nvPr/>
            </p:nvSpPr>
            <p:spPr>
              <a:xfrm flipH="1">
                <a:off x="5119200" y="6094440"/>
                <a:ext cx="93600" cy="161640"/>
              </a:xfrm>
              <a:prstGeom prst="pie">
                <a:avLst/>
              </a:prstGeom>
              <a:solidFill>
                <a:srgbClr val="8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12" name="Freeform 35"/>
              <p:cNvSpPr/>
              <p:nvPr/>
            </p:nvSpPr>
            <p:spPr>
              <a:xfrm flipH="1">
                <a:off x="5084280" y="5603760"/>
                <a:ext cx="102960" cy="98280"/>
              </a:xfrm>
              <a:prstGeom prst="pie">
                <a:avLst/>
              </a:pr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13" name="Freeform 36"/>
              <p:cNvSpPr/>
              <p:nvPr/>
            </p:nvSpPr>
            <p:spPr>
              <a:xfrm flipH="1">
                <a:off x="5200200" y="6043680"/>
                <a:ext cx="162000" cy="210960"/>
              </a:xfrm>
              <a:prstGeom prst="pie">
                <a:avLst/>
              </a:prstGeom>
              <a:solidFill>
                <a:srgbClr val="a86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14" name="Freeform 37"/>
              <p:cNvSpPr/>
              <p:nvPr/>
            </p:nvSpPr>
            <p:spPr>
              <a:xfrm flipH="1">
                <a:off x="4947480" y="5607000"/>
                <a:ext cx="37800" cy="36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15" name="Freeform 38"/>
              <p:cNvSpPr/>
              <p:nvPr/>
            </p:nvSpPr>
            <p:spPr>
              <a:xfrm flipH="1">
                <a:off x="5117040" y="5978520"/>
                <a:ext cx="225720" cy="1634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16" name="Freeform 39"/>
              <p:cNvSpPr/>
              <p:nvPr/>
            </p:nvSpPr>
            <p:spPr>
              <a:xfrm flipH="1">
                <a:off x="5598360" y="6445080"/>
                <a:ext cx="37800" cy="30240"/>
              </a:xfrm>
              <a:prstGeom prst="pie">
                <a:avLst/>
              </a:pr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17" name="Freeform 40"/>
              <p:cNvSpPr/>
              <p:nvPr/>
            </p:nvSpPr>
            <p:spPr>
              <a:xfrm flipH="1">
                <a:off x="5074560" y="6065640"/>
                <a:ext cx="557280" cy="45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18" name="Freeform 41"/>
              <p:cNvSpPr/>
              <p:nvPr/>
            </p:nvSpPr>
            <p:spPr>
              <a:xfrm flipH="1">
                <a:off x="5356800" y="6056280"/>
                <a:ext cx="196920" cy="207720"/>
              </a:xfrm>
              <a:prstGeom prst="pie">
                <a:avLst/>
              </a:pr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19" name="Freeform 42"/>
              <p:cNvSpPr/>
              <p:nvPr/>
            </p:nvSpPr>
            <p:spPr>
              <a:xfrm flipH="1">
                <a:off x="5412960" y="5780160"/>
                <a:ext cx="139680" cy="330120"/>
              </a:xfrm>
              <a:prstGeom prst="pie">
                <a:avLst/>
              </a:prstGeom>
              <a:solidFill>
                <a:srgbClr val="5e75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20" name="Freeform 43"/>
              <p:cNvSpPr/>
              <p:nvPr/>
            </p:nvSpPr>
            <p:spPr>
              <a:xfrm flipH="1">
                <a:off x="5307840" y="5686200"/>
                <a:ext cx="58680" cy="50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21" name="Freeform 44"/>
              <p:cNvSpPr/>
              <p:nvPr/>
            </p:nvSpPr>
            <p:spPr>
              <a:xfrm flipH="1">
                <a:off x="5576400" y="6060960"/>
                <a:ext cx="79200" cy="204840"/>
              </a:xfrm>
              <a:prstGeom prst="pie">
                <a:avLst/>
              </a:prstGeom>
              <a:solidFill>
                <a:srgbClr val="ff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22" name="Freeform 45"/>
              <p:cNvSpPr/>
              <p:nvPr/>
            </p:nvSpPr>
            <p:spPr>
              <a:xfrm flipH="1">
                <a:off x="5616000" y="6189480"/>
                <a:ext cx="108000" cy="10656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23" name="Freeform 46"/>
              <p:cNvSpPr/>
              <p:nvPr/>
            </p:nvSpPr>
            <p:spPr>
              <a:xfrm flipH="1">
                <a:off x="5585400" y="6053040"/>
                <a:ext cx="163800" cy="139680"/>
              </a:xfrm>
              <a:prstGeom prst="pie">
                <a:avLst/>
              </a:prstGeom>
              <a:solidFill>
                <a:srgbClr val="ff00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24" name="Freeform 47"/>
              <p:cNvSpPr/>
              <p:nvPr/>
            </p:nvSpPr>
            <p:spPr>
              <a:xfrm flipH="1">
                <a:off x="5681160" y="5930640"/>
                <a:ext cx="71280" cy="16200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25" name="Freeform 48"/>
              <p:cNvSpPr/>
              <p:nvPr/>
            </p:nvSpPr>
            <p:spPr>
              <a:xfrm flipH="1">
                <a:off x="5735160" y="5943600"/>
                <a:ext cx="102960" cy="141120"/>
              </a:xfrm>
              <a:prstGeom prst="pie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26" name="Freeform 49"/>
              <p:cNvSpPr/>
              <p:nvPr/>
            </p:nvSpPr>
            <p:spPr>
              <a:xfrm flipH="1">
                <a:off x="5679360" y="5898960"/>
                <a:ext cx="122400" cy="77760"/>
              </a:xfrm>
              <a:prstGeom prst="pi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27" name="Freeform 50"/>
              <p:cNvSpPr/>
              <p:nvPr/>
            </p:nvSpPr>
            <p:spPr>
              <a:xfrm flipH="1">
                <a:off x="3434400" y="6234120"/>
                <a:ext cx="96840" cy="61920"/>
              </a:xfrm>
              <a:prstGeom prst="pie">
                <a:avLst/>
              </a:pr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28" name="Freeform 51"/>
              <p:cNvSpPr/>
              <p:nvPr/>
            </p:nvSpPr>
            <p:spPr>
              <a:xfrm flipH="1">
                <a:off x="3891600" y="6170400"/>
                <a:ext cx="65160" cy="50760"/>
              </a:xfrm>
              <a:prstGeom prst="pie">
                <a:avLst/>
              </a:pr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29" name="Freeform 52"/>
              <p:cNvSpPr/>
              <p:nvPr/>
            </p:nvSpPr>
            <p:spPr>
              <a:xfrm flipH="1">
                <a:off x="3456720" y="6065640"/>
                <a:ext cx="476280" cy="482760"/>
              </a:xfrm>
              <a:prstGeom prst="pie">
                <a:avLst/>
              </a:prstGeom>
              <a:solidFill>
                <a:srgbClr val="8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30" name="Freeform 53"/>
              <p:cNvSpPr/>
              <p:nvPr/>
            </p:nvSpPr>
            <p:spPr>
              <a:xfrm flipH="1">
                <a:off x="3584160" y="5835600"/>
                <a:ext cx="247680" cy="392040"/>
              </a:xfrm>
              <a:prstGeom prst="pie">
                <a:avLst/>
              </a:pr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31" name="Freeform 54"/>
              <p:cNvSpPr/>
              <p:nvPr/>
            </p:nvSpPr>
            <p:spPr>
              <a:xfrm flipH="1">
                <a:off x="3617280" y="5833800"/>
                <a:ext cx="209520" cy="393840"/>
              </a:xfrm>
              <a:prstGeom prst="pie">
                <a:avLst/>
              </a:pr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32" name="Freeform 55"/>
              <p:cNvSpPr/>
              <p:nvPr/>
            </p:nvSpPr>
            <p:spPr>
              <a:xfrm flipH="1">
                <a:off x="5316120" y="5683320"/>
                <a:ext cx="63360" cy="6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33" name="Freeform 56"/>
              <p:cNvSpPr/>
              <p:nvPr/>
            </p:nvSpPr>
            <p:spPr>
              <a:xfrm flipH="1">
                <a:off x="3682080" y="5788080"/>
                <a:ext cx="227160" cy="249120"/>
              </a:xfrm>
              <a:prstGeom prst="pie">
                <a:avLst/>
              </a:prstGeom>
              <a:solidFill>
                <a:srgbClr val="f0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34" name="Freeform 57"/>
              <p:cNvSpPr/>
              <p:nvPr/>
            </p:nvSpPr>
            <p:spPr>
              <a:xfrm flipH="1">
                <a:off x="5323680" y="5603760"/>
                <a:ext cx="3636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35" name="Freeform 58"/>
              <p:cNvSpPr/>
              <p:nvPr/>
            </p:nvSpPr>
            <p:spPr>
              <a:xfrm flipH="1">
                <a:off x="5244120" y="5627520"/>
                <a:ext cx="57240" cy="44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36" name="Freeform 59"/>
              <p:cNvSpPr/>
              <p:nvPr/>
            </p:nvSpPr>
            <p:spPr>
              <a:xfrm flipH="1">
                <a:off x="5368320" y="5624280"/>
                <a:ext cx="54000" cy="5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37" name="Freeform 60"/>
              <p:cNvSpPr/>
              <p:nvPr/>
            </p:nvSpPr>
            <p:spPr>
              <a:xfrm flipH="1">
                <a:off x="3511080" y="6535800"/>
                <a:ext cx="110880" cy="378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38" name="Freeform 61"/>
              <p:cNvSpPr/>
              <p:nvPr/>
            </p:nvSpPr>
            <p:spPr>
              <a:xfrm flipH="1">
                <a:off x="3537720" y="6146640"/>
                <a:ext cx="376200" cy="399960"/>
              </a:xfrm>
              <a:prstGeom prst="pie">
                <a:avLst/>
              </a:prstGeom>
              <a:solidFill>
                <a:srgbClr val="599e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39" name="Freeform 62"/>
              <p:cNvSpPr/>
              <p:nvPr/>
            </p:nvSpPr>
            <p:spPr>
              <a:xfrm flipH="1">
                <a:off x="3665160" y="5906880"/>
                <a:ext cx="79200" cy="3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40" name="Freeform 63"/>
              <p:cNvSpPr/>
              <p:nvPr/>
            </p:nvSpPr>
            <p:spPr>
              <a:xfrm flipH="1">
                <a:off x="5390640" y="5689440"/>
                <a:ext cx="7128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41" name="Freeform 64"/>
              <p:cNvSpPr/>
              <p:nvPr/>
            </p:nvSpPr>
            <p:spPr>
              <a:xfrm flipH="1">
                <a:off x="5223600" y="5680080"/>
                <a:ext cx="6516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42" name="Freeform 65"/>
              <p:cNvSpPr/>
              <p:nvPr/>
            </p:nvSpPr>
            <p:spPr>
              <a:xfrm flipH="1">
                <a:off x="5244120" y="5726160"/>
                <a:ext cx="42840" cy="4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43" name="Freeform 66"/>
              <p:cNvSpPr/>
              <p:nvPr/>
            </p:nvSpPr>
            <p:spPr>
              <a:xfrm flipH="1">
                <a:off x="3702960" y="5792760"/>
                <a:ext cx="208080" cy="242640"/>
              </a:xfrm>
              <a:prstGeom prst="pie">
                <a:avLst/>
              </a:pr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44" name="Freeform 67"/>
              <p:cNvSpPr/>
              <p:nvPr/>
            </p:nvSpPr>
            <p:spPr>
              <a:xfrm flipH="1">
                <a:off x="5292360" y="5754600"/>
                <a:ext cx="3168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45" name="Freeform 68"/>
              <p:cNvSpPr/>
              <p:nvPr/>
            </p:nvSpPr>
            <p:spPr>
              <a:xfrm flipH="1">
                <a:off x="5355360" y="5763960"/>
                <a:ext cx="34920" cy="5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46" name="Freeform 69"/>
              <p:cNvSpPr/>
              <p:nvPr/>
            </p:nvSpPr>
            <p:spPr>
              <a:xfrm flipH="1">
                <a:off x="5376240" y="5742000"/>
                <a:ext cx="200160" cy="52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47" name="Freeform 70"/>
              <p:cNvSpPr/>
              <p:nvPr/>
            </p:nvSpPr>
            <p:spPr>
              <a:xfrm flipH="1">
                <a:off x="5460480" y="6116400"/>
                <a:ext cx="39600" cy="44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48" name="Freeform 71"/>
              <p:cNvSpPr/>
              <p:nvPr/>
            </p:nvSpPr>
            <p:spPr>
              <a:xfrm flipH="1">
                <a:off x="5460120" y="6267240"/>
                <a:ext cx="176040" cy="19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49" name="Freeform 72"/>
              <p:cNvSpPr/>
              <p:nvPr/>
            </p:nvSpPr>
            <p:spPr>
              <a:xfrm flipH="1">
                <a:off x="5598360" y="6449760"/>
                <a:ext cx="37800" cy="3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50" name="Freeform 73"/>
              <p:cNvSpPr/>
              <p:nvPr/>
            </p:nvSpPr>
            <p:spPr>
              <a:xfrm flipH="1">
                <a:off x="5227200" y="6060960"/>
                <a:ext cx="109440" cy="16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51" name="Freeform 74"/>
              <p:cNvSpPr/>
              <p:nvPr/>
            </p:nvSpPr>
            <p:spPr>
              <a:xfrm flipH="1">
                <a:off x="5255280" y="6397560"/>
                <a:ext cx="211320" cy="14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52" name="Freeform 75"/>
              <p:cNvSpPr/>
              <p:nvPr/>
            </p:nvSpPr>
            <p:spPr>
              <a:xfrm flipH="1">
                <a:off x="5322240" y="6234120"/>
                <a:ext cx="13968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53" name="Freeform 76"/>
              <p:cNvSpPr/>
              <p:nvPr/>
            </p:nvSpPr>
            <p:spPr>
              <a:xfrm flipH="1">
                <a:off x="5316120" y="6267240"/>
                <a:ext cx="110880" cy="112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54" name="Freeform 77"/>
              <p:cNvSpPr/>
              <p:nvPr/>
            </p:nvSpPr>
            <p:spPr>
              <a:xfrm flipH="1">
                <a:off x="5152320" y="6286320"/>
                <a:ext cx="177840" cy="49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55" name="Freeform 78"/>
              <p:cNvSpPr/>
              <p:nvPr/>
            </p:nvSpPr>
            <p:spPr>
              <a:xfrm flipH="1">
                <a:off x="4965120" y="5583240"/>
                <a:ext cx="139680" cy="15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56" name="Freeform 79"/>
              <p:cNvSpPr/>
              <p:nvPr/>
            </p:nvSpPr>
            <p:spPr>
              <a:xfrm flipH="1">
                <a:off x="5093280" y="5586480"/>
                <a:ext cx="8748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57" name="Freeform 80"/>
              <p:cNvSpPr/>
              <p:nvPr/>
            </p:nvSpPr>
            <p:spPr>
              <a:xfrm flipH="1">
                <a:off x="5072760" y="5551560"/>
                <a:ext cx="95400" cy="72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58" name="Freeform 81"/>
              <p:cNvSpPr/>
              <p:nvPr/>
            </p:nvSpPr>
            <p:spPr>
              <a:xfrm flipH="1">
                <a:off x="4843080" y="5516640"/>
                <a:ext cx="11880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59" name="Freeform 82"/>
              <p:cNvSpPr/>
              <p:nvPr/>
            </p:nvSpPr>
            <p:spPr>
              <a:xfrm flipH="1">
                <a:off x="4887000" y="5545080"/>
                <a:ext cx="36360" cy="6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60" name="Freeform 83"/>
              <p:cNvSpPr/>
              <p:nvPr/>
            </p:nvSpPr>
            <p:spPr>
              <a:xfrm flipH="1">
                <a:off x="5676120" y="5897520"/>
                <a:ext cx="128520" cy="193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61" name="Freeform 84"/>
              <p:cNvSpPr/>
              <p:nvPr/>
            </p:nvSpPr>
            <p:spPr>
              <a:xfrm flipH="1">
                <a:off x="5749560" y="5943600"/>
                <a:ext cx="93600" cy="14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62" name="Freeform 85"/>
              <p:cNvSpPr/>
              <p:nvPr/>
            </p:nvSpPr>
            <p:spPr>
              <a:xfrm flipH="1">
                <a:off x="5569560" y="5924520"/>
                <a:ext cx="117720" cy="35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63" name="Freeform 86"/>
              <p:cNvSpPr/>
              <p:nvPr/>
            </p:nvSpPr>
            <p:spPr>
              <a:xfrm flipH="1">
                <a:off x="5579280" y="6049800"/>
                <a:ext cx="176040" cy="15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64" name="Freeform 87"/>
              <p:cNvSpPr/>
              <p:nvPr/>
            </p:nvSpPr>
            <p:spPr>
              <a:xfrm flipH="1">
                <a:off x="5612760" y="6184800"/>
                <a:ext cx="11448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65" name="Freeform 88"/>
              <p:cNvSpPr/>
              <p:nvPr/>
            </p:nvSpPr>
            <p:spPr>
              <a:xfrm flipH="1">
                <a:off x="5109480" y="5970600"/>
                <a:ext cx="239760" cy="18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66" name="Freeform 89"/>
              <p:cNvSpPr/>
              <p:nvPr/>
            </p:nvSpPr>
            <p:spPr>
              <a:xfrm flipH="1">
                <a:off x="5115960" y="6097320"/>
                <a:ext cx="177840" cy="169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67" name="Freeform 90"/>
              <p:cNvSpPr/>
              <p:nvPr/>
            </p:nvSpPr>
            <p:spPr>
              <a:xfrm flipH="1">
                <a:off x="5014440" y="5641920"/>
                <a:ext cx="3168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68" name="Freeform 91"/>
              <p:cNvSpPr/>
              <p:nvPr/>
            </p:nvSpPr>
            <p:spPr>
              <a:xfrm flipH="1">
                <a:off x="4947480" y="5603760"/>
                <a:ext cx="2844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69" name="Freeform 92"/>
              <p:cNvSpPr/>
              <p:nvPr/>
            </p:nvSpPr>
            <p:spPr>
              <a:xfrm flipH="1">
                <a:off x="4861800" y="5611680"/>
                <a:ext cx="184320" cy="20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70" name="Freeform 93"/>
              <p:cNvSpPr/>
              <p:nvPr/>
            </p:nvSpPr>
            <p:spPr>
              <a:xfrm flipH="1">
                <a:off x="4933080" y="5691240"/>
                <a:ext cx="3636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71" name="Freeform 94"/>
              <p:cNvSpPr/>
              <p:nvPr/>
            </p:nvSpPr>
            <p:spPr>
              <a:xfrm flipH="1">
                <a:off x="4902840" y="5718240"/>
                <a:ext cx="9540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72" name="Freeform 95"/>
              <p:cNvSpPr/>
              <p:nvPr/>
            </p:nvSpPr>
            <p:spPr>
              <a:xfrm flipH="1">
                <a:off x="5079240" y="5748120"/>
                <a:ext cx="199800" cy="14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73" name="Freeform 96"/>
              <p:cNvSpPr/>
              <p:nvPr/>
            </p:nvSpPr>
            <p:spPr>
              <a:xfrm flipH="1">
                <a:off x="5214240" y="5854680"/>
                <a:ext cx="2880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74" name="Freeform 97"/>
              <p:cNvSpPr/>
              <p:nvPr/>
            </p:nvSpPr>
            <p:spPr>
              <a:xfrm flipH="1">
                <a:off x="5174640" y="5864040"/>
                <a:ext cx="39600" cy="3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75" name="Freeform 98"/>
              <p:cNvSpPr/>
              <p:nvPr/>
            </p:nvSpPr>
            <p:spPr>
              <a:xfrm flipH="1">
                <a:off x="5144040" y="5859360"/>
                <a:ext cx="34920" cy="5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76" name="Freeform 99"/>
              <p:cNvSpPr/>
              <p:nvPr/>
            </p:nvSpPr>
            <p:spPr>
              <a:xfrm flipH="1">
                <a:off x="5095440" y="5825880"/>
                <a:ext cx="5544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77" name="Freeform 100"/>
              <p:cNvSpPr/>
              <p:nvPr/>
            </p:nvSpPr>
            <p:spPr>
              <a:xfrm flipH="1">
                <a:off x="5154120" y="584676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78" name="Freeform 101"/>
              <p:cNvSpPr/>
              <p:nvPr/>
            </p:nvSpPr>
            <p:spPr>
              <a:xfrm flipH="1">
                <a:off x="5044680" y="5798880"/>
                <a:ext cx="5544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79" name="Freeform 102"/>
              <p:cNvSpPr/>
              <p:nvPr/>
            </p:nvSpPr>
            <p:spPr>
              <a:xfrm flipH="1">
                <a:off x="5046120" y="5867280"/>
                <a:ext cx="114480" cy="18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80" name="Freeform 103"/>
              <p:cNvSpPr/>
              <p:nvPr/>
            </p:nvSpPr>
            <p:spPr>
              <a:xfrm flipH="1">
                <a:off x="4720320" y="5600520"/>
                <a:ext cx="136440" cy="5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81" name="Freeform 104"/>
              <p:cNvSpPr/>
              <p:nvPr/>
            </p:nvSpPr>
            <p:spPr>
              <a:xfrm flipH="1">
                <a:off x="4703040" y="5627520"/>
                <a:ext cx="4572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82" name="Freeform 105"/>
              <p:cNvSpPr/>
              <p:nvPr/>
            </p:nvSpPr>
            <p:spPr>
              <a:xfrm flipH="1">
                <a:off x="4703040" y="5651280"/>
                <a:ext cx="3492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83" name="Freeform 106"/>
              <p:cNvSpPr/>
              <p:nvPr/>
            </p:nvSpPr>
            <p:spPr>
              <a:xfrm flipH="1">
                <a:off x="4735080" y="5678280"/>
                <a:ext cx="6192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84" name="Freeform 107"/>
              <p:cNvSpPr/>
              <p:nvPr/>
            </p:nvSpPr>
            <p:spPr>
              <a:xfrm flipH="1">
                <a:off x="4671360" y="5672160"/>
                <a:ext cx="44640" cy="55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85" name="Freeform 108"/>
              <p:cNvSpPr/>
              <p:nvPr/>
            </p:nvSpPr>
            <p:spPr>
              <a:xfrm flipH="1">
                <a:off x="4635000" y="5686200"/>
                <a:ext cx="54000" cy="5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86" name="Freeform 109"/>
              <p:cNvSpPr/>
              <p:nvPr/>
            </p:nvSpPr>
            <p:spPr>
              <a:xfrm flipH="1">
                <a:off x="4620600" y="5702040"/>
                <a:ext cx="31680" cy="49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87" name="Freeform 110"/>
              <p:cNvSpPr/>
              <p:nvPr/>
            </p:nvSpPr>
            <p:spPr>
              <a:xfrm flipH="1">
                <a:off x="4600080" y="5722920"/>
                <a:ext cx="4608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88" name="Freeform 111"/>
              <p:cNvSpPr/>
              <p:nvPr/>
            </p:nvSpPr>
            <p:spPr>
              <a:xfrm flipH="1">
                <a:off x="4717440" y="5732280"/>
                <a:ext cx="39600" cy="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89" name="Freeform 112"/>
              <p:cNvSpPr/>
              <p:nvPr/>
            </p:nvSpPr>
            <p:spPr>
              <a:xfrm flipH="1">
                <a:off x="4745880" y="5753160"/>
                <a:ext cx="29880" cy="2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90" name="Freeform 113"/>
              <p:cNvSpPr/>
              <p:nvPr/>
            </p:nvSpPr>
            <p:spPr>
              <a:xfrm flipH="1">
                <a:off x="4650840" y="5761080"/>
                <a:ext cx="138240" cy="117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91" name="Freeform 114"/>
              <p:cNvSpPr/>
              <p:nvPr/>
            </p:nvSpPr>
            <p:spPr>
              <a:xfrm flipH="1">
                <a:off x="4553640" y="5854680"/>
                <a:ext cx="501480" cy="55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92" name="Freeform 115"/>
              <p:cNvSpPr/>
              <p:nvPr/>
            </p:nvSpPr>
            <p:spPr>
              <a:xfrm flipH="1">
                <a:off x="4692240" y="5919840"/>
                <a:ext cx="349200" cy="29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93" name="Freeform 116"/>
              <p:cNvSpPr/>
              <p:nvPr/>
            </p:nvSpPr>
            <p:spPr>
              <a:xfrm flipH="1">
                <a:off x="4712400" y="6219720"/>
                <a:ext cx="26676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94" name="Freeform 117"/>
              <p:cNvSpPr/>
              <p:nvPr/>
            </p:nvSpPr>
            <p:spPr>
              <a:xfrm flipH="1">
                <a:off x="4677840" y="5941800"/>
                <a:ext cx="54000" cy="28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95" name="Freeform 118"/>
              <p:cNvSpPr/>
              <p:nvPr/>
            </p:nvSpPr>
            <p:spPr>
              <a:xfrm flipH="1">
                <a:off x="4026960" y="6288120"/>
                <a:ext cx="411120" cy="13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96" name="Freeform 119"/>
              <p:cNvSpPr/>
              <p:nvPr/>
            </p:nvSpPr>
            <p:spPr>
              <a:xfrm flipH="1">
                <a:off x="4439160" y="6211800"/>
                <a:ext cx="1073160" cy="342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97" name="Freeform 120"/>
              <p:cNvSpPr/>
              <p:nvPr/>
            </p:nvSpPr>
            <p:spPr>
              <a:xfrm flipH="1">
                <a:off x="4737960" y="6014880"/>
                <a:ext cx="339480" cy="43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98" name="Freeform 121"/>
              <p:cNvSpPr/>
              <p:nvPr/>
            </p:nvSpPr>
            <p:spPr>
              <a:xfrm flipH="1">
                <a:off x="4779000" y="6323040"/>
                <a:ext cx="165240" cy="4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99" name="Freeform 122"/>
              <p:cNvSpPr/>
              <p:nvPr/>
            </p:nvSpPr>
            <p:spPr>
              <a:xfrm flipH="1">
                <a:off x="4887360" y="6286320"/>
                <a:ext cx="31680" cy="3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00" name="Freeform 123"/>
              <p:cNvSpPr/>
              <p:nvPr/>
            </p:nvSpPr>
            <p:spPr>
              <a:xfrm flipH="1">
                <a:off x="4446000" y="6387840"/>
                <a:ext cx="1092240" cy="33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01" name="Freeform 124"/>
              <p:cNvSpPr/>
              <p:nvPr/>
            </p:nvSpPr>
            <p:spPr>
              <a:xfrm flipH="1">
                <a:off x="5112720" y="6357960"/>
                <a:ext cx="163440" cy="16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02" name="Freeform 125"/>
              <p:cNvSpPr/>
              <p:nvPr/>
            </p:nvSpPr>
            <p:spPr>
              <a:xfrm flipH="1">
                <a:off x="5064840" y="6186240"/>
                <a:ext cx="66600" cy="19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03" name="Freeform 126"/>
              <p:cNvSpPr/>
              <p:nvPr/>
            </p:nvSpPr>
            <p:spPr>
              <a:xfrm flipH="1">
                <a:off x="3678840" y="5784840"/>
                <a:ext cx="235080" cy="258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04" name="Freeform 127"/>
              <p:cNvSpPr/>
              <p:nvPr/>
            </p:nvSpPr>
            <p:spPr>
              <a:xfrm flipH="1">
                <a:off x="3679200" y="6014880"/>
                <a:ext cx="144720" cy="5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05" name="Freeform 128"/>
              <p:cNvSpPr/>
              <p:nvPr/>
            </p:nvSpPr>
            <p:spPr>
              <a:xfrm flipH="1">
                <a:off x="3659760" y="5900760"/>
                <a:ext cx="8100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06" name="Freeform 129"/>
              <p:cNvSpPr/>
              <p:nvPr/>
            </p:nvSpPr>
            <p:spPr>
              <a:xfrm flipH="1">
                <a:off x="3685320" y="5911920"/>
                <a:ext cx="2052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07" name="Freeform 130"/>
              <p:cNvSpPr/>
              <p:nvPr/>
            </p:nvSpPr>
            <p:spPr>
              <a:xfrm flipH="1">
                <a:off x="3572640" y="5844960"/>
                <a:ext cx="10620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08" name="Freeform 131"/>
              <p:cNvSpPr/>
              <p:nvPr/>
            </p:nvSpPr>
            <p:spPr>
              <a:xfrm flipH="1">
                <a:off x="3656880" y="6072120"/>
                <a:ext cx="74520" cy="15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09" name="Freeform 132"/>
              <p:cNvSpPr/>
              <p:nvPr/>
            </p:nvSpPr>
            <p:spPr>
              <a:xfrm flipH="1">
                <a:off x="3758760" y="6070680"/>
                <a:ext cx="185760" cy="142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10" name="Freeform 133"/>
              <p:cNvSpPr/>
              <p:nvPr/>
            </p:nvSpPr>
            <p:spPr>
              <a:xfrm flipH="1">
                <a:off x="3753360" y="6175440"/>
                <a:ext cx="13212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11" name="Freeform 134"/>
              <p:cNvSpPr/>
              <p:nvPr/>
            </p:nvSpPr>
            <p:spPr>
              <a:xfrm flipH="1">
                <a:off x="3898440" y="6178320"/>
                <a:ext cx="6984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12" name="Freeform 135"/>
              <p:cNvSpPr/>
              <p:nvPr/>
            </p:nvSpPr>
            <p:spPr>
              <a:xfrm flipH="1">
                <a:off x="3739320" y="6199200"/>
                <a:ext cx="36360" cy="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13" name="Freeform 136"/>
              <p:cNvSpPr/>
              <p:nvPr/>
            </p:nvSpPr>
            <p:spPr>
              <a:xfrm flipH="1">
                <a:off x="3601080" y="6265800"/>
                <a:ext cx="190440" cy="30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14" name="Freeform 137"/>
              <p:cNvSpPr/>
              <p:nvPr/>
            </p:nvSpPr>
            <p:spPr>
              <a:xfrm flipH="1">
                <a:off x="3562920" y="6354720"/>
                <a:ext cx="103320" cy="12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15" name="Freeform 138"/>
              <p:cNvSpPr/>
              <p:nvPr/>
            </p:nvSpPr>
            <p:spPr>
              <a:xfrm flipH="1">
                <a:off x="3488400" y="6302160"/>
                <a:ext cx="127080" cy="19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16" name="Freeform 139"/>
              <p:cNvSpPr/>
              <p:nvPr/>
            </p:nvSpPr>
            <p:spPr>
              <a:xfrm flipH="1">
                <a:off x="3543840" y="6473880"/>
                <a:ext cx="4788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17" name="Freeform 140"/>
              <p:cNvSpPr/>
              <p:nvPr/>
            </p:nvSpPr>
            <p:spPr>
              <a:xfrm flipH="1">
                <a:off x="3438000" y="6073560"/>
                <a:ext cx="147600" cy="193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18" name="Freeform 141"/>
              <p:cNvSpPr/>
              <p:nvPr/>
            </p:nvSpPr>
            <p:spPr>
              <a:xfrm flipH="1">
                <a:off x="3428280" y="6246720"/>
                <a:ext cx="98280" cy="61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19" name="Freeform 142"/>
              <p:cNvSpPr/>
              <p:nvPr/>
            </p:nvSpPr>
            <p:spPr>
              <a:xfrm flipH="1">
                <a:off x="3911040" y="6216480"/>
                <a:ext cx="117360" cy="76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20" name="Freeform 143"/>
              <p:cNvSpPr/>
              <p:nvPr/>
            </p:nvSpPr>
            <p:spPr>
              <a:xfrm flipH="1">
                <a:off x="5348880" y="6053040"/>
                <a:ext cx="9540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21" name="Freeform 144"/>
              <p:cNvSpPr/>
              <p:nvPr/>
            </p:nvSpPr>
            <p:spPr>
              <a:xfrm flipH="1">
                <a:off x="5049360" y="6591240"/>
                <a:ext cx="146160" cy="155520"/>
              </a:xfrm>
              <a:prstGeom prst="pie">
                <a:avLst/>
              </a:pr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22" name="Freeform 145"/>
              <p:cNvSpPr/>
              <p:nvPr/>
            </p:nvSpPr>
            <p:spPr>
              <a:xfrm flipH="1">
                <a:off x="5044680" y="6586560"/>
                <a:ext cx="172800" cy="176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23" name="Freeform 146"/>
              <p:cNvSpPr/>
              <p:nvPr/>
            </p:nvSpPr>
            <p:spPr>
              <a:xfrm flipH="1">
                <a:off x="5079600" y="6626160"/>
                <a:ext cx="56880" cy="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24" name="Freeform 147"/>
              <p:cNvSpPr/>
              <p:nvPr/>
            </p:nvSpPr>
            <p:spPr>
              <a:xfrm flipH="1">
                <a:off x="4501440" y="6476760"/>
                <a:ext cx="130320" cy="138240"/>
              </a:xfrm>
              <a:prstGeom prst="pie">
                <a:avLst/>
              </a:pr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25" name="Freeform 148"/>
              <p:cNvSpPr/>
              <p:nvPr/>
            </p:nvSpPr>
            <p:spPr>
              <a:xfrm flipH="1">
                <a:off x="4496760" y="6473880"/>
                <a:ext cx="155520" cy="156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26" name="Freeform 149"/>
              <p:cNvSpPr/>
              <p:nvPr/>
            </p:nvSpPr>
            <p:spPr>
              <a:xfrm flipH="1">
                <a:off x="4528440" y="6508800"/>
                <a:ext cx="52560" cy="6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27" name="Freeform 150"/>
              <p:cNvSpPr/>
              <p:nvPr/>
            </p:nvSpPr>
            <p:spPr>
              <a:xfrm flipH="1">
                <a:off x="3613680" y="6289560"/>
                <a:ext cx="101880" cy="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28" name="Freeform 151"/>
              <p:cNvSpPr/>
              <p:nvPr/>
            </p:nvSpPr>
            <p:spPr>
              <a:xfrm flipH="1">
                <a:off x="5518800" y="6508800"/>
                <a:ext cx="274680" cy="25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29" name="Freeform 152"/>
              <p:cNvSpPr/>
              <p:nvPr/>
            </p:nvSpPr>
            <p:spPr>
              <a:xfrm flipH="1">
                <a:off x="5612400" y="6541920"/>
                <a:ext cx="73080" cy="41400"/>
              </a:xfrm>
              <a:prstGeom prst="pie">
                <a:avLst/>
              </a:prstGeom>
              <a:solidFill>
                <a:srgbClr val="cca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30" name="Freeform 153"/>
              <p:cNvSpPr/>
              <p:nvPr/>
            </p:nvSpPr>
            <p:spPr>
              <a:xfrm flipH="1">
                <a:off x="4804920" y="6000480"/>
                <a:ext cx="193680" cy="21924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31" name="Freeform 154"/>
              <p:cNvSpPr/>
              <p:nvPr/>
            </p:nvSpPr>
            <p:spPr>
              <a:xfrm flipH="1">
                <a:off x="4754160" y="6699240"/>
                <a:ext cx="15696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32" name="Freeform 155"/>
              <p:cNvSpPr/>
              <p:nvPr/>
            </p:nvSpPr>
            <p:spPr>
              <a:xfrm flipH="1">
                <a:off x="4705920" y="6694560"/>
                <a:ext cx="189000" cy="16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33" name="Freeform 156"/>
              <p:cNvSpPr/>
              <p:nvPr/>
            </p:nvSpPr>
            <p:spPr>
              <a:xfrm flipH="1">
                <a:off x="4712760" y="6656400"/>
                <a:ext cx="13968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34" name="Freeform 157"/>
              <p:cNvSpPr/>
              <p:nvPr/>
            </p:nvSpPr>
            <p:spPr>
              <a:xfrm flipH="1">
                <a:off x="4723920" y="6389640"/>
                <a:ext cx="226800" cy="27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35" name="Freeform 158"/>
              <p:cNvSpPr/>
              <p:nvPr/>
            </p:nvSpPr>
            <p:spPr>
              <a:xfrm flipH="1">
                <a:off x="3596400" y="6549840"/>
                <a:ext cx="182520" cy="61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36" name="Freeform 159"/>
              <p:cNvSpPr/>
              <p:nvPr/>
            </p:nvSpPr>
            <p:spPr>
              <a:xfrm flipH="1">
                <a:off x="3498480" y="6526080"/>
                <a:ext cx="149040" cy="5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</p:grpSp>
        <p:pic>
          <p:nvPicPr>
            <p:cNvPr id="437" name="Picture 160" descr="C:\Program Files\Microsoft Office\Clipart\standard\stddir4\pe02647_.wmf"/>
            <p:cNvPicPr/>
            <p:nvPr/>
          </p:nvPicPr>
          <p:blipFill>
            <a:blip r:embed="rId3"/>
            <a:stretch/>
          </p:blipFill>
          <p:spPr>
            <a:xfrm>
              <a:off x="380880" y="4984920"/>
              <a:ext cx="1828800" cy="162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8" name="AutoShape 161">
            <a:hlinkClick r:id="" action="ppaction://hlinkshowjump?jump=nextslide"/>
          </p:cNvPr>
          <p:cNvSpPr/>
          <p:nvPr/>
        </p:nvSpPr>
        <p:spPr>
          <a:xfrm>
            <a:off x="761364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39" name="AutoShape 162">
            <a:hlinkClick r:id="" action="ppaction://hlinkshowjump?jump=previousslide"/>
          </p:cNvPr>
          <p:cNvSpPr/>
          <p:nvPr/>
        </p:nvSpPr>
        <p:spPr>
          <a:xfrm>
            <a:off x="700416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40" name="Text Box 163"/>
          <p:cNvSpPr/>
          <p:nvPr/>
        </p:nvSpPr>
        <p:spPr>
          <a:xfrm>
            <a:off x="8604360" y="6400800"/>
            <a:ext cx="533160" cy="45972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0"/>
                            </p:stCondLst>
                            <p:childTnLst>
                              <p:par>
                                <p:cTn id="540" nodeType="after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FC41-A504-40A6-871F-BAA1B7125AE0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42" name="AutoShape 1026"/>
          <p:cNvSpPr/>
          <p:nvPr/>
        </p:nvSpPr>
        <p:spPr>
          <a:xfrm>
            <a:off x="304920" y="615960"/>
            <a:ext cx="2171520" cy="11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Представителем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торой научной школы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является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В.Джемс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43" name="AutoShape 1027"/>
          <p:cNvSpPr/>
          <p:nvPr/>
        </p:nvSpPr>
        <p:spPr>
          <a:xfrm>
            <a:off x="2514600" y="1219320"/>
            <a:ext cx="2333520" cy="22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c3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Ключевая позиция данной школы сводится к положению, при котором </a:t>
            </a:r>
            <a:r>
              <a:rPr b="1" i="1" lang="ru-RU" sz="1800" spc="-1" strike="noStrike" u="sng">
                <a:solidFill>
                  <a:srgbClr val="993300"/>
                </a:solidFill>
                <a:uFillTx/>
                <a:latin typeface="Arial"/>
              </a:rPr>
              <a:t>любое обучение развивает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pic>
        <p:nvPicPr>
          <p:cNvPr id="444" name="Picture 1028" descr="C:\Program Files\Microsoft Office\Clipart\smbusbas\bd07030_.wmf"/>
          <p:cNvPicPr/>
          <p:nvPr/>
        </p:nvPicPr>
        <p:blipFill>
          <a:blip r:embed="rId2"/>
          <a:stretch/>
        </p:blipFill>
        <p:spPr>
          <a:xfrm>
            <a:off x="2438280" y="4648320"/>
            <a:ext cx="2667240" cy="1985760"/>
          </a:xfrm>
          <a:prstGeom prst="rect">
            <a:avLst/>
          </a:prstGeom>
          <a:ln w="0">
            <a:noFill/>
          </a:ln>
        </p:spPr>
      </p:pic>
      <p:grpSp>
        <p:nvGrpSpPr>
          <p:cNvPr id="445" name="Group 1029"/>
          <p:cNvGrpSpPr/>
          <p:nvPr/>
        </p:nvGrpSpPr>
        <p:grpSpPr>
          <a:xfrm>
            <a:off x="4952880" y="609480"/>
            <a:ext cx="3940200" cy="6248520"/>
            <a:chOff x="4952880" y="609480"/>
            <a:chExt cx="3940200" cy="6248520"/>
          </a:xfrm>
        </p:grpSpPr>
        <p:sp>
          <p:nvSpPr>
            <p:cNvPr id="446" name="AutoShape 1030"/>
            <p:cNvSpPr/>
            <p:nvPr/>
          </p:nvSpPr>
          <p:spPr>
            <a:xfrm>
              <a:off x="4952880" y="1919160"/>
              <a:ext cx="3940200" cy="286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99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333333"/>
                  </a:solidFill>
                  <a:latin typeface="Arial"/>
                </a:rPr>
                <a:t>Основанием для ее выдвижения является практический опыт учителей, утверждающих, что позиция: "не знал - узнал,  не умел-научился", означает - развился. </a:t>
              </a:r>
              <a:endParaRPr b="0" lang="en-US" sz="1600" spc="-1" strike="noStrike">
                <a:solidFill>
                  <a:srgbClr val="333333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33333"/>
                  </a:solidFill>
                  <a:latin typeface="Arial"/>
                </a:rPr>
                <a:t>     </a:t>
              </a:r>
              <a:r>
                <a:rPr b="1" lang="ru-RU" sz="1600" spc="-1" strike="noStrike">
                  <a:solidFill>
                    <a:srgbClr val="333333"/>
                  </a:solidFill>
                  <a:latin typeface="Arial"/>
                </a:rPr>
                <a:t>Любые количественные изменения в состоянии учащегося, по позиции этой</a:t>
              </a:r>
              <a:r>
                <a:rPr b="1" lang="ru-RU" sz="18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333333"/>
                  </a:solidFill>
                  <a:latin typeface="Arial"/>
                </a:rPr>
                <a:t>школы, означают развитие.</a:t>
              </a:r>
              <a:endParaRPr b="0" lang="en-US" sz="16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pic>
          <p:nvPicPr>
            <p:cNvPr id="447" name="Picture 1031" descr="C:\Program Files\Microsoft Office\Clipart\standard\stddir2\en00685_.wmf"/>
            <p:cNvPicPr/>
            <p:nvPr/>
          </p:nvPicPr>
          <p:blipFill>
            <a:blip r:embed="rId3"/>
            <a:stretch/>
          </p:blipFill>
          <p:spPr>
            <a:xfrm>
              <a:off x="6029280" y="4889520"/>
              <a:ext cx="2666880" cy="19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1032" descr="C:\Program Files\Microsoft Office\Clipart\Pub60Cor\pe00014_.wmf"/>
            <p:cNvPicPr/>
            <p:nvPr/>
          </p:nvPicPr>
          <p:blipFill>
            <a:blip r:embed="rId4"/>
            <a:stretch/>
          </p:blipFill>
          <p:spPr>
            <a:xfrm>
              <a:off x="5800680" y="609480"/>
              <a:ext cx="2133360" cy="145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9" name="Picture 1033" descr="C:\Program Files\Microsoft Office\Clipart\homeanim\ag00020_.gif"/>
          <p:cNvPicPr/>
          <p:nvPr/>
        </p:nvPicPr>
        <p:blipFill>
          <a:blip r:embed="rId5"/>
          <a:stretch/>
        </p:blipFill>
        <p:spPr>
          <a:xfrm>
            <a:off x="0" y="2438280"/>
            <a:ext cx="3200400" cy="221004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1034">
            <a:hlinkClick r:id="" action="ppaction://hlinkshowjump?jump=nextslide"/>
          </p:cNvPr>
          <p:cNvSpPr/>
          <p:nvPr/>
        </p:nvSpPr>
        <p:spPr>
          <a:xfrm>
            <a:off x="762012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51" name="AutoShape 1035">
            <a:hlinkClick r:id="" action="ppaction://hlinkshowjump?jump=previousslide"/>
          </p:cNvPr>
          <p:cNvSpPr/>
          <p:nvPr/>
        </p:nvSpPr>
        <p:spPr>
          <a:xfrm>
            <a:off x="701028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52" name="Text Box 1036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9500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7" nodeType="afterEffect" fill="hold" presetClass="entr" presetID="2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FBC9-CA73-42A8-AA48-D6AAB717897A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pic>
        <p:nvPicPr>
          <p:cNvPr id="454" name="Picture 2" descr="C:\Program Files\Microsoft Office\Clipart\homeanim\ag00052_.gif"/>
          <p:cNvPicPr/>
          <p:nvPr/>
        </p:nvPicPr>
        <p:blipFill>
          <a:blip r:embed="rId2"/>
          <a:stretch/>
        </p:blipFill>
        <p:spPr>
          <a:xfrm>
            <a:off x="6318360" y="0"/>
            <a:ext cx="1371600" cy="857160"/>
          </a:xfrm>
          <a:prstGeom prst="rect">
            <a:avLst/>
          </a:prstGeom>
          <a:ln w="0">
            <a:noFill/>
          </a:ln>
        </p:spPr>
      </p:pic>
      <p:grpSp>
        <p:nvGrpSpPr>
          <p:cNvPr id="455" name="Group 3"/>
          <p:cNvGrpSpPr/>
          <p:nvPr/>
        </p:nvGrpSpPr>
        <p:grpSpPr>
          <a:xfrm>
            <a:off x="428760" y="0"/>
            <a:ext cx="5889600" cy="4554360"/>
            <a:chOff x="428760" y="0"/>
            <a:chExt cx="5889600" cy="4554360"/>
          </a:xfrm>
        </p:grpSpPr>
        <p:pic>
          <p:nvPicPr>
            <p:cNvPr id="456" name="Picture 4" descr="C:\Program Files\Microsoft Office\Clipart\standard\stddir2\bs01628_.wmf"/>
            <p:cNvPicPr/>
            <p:nvPr/>
          </p:nvPicPr>
          <p:blipFill>
            <a:blip r:embed="rId3"/>
            <a:stretch/>
          </p:blipFill>
          <p:spPr>
            <a:xfrm>
              <a:off x="1365480" y="0"/>
              <a:ext cx="4952880" cy="45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AutoShape 5"/>
            <p:cNvSpPr/>
            <p:nvPr/>
          </p:nvSpPr>
          <p:spPr>
            <a:xfrm>
              <a:off x="428760" y="214200"/>
              <a:ext cx="2347920" cy="2517480"/>
            </a:xfrm>
            <a:custGeom>
              <a:avLst/>
              <a:gdLst>
                <a:gd name="textAreaLeft" fmla="*/ 114480 w 2347920"/>
                <a:gd name="textAreaRight" fmla="*/ 2233440 w 2347920"/>
                <a:gd name="textAreaTop" fmla="*/ 114480 h 2517480"/>
                <a:gd name="textAreaBottom" fmla="*/ 2403000 h 2517480"/>
              </a:gdLst>
              <a:ahLst/>
              <a:rect l="textAreaLeft" t="textAreaTop" r="textAreaRight" b="textAreaBottom"/>
              <a:pathLst>
                <a:path w="21600" h="23160">
                  <a:moveTo>
                    <a:pt x="3600" y="0"/>
                  </a:moveTo>
                  <a:arcTo wR="3600" hR="3600" stAng="16200000" swAng="-5400000"/>
                  <a:lnTo>
                    <a:pt x="0" y="19560"/>
                  </a:lnTo>
                  <a:arcTo wR="3600" hR="3600" stAng="10800000" swAng="-5400000"/>
                  <a:lnTo>
                    <a:pt x="18000" y="23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50000">
                  <a:srgbClr val="ffffff"/>
                </a:gs>
                <a:gs pos="100000">
                  <a:srgbClr val="ffcc66"/>
                </a:gs>
              </a:gsLst>
              <a:lin ang="0"/>
            </a:gra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33"/>
                  </a:solidFill>
                  <a:latin typeface="Arial"/>
                </a:rPr>
                <a:t>Представители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третьей научной школы -</a:t>
              </a:r>
              <a:r>
                <a:rPr b="1" lang="ru-RU" sz="18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993300"/>
                  </a:solidFill>
                  <a:latin typeface="Arial"/>
                </a:rPr>
                <a:t>Л.С.Выготский, Н.А.Менчинская, К.Коффка</a:t>
              </a:r>
              <a:r>
                <a:rPr b="1" lang="ru-RU" sz="1800" spc="-1" strike="noStrike">
                  <a:solidFill>
                    <a:srgbClr val="333333"/>
                  </a:solidFill>
                  <a:latin typeface="Arial"/>
                </a:rPr>
                <a:t> предполагали, что</a:t>
              </a:r>
              <a:endParaRPr b="0" lang="en-US" sz="18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</p:grpSp>
      <p:sp>
        <p:nvSpPr>
          <p:cNvPr id="458" name="AutoShape 6"/>
          <p:cNvSpPr/>
          <p:nvPr/>
        </p:nvSpPr>
        <p:spPr>
          <a:xfrm>
            <a:off x="298440" y="2604960"/>
            <a:ext cx="3809880" cy="3965400"/>
          </a:xfrm>
          <a:custGeom>
            <a:avLst/>
            <a:gdLst>
              <a:gd name="textAreaLeft" fmla="*/ 185760 w 3809880"/>
              <a:gd name="textAreaRight" fmla="*/ 3624120 w 3809880"/>
              <a:gd name="textAreaTop" fmla="*/ 185760 h 3965400"/>
              <a:gd name="textAreaBottom" fmla="*/ 3779640 h 396540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3c3ff"/>
              </a:gs>
            </a:gsLst>
            <a:lin ang="5400000"/>
          </a:gra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3300"/>
                </a:solidFill>
                <a:uFillTx/>
                <a:latin typeface="Arial"/>
              </a:rPr>
              <a:t>обучение и развитие два независимых, но сопряженных процесса.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Согласно данному теоретическому положению,   обучение продвигает вперед развитие, а развитие подготавливает и делает возможным обучение. Крылатой фразой представителей данной школы является: "обучение забегает вперед развития"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grpSp>
        <p:nvGrpSpPr>
          <p:cNvPr id="459" name="Group 7"/>
          <p:cNvGrpSpPr/>
          <p:nvPr/>
        </p:nvGrpSpPr>
        <p:grpSpPr>
          <a:xfrm>
            <a:off x="4489560" y="0"/>
            <a:ext cx="4647600" cy="6215760"/>
            <a:chOff x="4489560" y="0"/>
            <a:chExt cx="4647600" cy="6215760"/>
          </a:xfrm>
        </p:grpSpPr>
        <p:pic>
          <p:nvPicPr>
            <p:cNvPr id="460" name="Picture 8" descr="C:\Program Files\Microsoft Office\Clipart\standard\stddir1\bd07213_.wmf"/>
            <p:cNvPicPr/>
            <p:nvPr/>
          </p:nvPicPr>
          <p:blipFill>
            <a:blip r:embed="rId4"/>
            <a:stretch/>
          </p:blipFill>
          <p:spPr>
            <a:xfrm>
              <a:off x="7945200" y="0"/>
              <a:ext cx="119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AutoShape 9"/>
            <p:cNvSpPr/>
            <p:nvPr/>
          </p:nvSpPr>
          <p:spPr>
            <a:xfrm>
              <a:off x="4489560" y="1179360"/>
              <a:ext cx="4174920" cy="5036400"/>
            </a:xfrm>
            <a:custGeom>
              <a:avLst/>
              <a:gdLst>
                <a:gd name="textAreaLeft" fmla="*/ 203760 w 4174920"/>
                <a:gd name="textAreaRight" fmla="*/ 3971160 w 4174920"/>
                <a:gd name="textAreaTop" fmla="*/ 203760 h 5036400"/>
                <a:gd name="textAreaBottom" fmla="*/ 4832640 h 5036400"/>
              </a:gdLst>
              <a:ahLst/>
              <a:rect l="textAreaLeft" t="textAreaTop" r="textAreaRight" b="textAreaBottom"/>
              <a:pathLst>
                <a:path w="21600" h="26057">
                  <a:moveTo>
                    <a:pt x="3600" y="0"/>
                  </a:moveTo>
                  <a:arcTo wR="3600" hR="3600" stAng="16200000" swAng="-5400000"/>
                  <a:lnTo>
                    <a:pt x="0" y="22457"/>
                  </a:lnTo>
                  <a:arcTo wR="3600" hR="3600" stAng="10800000" swAng="-5400000"/>
                  <a:lnTo>
                    <a:pt x="18000" y="260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99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3300"/>
                  </a:solidFill>
                  <a:latin typeface="Arial"/>
                </a:rPr>
                <a:t>Ключевой позицией данной школы является понимание смысла и сущности развития</a:t>
              </a:r>
              <a:r>
                <a:rPr b="1" lang="ru-RU" sz="1800" spc="-1" strike="noStrike">
                  <a:solidFill>
                    <a:srgbClr val="b3e1b3"/>
                  </a:solidFill>
                  <a:latin typeface="Arial"/>
                </a:rPr>
                <a:t>.</a:t>
              </a:r>
              <a:r>
                <a:rPr b="1" lang="ru-RU" sz="18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333333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33"/>
                  </a:solidFill>
                  <a:latin typeface="Arial"/>
                </a:rPr>
                <a:t>     </a:t>
              </a:r>
              <a:r>
                <a:rPr b="1" lang="ru-RU" sz="1600" spc="-1" strike="noStrike">
                  <a:solidFill>
                    <a:srgbClr val="333333"/>
                  </a:solidFill>
                  <a:latin typeface="Arial"/>
                </a:rPr>
                <a:t>В отличие от взглядов   других школ, под развитием понимается появление в учащемся не количественных изменений (мало-много знаний, мало-много умений), а появление в личности обучаемого качественных изменений, или, выражаясь языком психологов,    психических новообразований в психике обучаемого, или способностей. </a:t>
              </a:r>
              <a:r>
                <a:rPr b="1" lang="ru-RU" sz="1600" spc="-1" strike="noStrike" u="sng">
                  <a:solidFill>
                    <a:srgbClr val="333333"/>
                  </a:solidFill>
                  <a:uFillTx/>
                  <a:latin typeface="Arial"/>
                </a:rPr>
                <a:t>В рамках данной школы сформулированы условия, при которых обучение становится развивающим</a:t>
              </a:r>
              <a:r>
                <a:rPr b="1" lang="ru-RU" sz="1800" spc="-1" strike="noStrike" u="sng">
                  <a:solidFill>
                    <a:srgbClr val="333333"/>
                  </a:solidFill>
                  <a:uFillTx/>
                  <a:latin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</p:grpSp>
      <p:sp>
        <p:nvSpPr>
          <p:cNvPr id="462" name="AutoShape 10">
            <a:hlinkClick r:id="" action="ppaction://hlinkshowjump?jump=nextslide"/>
          </p:cNvPr>
          <p:cNvSpPr/>
          <p:nvPr/>
        </p:nvSpPr>
        <p:spPr>
          <a:xfrm>
            <a:off x="761364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63" name="AutoShape 11">
            <a:hlinkClick r:id="" action="ppaction://hlinkshowjump?jump=previousslide"/>
          </p:cNvPr>
          <p:cNvSpPr/>
          <p:nvPr/>
        </p:nvSpPr>
        <p:spPr>
          <a:xfrm>
            <a:off x="700416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64" name="Text Box 12"/>
          <p:cNvSpPr/>
          <p:nvPr/>
        </p:nvSpPr>
        <p:spPr>
          <a:xfrm>
            <a:off x="8604360" y="6400800"/>
            <a:ext cx="533160" cy="45972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7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5B63-9F95-43AC-B836-919C083FB049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grpSp>
        <p:nvGrpSpPr>
          <p:cNvPr id="466" name="Group 2"/>
          <p:cNvGrpSpPr/>
          <p:nvPr/>
        </p:nvGrpSpPr>
        <p:grpSpPr>
          <a:xfrm>
            <a:off x="1295280" y="533520"/>
            <a:ext cx="6933960" cy="5867280"/>
            <a:chOff x="1295280" y="533520"/>
            <a:chExt cx="6933960" cy="5867280"/>
          </a:xfrm>
        </p:grpSpPr>
        <p:sp>
          <p:nvSpPr>
            <p:cNvPr id="467" name="Freeform 3"/>
            <p:cNvSpPr/>
            <p:nvPr/>
          </p:nvSpPr>
          <p:spPr>
            <a:xfrm>
              <a:off x="1295280" y="533520"/>
              <a:ext cx="6933960" cy="586728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3240">
              <a:solidFill>
                <a:srgbClr val="3333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468" name="Text Box 4"/>
            <p:cNvSpPr/>
            <p:nvPr/>
          </p:nvSpPr>
          <p:spPr>
            <a:xfrm>
              <a:off x="3200040" y="2361960"/>
              <a:ext cx="28958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cc"/>
                  </a:solidFill>
                  <a:latin typeface="Arial"/>
                </a:rPr>
                <a:t>Образовательное пространство становится развивающим, если…</a:t>
              </a:r>
              <a:endParaRPr b="0" lang="en-US" sz="20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</p:grpSp>
      <p:sp>
        <p:nvSpPr>
          <p:cNvPr id="469" name="AutoShape 5"/>
          <p:cNvSpPr/>
          <p:nvPr/>
        </p:nvSpPr>
        <p:spPr>
          <a:xfrm>
            <a:off x="228600" y="228600"/>
            <a:ext cx="3581280" cy="1554120"/>
          </a:xfrm>
          <a:prstGeom prst="wedgeRectCallout">
            <a:avLst>
              <a:gd name="adj1" fmla="val 63203"/>
              <a:gd name="adj2" fmla="val 84759"/>
            </a:avLst>
          </a:prstGeom>
          <a:gradFill rotWithShape="0">
            <a:gsLst>
              <a:gs pos="0">
                <a:srgbClr val="ff8d8d"/>
              </a:gs>
              <a:gs pos="50000">
                <a:srgbClr val="ffffff"/>
              </a:gs>
              <a:gs pos="100000">
                <a:srgbClr val="ff8d8d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955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1. мотивировать ученика,    вызывать личностный   интерес для освоения учебной деятельности, для участия е воспитательных событиях школы;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70" name="AutoShape 6"/>
          <p:cNvSpPr/>
          <p:nvPr/>
        </p:nvSpPr>
        <p:spPr>
          <a:xfrm>
            <a:off x="4870440" y="228600"/>
            <a:ext cx="4114800" cy="1585080"/>
          </a:xfrm>
          <a:prstGeom prst="wedgeRectCallout">
            <a:avLst>
              <a:gd name="adj1" fmla="val -49504"/>
              <a:gd name="adj2" fmla="val 79652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9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2. создавать психологический комфорт ученика, создавать условия для возникновения реальной «ситуации успеха» учащегося в образовательном пространстве учебного заведения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71" name="AutoShape 7"/>
          <p:cNvSpPr/>
          <p:nvPr/>
        </p:nvSpPr>
        <p:spPr>
          <a:xfrm>
            <a:off x="228600" y="1905120"/>
            <a:ext cx="3056040" cy="1797480"/>
          </a:xfrm>
          <a:prstGeom prst="wedgeRectCallout">
            <a:avLst>
              <a:gd name="adj1" fmla="val 64592"/>
              <a:gd name="adj2" fmla="val 36763"/>
            </a:avLst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3. создавать среду для развития мыслительных способностей учеников через овладение определенными мыслительными операциями,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72" name="AutoShape 8"/>
          <p:cNvSpPr/>
          <p:nvPr/>
        </p:nvSpPr>
        <p:spPr>
          <a:xfrm>
            <a:off x="5784840" y="1981080"/>
            <a:ext cx="3200400" cy="1554120"/>
          </a:xfrm>
          <a:prstGeom prst="wedgeRectCallout">
            <a:avLst>
              <a:gd name="adj1" fmla="val -60009"/>
              <a:gd name="adj2" fmla="val 29638"/>
            </a:avLst>
          </a:pr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4. строить на применении в образовательном пространстве школы группы проблемных методов, эвристических, рефлексивных;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73" name="AutoShape 9"/>
          <p:cNvSpPr/>
          <p:nvPr/>
        </p:nvSpPr>
        <p:spPr>
          <a:xfrm>
            <a:off x="222120" y="3851280"/>
            <a:ext cx="3733920" cy="1797480"/>
          </a:xfrm>
          <a:prstGeom prst="wedgeRectCallout">
            <a:avLst>
              <a:gd name="adj1" fmla="val 69421"/>
              <a:gd name="adj2" fmla="val -48078"/>
            </a:avLst>
          </a:prstGeom>
          <a:gradFill rotWithShape="0">
            <a:gsLst>
              <a:gs pos="0">
                <a:srgbClr val="c3efff"/>
              </a:gs>
              <a:gs pos="50000">
                <a:srgbClr val="ffffff"/>
              </a:gs>
              <a:gs pos="100000">
                <a:srgbClr val="c3e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58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5. построено на фундаменте применения в учебно-воспитательном процессе субъект -субъектного характера взаимоотношений, использовании групповых форм организации учебного прогресса;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74" name="AutoShape 10"/>
          <p:cNvSpPr/>
          <p:nvPr/>
        </p:nvSpPr>
        <p:spPr>
          <a:xfrm>
            <a:off x="1517760" y="5562720"/>
            <a:ext cx="6629400" cy="1437120"/>
          </a:xfrm>
          <a:prstGeom prst="wedgeRectCallout">
            <a:avLst>
              <a:gd name="adj1" fmla="val 736"/>
              <a:gd name="adj2" fmla="val -210555"/>
            </a:avLst>
          </a:prstGeom>
          <a:gradFill rotWithShape="0">
            <a:gsLst>
              <a:gs pos="0">
                <a:srgbClr val="bdd7e5"/>
              </a:gs>
              <a:gs pos="50000">
                <a:srgbClr val="ffffff"/>
              </a:gs>
              <a:gs pos="100000">
                <a:srgbClr val="bdd7e5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181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7. проектируется  с опорой на зону ближайшего развития ученика и осуществляется  перевод в зону ближайшего развития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Другими словами, обучение должно создавать зону затруднений для учащихся. 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75" name="AutoShape 11"/>
          <p:cNvSpPr/>
          <p:nvPr/>
        </p:nvSpPr>
        <p:spPr>
          <a:xfrm>
            <a:off x="6502320" y="3733920"/>
            <a:ext cx="2482920" cy="1797480"/>
          </a:xfrm>
          <a:prstGeom prst="wedgeRectCallout">
            <a:avLst>
              <a:gd name="adj1" fmla="val -93212"/>
              <a:gd name="adj2" fmla="val -67236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1f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6. обеспечивается организация  поисковой продуктивной деятельности учащихся на занятиях;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76" name="AutoShape 12">
            <a:hlinkClick r:id="" action="ppaction://hlinkshowjump?jump=nextslide"/>
          </p:cNvPr>
          <p:cNvSpPr/>
          <p:nvPr/>
        </p:nvSpPr>
        <p:spPr>
          <a:xfrm>
            <a:off x="761364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77" name="AutoShape 13">
            <a:hlinkClick r:id="" action="ppaction://hlinkshowjump?jump=previousslide"/>
          </p:cNvPr>
          <p:cNvSpPr/>
          <p:nvPr/>
        </p:nvSpPr>
        <p:spPr>
          <a:xfrm>
            <a:off x="700416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78" name="Text Box 14"/>
          <p:cNvSpPr/>
          <p:nvPr/>
        </p:nvSpPr>
        <p:spPr>
          <a:xfrm>
            <a:off x="8604360" y="6400800"/>
            <a:ext cx="533160" cy="45972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FA3F-EED0-40A2-97CA-5E58F473255E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80" name="AutoShape 2"/>
          <p:cNvSpPr/>
          <p:nvPr/>
        </p:nvSpPr>
        <p:spPr>
          <a:xfrm>
            <a:off x="603360" y="898560"/>
            <a:ext cx="2209680" cy="192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3240">
            <a:solidFill>
              <a:srgbClr val="333333"/>
            </a:solidFill>
            <a:miter/>
          </a:ln>
          <a:effectLst>
            <a:outerShdw dist="107932" dir="2700000" blurRad="0" rotWithShape="0">
              <a:srgbClr val="00b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ставят акценты 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в развитии потребностно -мотивационной сферы учащегося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81" name="AutoShape 3"/>
          <p:cNvSpPr/>
          <p:nvPr/>
        </p:nvSpPr>
        <p:spPr>
          <a:xfrm>
            <a:off x="681120" y="3014640"/>
            <a:ext cx="5406840" cy="1623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9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В эмоционально-волевой сфере выделяют  значимость осознания личностного смысла и цели учения, выбора ситуации и пространства   «успеха» в деле, деятельности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grpSp>
        <p:nvGrpSpPr>
          <p:cNvPr id="482" name="Group 4"/>
          <p:cNvGrpSpPr/>
          <p:nvPr/>
        </p:nvGrpSpPr>
        <p:grpSpPr>
          <a:xfrm>
            <a:off x="2851200" y="609120"/>
            <a:ext cx="3429000" cy="2514600"/>
            <a:chOff x="2851200" y="609120"/>
            <a:chExt cx="3429000" cy="2514600"/>
          </a:xfrm>
        </p:grpSpPr>
        <p:sp>
          <p:nvSpPr>
            <p:cNvPr id="483" name="AutoShape 5"/>
            <p:cNvSpPr/>
            <p:nvPr/>
          </p:nvSpPr>
          <p:spPr>
            <a:xfrm flipV="1">
              <a:off x="2851200" y="608400"/>
              <a:ext cx="3429000" cy="251460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3240">
              <a:solidFill>
                <a:srgbClr val="333333"/>
              </a:solidFill>
              <a:miter/>
            </a:ln>
            <a:effectLst>
              <a:outerShdw dist="107932" dir="2700000" blurRad="0" rotWithShape="0">
                <a:srgbClr val="00b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484" name="Rectangle 6"/>
            <p:cNvSpPr/>
            <p:nvPr/>
          </p:nvSpPr>
          <p:spPr>
            <a:xfrm>
              <a:off x="3498840" y="912960"/>
              <a:ext cx="2133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33"/>
                  </a:solidFill>
                  <a:latin typeface="Arial"/>
                </a:rPr>
                <a:t>Новые образовательные цели</a:t>
              </a:r>
              <a:endParaRPr b="0" lang="en-US" sz="18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</p:grpSp>
      <p:sp>
        <p:nvSpPr>
          <p:cNvPr id="485" name="WordArt 7"/>
          <p:cNvSpPr txBox="1"/>
          <p:nvPr/>
        </p:nvSpPr>
        <p:spPr>
          <a:xfrm>
            <a:off x="3498840" y="380880"/>
            <a:ext cx="2057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школ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86" name="AutoShape 8"/>
          <p:cNvSpPr/>
          <p:nvPr/>
        </p:nvSpPr>
        <p:spPr>
          <a:xfrm>
            <a:off x="1828800" y="4648320"/>
            <a:ext cx="6775560" cy="192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акценты ставятся на   овладение учениками методологическими знаниями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, т.е., знаниями о знаниях, которые позволяют  самостоятельно открывать неизвестные для себя свойства, особенности, закономерности и пр., находить способы поведения и деятельности в проблемной ситуации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87" name="AutoShape 9">
            <a:hlinkClick r:id="" action="ppaction://hlinkshowjump?jump=nextslide"/>
          </p:cNvPr>
          <p:cNvSpPr/>
          <p:nvPr/>
        </p:nvSpPr>
        <p:spPr>
          <a:xfrm>
            <a:off x="761364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88" name="AutoShape 10">
            <a:hlinkClick r:id="" action="ppaction://hlinkshowjump?jump=previousslide"/>
          </p:cNvPr>
          <p:cNvSpPr/>
          <p:nvPr/>
        </p:nvSpPr>
        <p:spPr>
          <a:xfrm>
            <a:off x="700416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89" name="Text Box 11"/>
          <p:cNvSpPr/>
          <p:nvPr/>
        </p:nvSpPr>
        <p:spPr>
          <a:xfrm>
            <a:off x="8604360" y="6400800"/>
            <a:ext cx="533160" cy="45972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90" name="AutoShape 12"/>
          <p:cNvSpPr/>
          <p:nvPr/>
        </p:nvSpPr>
        <p:spPr>
          <a:xfrm>
            <a:off x="7232760" y="3352680"/>
            <a:ext cx="380880" cy="1295640"/>
          </a:xfrm>
          <a:prstGeom prst="downArrow">
            <a:avLst>
              <a:gd name="adj1" fmla="val 50000"/>
              <a:gd name="adj2" fmla="val 85043"/>
            </a:avLst>
          </a:prstGeom>
          <a:gradFill rotWithShape="0">
            <a:gsLst>
              <a:gs pos="0">
                <a:srgbClr val="a9bda9"/>
              </a:gs>
              <a:gs pos="100000">
                <a:srgbClr val="3dff3d"/>
              </a:gs>
            </a:gsLst>
            <a:lin ang="5400000"/>
          </a:gra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00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91" name="AutoShape 13"/>
          <p:cNvSpPr/>
          <p:nvPr/>
        </p:nvSpPr>
        <p:spPr>
          <a:xfrm>
            <a:off x="6292800" y="888840"/>
            <a:ext cx="2463840" cy="2529000"/>
          </a:xfrm>
          <a:custGeom>
            <a:avLst/>
            <a:gdLst>
              <a:gd name="textAreaLeft" fmla="*/ 120240 w 2463840"/>
              <a:gd name="textAreaRight" fmla="*/ 2343600 w 2463840"/>
              <a:gd name="textAreaTop" fmla="*/ 120240 h 2529000"/>
              <a:gd name="textAreaBottom" fmla="*/ 2408760 h 2529000"/>
            </a:gdLst>
            <a:ahLst/>
            <a:rect l="textAreaLeft" t="textAreaTop" r="textAreaRight" b="textAreaBottom"/>
            <a:pathLst>
              <a:path w="21600" h="22171">
                <a:moveTo>
                  <a:pt x="3600" y="0"/>
                </a:moveTo>
                <a:arcTo wR="3600" hR="3600" stAng="16200000" swAng="-5400000"/>
                <a:lnTo>
                  <a:pt x="0" y="18571"/>
                </a:lnTo>
                <a:arcTo wR="3600" hR="3600" stAng="10800000" swAng="-5400000"/>
                <a:lnTo>
                  <a:pt x="18000" y="221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3240">
            <a:solidFill>
              <a:srgbClr val="333333"/>
            </a:solidFill>
            <a:miter/>
          </a:ln>
          <a:effectLst>
            <a:outerShdw dist="107932" dir="2700000" blurRad="0" rotWithShape="0">
              <a:srgbClr val="00b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В области креативного мышления определяют роль приобретения средств мыслительной деятельности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pic>
        <p:nvPicPr>
          <p:cNvPr id="492" name="Picture 14" descr="C:\Program Files\Microsoft Office\Clipart\standard\stddir1\bd06652_.wmf"/>
          <p:cNvPicPr/>
          <p:nvPr/>
        </p:nvPicPr>
        <p:blipFill>
          <a:blip r:embed="rId5"/>
          <a:stretch/>
        </p:blipFill>
        <p:spPr>
          <a:xfrm>
            <a:off x="679320" y="4648320"/>
            <a:ext cx="160344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500"/>
                            </p:stCondLst>
                            <p:childTnLst>
                              <p:par>
                                <p:cTn id="652" nodeType="after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6" nodeType="afterEffect" fill="hold" presetClass="entr" presetID="1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85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3000"/>
                            </p:stCondLst>
                            <p:childTnLst>
                              <p:par>
                                <p:cTn id="6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AB78-ADBE-47F0-B5F4-BC5B7791E47B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94" name="AutoShape 2"/>
          <p:cNvSpPr/>
          <p:nvPr/>
        </p:nvSpPr>
        <p:spPr>
          <a:xfrm>
            <a:off x="5099040" y="309600"/>
            <a:ext cx="3808440" cy="4602960"/>
          </a:xfrm>
          <a:custGeom>
            <a:avLst/>
            <a:gdLst>
              <a:gd name="textAreaLeft" fmla="*/ 185760 w 3808440"/>
              <a:gd name="textAreaRight" fmla="*/ 3622680 w 3808440"/>
              <a:gd name="textAreaTop" fmla="*/ 185760 h 4602960"/>
              <a:gd name="textAreaBottom" fmla="*/ 4417200 h 4602960"/>
            </a:gdLst>
            <a:ahLst/>
            <a:rect l="textAreaLeft" t="textAreaTop" r="textAreaRight" b="textAreaBottom"/>
            <a:pathLst>
              <a:path w="21600" h="26106">
                <a:moveTo>
                  <a:pt x="3600" y="0"/>
                </a:moveTo>
                <a:arcTo wR="3600" hR="3600" stAng="16200000" swAng="-5400000"/>
                <a:lnTo>
                  <a:pt x="0" y="22506"/>
                </a:lnTo>
                <a:arcTo wR="3600" hR="3600" stAng="10800000" swAng="-5400000"/>
                <a:lnTo>
                  <a:pt x="18000" y="261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6480">
            <a:solidFill>
              <a:srgbClr val="333333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оздавать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для каждого ученика своеобразный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"банк ситуаций успеха",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т.е. таких учебных действий, в которых обучаемый чувствует себя победителем, покорителем трудной вершины, первопроходцем 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Важно, чтобы каждый ученик прожил ситуацию заслуженного успеха, пусть маленькой, но его личной победы, за счет которой он может самоутвердиться в своих глазах и в глазах сверстников;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95" name="AutoShape 3"/>
          <p:cNvSpPr/>
          <p:nvPr/>
        </p:nvSpPr>
        <p:spPr>
          <a:xfrm>
            <a:off x="1898640" y="4699080"/>
            <a:ext cx="6858000" cy="226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a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33"/>
                </a:solidFill>
                <a:uFillTx/>
                <a:latin typeface="Arial"/>
              </a:rPr>
              <a:t>2.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     реализовать принцип относительной успешности.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При оценивании учебных действий в пространстве урока или внеурочных мероприятий оценивать не конечный результат, а процесс его получения. Ученики сравниваются не друг с другом в плане правильности и четкости выполнения каких-то действий, а сравниваются вчерашние достижения одного ученика с его сегодняшними результатами деятельности;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85680" y="138240"/>
            <a:ext cx="4784760" cy="466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В учебном процессе могут быть смоделированы ситуации, проблемные для обучаемых, которые они не в состоянии решить репродуктивным образом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Для решения этих ситуаций ученику требуются размышления, коллективные обсуждения, выдвижение гипотез и их проверка, обращение к дополнительной литературе, консультация и помощь педагога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учебном процессе 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для эффективного развития обучаемого важно: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97" name="AutoShape 5">
            <a:hlinkClick r:id="" action="ppaction://hlinkshowjump?jump=nextslide"/>
          </p:cNvPr>
          <p:cNvSpPr/>
          <p:nvPr/>
        </p:nvSpPr>
        <p:spPr>
          <a:xfrm>
            <a:off x="761364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98" name="AutoShape 6">
            <a:hlinkClick r:id="" action="ppaction://hlinkshowjump?jump=previousslide"/>
          </p:cNvPr>
          <p:cNvSpPr/>
          <p:nvPr/>
        </p:nvSpPr>
        <p:spPr>
          <a:xfrm>
            <a:off x="700416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8604360" y="6400800"/>
            <a:ext cx="533160" cy="45972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500" name="AutoShape 8"/>
          <p:cNvSpPr/>
          <p:nvPr/>
        </p:nvSpPr>
        <p:spPr>
          <a:xfrm>
            <a:off x="4565520" y="213372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501" name="AutoShape 9"/>
          <p:cNvSpPr/>
          <p:nvPr/>
        </p:nvSpPr>
        <p:spPr>
          <a:xfrm>
            <a:off x="4260960" y="42670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0"/>
          </a:gra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330120" y="4968720"/>
            <a:ext cx="1442880" cy="1382760"/>
            <a:chOff x="330120" y="4968720"/>
            <a:chExt cx="1442880" cy="1382760"/>
          </a:xfrm>
        </p:grpSpPr>
        <p:sp>
          <p:nvSpPr>
            <p:cNvPr id="503" name="Freeform 11"/>
            <p:cNvSpPr/>
            <p:nvPr/>
          </p:nvSpPr>
          <p:spPr>
            <a:xfrm>
              <a:off x="330120" y="4981680"/>
              <a:ext cx="571320" cy="39996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342720" y="5840280"/>
              <a:ext cx="1424160" cy="506520"/>
            </a:xfrm>
            <a:prstGeom prst="pie">
              <a:avLst/>
            </a:prstGeom>
            <a:solidFill>
              <a:srgbClr val="3df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36600" y="4968720"/>
              <a:ext cx="1436400" cy="138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1635120" y="5856120"/>
              <a:ext cx="122040" cy="381240"/>
            </a:xfrm>
            <a:prstGeom prst="pie">
              <a:avLst/>
            </a:prstGeom>
            <a:solidFill>
              <a:srgbClr val="3df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1108080" y="4997520"/>
              <a:ext cx="18576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06200" y="5056200"/>
              <a:ext cx="379440" cy="328680"/>
            </a:xfrm>
            <a:prstGeom prst="pie">
              <a:avLst/>
            </a:prstGeom>
            <a:solidFill>
              <a:srgbClr val="ff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1155600" y="5091120"/>
              <a:ext cx="8244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347400" y="5143680"/>
              <a:ext cx="33516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1317600" y="5157720"/>
              <a:ext cx="25200" cy="2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12" name="Freeform 20"/>
            <p:cNvSpPr/>
            <p:nvPr/>
          </p:nvSpPr>
          <p:spPr>
            <a:xfrm>
              <a:off x="1197000" y="5143680"/>
              <a:ext cx="2520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13" name="Freeform 21"/>
            <p:cNvSpPr/>
            <p:nvPr/>
          </p:nvSpPr>
          <p:spPr>
            <a:xfrm>
              <a:off x="1269720" y="5199120"/>
              <a:ext cx="460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14" name="Freeform 22"/>
            <p:cNvSpPr/>
            <p:nvPr/>
          </p:nvSpPr>
          <p:spPr>
            <a:xfrm>
              <a:off x="1015920" y="5200560"/>
              <a:ext cx="25200" cy="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15" name="Freeform 23"/>
            <p:cNvSpPr/>
            <p:nvPr/>
          </p:nvSpPr>
          <p:spPr>
            <a:xfrm>
              <a:off x="341280" y="5248440"/>
              <a:ext cx="16020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16" name="Freeform 24"/>
            <p:cNvSpPr/>
            <p:nvPr/>
          </p:nvSpPr>
          <p:spPr>
            <a:xfrm>
              <a:off x="1199880" y="5284800"/>
              <a:ext cx="8748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17" name="Freeform 25"/>
            <p:cNvSpPr/>
            <p:nvPr/>
          </p:nvSpPr>
          <p:spPr>
            <a:xfrm>
              <a:off x="731880" y="5364000"/>
              <a:ext cx="217440" cy="10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18" name="Freeform 26"/>
            <p:cNvSpPr/>
            <p:nvPr/>
          </p:nvSpPr>
          <p:spPr>
            <a:xfrm>
              <a:off x="1162080" y="5403960"/>
              <a:ext cx="3492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19" name="Freeform 27"/>
            <p:cNvSpPr/>
            <p:nvPr/>
          </p:nvSpPr>
          <p:spPr>
            <a:xfrm>
              <a:off x="738000" y="5446800"/>
              <a:ext cx="211320" cy="48960"/>
            </a:xfrm>
            <a:prstGeom prst="pi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20" name="Freeform 28"/>
            <p:cNvSpPr/>
            <p:nvPr/>
          </p:nvSpPr>
          <p:spPr>
            <a:xfrm>
              <a:off x="1074600" y="5430960"/>
              <a:ext cx="239760" cy="19980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21" name="Freeform 29"/>
            <p:cNvSpPr/>
            <p:nvPr/>
          </p:nvSpPr>
          <p:spPr>
            <a:xfrm>
              <a:off x="1427040" y="5445000"/>
              <a:ext cx="95400" cy="9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22" name="Freeform 30"/>
            <p:cNvSpPr/>
            <p:nvPr/>
          </p:nvSpPr>
          <p:spPr>
            <a:xfrm>
              <a:off x="1406520" y="5448240"/>
              <a:ext cx="29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23" name="Freeform 31"/>
            <p:cNvSpPr/>
            <p:nvPr/>
          </p:nvSpPr>
          <p:spPr>
            <a:xfrm>
              <a:off x="738000" y="5472000"/>
              <a:ext cx="21744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24" name="Freeform 32"/>
            <p:cNvSpPr/>
            <p:nvPr/>
          </p:nvSpPr>
          <p:spPr>
            <a:xfrm>
              <a:off x="1371600" y="5492880"/>
              <a:ext cx="5076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25" name="Freeform 33"/>
            <p:cNvSpPr/>
            <p:nvPr/>
          </p:nvSpPr>
          <p:spPr>
            <a:xfrm>
              <a:off x="1288800" y="5508720"/>
              <a:ext cx="6840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26" name="Freeform 34"/>
            <p:cNvSpPr/>
            <p:nvPr/>
          </p:nvSpPr>
          <p:spPr>
            <a:xfrm>
              <a:off x="1180800" y="5516640"/>
              <a:ext cx="115920" cy="12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27" name="Freeform 35"/>
            <p:cNvSpPr/>
            <p:nvPr/>
          </p:nvSpPr>
          <p:spPr>
            <a:xfrm>
              <a:off x="1035000" y="5521320"/>
              <a:ext cx="71280" cy="51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28" name="Freeform 36"/>
            <p:cNvSpPr/>
            <p:nvPr/>
          </p:nvSpPr>
          <p:spPr>
            <a:xfrm>
              <a:off x="739800" y="5530680"/>
              <a:ext cx="201600" cy="23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29" name="Freeform 37"/>
            <p:cNvSpPr/>
            <p:nvPr/>
          </p:nvSpPr>
          <p:spPr>
            <a:xfrm>
              <a:off x="847440" y="5533920"/>
              <a:ext cx="173160" cy="55404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30" name="Freeform 38"/>
            <p:cNvSpPr/>
            <p:nvPr/>
          </p:nvSpPr>
          <p:spPr>
            <a:xfrm>
              <a:off x="1434960" y="5548320"/>
              <a:ext cx="619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>
              <a:off x="1376280" y="5580000"/>
              <a:ext cx="55440" cy="6372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32" name="Freeform 40"/>
            <p:cNvSpPr/>
            <p:nvPr/>
          </p:nvSpPr>
          <p:spPr>
            <a:xfrm>
              <a:off x="887400" y="5605560"/>
              <a:ext cx="82440" cy="18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33" name="Freeform 41"/>
            <p:cNvSpPr/>
            <p:nvPr/>
          </p:nvSpPr>
          <p:spPr>
            <a:xfrm>
              <a:off x="1279440" y="5613480"/>
              <a:ext cx="6012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34" name="Freeform 42"/>
            <p:cNvSpPr/>
            <p:nvPr/>
          </p:nvSpPr>
          <p:spPr>
            <a:xfrm>
              <a:off x="914400" y="5632560"/>
              <a:ext cx="41040" cy="13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35" name="Freeform 43"/>
            <p:cNvSpPr/>
            <p:nvPr/>
          </p:nvSpPr>
          <p:spPr>
            <a:xfrm>
              <a:off x="1114200" y="5634000"/>
              <a:ext cx="13500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36" name="Freeform 44"/>
            <p:cNvSpPr/>
            <p:nvPr/>
          </p:nvSpPr>
          <p:spPr>
            <a:xfrm>
              <a:off x="1438200" y="5638680"/>
              <a:ext cx="4608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37" name="Freeform 45"/>
            <p:cNvSpPr/>
            <p:nvPr/>
          </p:nvSpPr>
          <p:spPr>
            <a:xfrm>
              <a:off x="1336680" y="5657760"/>
              <a:ext cx="9360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38" name="Freeform 46"/>
            <p:cNvSpPr/>
            <p:nvPr/>
          </p:nvSpPr>
          <p:spPr>
            <a:xfrm>
              <a:off x="1336680" y="5670720"/>
              <a:ext cx="2052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39" name="Freeform 47"/>
            <p:cNvSpPr/>
            <p:nvPr/>
          </p:nvSpPr>
          <p:spPr>
            <a:xfrm>
              <a:off x="1066680" y="5699160"/>
              <a:ext cx="272880" cy="3096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40" name="Freeform 48"/>
            <p:cNvSpPr/>
            <p:nvPr/>
          </p:nvSpPr>
          <p:spPr>
            <a:xfrm>
              <a:off x="1306440" y="5730840"/>
              <a:ext cx="4104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41" name="Freeform 49"/>
            <p:cNvSpPr/>
            <p:nvPr/>
          </p:nvSpPr>
          <p:spPr>
            <a:xfrm>
              <a:off x="618840" y="5742000"/>
              <a:ext cx="225720" cy="39060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42" name="Freeform 50"/>
            <p:cNvSpPr/>
            <p:nvPr/>
          </p:nvSpPr>
          <p:spPr>
            <a:xfrm>
              <a:off x="1172880" y="5745240"/>
              <a:ext cx="7488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43" name="Freeform 51"/>
            <p:cNvSpPr/>
            <p:nvPr/>
          </p:nvSpPr>
          <p:spPr>
            <a:xfrm>
              <a:off x="1189080" y="5767560"/>
              <a:ext cx="41040" cy="9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44" name="Freeform 52"/>
            <p:cNvSpPr/>
            <p:nvPr/>
          </p:nvSpPr>
          <p:spPr>
            <a:xfrm>
              <a:off x="641160" y="5808600"/>
              <a:ext cx="163440" cy="16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45" name="Freeform 53"/>
            <p:cNvSpPr/>
            <p:nvPr/>
          </p:nvSpPr>
          <p:spPr>
            <a:xfrm>
              <a:off x="1560240" y="5818320"/>
              <a:ext cx="96840" cy="44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46" name="Freeform 54"/>
            <p:cNvSpPr/>
            <p:nvPr/>
          </p:nvSpPr>
          <p:spPr>
            <a:xfrm>
              <a:off x="676080" y="5848200"/>
              <a:ext cx="108000" cy="10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47" name="Freeform 55"/>
            <p:cNvSpPr/>
            <p:nvPr/>
          </p:nvSpPr>
          <p:spPr>
            <a:xfrm>
              <a:off x="430200" y="6032520"/>
              <a:ext cx="17928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48" name="Freeform 56"/>
            <p:cNvSpPr/>
            <p:nvPr/>
          </p:nvSpPr>
          <p:spPr>
            <a:xfrm>
              <a:off x="1042920" y="6111720"/>
              <a:ext cx="166680" cy="14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49" name="Freeform 57"/>
            <p:cNvSpPr/>
            <p:nvPr/>
          </p:nvSpPr>
          <p:spPr>
            <a:xfrm>
              <a:off x="1076040" y="6176880"/>
              <a:ext cx="3024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50" name="Freeform 58"/>
            <p:cNvSpPr/>
            <p:nvPr/>
          </p:nvSpPr>
          <p:spPr>
            <a:xfrm>
              <a:off x="1157040" y="6180120"/>
              <a:ext cx="428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51" name="Freeform 59"/>
            <p:cNvSpPr/>
            <p:nvPr/>
          </p:nvSpPr>
          <p:spPr>
            <a:xfrm>
              <a:off x="1427040" y="6229440"/>
              <a:ext cx="396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52" name="Freeform 60"/>
            <p:cNvSpPr/>
            <p:nvPr/>
          </p:nvSpPr>
          <p:spPr>
            <a:xfrm>
              <a:off x="444240" y="6288120"/>
              <a:ext cx="61128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53" name="Freeform 61"/>
            <p:cNvSpPr/>
            <p:nvPr/>
          </p:nvSpPr>
          <p:spPr>
            <a:xfrm>
              <a:off x="1717560" y="6288120"/>
              <a:ext cx="223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B3C6-D108-4AA6-9C56-A899D31E9D1A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555" name="AutoShape 2"/>
          <p:cNvSpPr/>
          <p:nvPr/>
        </p:nvSpPr>
        <p:spPr>
          <a:xfrm>
            <a:off x="5556240" y="208080"/>
            <a:ext cx="3322800" cy="4311720"/>
          </a:xfrm>
          <a:custGeom>
            <a:avLst/>
            <a:gdLst>
              <a:gd name="textAreaLeft" fmla="*/ 162000 w 3322800"/>
              <a:gd name="textAreaRight" fmla="*/ 3160800 w 3322800"/>
              <a:gd name="textAreaTop" fmla="*/ 162000 h 4311720"/>
              <a:gd name="textAreaBottom" fmla="*/ 4149720 h 4311720"/>
            </a:gdLst>
            <a:ahLst/>
            <a:rect l="textAreaLeft" t="textAreaTop" r="textAreaRight" b="textAreaBottom"/>
            <a:pathLst>
              <a:path w="21600" h="28028">
                <a:moveTo>
                  <a:pt x="3600" y="0"/>
                </a:moveTo>
                <a:arcTo wR="3600" hR="3600" stAng="16200000" swAng="-5400000"/>
                <a:lnTo>
                  <a:pt x="0" y="24428"/>
                </a:lnTo>
                <a:arcTo wR="3600" hR="3600" stAng="10800000" swAng="-5400000"/>
                <a:lnTo>
                  <a:pt x="18000" y="280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a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3.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троить при выполнении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важного, с точки зрения педагогических психологов, условия  развития личности обучаемых, а именно: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инципа интериоризации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, т.е. «перевода извне — вовнутрь». За счет этого ученик формирует собственную осознаваемую точку зрения на какой-либо вопрос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556" name="AutoShape 3"/>
          <p:cNvSpPr/>
          <p:nvPr/>
        </p:nvSpPr>
        <p:spPr>
          <a:xfrm>
            <a:off x="2978280" y="4861080"/>
            <a:ext cx="5854680" cy="1721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a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4. 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при проектировании стратегии развития способностей опираться на механизм их развития,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основными компонентами которого (по К.Коффке) являются: "операция — действие — способ деятельности — обобщенный способ, или способность ".   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557" name="AutoShape 4">
            <a:hlinkClick r:id="" action="ppaction://hlinkshowjump?jump=nextslide"/>
          </p:cNvPr>
          <p:cNvSpPr/>
          <p:nvPr/>
        </p:nvSpPr>
        <p:spPr>
          <a:xfrm>
            <a:off x="761364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558" name="AutoShape 5">
            <a:hlinkClick r:id="" action="ppaction://hlinkshowjump?jump=previousslide"/>
          </p:cNvPr>
          <p:cNvSpPr/>
          <p:nvPr/>
        </p:nvSpPr>
        <p:spPr>
          <a:xfrm>
            <a:off x="700416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8604360" y="6400800"/>
            <a:ext cx="533160" cy="45972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560" name="AutoShape 7"/>
          <p:cNvSpPr/>
          <p:nvPr/>
        </p:nvSpPr>
        <p:spPr>
          <a:xfrm>
            <a:off x="69840" y="138240"/>
            <a:ext cx="4784760" cy="466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В учебном процессе могут быть смоделированы ситуации, проблемные для обучаемых, которые они не в состоянии решить репродуктивным образом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Для решения этих ситуаций ученику требуются размышления, коллективные обсуждения, выдвижение гипотез и их проверка, обращение к дополнительной литературе, консультация и помощь педагога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учебном процессе 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для эффективного развития обучаемого важно: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561" name="AutoShape 8"/>
          <p:cNvSpPr/>
          <p:nvPr/>
        </p:nvSpPr>
        <p:spPr>
          <a:xfrm>
            <a:off x="4794120" y="22096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562" name="AutoShape 9"/>
          <p:cNvSpPr/>
          <p:nvPr/>
        </p:nvSpPr>
        <p:spPr>
          <a:xfrm>
            <a:off x="3956040" y="411480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0"/>
          </a:gra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grpSp>
        <p:nvGrpSpPr>
          <p:cNvPr id="563" name="Group 10"/>
          <p:cNvGrpSpPr/>
          <p:nvPr/>
        </p:nvGrpSpPr>
        <p:grpSpPr>
          <a:xfrm>
            <a:off x="330120" y="4968720"/>
            <a:ext cx="1442880" cy="1382760"/>
            <a:chOff x="330120" y="4968720"/>
            <a:chExt cx="1442880" cy="1382760"/>
          </a:xfrm>
        </p:grpSpPr>
        <p:sp>
          <p:nvSpPr>
            <p:cNvPr id="564" name="Freeform 11"/>
            <p:cNvSpPr/>
            <p:nvPr/>
          </p:nvSpPr>
          <p:spPr>
            <a:xfrm>
              <a:off x="330120" y="4981680"/>
              <a:ext cx="571320" cy="39996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65" name="Freeform 12"/>
            <p:cNvSpPr/>
            <p:nvPr/>
          </p:nvSpPr>
          <p:spPr>
            <a:xfrm>
              <a:off x="342720" y="5840280"/>
              <a:ext cx="1424160" cy="506520"/>
            </a:xfrm>
            <a:prstGeom prst="pie">
              <a:avLst/>
            </a:prstGeom>
            <a:solidFill>
              <a:srgbClr val="3df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66" name="Freeform 13"/>
            <p:cNvSpPr/>
            <p:nvPr/>
          </p:nvSpPr>
          <p:spPr>
            <a:xfrm>
              <a:off x="336600" y="4968720"/>
              <a:ext cx="1436400" cy="138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67" name="Freeform 14"/>
            <p:cNvSpPr/>
            <p:nvPr/>
          </p:nvSpPr>
          <p:spPr>
            <a:xfrm>
              <a:off x="1635120" y="5856120"/>
              <a:ext cx="122040" cy="381240"/>
            </a:xfrm>
            <a:prstGeom prst="pie">
              <a:avLst/>
            </a:prstGeom>
            <a:solidFill>
              <a:srgbClr val="3df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68" name="Freeform 15"/>
            <p:cNvSpPr/>
            <p:nvPr/>
          </p:nvSpPr>
          <p:spPr>
            <a:xfrm>
              <a:off x="1108080" y="4997520"/>
              <a:ext cx="18576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69" name="Freeform 16"/>
            <p:cNvSpPr/>
            <p:nvPr/>
          </p:nvSpPr>
          <p:spPr>
            <a:xfrm>
              <a:off x="1006200" y="5056200"/>
              <a:ext cx="379440" cy="328680"/>
            </a:xfrm>
            <a:prstGeom prst="pie">
              <a:avLst/>
            </a:prstGeom>
            <a:solidFill>
              <a:srgbClr val="ff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70" name="Freeform 17"/>
            <p:cNvSpPr/>
            <p:nvPr/>
          </p:nvSpPr>
          <p:spPr>
            <a:xfrm>
              <a:off x="1155600" y="5091120"/>
              <a:ext cx="8244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71" name="Freeform 18"/>
            <p:cNvSpPr/>
            <p:nvPr/>
          </p:nvSpPr>
          <p:spPr>
            <a:xfrm>
              <a:off x="347400" y="5143680"/>
              <a:ext cx="33516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72" name="Freeform 19"/>
            <p:cNvSpPr/>
            <p:nvPr/>
          </p:nvSpPr>
          <p:spPr>
            <a:xfrm>
              <a:off x="1317600" y="5157720"/>
              <a:ext cx="25200" cy="2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73" name="Freeform 20"/>
            <p:cNvSpPr/>
            <p:nvPr/>
          </p:nvSpPr>
          <p:spPr>
            <a:xfrm>
              <a:off x="1197000" y="5143680"/>
              <a:ext cx="2520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74" name="Freeform 21"/>
            <p:cNvSpPr/>
            <p:nvPr/>
          </p:nvSpPr>
          <p:spPr>
            <a:xfrm>
              <a:off x="1269720" y="5199120"/>
              <a:ext cx="460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75" name="Freeform 22"/>
            <p:cNvSpPr/>
            <p:nvPr/>
          </p:nvSpPr>
          <p:spPr>
            <a:xfrm>
              <a:off x="1015920" y="5200560"/>
              <a:ext cx="25200" cy="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76" name="Freeform 23"/>
            <p:cNvSpPr/>
            <p:nvPr/>
          </p:nvSpPr>
          <p:spPr>
            <a:xfrm>
              <a:off x="341280" y="5248440"/>
              <a:ext cx="16020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77" name="Freeform 24"/>
            <p:cNvSpPr/>
            <p:nvPr/>
          </p:nvSpPr>
          <p:spPr>
            <a:xfrm>
              <a:off x="1199880" y="5284800"/>
              <a:ext cx="8748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78" name="Freeform 25"/>
            <p:cNvSpPr/>
            <p:nvPr/>
          </p:nvSpPr>
          <p:spPr>
            <a:xfrm>
              <a:off x="731880" y="5364000"/>
              <a:ext cx="217440" cy="10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79" name="Freeform 26"/>
            <p:cNvSpPr/>
            <p:nvPr/>
          </p:nvSpPr>
          <p:spPr>
            <a:xfrm>
              <a:off x="1162080" y="5403960"/>
              <a:ext cx="3492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80" name="Freeform 27"/>
            <p:cNvSpPr/>
            <p:nvPr/>
          </p:nvSpPr>
          <p:spPr>
            <a:xfrm>
              <a:off x="738000" y="5446800"/>
              <a:ext cx="211320" cy="48960"/>
            </a:xfrm>
            <a:prstGeom prst="pi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81" name="Freeform 28"/>
            <p:cNvSpPr/>
            <p:nvPr/>
          </p:nvSpPr>
          <p:spPr>
            <a:xfrm>
              <a:off x="1074600" y="5430960"/>
              <a:ext cx="239760" cy="19980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82" name="Freeform 29"/>
            <p:cNvSpPr/>
            <p:nvPr/>
          </p:nvSpPr>
          <p:spPr>
            <a:xfrm>
              <a:off x="1427040" y="5445000"/>
              <a:ext cx="95400" cy="9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83" name="Freeform 30"/>
            <p:cNvSpPr/>
            <p:nvPr/>
          </p:nvSpPr>
          <p:spPr>
            <a:xfrm>
              <a:off x="1406520" y="5448240"/>
              <a:ext cx="29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84" name="Freeform 31"/>
            <p:cNvSpPr/>
            <p:nvPr/>
          </p:nvSpPr>
          <p:spPr>
            <a:xfrm>
              <a:off x="738000" y="5472000"/>
              <a:ext cx="21744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85" name="Freeform 32"/>
            <p:cNvSpPr/>
            <p:nvPr/>
          </p:nvSpPr>
          <p:spPr>
            <a:xfrm>
              <a:off x="1371600" y="5492880"/>
              <a:ext cx="5076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86" name="Freeform 33"/>
            <p:cNvSpPr/>
            <p:nvPr/>
          </p:nvSpPr>
          <p:spPr>
            <a:xfrm>
              <a:off x="1288800" y="5508720"/>
              <a:ext cx="6840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87" name="Freeform 34"/>
            <p:cNvSpPr/>
            <p:nvPr/>
          </p:nvSpPr>
          <p:spPr>
            <a:xfrm>
              <a:off x="1180800" y="5516640"/>
              <a:ext cx="115920" cy="12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88" name="Freeform 35"/>
            <p:cNvSpPr/>
            <p:nvPr/>
          </p:nvSpPr>
          <p:spPr>
            <a:xfrm>
              <a:off x="1035000" y="5521320"/>
              <a:ext cx="71280" cy="51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89" name="Freeform 36"/>
            <p:cNvSpPr/>
            <p:nvPr/>
          </p:nvSpPr>
          <p:spPr>
            <a:xfrm>
              <a:off x="739800" y="5530680"/>
              <a:ext cx="201600" cy="23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90" name="Freeform 37"/>
            <p:cNvSpPr/>
            <p:nvPr/>
          </p:nvSpPr>
          <p:spPr>
            <a:xfrm>
              <a:off x="847440" y="5533920"/>
              <a:ext cx="173160" cy="55404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91" name="Freeform 38"/>
            <p:cNvSpPr/>
            <p:nvPr/>
          </p:nvSpPr>
          <p:spPr>
            <a:xfrm>
              <a:off x="1434960" y="5548320"/>
              <a:ext cx="619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92" name="Freeform 39"/>
            <p:cNvSpPr/>
            <p:nvPr/>
          </p:nvSpPr>
          <p:spPr>
            <a:xfrm>
              <a:off x="1376280" y="5580000"/>
              <a:ext cx="55440" cy="6372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93" name="Freeform 40"/>
            <p:cNvSpPr/>
            <p:nvPr/>
          </p:nvSpPr>
          <p:spPr>
            <a:xfrm>
              <a:off x="887400" y="5605560"/>
              <a:ext cx="82440" cy="18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94" name="Freeform 41"/>
            <p:cNvSpPr/>
            <p:nvPr/>
          </p:nvSpPr>
          <p:spPr>
            <a:xfrm>
              <a:off x="1279440" y="5613480"/>
              <a:ext cx="6012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95" name="Freeform 42"/>
            <p:cNvSpPr/>
            <p:nvPr/>
          </p:nvSpPr>
          <p:spPr>
            <a:xfrm>
              <a:off x="914400" y="5632560"/>
              <a:ext cx="41040" cy="13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96" name="Freeform 43"/>
            <p:cNvSpPr/>
            <p:nvPr/>
          </p:nvSpPr>
          <p:spPr>
            <a:xfrm>
              <a:off x="1114200" y="5634000"/>
              <a:ext cx="13500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97" name="Freeform 44"/>
            <p:cNvSpPr/>
            <p:nvPr/>
          </p:nvSpPr>
          <p:spPr>
            <a:xfrm>
              <a:off x="1438200" y="5638680"/>
              <a:ext cx="4608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98" name="Freeform 45"/>
            <p:cNvSpPr/>
            <p:nvPr/>
          </p:nvSpPr>
          <p:spPr>
            <a:xfrm>
              <a:off x="1336680" y="5657760"/>
              <a:ext cx="9360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99" name="Freeform 46"/>
            <p:cNvSpPr/>
            <p:nvPr/>
          </p:nvSpPr>
          <p:spPr>
            <a:xfrm>
              <a:off x="1336680" y="5670720"/>
              <a:ext cx="2052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600" name="Freeform 47"/>
            <p:cNvSpPr/>
            <p:nvPr/>
          </p:nvSpPr>
          <p:spPr>
            <a:xfrm>
              <a:off x="1066680" y="5699160"/>
              <a:ext cx="272880" cy="3096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601" name="Freeform 48"/>
            <p:cNvSpPr/>
            <p:nvPr/>
          </p:nvSpPr>
          <p:spPr>
            <a:xfrm>
              <a:off x="1306440" y="5730840"/>
              <a:ext cx="4104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602" name="Freeform 49"/>
            <p:cNvSpPr/>
            <p:nvPr/>
          </p:nvSpPr>
          <p:spPr>
            <a:xfrm>
              <a:off x="618840" y="5742000"/>
              <a:ext cx="225720" cy="39060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603" name="Freeform 50"/>
            <p:cNvSpPr/>
            <p:nvPr/>
          </p:nvSpPr>
          <p:spPr>
            <a:xfrm>
              <a:off x="1172880" y="5745240"/>
              <a:ext cx="7488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604" name="Freeform 51"/>
            <p:cNvSpPr/>
            <p:nvPr/>
          </p:nvSpPr>
          <p:spPr>
            <a:xfrm>
              <a:off x="1189080" y="5767560"/>
              <a:ext cx="41040" cy="9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605" name="Freeform 52"/>
            <p:cNvSpPr/>
            <p:nvPr/>
          </p:nvSpPr>
          <p:spPr>
            <a:xfrm>
              <a:off x="641160" y="5808600"/>
              <a:ext cx="163440" cy="16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606" name="Freeform 53"/>
            <p:cNvSpPr/>
            <p:nvPr/>
          </p:nvSpPr>
          <p:spPr>
            <a:xfrm>
              <a:off x="1560240" y="5818320"/>
              <a:ext cx="96840" cy="44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607" name="Freeform 54"/>
            <p:cNvSpPr/>
            <p:nvPr/>
          </p:nvSpPr>
          <p:spPr>
            <a:xfrm>
              <a:off x="676080" y="5848200"/>
              <a:ext cx="108000" cy="10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608" name="Freeform 55"/>
            <p:cNvSpPr/>
            <p:nvPr/>
          </p:nvSpPr>
          <p:spPr>
            <a:xfrm>
              <a:off x="430200" y="6032520"/>
              <a:ext cx="17928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609" name="Freeform 56"/>
            <p:cNvSpPr/>
            <p:nvPr/>
          </p:nvSpPr>
          <p:spPr>
            <a:xfrm>
              <a:off x="1042920" y="6111720"/>
              <a:ext cx="166680" cy="14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610" name="Freeform 57"/>
            <p:cNvSpPr/>
            <p:nvPr/>
          </p:nvSpPr>
          <p:spPr>
            <a:xfrm>
              <a:off x="1076040" y="6176880"/>
              <a:ext cx="3024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611" name="Freeform 58"/>
            <p:cNvSpPr/>
            <p:nvPr/>
          </p:nvSpPr>
          <p:spPr>
            <a:xfrm>
              <a:off x="1157040" y="6180120"/>
              <a:ext cx="428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612" name="Freeform 59"/>
            <p:cNvSpPr/>
            <p:nvPr/>
          </p:nvSpPr>
          <p:spPr>
            <a:xfrm>
              <a:off x="1427040" y="6229440"/>
              <a:ext cx="396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613" name="Freeform 60"/>
            <p:cNvSpPr/>
            <p:nvPr/>
          </p:nvSpPr>
          <p:spPr>
            <a:xfrm>
              <a:off x="444240" y="6288120"/>
              <a:ext cx="61128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614" name="Freeform 61"/>
            <p:cNvSpPr/>
            <p:nvPr/>
          </p:nvSpPr>
          <p:spPr>
            <a:xfrm>
              <a:off x="1717560" y="6288120"/>
              <a:ext cx="223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FF12-6FC1-405B-BD0F-90640175285A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       </a:t>
            </a:r>
            <a:r>
              <a:rPr b="0" lang="ru-RU" sz="4400" spc="-1" strike="noStrike">
                <a:solidFill>
                  <a:srgbClr val="004c2b"/>
                </a:solidFill>
                <a:latin typeface="Arial"/>
              </a:rPr>
              <a:t>Методический сове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2860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Современные педагогические технологии как  одно из необходимых условий эффективности инновационной деятельности школы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8D95-8F3B-41C6-88D0-D158CA32862B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овременные педагогические технологи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- это набор операций по конструированию знаний, умений, навыков и отношений в соответствии с поставленными целями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EAD0-65D6-459D-BC4E-AA9660283F45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19" name="Rectangle 2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Monotype Corsiva"/>
              </a:rPr>
              <a:t>            </a:t>
            </a:r>
            <a:r>
              <a:rPr b="0" lang="ru-RU" sz="4400" spc="-1" strike="noStrike">
                <a:solidFill>
                  <a:srgbClr val="004c2b"/>
                </a:solidFill>
                <a:latin typeface="Monotype Corsiva"/>
              </a:rPr>
              <a:t>Методика и технология</a:t>
            </a:r>
            <a:endParaRPr b="0" lang="en-US" sz="4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263520" y="1905120"/>
            <a:ext cx="7386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Monotype Corsiva"/>
              </a:rPr>
              <a:t>Методика преподавания конкретного предмета – это психолого-педагогическая теория обучения учебному предмету.</a:t>
            </a:r>
            <a:endParaRPr b="0" lang="en-US" sz="3200" spc="-1" strike="noStrike">
              <a:solidFill>
                <a:srgbClr val="333333"/>
              </a:solidFill>
              <a:latin typeface="Monotype Corsiva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Monotype Corsiva"/>
              </a:rPr>
              <a:t>Одной из задач методики является выявление критериев применимости той или иной технологии</a:t>
            </a:r>
            <a:endParaRPr b="0" lang="en-US" sz="3200" spc="-1" strike="noStrike">
              <a:solidFill>
                <a:srgbClr val="333333"/>
              </a:solidFill>
              <a:latin typeface="Monotype Corsiva"/>
            </a:endParaRPr>
          </a:p>
        </p:txBody>
      </p:sp>
      <p:pic>
        <p:nvPicPr>
          <p:cNvPr id="621" name="Picture 4" descr="ED00312_"/>
          <p:cNvPicPr/>
          <p:nvPr/>
        </p:nvPicPr>
        <p:blipFill>
          <a:blip r:embed="rId2"/>
          <a:stretch/>
        </p:blipFill>
        <p:spPr>
          <a:xfrm>
            <a:off x="6934320" y="4343400"/>
            <a:ext cx="1981080" cy="23623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" descr="BD05095_"/>
          <p:cNvPicPr/>
          <p:nvPr/>
        </p:nvPicPr>
        <p:blipFill>
          <a:blip r:embed="rId3"/>
          <a:stretch/>
        </p:blipFill>
        <p:spPr>
          <a:xfrm>
            <a:off x="152280" y="152280"/>
            <a:ext cx="20574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418B-712E-4E97-BF87-5E93F7E5084F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24" name="Rectangle 2"/>
          <p:cNvSpPr/>
          <p:nvPr/>
        </p:nvSpPr>
        <p:spPr>
          <a:xfrm>
            <a:off x="219240" y="227160"/>
            <a:ext cx="74768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Monotype Corsiva"/>
              </a:rPr>
              <a:t>Методика и технология</a:t>
            </a:r>
            <a:endParaRPr b="0" lang="en-US" sz="4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25" name="Rectangle 3"/>
          <p:cNvSpPr/>
          <p:nvPr/>
        </p:nvSpPr>
        <p:spPr>
          <a:xfrm>
            <a:off x="152280" y="990720"/>
            <a:ext cx="372744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Monotype Corsiva"/>
              </a:rPr>
              <a:t>Методика включает выбор технологии для целесообразности проведения работы.</a:t>
            </a:r>
            <a:endParaRPr b="0" lang="en-US" sz="2000" spc="-1" strike="noStrike">
              <a:solidFill>
                <a:srgbClr val="333333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Monotype Corsiva"/>
              </a:rPr>
              <a:t>Методика возникает в результате обобщения опыта или изобретения нового способа представления знаний.</a:t>
            </a:r>
            <a:endParaRPr b="0" lang="en-US" sz="2000" spc="-1" strike="noStrike">
              <a:solidFill>
                <a:srgbClr val="333333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Monotype Corsiva"/>
              </a:rPr>
              <a:t>Методика направлена на решение следующих задач: чему учить, зачем учить, как учить.</a:t>
            </a:r>
            <a:endParaRPr b="0" lang="en-US" sz="20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4032360" y="1066680"/>
            <a:ext cx="3617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Monotype Corsiva"/>
              </a:rPr>
              <a:t>Технология отличается от методик своей воспроизводимостью, устойчивостью результатов.</a:t>
            </a:r>
            <a:endParaRPr b="0" lang="en-US" sz="2000" spc="-1" strike="noStrike">
              <a:solidFill>
                <a:srgbClr val="333333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Monotype Corsiva"/>
              </a:rPr>
              <a:t>Технология проектируется, исходя из конкретных условий и ориентируясь на заданный, а не предполагаемый результат.</a:t>
            </a:r>
            <a:endParaRPr b="0" lang="en-US" sz="2000" spc="-1" strike="noStrike">
              <a:solidFill>
                <a:srgbClr val="333333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Monotype Corsiva"/>
              </a:rPr>
              <a:t>Технология отвечает на вопрос: как учить результативно.</a:t>
            </a:r>
            <a:endParaRPr b="0" lang="en-US" sz="2000" spc="-1" strike="noStrike">
              <a:solidFill>
                <a:srgbClr val="333333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Monotype Corsiva"/>
            </a:endParaRPr>
          </a:p>
        </p:txBody>
      </p:sp>
      <p:pic>
        <p:nvPicPr>
          <p:cNvPr id="627" name="Picture 5" descr="PE07261_"/>
          <p:cNvPicPr/>
          <p:nvPr/>
        </p:nvPicPr>
        <p:blipFill>
          <a:blip r:embed="rId2"/>
          <a:stretch/>
        </p:blipFill>
        <p:spPr>
          <a:xfrm>
            <a:off x="2057400" y="5181480"/>
            <a:ext cx="19051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181B-6C5D-4F62-8687-282943223290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29" name="Rectangle 2"/>
          <p:cNvSpPr/>
          <p:nvPr/>
        </p:nvSpPr>
        <p:spPr>
          <a:xfrm>
            <a:off x="219240" y="152280"/>
            <a:ext cx="801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c2b"/>
                </a:solidFill>
                <a:latin typeface="Monotype Corsiva"/>
              </a:rPr>
              <a:t>Причины выбора инновационных технологий</a:t>
            </a:r>
            <a:endParaRPr b="0" lang="en-US" sz="3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457200" y="1066680"/>
            <a:ext cx="70516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Образовательные технологии легко вписываются  в учебный процесс классно-урочной системы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Позволяют достигать поставленных программой и стандартом образования целей по конкретному учебному предмету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Они обеспечивают внедрение основных направлений педагогической стратегии: гуманизации, гуманитаризации образования и личностно-ориентированного подхода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Они обеспечивают интеллектуальное развитие учащихся, их самостоятельность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Образовательные технологии обеспечивают доброжелательность по отношению к учителю и к друг другу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Они проявляют особое внимание к индивидуальности человека, его личности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Образовательные технологии ориентируются на развитие творческой деятельности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pic>
        <p:nvPicPr>
          <p:cNvPr id="631" name="Picture 4" descr="BD05102_"/>
          <p:cNvPicPr/>
          <p:nvPr/>
        </p:nvPicPr>
        <p:blipFill>
          <a:blip r:embed="rId2"/>
          <a:stretch/>
        </p:blipFill>
        <p:spPr>
          <a:xfrm>
            <a:off x="609480" y="5638680"/>
            <a:ext cx="1676520" cy="11890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5" descr="BD05090_"/>
          <p:cNvPicPr/>
          <p:nvPr/>
        </p:nvPicPr>
        <p:blipFill>
          <a:blip r:embed="rId3"/>
          <a:stretch/>
        </p:blipFill>
        <p:spPr>
          <a:xfrm>
            <a:off x="3200400" y="5611680"/>
            <a:ext cx="1828800" cy="11509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" descr="BD05089_"/>
          <p:cNvPicPr/>
          <p:nvPr/>
        </p:nvPicPr>
        <p:blipFill>
          <a:blip r:embed="rId4"/>
          <a:stretch/>
        </p:blipFill>
        <p:spPr>
          <a:xfrm>
            <a:off x="5943600" y="5334120"/>
            <a:ext cx="1523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2A73-EA97-49A4-BA22-20A5F68ED995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Традиционные технологи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Объяснительно-иллюстративные технологии обучени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В основе дидактические принципы Я.А.Коменского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7" name="Rectangle 4"/>
          <p:cNvSpPr/>
          <p:nvPr/>
        </p:nvSpPr>
        <p:spPr>
          <a:xfrm>
            <a:off x="762120" y="457200"/>
            <a:ext cx="6858000" cy="106668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Традиционные технологии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DEB6-F983-4D79-A7CB-0FAC48DED5EB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39" name="Rectangle 2"/>
          <p:cNvSpPr/>
          <p:nvPr/>
        </p:nvSpPr>
        <p:spPr>
          <a:xfrm>
            <a:off x="685800" y="380880"/>
            <a:ext cx="75438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1295280" y="6094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ПТ на основе личностной ориентации педагогического процесса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41" name="Oval 5"/>
          <p:cNvSpPr/>
          <p:nvPr/>
        </p:nvSpPr>
        <p:spPr>
          <a:xfrm>
            <a:off x="762120" y="2209680"/>
            <a:ext cx="2666880" cy="1828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42" name="Oval 6"/>
          <p:cNvSpPr/>
          <p:nvPr/>
        </p:nvSpPr>
        <p:spPr>
          <a:xfrm>
            <a:off x="3962520" y="2133720"/>
            <a:ext cx="4876560" cy="1981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43" name="Oval 7"/>
          <p:cNvSpPr/>
          <p:nvPr/>
        </p:nvSpPr>
        <p:spPr>
          <a:xfrm>
            <a:off x="2286000" y="4495680"/>
            <a:ext cx="5181480" cy="20574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Система преподавания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литературы как предмета,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формирующего человека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( Е.Н. Ильин )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44" name="Text Box 8"/>
          <p:cNvSpPr/>
          <p:nvPr/>
        </p:nvSpPr>
        <p:spPr>
          <a:xfrm>
            <a:off x="990720" y="25146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Педагогика сотрудничества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4572000" y="24382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« Гуманно-личностная технология » (Ш.А.Амонашвили)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3EE1-B01F-44B9-A01E-40FD5B7B2D2B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380880" y="457200"/>
            <a:ext cx="8382240" cy="106668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Технологии на основе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активизации и интенсификации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деятельности учащихся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48" name="Oval 3"/>
          <p:cNvSpPr/>
          <p:nvPr/>
        </p:nvSpPr>
        <p:spPr>
          <a:xfrm>
            <a:off x="457200" y="1905120"/>
            <a:ext cx="3581280" cy="1828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Игровые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технологии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(Б.П. Никитин )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49" name="Oval 4"/>
          <p:cNvSpPr/>
          <p:nvPr/>
        </p:nvSpPr>
        <p:spPr>
          <a:xfrm>
            <a:off x="4876920" y="1676520"/>
            <a:ext cx="3733560" cy="16761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Проблемное обучение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( Дж. Дьюи )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50" name="Oval 5"/>
          <p:cNvSpPr/>
          <p:nvPr/>
        </p:nvSpPr>
        <p:spPr>
          <a:xfrm>
            <a:off x="228600" y="3962520"/>
            <a:ext cx="4343400" cy="22860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Технология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коммуникативного обучения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иноязычной культуре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( Е.И. Пассов )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51" name="Oval 6"/>
          <p:cNvSpPr/>
          <p:nvPr/>
        </p:nvSpPr>
        <p:spPr>
          <a:xfrm>
            <a:off x="4724280" y="3581280"/>
            <a:ext cx="4191120" cy="28958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Технология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интенсификации обучения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на основе схемных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и знаковых моделей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учебного материала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(В.Ф. Шаталов )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03BC-04D3-4815-9358-58348BE25972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609480" y="533520"/>
            <a:ext cx="784872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Технологии на основе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дидактического усовершенствования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и реконструирования материала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54" name="Oval 5"/>
          <p:cNvSpPr/>
          <p:nvPr/>
        </p:nvSpPr>
        <p:spPr>
          <a:xfrm>
            <a:off x="762120" y="2286000"/>
            <a:ext cx="3200400" cy="1295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Экология и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диалектика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(Л.В. Тарасов)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55" name="Oval 6"/>
          <p:cNvSpPr/>
          <p:nvPr/>
        </p:nvSpPr>
        <p:spPr>
          <a:xfrm>
            <a:off x="4952880" y="1905120"/>
            <a:ext cx="3429000" cy="17524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«Диалог культур»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(В.С. Библер,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С.Ю. Курганов)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56" name="Oval 7"/>
          <p:cNvSpPr/>
          <p:nvPr/>
        </p:nvSpPr>
        <p:spPr>
          <a:xfrm>
            <a:off x="457200" y="3962520"/>
            <a:ext cx="3429000" cy="22096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Укрупнение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дидактических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единиц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(П.М. Эрдниев)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57" name="Oval 8"/>
          <p:cNvSpPr/>
          <p:nvPr/>
        </p:nvSpPr>
        <p:spPr>
          <a:xfrm>
            <a:off x="4572000" y="3886200"/>
            <a:ext cx="4267080" cy="2438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Реализация теории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поэтапного формирования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умственных действий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(П.Я. Гальперин,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М.Б. Волович)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C213-E5CD-4776-8FF6-37B0C4B1759C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2b"/>
                </a:solidFill>
                <a:latin typeface="Arial"/>
              </a:rPr>
              <a:t>Технологии на основе эффективности управления и организации учебного процесс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Технология перспективного обучения с использованием опорных схем при комментируемом управлении                         ( С.Н. Лысенкова 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Технология уровневой дифференциации на основе обязательных результатов (В.В. Фирсов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Технология программированного обуче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Культуровоспитывающая технология дифференцированного обучения детей по интересам (И.Н. Закатов 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Технология индивидуализации обучения ( И.Э. Унт, А.С. Границкая, В.Д. Шадриков 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Коллективный способ обучения (А.Г. Ривин, В.К. Дьяченко 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Групповые технологи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Компьютерные (новые информационные) технологии обуче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609480" y="457200"/>
            <a:ext cx="7848720" cy="121932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Технологии на основе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эффективности управления и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организации учебного процесса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DD17-7F2F-4B56-B86F-AF07EAADAF0A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истема развивающего обучения Занков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Технология развивающего обучения Эльконина-Давыдов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истемы развивающего обучения с направленностью на развитие творческих качеств личности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Личностно-ориентированное обучение (И.С. Якиманская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Технология проектного обучения (Дж. И Э. Дьюи, У.Х. Киллатри, Э. Коллинз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Технология учебной деловой  игры (Д.Г. Левитес, М.В. Кларин, А.А. Вербицкий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Технология учебной дискуссии (М.В. Кларин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Технология саморазвивающего обучения (К.Г. Селевко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c2b"/>
                </a:solidFill>
                <a:latin typeface="Monotype Corsiva"/>
              </a:rPr>
              <a:t>Технологии развивающего обучения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A50D-5571-4AFE-B10C-CFE982830BBB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Цель </a:t>
            </a:r>
            <a:r>
              <a:rPr b="0" lang="ru-RU" sz="4400" spc="-1" strike="noStrike">
                <a:solidFill>
                  <a:srgbClr val="004c2b"/>
                </a:solidFill>
                <a:latin typeface="Arial"/>
              </a:rPr>
              <a:t>методического совет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Раскрыть роль современных педагогических технологий в создании педагогической среды, обеспечивающей деятельность Учителя и Ученика в новой образовательной парадигме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E3F2-2073-42CC-ABDC-104FE7AFE741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1143000" y="609480"/>
            <a:ext cx="685800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Частнопредметные технологии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67" name="Oval 4"/>
          <p:cNvSpPr/>
          <p:nvPr/>
        </p:nvSpPr>
        <p:spPr>
          <a:xfrm>
            <a:off x="228600" y="1523880"/>
            <a:ext cx="2819520" cy="22100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Технология раннего и 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интенсивного обучения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грамоте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(Н.А. Зайцев)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68" name="Oval 5"/>
          <p:cNvSpPr/>
          <p:nvPr/>
        </p:nvSpPr>
        <p:spPr>
          <a:xfrm>
            <a:off x="3200400" y="1600200"/>
            <a:ext cx="3124080" cy="25146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Технология обучения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математике на основе 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решения задач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(Р.Г.Хазанкин)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69" name="Oval 6"/>
          <p:cNvSpPr/>
          <p:nvPr/>
        </p:nvSpPr>
        <p:spPr>
          <a:xfrm>
            <a:off x="6477120" y="1752480"/>
            <a:ext cx="2438280" cy="20574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Система поэтапного 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обучения физике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(Н.Н. Палтышева)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70" name="Oval 7"/>
          <p:cNvSpPr/>
          <p:nvPr/>
        </p:nvSpPr>
        <p:spPr>
          <a:xfrm>
            <a:off x="457200" y="4114800"/>
            <a:ext cx="4038480" cy="1981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Технология совершенствования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общеучебных умений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в начальной школе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(В.Н. Зайцев)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71" name="Oval 8"/>
          <p:cNvSpPr/>
          <p:nvPr/>
        </p:nvSpPr>
        <p:spPr>
          <a:xfrm>
            <a:off x="5257800" y="4267080"/>
            <a:ext cx="3048120" cy="19814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ПТ на основе 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системы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эффективных уроков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(А.А. Окунев)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29C2-82BF-4C9B-A52B-66B585FC3783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73" name="Rectangle 2"/>
          <p:cNvSpPr/>
          <p:nvPr/>
        </p:nvSpPr>
        <p:spPr>
          <a:xfrm>
            <a:off x="838080" y="609480"/>
            <a:ext cx="7543800" cy="121932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Альтернативные технологии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74" name="Oval 3"/>
          <p:cNvSpPr/>
          <p:nvPr/>
        </p:nvSpPr>
        <p:spPr>
          <a:xfrm>
            <a:off x="685800" y="2133720"/>
            <a:ext cx="3276720" cy="16002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Вальфдорская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педагогика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(Р.Штайнер)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75" name="Oval 4"/>
          <p:cNvSpPr/>
          <p:nvPr/>
        </p:nvSpPr>
        <p:spPr>
          <a:xfrm>
            <a:off x="4952880" y="2057400"/>
            <a:ext cx="3505320" cy="15238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Технология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свободного труда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(С. Френе)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76" name="Oval 5"/>
          <p:cNvSpPr/>
          <p:nvPr/>
        </p:nvSpPr>
        <p:spPr>
          <a:xfrm>
            <a:off x="762120" y="4267080"/>
            <a:ext cx="3886200" cy="17528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Технология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вероятностного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образования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(А.М. Лобок)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77" name="Oval 6"/>
          <p:cNvSpPr/>
          <p:nvPr/>
        </p:nvSpPr>
        <p:spPr>
          <a:xfrm>
            <a:off x="5181480" y="3886200"/>
            <a:ext cx="3581640" cy="2362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Технологии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педагогических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мастерских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(П. Ланжевен,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А. Валлон)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B91B-3683-4BBF-BD3A-8B6FA9A70D2E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79" name="Rectangle 2"/>
          <p:cNvSpPr/>
          <p:nvPr/>
        </p:nvSpPr>
        <p:spPr>
          <a:xfrm>
            <a:off x="838080" y="685800"/>
            <a:ext cx="7010640" cy="160020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Природосообразные технологии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80" name="Oval 3"/>
          <p:cNvSpPr/>
          <p:nvPr/>
        </p:nvSpPr>
        <p:spPr>
          <a:xfrm>
            <a:off x="685800" y="3124080"/>
            <a:ext cx="3429000" cy="28958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Природосообразное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воспитание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грамотности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(А.М. Кушнир)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81" name="Oval 4"/>
          <p:cNvSpPr/>
          <p:nvPr/>
        </p:nvSpPr>
        <p:spPr>
          <a:xfrm>
            <a:off x="5257800" y="3048120"/>
            <a:ext cx="3124080" cy="32004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Технология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саморазвития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(М. Монессори)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C48D-3BCC-4651-933B-C999498AFF20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Школа адаптирующей педагогики (Е.А. Ямбург, Б.А. Бройде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Модель «Русская школа» (М. Щетиник, И.Ф. Гончаров, Л.Н. Погодина и др.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«Школа самоопределения» (А.Н. Тубельский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Школа-парк (М.А. Балабан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Агрошкола (А.А. Католиков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«Школа завтрашнего дня» (Д.Ховард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5" name="Rectangle 4"/>
          <p:cNvSpPr/>
          <p:nvPr/>
        </p:nvSpPr>
        <p:spPr>
          <a:xfrm>
            <a:off x="762120" y="685800"/>
            <a:ext cx="7162560" cy="91440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Технологии авторских школ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Дата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188E-95E8-4F09-9300-A833381DC05E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80880" y="456840"/>
            <a:ext cx="8382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33"/>
                </a:solidFill>
                <a:latin typeface="Monotype Corsiva"/>
              </a:rPr>
              <a:t>Если учитель не научился анализировать факты и сознавать педагогические явления, то повторяющиеся из года в год дела кажутся ему скучными, однообразными, он теряет интерес к собственному труду…. Сущность педагогического опыта в том заключается, что перед учителем каждый год открывается что-то новое, и в стремлении постигнуть новое раскрываются его творческие силы»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33"/>
                </a:solidFill>
                <a:latin typeface="Monotype Corsiva"/>
              </a:rPr>
              <a:t>                                    </a:t>
            </a:r>
            <a:r>
              <a:rPr b="0" lang="ru-RU" sz="3000" spc="-1" strike="noStrike">
                <a:solidFill>
                  <a:srgbClr val="333333"/>
                </a:solidFill>
                <a:latin typeface="Monotype Corsiva"/>
              </a:rPr>
              <a:t>В.А. Сухомлинский                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9659-FF0A-45B0-AE86-90BCA8945C8F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Задач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аскрыть сущность образовательной парадигмы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ассмотреть сравнительные особенности традиционной и инновационной педагогики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аскрыть сущность понятия «современные педагогические технологии»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ознакомить с классификацией современных педагогических технологий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оказать опыт использования современных педагогических технологий в практике работы учителей школы; приобщить учителей к самоанализу и самооценке своих действий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азработать меры по совершенствованию деятельности педагогического коллектива по использованию современных педагогических технологий в процессе обучения и воспитания учащихся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Дата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7250-B19D-405D-87FD-D765DF7C4999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…</a:t>
            </a: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.Развивающемуся обществу нужны современно образованные, нравственные, предприимчивые люди, которые могут самостоятельно принимать ответственные решения в ситуации выбора, прогнозируя их возможные последствия, способны</a:t>
            </a:r>
            <a:r>
              <a:rPr b="0" lang="ru-RU" sz="2800" spc="-1" strike="noStrike">
                <a:solidFill>
                  <a:srgbClr val="004c2b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 к сотрудничеству, отличаются мобильностью, динамизмом, конструктивностью, обладают развитым чувством ответственности за судьбу страны».</a:t>
            </a:r>
            <a:br>
              <a:rPr sz="2800"/>
            </a:b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                (Концепция модернизации российского         образования)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307360" y="518148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p:transition spd="med"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C442-1FE1-4718-84BA-69D3745B397A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06" name="Freeform 1026"/>
          <p:cNvSpPr/>
          <p:nvPr/>
        </p:nvSpPr>
        <p:spPr>
          <a:xfrm>
            <a:off x="0" y="0"/>
            <a:ext cx="9144000" cy="6705720"/>
          </a:xfrm>
          <a:prstGeom prst="pie">
            <a:avLst/>
          </a:prstGeom>
          <a:blipFill rotWithShape="0">
            <a:blip r:embed="rId2"/>
            <a:srcRect/>
            <a:stretch/>
          </a:blipFill>
          <a:ln cap="rnd" w="9360">
            <a:solidFill>
              <a:srgbClr val="333333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pic>
        <p:nvPicPr>
          <p:cNvPr id="107" name="Picture 1027" descr="C:\Program Files\Common Files\Microsoft Shared\Clipart\cagcat50\BD06662_.WMF"/>
          <p:cNvPicPr/>
          <p:nvPr/>
        </p:nvPicPr>
        <p:blipFill>
          <a:blip r:embed="rId3"/>
          <a:stretch/>
        </p:blipFill>
        <p:spPr>
          <a:xfrm>
            <a:off x="6781680" y="685800"/>
            <a:ext cx="2362320" cy="2090880"/>
          </a:xfrm>
          <a:prstGeom prst="rect">
            <a:avLst/>
          </a:prstGeom>
          <a:ln w="0">
            <a:noFill/>
          </a:ln>
        </p:spPr>
      </p:pic>
      <p:sp>
        <p:nvSpPr>
          <p:cNvPr id="108" name="WordArt 1028"/>
          <p:cNvSpPr txBox="1"/>
          <p:nvPr/>
        </p:nvSpPr>
        <p:spPr>
          <a:xfrm>
            <a:off x="1143000" y="990720"/>
            <a:ext cx="3809880" cy="18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Необходим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создат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педагогическую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среду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109" name="WordArt 1029"/>
          <p:cNvSpPr txBox="1"/>
          <p:nvPr/>
        </p:nvSpPr>
        <p:spPr>
          <a:xfrm rot="34800">
            <a:off x="4038480" y="380880"/>
            <a:ext cx="245268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лияющую</a:t>
            </a:r>
            <a:endParaRPr b="0" lang="en-US" sz="32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 разные аспекты</a:t>
            </a:r>
            <a:endParaRPr b="0" lang="en-US" sz="32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 стороны</a:t>
            </a:r>
            <a:endParaRPr b="0" lang="en-US" sz="32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азвития личности,</a:t>
            </a:r>
            <a:endParaRPr b="0" lang="en-US" sz="32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0" name="AutoShape 1030"/>
          <p:cNvSpPr/>
          <p:nvPr/>
        </p:nvSpPr>
        <p:spPr>
          <a:xfrm>
            <a:off x="6389640" y="3608280"/>
            <a:ext cx="2373480" cy="1415160"/>
          </a:xfrm>
          <a:prstGeom prst="wedgeRoundRectCallout">
            <a:avLst>
              <a:gd name="adj1" fmla="val -51726"/>
              <a:gd name="adj2" fmla="val -64111"/>
              <a:gd name="adj3" fmla="val 16667"/>
            </a:avLst>
          </a:prstGeom>
          <a:solidFill>
            <a:srgbClr val="a9bda9"/>
          </a:soli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процессов, явлений, событий, свойств, законов  и закономерностей, отношений и др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11" name="Text Box 1032"/>
          <p:cNvSpPr/>
          <p:nvPr/>
        </p:nvSpPr>
        <p:spPr>
          <a:xfrm>
            <a:off x="228600" y="259092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дать условия для появления у учащихся мотива к самоизменению, личностному росту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12" name="Text Box 1033"/>
          <p:cNvSpPr/>
          <p:nvPr/>
        </p:nvSpPr>
        <p:spPr>
          <a:xfrm>
            <a:off x="2438280" y="388620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дать условия для возможности к реализации «Я – концепции» («Я – могу» - «я – хочу» - «я – нравлюсь»)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13" name="Text Box 1034"/>
          <p:cNvSpPr/>
          <p:nvPr/>
        </p:nvSpPr>
        <p:spPr>
          <a:xfrm>
            <a:off x="4267080" y="2286000"/>
            <a:ext cx="2895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дать условия для приобретения учащимися средств познания и исследования мира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14" name="AutoShape 1035">
            <a:hlinkClick r:id="" action="ppaction://hlinkshowjump?jump=nextslide"/>
          </p:cNvPr>
          <p:cNvSpPr/>
          <p:nvPr/>
        </p:nvSpPr>
        <p:spPr>
          <a:xfrm>
            <a:off x="762012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15" name="AutoShape 1036">
            <a:hlinkClick r:id="" action="ppaction://hlinkshowjump?jump=previousslide"/>
          </p:cNvPr>
          <p:cNvSpPr/>
          <p:nvPr/>
        </p:nvSpPr>
        <p:spPr>
          <a:xfrm>
            <a:off x="701028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16" name="Text Box 1037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9500"/>
                            </p:stCondLst>
                            <p:childTnLst>
                              <p:par>
                                <p:cTn id="5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8C23-4D3C-49D1-BF73-35742D60713D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18" name="Freeform 2"/>
          <p:cNvSpPr/>
          <p:nvPr/>
        </p:nvSpPr>
        <p:spPr>
          <a:xfrm>
            <a:off x="0" y="0"/>
            <a:ext cx="9144000" cy="6705720"/>
          </a:xfrm>
          <a:prstGeom prst="pie">
            <a:avLst/>
          </a:prstGeom>
          <a:blipFill rotWithShape="0">
            <a:blip r:embed="rId2"/>
            <a:srcRect/>
            <a:stretch/>
          </a:blipFill>
          <a:ln cap="rnd" w="9360">
            <a:solidFill>
              <a:srgbClr val="333333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19" name="WordArt 3"/>
          <p:cNvSpPr txBox="1"/>
          <p:nvPr/>
        </p:nvSpPr>
        <p:spPr>
          <a:xfrm>
            <a:off x="990720" y="457200"/>
            <a:ext cx="7248240" cy="14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-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ff0000">
                      <a:alpha val="50000"/>
                    </a:srgbClr>
                  </a:outerShdw>
                </a:effectLst>
                <a:latin typeface="Times New Roman"/>
              </a:rPr>
              <a:t>Мастер создает особое пространство,</a:t>
            </a:r>
            <a:endParaRPr b="0" lang="en-US" sz="2400" spc="1" strike="noStrike">
              <a:ln w="936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0"/>
              </a:gradFill>
              <a:effectLst>
                <a:outerShdw dist="17819" dir="2700000" blurRad="0" rotWithShape="0">
                  <a:srgbClr val="ff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ff0000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ff0000">
                      <a:alpha val="50000"/>
                    </a:srgbClr>
                  </a:outerShdw>
                </a:effectLst>
                <a:latin typeface="Times New Roman"/>
              </a:rPr>
              <a:t>обеспечивающее деятельность Учителя и Ученика</a:t>
            </a:r>
            <a:endParaRPr b="0" lang="en-US" sz="2400" spc="1" strike="noStrike">
              <a:ln w="936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0"/>
              </a:gradFill>
              <a:effectLst>
                <a:outerShdw dist="17819" dir="2700000" blurRad="0" rotWithShape="0">
                  <a:srgbClr val="ff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ff0000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ff0000">
                      <a:alpha val="50000"/>
                    </a:srgbClr>
                  </a:outerShdw>
                </a:effectLst>
                <a:latin typeface="Times New Roman"/>
              </a:rPr>
              <a:t>в новой образовательной парадигме.</a:t>
            </a:r>
            <a:endParaRPr b="0" lang="en-US" sz="2400" spc="1" strike="noStrike">
              <a:ln w="936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0"/>
              </a:gradFill>
              <a:effectLst>
                <a:outerShdw dist="17819" dir="2700000" blurRad="0" rotWithShape="0">
                  <a:srgbClr val="ff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914400" y="1981080"/>
            <a:ext cx="2685960" cy="11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десь нет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28600" y="320040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Скуки, принуждения и лени,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219320" y="388620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пассивности и страха ожидания «палки» - двойки,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33520" y="5029200"/>
            <a:ext cx="2819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«неуда» на контрольной работе или на экзамене и желания увернуться от нее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24" name="WordArt 8"/>
          <p:cNvSpPr txBox="1"/>
          <p:nvPr/>
        </p:nvSpPr>
        <p:spPr>
          <a:xfrm>
            <a:off x="5410080" y="1600200"/>
            <a:ext cx="2086200" cy="103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ЗДЕСЬ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419720" y="2819520"/>
            <a:ext cx="3733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Ученик испытывает радость от преодоленной трудности учения, будь то: задача, пример, правило, закон, теорема или  -   выведенное самостоятельно понятие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4572000" y="434340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Ученик открывает мир для себя  -  себя в этом мире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3581280" y="5173560"/>
            <a:ext cx="411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едагог ведет учащегося по пути субъективного открытия, он управляет проблемно – поисковой или исследовательской деятельностью учащегося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28" name="AutoShape 12">
            <a:hlinkClick r:id="" action="ppaction://hlinkshowjump?jump=nextslide"/>
          </p:cNvPr>
          <p:cNvSpPr/>
          <p:nvPr/>
        </p:nvSpPr>
        <p:spPr>
          <a:xfrm>
            <a:off x="762012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29" name="AutoShape 13">
            <a:hlinkClick r:id="" action="ppaction://hlinkshowjump?jump=previousslide"/>
          </p:cNvPr>
          <p:cNvSpPr/>
          <p:nvPr/>
        </p:nvSpPr>
        <p:spPr>
          <a:xfrm>
            <a:off x="701028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pic>
        <p:nvPicPr>
          <p:cNvPr id="131" name="Picture 15" descr="C:\Program Files\Microsoft Office\Clipart\standard\stddir1\bd06220_.wmf"/>
          <p:cNvPicPr/>
          <p:nvPr/>
        </p:nvPicPr>
        <p:blipFill>
          <a:blip r:embed="rId3"/>
          <a:stretch/>
        </p:blipFill>
        <p:spPr>
          <a:xfrm>
            <a:off x="7691400" y="4648320"/>
            <a:ext cx="1452600" cy="16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BC9C-6401-412D-AA6B-CB7606BE2528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876240" y="30492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равнительные особенности традиционной и инновационной педагогики.</a:t>
            </a:r>
            <a:endParaRPr b="0" lang="en-US" sz="20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533520" y="2330280"/>
            <a:ext cx="38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1.      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14400" y="2354400"/>
            <a:ext cx="2286000" cy="337320"/>
          </a:xfrm>
          <a:prstGeom prst="rect">
            <a:avLst/>
          </a:prstGeom>
          <a:solidFill>
            <a:srgbClr val="ff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Цель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3200400" y="223848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Формирование знаний, умений и навыков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867280" y="22860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Развитие личности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533520" y="288756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914400" y="2819520"/>
            <a:ext cx="2286000" cy="580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Интегральная характеристика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3352680" y="29638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«Школа памяти»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5867280" y="29401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«Школа развития»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533520" y="3497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3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914400" y="3429000"/>
            <a:ext cx="2286000" cy="824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Преобладающий тип и характер взаимоотношений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3200400" y="34974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Субъект - объектный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5867280" y="35053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Субъект - субъектный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380880" y="4267080"/>
            <a:ext cx="83822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533520" y="43117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4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914400" y="4335480"/>
            <a:ext cx="2286000" cy="33732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Девиз педагога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3200400" y="43354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«Делай как я»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5867280" y="43117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«Не навреди»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533520" y="47163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5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914400" y="4724280"/>
            <a:ext cx="2286000" cy="580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Характер и стиль взаимодействия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3200400" y="48448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авторитарность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5867280" y="48448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демократичность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55" name="Line 24"/>
          <p:cNvSpPr/>
          <p:nvPr/>
        </p:nvSpPr>
        <p:spPr>
          <a:xfrm>
            <a:off x="380880" y="6019920"/>
            <a:ext cx="83822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533520" y="59878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6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3200400" y="525780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монологичность, закрытость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5867280" y="5181480"/>
            <a:ext cx="289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диалогичность,   открытость,  рефлексивность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914400" y="6087960"/>
            <a:ext cx="2286000" cy="337320"/>
          </a:xfrm>
          <a:prstGeom prst="rect">
            <a:avLst/>
          </a:prstGeom>
          <a:solidFill>
            <a:srgbClr val="c3c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Формы организации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3200400" y="5943600"/>
            <a:ext cx="2666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Фронтальные,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индивидуальные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61" name="Text Box 30"/>
          <p:cNvSpPr/>
          <p:nvPr/>
        </p:nvSpPr>
        <p:spPr>
          <a:xfrm>
            <a:off x="5867280" y="5943600"/>
            <a:ext cx="2895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Групповые,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коллективные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grpSp>
        <p:nvGrpSpPr>
          <p:cNvPr id="162" name="Group 31"/>
          <p:cNvGrpSpPr/>
          <p:nvPr/>
        </p:nvGrpSpPr>
        <p:grpSpPr>
          <a:xfrm>
            <a:off x="380880" y="1676520"/>
            <a:ext cx="8382240" cy="4952880"/>
            <a:chOff x="380880" y="1676520"/>
            <a:chExt cx="8382240" cy="4952880"/>
          </a:xfrm>
        </p:grpSpPr>
        <p:sp>
          <p:nvSpPr>
            <p:cNvPr id="163" name="Text Box 32"/>
            <p:cNvSpPr/>
            <p:nvPr/>
          </p:nvSpPr>
          <p:spPr>
            <a:xfrm>
              <a:off x="457200" y="175248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33"/>
                  </a:solidFill>
                  <a:latin typeface="Arial"/>
                </a:rPr>
                <a:t>№                </a:t>
              </a:r>
              <a:r>
                <a:rPr b="1" lang="ru-RU" sz="1600" spc="-1" strike="noStrike">
                  <a:solidFill>
                    <a:srgbClr val="333333"/>
                  </a:solidFill>
                  <a:latin typeface="Arial"/>
                </a:rPr>
                <a:t>Особенности</a:t>
              </a:r>
              <a:endParaRPr b="0" lang="en-US" sz="16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164" name="Text Box 33"/>
            <p:cNvSpPr/>
            <p:nvPr/>
          </p:nvSpPr>
          <p:spPr>
            <a:xfrm>
              <a:off x="3200400" y="1676520"/>
              <a:ext cx="266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333333"/>
                  </a:solidFill>
                  <a:latin typeface="Arial"/>
                </a:rPr>
                <a:t>Традиционная   </a:t>
              </a:r>
              <a:r>
                <a:rPr b="1" lang="ru-RU" sz="1600" spc="-1" strike="noStrike">
                  <a:solidFill>
                    <a:srgbClr val="333333"/>
                  </a:solidFill>
                  <a:latin typeface="Arial"/>
                </a:rPr>
                <a:t>«Знаниевая» педагогика</a:t>
              </a:r>
              <a:endParaRPr b="0" lang="en-US" sz="16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165" name="Text Box 34"/>
            <p:cNvSpPr/>
            <p:nvPr/>
          </p:nvSpPr>
          <p:spPr>
            <a:xfrm>
              <a:off x="5867280" y="1676520"/>
              <a:ext cx="2895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333333"/>
                  </a:solidFill>
                  <a:latin typeface="Arial"/>
                </a:rPr>
                <a:t>Инновационная </a:t>
              </a:r>
              <a:r>
                <a:rPr b="1" lang="ru-RU" sz="1400" spc="-1" strike="noStrike">
                  <a:solidFill>
                    <a:srgbClr val="333333"/>
                  </a:solidFill>
                  <a:latin typeface="Arial"/>
                </a:rPr>
                <a:t>«Способностная» педагогика</a:t>
              </a:r>
              <a:endParaRPr b="0" lang="en-US" sz="1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380880" y="1676520"/>
              <a:ext cx="8382240" cy="4952880"/>
              <a:chOff x="380880" y="1676520"/>
              <a:chExt cx="8382240" cy="4952880"/>
            </a:xfrm>
          </p:grpSpPr>
          <p:sp>
            <p:nvSpPr>
              <p:cNvPr id="167" name="Line 36"/>
              <p:cNvSpPr/>
              <p:nvPr/>
            </p:nvSpPr>
            <p:spPr>
              <a:xfrm>
                <a:off x="380880" y="1676520"/>
                <a:ext cx="83822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168" name="Line 37"/>
              <p:cNvSpPr/>
              <p:nvPr/>
            </p:nvSpPr>
            <p:spPr>
              <a:xfrm>
                <a:off x="380880" y="167652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169" name="Line 38"/>
              <p:cNvSpPr/>
              <p:nvPr/>
            </p:nvSpPr>
            <p:spPr>
              <a:xfrm>
                <a:off x="8763120" y="167652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170" name="Line 39"/>
              <p:cNvSpPr/>
              <p:nvPr/>
            </p:nvSpPr>
            <p:spPr>
              <a:xfrm>
                <a:off x="914400" y="167652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171" name="Line 40"/>
              <p:cNvSpPr/>
              <p:nvPr/>
            </p:nvSpPr>
            <p:spPr>
              <a:xfrm>
                <a:off x="3200400" y="167652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172" name="Line 41"/>
              <p:cNvSpPr/>
              <p:nvPr/>
            </p:nvSpPr>
            <p:spPr>
              <a:xfrm>
                <a:off x="5867280" y="167652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173" name="Line 42"/>
              <p:cNvSpPr/>
              <p:nvPr/>
            </p:nvSpPr>
            <p:spPr>
              <a:xfrm>
                <a:off x="380880" y="2209680"/>
                <a:ext cx="83822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74" name="Rectangle 43"/>
          <p:cNvSpPr/>
          <p:nvPr/>
        </p:nvSpPr>
        <p:spPr>
          <a:xfrm>
            <a:off x="1113840" y="1066680"/>
            <a:ext cx="69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ff"/>
                </a:solidFill>
                <a:uFillTx/>
                <a:latin typeface="Arial"/>
              </a:rPr>
              <a:t>Характеристики образовательных моделей.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75" name="Line 44"/>
          <p:cNvSpPr/>
          <p:nvPr/>
        </p:nvSpPr>
        <p:spPr>
          <a:xfrm>
            <a:off x="380880" y="2819520"/>
            <a:ext cx="83822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76" name="Line 45"/>
          <p:cNvSpPr/>
          <p:nvPr/>
        </p:nvSpPr>
        <p:spPr>
          <a:xfrm>
            <a:off x="380880" y="4724280"/>
            <a:ext cx="83822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77" name="Line 46"/>
          <p:cNvSpPr/>
          <p:nvPr/>
        </p:nvSpPr>
        <p:spPr>
          <a:xfrm>
            <a:off x="380880" y="6629400"/>
            <a:ext cx="83822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78" name="Line 47"/>
          <p:cNvSpPr/>
          <p:nvPr/>
        </p:nvSpPr>
        <p:spPr>
          <a:xfrm>
            <a:off x="380880" y="3429000"/>
            <a:ext cx="83822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775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EBBA-7E24-4AA4-B4FA-164D5C88718D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907920" y="5257800"/>
            <a:ext cx="2286000" cy="5806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«Формула обучения»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907920" y="3809880"/>
            <a:ext cx="2286000" cy="106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Ведущий тип деятельности осваиваемый учеником: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907920" y="3321000"/>
            <a:ext cx="228600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Ведущий принцип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907920" y="1523880"/>
            <a:ext cx="2286000" cy="337320"/>
          </a:xfrm>
          <a:prstGeom prst="rect">
            <a:avLst/>
          </a:prstGeom>
          <a:solidFill>
            <a:srgbClr val="ff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Методы обучения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374760" y="914400"/>
            <a:ext cx="8381880" cy="4952880"/>
            <a:chOff x="374760" y="914400"/>
            <a:chExt cx="8381880" cy="4952880"/>
          </a:xfrm>
        </p:grpSpPr>
        <p:sp>
          <p:nvSpPr>
            <p:cNvPr id="185" name="Text Box 7"/>
            <p:cNvSpPr/>
            <p:nvPr/>
          </p:nvSpPr>
          <p:spPr>
            <a:xfrm>
              <a:off x="450720" y="990360"/>
              <a:ext cx="26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33"/>
                  </a:solidFill>
                  <a:latin typeface="Arial"/>
                </a:rPr>
                <a:t>№                </a:t>
              </a:r>
              <a:r>
                <a:rPr b="1" lang="ru-RU" sz="1600" spc="-1" strike="noStrike">
                  <a:solidFill>
                    <a:srgbClr val="333333"/>
                  </a:solidFill>
                  <a:latin typeface="Arial"/>
                </a:rPr>
                <a:t>Особенности</a:t>
              </a:r>
              <a:endParaRPr b="0" lang="en-US" sz="16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186" name="Text Box 8"/>
            <p:cNvSpPr/>
            <p:nvPr/>
          </p:nvSpPr>
          <p:spPr>
            <a:xfrm>
              <a:off x="3193920" y="914400"/>
              <a:ext cx="2666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333333"/>
                  </a:solidFill>
                  <a:latin typeface="Arial"/>
                </a:rPr>
                <a:t>Традиционная   </a:t>
              </a:r>
              <a:r>
                <a:rPr b="1" lang="ru-RU" sz="1600" spc="-1" strike="noStrike">
                  <a:solidFill>
                    <a:srgbClr val="333333"/>
                  </a:solidFill>
                  <a:latin typeface="Arial"/>
                </a:rPr>
                <a:t>«Знаниевая» педагогика</a:t>
              </a:r>
              <a:endParaRPr b="0" lang="en-US" sz="16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5860800" y="914400"/>
              <a:ext cx="289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333333"/>
                  </a:solidFill>
                  <a:latin typeface="Arial"/>
                </a:rPr>
                <a:t>Инновационная </a:t>
              </a:r>
              <a:r>
                <a:rPr b="1" lang="ru-RU" sz="1400" spc="-1" strike="noStrike">
                  <a:solidFill>
                    <a:srgbClr val="333333"/>
                  </a:solidFill>
                  <a:latin typeface="Arial"/>
                </a:rPr>
                <a:t>«Способностная» педагогика</a:t>
              </a:r>
              <a:endParaRPr b="0" lang="en-US" sz="1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grpSp>
          <p:nvGrpSpPr>
            <p:cNvPr id="188" name="Group 10"/>
            <p:cNvGrpSpPr/>
            <p:nvPr/>
          </p:nvGrpSpPr>
          <p:grpSpPr>
            <a:xfrm>
              <a:off x="374760" y="914400"/>
              <a:ext cx="8381880" cy="4952880"/>
              <a:chOff x="374760" y="914400"/>
              <a:chExt cx="8381880" cy="4952880"/>
            </a:xfrm>
          </p:grpSpPr>
          <p:sp>
            <p:nvSpPr>
              <p:cNvPr id="189" name="Line 11"/>
              <p:cNvSpPr/>
              <p:nvPr/>
            </p:nvSpPr>
            <p:spPr>
              <a:xfrm>
                <a:off x="374760" y="914400"/>
                <a:ext cx="83818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190" name="Line 12"/>
              <p:cNvSpPr/>
              <p:nvPr/>
            </p:nvSpPr>
            <p:spPr>
              <a:xfrm>
                <a:off x="37476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191" name="Line 13"/>
              <p:cNvSpPr/>
              <p:nvPr/>
            </p:nvSpPr>
            <p:spPr>
              <a:xfrm>
                <a:off x="875664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192" name="Line 14"/>
              <p:cNvSpPr/>
              <p:nvPr/>
            </p:nvSpPr>
            <p:spPr>
              <a:xfrm>
                <a:off x="90792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193" name="Line 15"/>
              <p:cNvSpPr/>
              <p:nvPr/>
            </p:nvSpPr>
            <p:spPr>
              <a:xfrm>
                <a:off x="319392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194" name="Line 16"/>
              <p:cNvSpPr/>
              <p:nvPr/>
            </p:nvSpPr>
            <p:spPr>
              <a:xfrm>
                <a:off x="586080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195" name="Line 17"/>
              <p:cNvSpPr/>
              <p:nvPr/>
            </p:nvSpPr>
            <p:spPr>
              <a:xfrm>
                <a:off x="374760" y="1447560"/>
                <a:ext cx="83818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96" name="Rectangle 18"/>
          <p:cNvSpPr/>
          <p:nvPr/>
        </p:nvSpPr>
        <p:spPr>
          <a:xfrm>
            <a:off x="1108800" y="228600"/>
            <a:ext cx="69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ff"/>
                </a:solidFill>
                <a:uFillTx/>
                <a:latin typeface="Arial"/>
              </a:rPr>
              <a:t>Характеристики образовательных моделей.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97" name="Text Box 19"/>
          <p:cNvSpPr/>
          <p:nvPr/>
        </p:nvSpPr>
        <p:spPr>
          <a:xfrm>
            <a:off x="374760" y="1440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7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98" name="Text Box 20"/>
          <p:cNvSpPr/>
          <p:nvPr/>
        </p:nvSpPr>
        <p:spPr>
          <a:xfrm>
            <a:off x="3193920" y="1515960"/>
            <a:ext cx="25909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Иллюстративно-объяснительные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информационные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99" name="Text Box 21"/>
          <p:cNvSpPr/>
          <p:nvPr/>
        </p:nvSpPr>
        <p:spPr>
          <a:xfrm>
            <a:off x="5861160" y="1440000"/>
            <a:ext cx="289548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Проблемные: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проблемного изложения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частично-поисковый, эвристический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исследовательский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00" name="Line 22"/>
          <p:cNvSpPr/>
          <p:nvPr/>
        </p:nvSpPr>
        <p:spPr>
          <a:xfrm>
            <a:off x="374760" y="3200400"/>
            <a:ext cx="8381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450720" y="3321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8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3270240" y="3276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«продавливания»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5861160" y="32688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«выращивания»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374760" y="3733920"/>
            <a:ext cx="8381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374760" y="3726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9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3193920" y="391464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Репродуктивный, воспроизводящий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07" name="Text Box 29"/>
          <p:cNvSpPr/>
          <p:nvPr/>
        </p:nvSpPr>
        <p:spPr>
          <a:xfrm>
            <a:off x="5861160" y="382284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Продуктивный,  Творческий,       Проблемный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374760" y="4952880"/>
            <a:ext cx="8381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09" name="Text Box 31"/>
          <p:cNvSpPr/>
          <p:nvPr/>
        </p:nvSpPr>
        <p:spPr>
          <a:xfrm>
            <a:off x="450720" y="4944960"/>
            <a:ext cx="4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10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10" name="Text Box 32"/>
          <p:cNvSpPr/>
          <p:nvPr/>
        </p:nvSpPr>
        <p:spPr>
          <a:xfrm>
            <a:off x="3193920" y="5021280"/>
            <a:ext cx="266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Знания – репродуктивная деятельность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5861160" y="50212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Проблемная деятельность  -  рефлексия  -  знания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12" name="Line 34"/>
          <p:cNvSpPr/>
          <p:nvPr/>
        </p:nvSpPr>
        <p:spPr>
          <a:xfrm>
            <a:off x="374760" y="5867280"/>
            <a:ext cx="8381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13" name="AutoShape 35">
            <a:hlinkClick r:id="" action="ppaction://hlinkshowjump?jump=nextslide"/>
          </p:cNvPr>
          <p:cNvSpPr/>
          <p:nvPr/>
        </p:nvSpPr>
        <p:spPr>
          <a:xfrm>
            <a:off x="761364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14" name="AutoShape 36">
            <a:hlinkClick r:id="" action="ppaction://hlinkshowjump?jump=previousslide"/>
          </p:cNvPr>
          <p:cNvSpPr/>
          <p:nvPr/>
        </p:nvSpPr>
        <p:spPr>
          <a:xfrm>
            <a:off x="700416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15" name="Text Box 37"/>
          <p:cNvSpPr/>
          <p:nvPr/>
        </p:nvSpPr>
        <p:spPr>
          <a:xfrm>
            <a:off x="8756640" y="6400800"/>
            <a:ext cx="380880" cy="45972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3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50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09:38:30Z</dcterms:created>
  <dc:creator>Учитель</dc:creator>
  <dc:description/>
  <dc:language>en-US</dc:language>
  <cp:lastModifiedBy>ФЕДОРЕНКО СВЕТЛАНА</cp:lastModifiedBy>
  <dcterms:modified xsi:type="dcterms:W3CDTF">2008-02-19T17:27:59Z</dcterms:modified>
  <cp:revision>55</cp:revision>
  <dc:subject/>
  <dc:title>       Педагогический совет</dc:title>
</cp:coreProperties>
</file>