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9729-91F1-446E-BE88-92D87D0339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9478-F51E-4515-B2EB-3F9A8B27CA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1046-85C1-41F0-8829-B4546DF1B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4F39-B153-4E78-B0CB-0317581CDD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DD4F-7EC5-4D42-9CDD-BC84504EAD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BB08-0A3D-48CA-80BB-64A82097F9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76E8-513A-4B6A-82A4-6AFC8EB25F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E53E-AEC3-436E-90B2-8F222E57CC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CC3F-7654-46B5-8167-C60B8EB26C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0D76-87DF-4BC9-A7AD-53DA935F67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6A40-74CC-4D67-8EE2-5A63A2C1A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979B-BFDD-4CD9-B41F-CBEAC1BC43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895D-80B4-40C4-82D7-CCCBCC76D5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AC5C-95DF-45F7-B04B-6D4A50BD61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BF20-4823-4A54-87EF-74F38D1980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D0BE-2B55-4041-A504-500E5976C7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DDE4-4738-4EA7-92DE-4BC33BDCA2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7FB-A8DD-4B56-9C01-EF7B3078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38D-75FE-46AC-BD7E-DD49878B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B85-A518-4D7E-8745-F50A9E2D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325-DCFD-4F2B-B216-B2E79C73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08C-115A-41C9-9626-F80CC20E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1FD-99C2-4F94-99F8-F9211ACC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A21-3BEB-4D83-B179-4590F062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6DA-56C7-42D0-B2B1-020A3FFA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504-ED90-4604-8D5D-BCA5CF52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160-6F73-4267-ACDA-B8E02703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993-28D1-4EB1-866D-452D86AE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F60-F974-4CCF-944C-F485466F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FBAF-B99F-4692-8663-89C55F16E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4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vg-velvet.ru/media/product/93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heho.ru/UserFiles/image/suvenir/rk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rst-ever.ru/images/2009/05/pencil37.pn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rum.navitel.su/uploads/monthly_02_2010/post-21713-1266759165,05_thumb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47/178/47178389_860a8436efc9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268713058_fold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547640" y="1916280"/>
            <a:ext cx="64090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Arial"/>
              </a:rPr>
              <a:t>«Один- мног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antoshka.mp3" descr=""/>
          <p:cNvPicPr/>
          <p:nvPr/>
        </p:nvPicPr>
        <p:blipFill>
          <a:blip r:embed="rId2"/>
          <a:stretch/>
        </p:blipFill>
        <p:spPr>
          <a:xfrm>
            <a:off x="395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4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МНОГО ЧАШЕ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Картинка 19 из 64000"/>
          <p:cNvPicPr/>
          <p:nvPr/>
        </p:nvPicPr>
        <p:blipFill>
          <a:blip r:embed="rId1"/>
          <a:stretch/>
        </p:blipFill>
        <p:spPr>
          <a:xfrm>
            <a:off x="1403280" y="227160"/>
            <a:ext cx="626436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ОДНА МАШИ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003_MercedesBenz_VisionCLSCoupeConcept1"/>
          <p:cNvPicPr/>
          <p:nvPr/>
        </p:nvPicPr>
        <p:blipFill>
          <a:blip r:embed="rId1"/>
          <a:stretch/>
        </p:blipFill>
        <p:spPr>
          <a:xfrm>
            <a:off x="2124000" y="260280"/>
            <a:ext cx="507708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МНОГО МАШ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Картинка 7 из 64000"/>
          <p:cNvPicPr/>
          <p:nvPr/>
        </p:nvPicPr>
        <p:blipFill>
          <a:blip r:embed="rId1"/>
          <a:stretch/>
        </p:blipFill>
        <p:spPr>
          <a:xfrm>
            <a:off x="1332000" y="476280"/>
            <a:ext cx="65530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igr1"/>
          <p:cNvPicPr/>
          <p:nvPr/>
        </p:nvPicPr>
        <p:blipFill>
          <a:blip r:embed="rId1"/>
          <a:stretch/>
        </p:blipFill>
        <p:spPr>
          <a:xfrm>
            <a:off x="3059280" y="189000"/>
            <a:ext cx="3362040" cy="4379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ОДНА 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ИГРУШ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igr2"/>
          <p:cNvPicPr/>
          <p:nvPr/>
        </p:nvPicPr>
        <p:blipFill>
          <a:blip r:embed="rId1"/>
          <a:stretch/>
        </p:blipFill>
        <p:spPr>
          <a:xfrm>
            <a:off x="5651640" y="981000"/>
            <a:ext cx="2916000" cy="291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igr3"/>
          <p:cNvPicPr/>
          <p:nvPr/>
        </p:nvPicPr>
        <p:blipFill>
          <a:blip r:embed="rId2"/>
          <a:stretch/>
        </p:blipFill>
        <p:spPr>
          <a:xfrm>
            <a:off x="3203640" y="2565360"/>
            <a:ext cx="2049480" cy="204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igr1"/>
          <p:cNvPicPr/>
          <p:nvPr/>
        </p:nvPicPr>
        <p:blipFill>
          <a:blip r:embed="rId3"/>
          <a:stretch/>
        </p:blipFill>
        <p:spPr>
          <a:xfrm>
            <a:off x="1116000" y="0"/>
            <a:ext cx="2444760" cy="318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gr4"/>
          <p:cNvPicPr/>
          <p:nvPr/>
        </p:nvPicPr>
        <p:blipFill>
          <a:blip r:embed="rId4"/>
          <a:stretch/>
        </p:blipFill>
        <p:spPr>
          <a:xfrm>
            <a:off x="3851280" y="260280"/>
            <a:ext cx="1731960" cy="2489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4941720"/>
            <a:ext cx="8675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МНОГО</a:t>
            </a: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ИГРУШЕ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red_apple"/>
          <p:cNvPicPr/>
          <p:nvPr/>
        </p:nvPicPr>
        <p:blipFill>
          <a:blip r:embed="rId1"/>
          <a:stretch/>
        </p:blipFill>
        <p:spPr>
          <a:xfrm>
            <a:off x="2340000" y="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ОДН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 ЯБЛОК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1812845"/>
          <p:cNvPicPr/>
          <p:nvPr/>
        </p:nvPicPr>
        <p:blipFill>
          <a:blip r:embed="rId1"/>
          <a:stretch/>
        </p:blipFill>
        <p:spPr>
          <a:xfrm>
            <a:off x="1979640" y="189000"/>
            <a:ext cx="5400720" cy="4970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МНОГО ЯБЛ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6" descr="mnogo"/>
          <p:cNvPicPr/>
          <p:nvPr/>
        </p:nvPicPr>
        <p:blipFill>
          <a:blip r:embed="rId1"/>
          <a:stretch/>
        </p:blipFill>
        <p:spPr>
          <a:xfrm>
            <a:off x="1979640" y="476280"/>
            <a:ext cx="5492880" cy="4125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"/>
          <p:cNvSpPr/>
          <p:nvPr/>
        </p:nvSpPr>
        <p:spPr>
          <a:xfrm>
            <a:off x="540360" y="4941720"/>
            <a:ext cx="836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ДИН  -  МНОГ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дин-много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ОДНА РУЧ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9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0"/>
            <a:ext cx="32274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Картинка 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549360"/>
            <a:ext cx="4175280" cy="3527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НОГО РУЧЕ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ff0000"/>
                </a:solidFill>
                <a:latin typeface="Arial"/>
              </a:rPr>
              <a:t>ОДИН КАРАНДАШ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Картинка 3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33360"/>
            <a:ext cx="53294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МНОГО КАРАНДАШЕ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Картинка 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260280"/>
            <a:ext cx="50767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ДНА </a:t>
            </a:r>
            <a:r>
              <a:rPr b="1" lang="uk-UA" sz="8000" spc="-1" strike="noStrike">
                <a:solidFill>
                  <a:srgbClr val="ff0000"/>
                </a:solidFill>
                <a:latin typeface="Arial"/>
              </a:rPr>
              <a:t>КНИГ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Картинка 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189000"/>
            <a:ext cx="5076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МНОГО КНИ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books_1"/>
          <p:cNvPicPr/>
          <p:nvPr/>
        </p:nvPicPr>
        <p:blipFill>
          <a:blip r:embed="rId1"/>
          <a:stretch/>
        </p:blipFill>
        <p:spPr>
          <a:xfrm>
            <a:off x="1692360" y="0"/>
            <a:ext cx="54007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ОДНА ЧАШ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Картинка 7 из 64000"/>
          <p:cNvPicPr/>
          <p:nvPr/>
        </p:nvPicPr>
        <p:blipFill>
          <a:blip r:embed="rId1"/>
          <a:stretch/>
        </p:blipFill>
        <p:spPr>
          <a:xfrm>
            <a:off x="2700360" y="333360"/>
            <a:ext cx="49687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4:17:20Z</dcterms:created>
  <dc:creator>Fozzy</dc:creator>
  <dc:description/>
  <dc:language>en-US</dc:language>
  <cp:lastModifiedBy>Пользователь</cp:lastModifiedBy>
  <dcterms:modified xsi:type="dcterms:W3CDTF">2015-10-18T06:59:56Z</dcterms:modified>
  <cp:revision>16</cp:revision>
  <dc:subject/>
  <dc:title>ОДНА РУЧКА</dc:title>
</cp:coreProperties>
</file>