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6DF-E199-4E87-9C0F-960491ACA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B5E-4AA5-4049-AE15-11F4D990C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BB83-2C90-431E-A3F7-E97D86A2E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87C-89A1-4599-87DA-BBBD83899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514-0F8B-4853-A895-111F794E3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686E-A4BE-45AA-86F6-D352AA895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C81-09CB-4417-B4D2-1B9F46F6B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17F-492E-4DF4-87F8-513709BF7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214-39EE-4389-BFD7-01A8AA43B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19C-1CBF-4326-A414-26BF60384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A05-E129-4229-B521-CE8FF6D5F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297-4286-4F0F-A8F8-701B078A8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9264-77A7-402F-BFCD-B34A7B0CE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E89-12AF-4D79-B805-9A80B8BA5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59F8-92D6-4886-86E1-F690A8861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2F36-CE63-471E-A0BF-FB987583F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A0A0-774E-458D-B620-64850ED5F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735-8151-4515-A53F-5E08B9D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15A-B8EC-40C6-AEF0-CC1BF82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F36-984A-439F-8970-46C5FFBF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AA8-1920-44EA-B46B-0EC51C61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35F-3B53-40B8-8BD3-BF1E81C1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36D-3C2F-4545-BE21-013D3AB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6DD-21E6-45D1-B556-511FFAC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2A3-F562-4570-AF0B-9016FA6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AC5-3453-44C1-A8F9-3B75E59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520-F536-47FE-AF39-5F7C372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6D7-6C43-45DC-B236-7D30AD9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6E2-1CB9-4A7D-B869-8517017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AD2-6C74-4227-9372-75C3F15CC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vg-velvet.ru/media/product/93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ho.ru/UserFiles/image/suvenir/rk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rst-ever.ru/images/2009/05/pencil37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navitel.su/uploads/monthly_02_2010/post-21713-1266759165,05_thum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178/47178389_860a8436efc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68713058_fol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47640" y="1916280"/>
            <a:ext cx="64090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«Один- мног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ntoshka.mp3" descr=""/>
          <p:cNvPicPr/>
          <p:nvPr/>
        </p:nvPicPr>
        <p:blipFill>
          <a:blip r:embed="rId2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ЧАШЕ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9 из 64000"/>
          <p:cNvPicPr/>
          <p:nvPr/>
        </p:nvPicPr>
        <p:blipFill>
          <a:blip r:embed="rId1"/>
          <a:stretch/>
        </p:blipFill>
        <p:spPr>
          <a:xfrm>
            <a:off x="1403280" y="227160"/>
            <a:ext cx="62643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МАШ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03_MercedesBenz_VisionCLSCoupeConcept1"/>
          <p:cNvPicPr/>
          <p:nvPr/>
        </p:nvPicPr>
        <p:blipFill>
          <a:blip r:embed="rId1"/>
          <a:stretch/>
        </p:blipFill>
        <p:spPr>
          <a:xfrm>
            <a:off x="2124000" y="26028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МАШ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Картинка 7 из 64000"/>
          <p:cNvPicPr/>
          <p:nvPr/>
        </p:nvPicPr>
        <p:blipFill>
          <a:blip r:embed="rId1"/>
          <a:stretch/>
        </p:blipFill>
        <p:spPr>
          <a:xfrm>
            <a:off x="1332000" y="476280"/>
            <a:ext cx="65530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gr1"/>
          <p:cNvPicPr/>
          <p:nvPr/>
        </p:nvPicPr>
        <p:blipFill>
          <a:blip r:embed="rId1"/>
          <a:stretch/>
        </p:blipFill>
        <p:spPr>
          <a:xfrm>
            <a:off x="3059280" y="189000"/>
            <a:ext cx="3362040" cy="4379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ИГР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igr2"/>
          <p:cNvPicPr/>
          <p:nvPr/>
        </p:nvPicPr>
        <p:blipFill>
          <a:blip r:embed="rId1"/>
          <a:stretch/>
        </p:blipFill>
        <p:spPr>
          <a:xfrm>
            <a:off x="5651640" y="98100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gr3"/>
          <p:cNvPicPr/>
          <p:nvPr/>
        </p:nvPicPr>
        <p:blipFill>
          <a:blip r:embed="rId2"/>
          <a:stretch/>
        </p:blipFill>
        <p:spPr>
          <a:xfrm>
            <a:off x="3203640" y="256536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igr1"/>
          <p:cNvPicPr/>
          <p:nvPr/>
        </p:nvPicPr>
        <p:blipFill>
          <a:blip r:embed="rId3"/>
          <a:stretch/>
        </p:blipFill>
        <p:spPr>
          <a:xfrm>
            <a:off x="1116000" y="0"/>
            <a:ext cx="2444760" cy="318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gr4"/>
          <p:cNvPicPr/>
          <p:nvPr/>
        </p:nvPicPr>
        <p:blipFill>
          <a:blip r:embed="rId4"/>
          <a:stretch/>
        </p:blipFill>
        <p:spPr>
          <a:xfrm>
            <a:off x="3851280" y="260280"/>
            <a:ext cx="1731960" cy="2489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494172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ИГРУШЕ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red_apple"/>
          <p:cNvPicPr/>
          <p:nvPr/>
        </p:nvPicPr>
        <p:blipFill>
          <a:blip r:embed="rId1"/>
          <a:stretch/>
        </p:blipFill>
        <p:spPr>
          <a:xfrm>
            <a:off x="234000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 ЯБЛОК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1812845"/>
          <p:cNvPicPr/>
          <p:nvPr/>
        </p:nvPicPr>
        <p:blipFill>
          <a:blip r:embed="rId1"/>
          <a:stretch/>
        </p:blipFill>
        <p:spPr>
          <a:xfrm>
            <a:off x="1979640" y="189000"/>
            <a:ext cx="5400720" cy="497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ЯБЛ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mnogo"/>
          <p:cNvPicPr/>
          <p:nvPr/>
        </p:nvPicPr>
        <p:blipFill>
          <a:blip r:embed="rId1"/>
          <a:stretch/>
        </p:blipFill>
        <p:spPr>
          <a:xfrm>
            <a:off x="1979640" y="476280"/>
            <a:ext cx="5492880" cy="4125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540360" y="4941720"/>
            <a:ext cx="836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ДИН  -  МНОГ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дин-много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ДНА РУ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0"/>
            <a:ext cx="3227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549360"/>
            <a:ext cx="4175280" cy="3527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НОГО РУЧЕ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0000"/>
                </a:solidFill>
                <a:latin typeface="Arial"/>
              </a:rPr>
              <a:t>ОДИН КАРАНДАШ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3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33360"/>
            <a:ext cx="5329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КАРАНДАШ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60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ДНА 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КНИ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8900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МНОГО КНИ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books_1"/>
          <p:cNvPicPr/>
          <p:nvPr/>
        </p:nvPicPr>
        <p:blipFill>
          <a:blip r:embed="rId1"/>
          <a:stretch/>
        </p:blipFill>
        <p:spPr>
          <a:xfrm>
            <a:off x="1692360" y="0"/>
            <a:ext cx="5400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Arial"/>
              </a:rPr>
              <a:t>ОДНА ЧА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Картинка 7 из 64000"/>
          <p:cNvPicPr/>
          <p:nvPr/>
        </p:nvPicPr>
        <p:blipFill>
          <a:blip r:embed="rId1"/>
          <a:stretch/>
        </p:blipFill>
        <p:spPr>
          <a:xfrm>
            <a:off x="2700360" y="333360"/>
            <a:ext cx="4968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17:20Z</dcterms:created>
  <dc:creator>Fozzy</dc:creator>
  <dc:description/>
  <dc:language>en-US</dc:language>
  <cp:lastModifiedBy>Пользователь</cp:lastModifiedBy>
  <dcterms:modified xsi:type="dcterms:W3CDTF">2015-10-18T06:59:56Z</dcterms:modified>
  <cp:revision>16</cp:revision>
  <dc:subject/>
  <dc:title>ОДНА РУЧКА</dc:title>
</cp:coreProperties>
</file>