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B31F-8579-436E-9049-84971A05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5A2B-7264-4BA0-9454-C6D468D0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4CE9-4785-433A-B0E5-8934EE42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CB5A-E8EA-427F-A214-00046088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4B27-C5B6-4F9D-AF6B-62ED7267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E1C1-2D5D-4387-B7DA-A0140EDA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7468-871F-42E0-BA3C-6EA058CC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685D-22A2-4A1E-A0D8-BA6BD588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D52E-54A2-41D9-8B98-BFA14CD8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291E-4254-43D8-B36B-AA4A02E6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23FB-AE52-4D42-9225-A88F90B3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69FC-D37B-40E2-9869-85983ED0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68D1-B2BF-42B7-9DA1-FA31599A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70D7-25D7-434C-AACD-2D0F073F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ED59-A5EB-49CA-8629-7AB5EF96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DC2E-B512-4BED-B233-EE419B4B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C055-1E12-4C42-B291-B5DCE1B9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6785-5E0C-4BD9-ABFC-0DDE5FE9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9BC3-E05D-4344-A701-F580B233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4D11-571A-45B3-9E2E-AE33F4D4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F353-762D-482F-B87F-8BC34A5B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1C1C-16ED-4FE3-A76B-E1EED464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D3F5-B905-44E4-BCAD-B5CF5522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B569-0AD4-4A41-8EB0-0E3E735F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9F22-6C13-4350-8351-E71E622266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E6F5-3D32-4A3F-B089-1172E8987C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336666"/>
                </a:solidFill>
                <a:latin typeface="Arial Black"/>
              </a:rPr>
              <a:t>Правописание безударных личных окончаний глаголов в настоящем и будущем времен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66"/>
                </a:solidFill>
                <a:latin typeface="Arial Black"/>
              </a:rPr>
              <a:t>1.Спряжение-это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) изменение глаголов по родам и числа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) изменение глаголов по по числам и лица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) изменение глаголов по числам и времена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) изменение глаголов по временам и лица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66"/>
                </a:solidFill>
                <a:latin typeface="Arial Black"/>
              </a:rPr>
              <a:t>2.Признаками </a:t>
            </a:r>
            <a:r>
              <a:rPr b="1" lang="en-US" sz="3600" spc="-1" strike="noStrike">
                <a:solidFill>
                  <a:srgbClr val="336666"/>
                </a:solidFill>
                <a:latin typeface="Arial Black"/>
              </a:rPr>
              <a:t>I </a:t>
            </a:r>
            <a:r>
              <a:rPr b="1" lang="ru-RU" sz="3600" spc="-1" strike="noStrike">
                <a:solidFill>
                  <a:srgbClr val="336666"/>
                </a:solidFill>
                <a:latin typeface="Arial Black"/>
              </a:rPr>
              <a:t>спряжения глаголов являются: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буквы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(ё), у(ю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оконч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буквы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,а,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оконч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буквы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(ё), а(я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оконч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буквы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, у(ю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оконч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66"/>
                </a:solidFill>
                <a:latin typeface="Arial Black"/>
              </a:rPr>
              <a:t>3.Глаголом –исключением является: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вид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пис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нос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сид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66"/>
                </a:solidFill>
                <a:latin typeface="Arial Black"/>
              </a:rPr>
              <a:t>4. Глаголом </a:t>
            </a:r>
            <a:r>
              <a:rPr b="1" lang="en-US" sz="3600" spc="-1" strike="noStrike">
                <a:solidFill>
                  <a:srgbClr val="336666"/>
                </a:solidFill>
                <a:latin typeface="Arial Black"/>
              </a:rPr>
              <a:t>II </a:t>
            </a:r>
            <a:r>
              <a:rPr b="1" lang="ru-RU" sz="3600" spc="-1" strike="noStrike">
                <a:solidFill>
                  <a:srgbClr val="336666"/>
                </a:solidFill>
                <a:latin typeface="Arial Black"/>
              </a:rPr>
              <a:t>спряжения является: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припл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по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промокн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долб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66"/>
                </a:solidFill>
                <a:latin typeface="Arial Black"/>
              </a:rPr>
              <a:t>5. Буква </a:t>
            </a:r>
            <a:r>
              <a:rPr b="1" i="1" lang="ru-RU" sz="3600" spc="-1" strike="noStrike">
                <a:solidFill>
                  <a:srgbClr val="336666"/>
                </a:solidFill>
                <a:latin typeface="Arial Black"/>
              </a:rPr>
              <a:t>и</a:t>
            </a:r>
            <a:r>
              <a:rPr b="1" lang="ru-RU" sz="3600" spc="-1" strike="noStrike">
                <a:solidFill>
                  <a:srgbClr val="336666"/>
                </a:solidFill>
                <a:latin typeface="Arial Black"/>
              </a:rPr>
              <a:t> пишется в окончании глагола: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стел.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скач.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терп.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се.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Arial Black"/>
              </a:rPr>
              <a:t>6. Укажите вариант, в котором в обоих словах пропущена буква </a:t>
            </a:r>
            <a:r>
              <a:rPr b="1" i="1" lang="ru-RU" sz="3200" spc="-1" strike="noStrike">
                <a:solidFill>
                  <a:srgbClr val="336666"/>
                </a:solidFill>
                <a:latin typeface="Arial Black"/>
              </a:rPr>
              <a:t>е: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вяж.шь, нос.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брос.м, дремл.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ве.м, пол.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стро.шь, обид.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чальная школа</cp:lastModifiedBy>
  <dcterms:modified xsi:type="dcterms:W3CDTF">2015-04-07T11:03:2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