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56E-8EF0-48A8-9DC2-12BBCF3D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7E0-BC63-4185-B180-FFB41C73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A5C-FB56-4F5B-ABC7-816476AD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DC9-D984-4630-9175-E90B87F7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41D8-FB5D-4D18-A40C-7627EC55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5DC6-DEB0-4E86-8F19-176DC40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EBC-74B0-448C-B6A1-FCEC2C5E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C3C-D4F3-437E-B7C8-DE9FF4EB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39C8-8BBB-4F2B-9F71-300FFBAC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6CB-55AD-41CD-AF81-6C9FEAFF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21AB-139E-43F2-844C-A250586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AE6-27BF-46CF-A55F-9CE2E0A7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A58-2606-401C-9DFB-04E25E9D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A6F1-23FA-4226-877A-9C555D5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2932-C9D9-474A-92CF-7D79B4AA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8FD2-FFDD-429F-A2C6-670DC5F2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2113-A18E-4782-94D2-5C3AEEB8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709-F294-4FEE-9077-1ADE93B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CDA-28AB-414F-9199-7EE607EF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2F0-DF2C-4DCE-A698-0DC6965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155-2B9C-429B-AF6F-EA3AE81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CF2-14B6-4660-9608-B4D9028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080-10C2-4281-85BE-68E2D5A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1E9-209C-4352-ABD0-8785873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BE89-EFFD-47D4-A370-1A3870933F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1697-BF0F-4DE7-8438-B7E6CC8430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Правописание безударных личных окончаний глаголов в настоящем и будущем времен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 Black"/>
              </a:rPr>
              <a:t>1.Спряжение-это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родам и числ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по числам и лиц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числам и времен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изменение глаголов по временам и лиц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2.Признаками 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I </a:t>
            </a: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спряжения глаголов являютс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(ё), у(ю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а,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(ё), а(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ук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 у(ю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конч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3.Глаголом –исключением являетс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4. Глаголом </a:t>
            </a: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II </a:t>
            </a: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спряжения являетс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рипл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о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ромокн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долб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5. Буква </a:t>
            </a:r>
            <a:r>
              <a:rPr b="1" i="1" lang="ru-RU" sz="3600" spc="-1" strike="noStrike">
                <a:solidFill>
                  <a:srgbClr val="336666"/>
                </a:solidFill>
                <a:latin typeface="Arial Black"/>
              </a:rPr>
              <a:t>и</a:t>
            </a:r>
            <a:r>
              <a:rPr b="1" lang="ru-RU" sz="3600" spc="-1" strike="noStrike">
                <a:solidFill>
                  <a:srgbClr val="336666"/>
                </a:solidFill>
                <a:latin typeface="Arial Black"/>
              </a:rPr>
              <a:t> пишется в окончании глагола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тел.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кач.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терп.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е.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 Black"/>
              </a:rPr>
              <a:t>6. Укажите вариант, в котором в обоих словах пропущена буква </a:t>
            </a:r>
            <a:r>
              <a:rPr b="1" i="1" lang="ru-RU" sz="3200" spc="-1" strike="noStrike">
                <a:solidFill>
                  <a:srgbClr val="336666"/>
                </a:solidFill>
                <a:latin typeface="Arial Black"/>
              </a:rPr>
              <a:t>е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яж.шь, нос.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брос.м, дремл.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е.м, пол.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тро.шь, обид.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чальная школа</cp:lastModifiedBy>
  <dcterms:modified xsi:type="dcterms:W3CDTF">2015-04-07T11:03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