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A40A-58A4-4FD0-91EF-B449F5A8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D816-EA0E-4FE0-AAB1-49253B78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F98F-1289-4A78-9E78-C64E77F5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981C-3C8A-41A0-863A-DA6602D1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77BF-B2E5-4FE8-BC53-1CC7D6C3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9ACE-2570-47F2-A779-6CE2933A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D64F-434D-4041-B81B-254137C2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97DC-CA54-4DEE-B597-3A587852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EC6B-5C99-4500-8714-8154BB72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ACBF-29E9-4679-9BDA-38439593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B579-3C95-42B2-8EBD-3D92F37A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21C0-9B8F-4932-BC36-C17A9D93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AB01-81ED-4C04-891A-93689BDC6B9A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B054-5E25-413F-A9F9-27B4006C639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e46c0a"/>
                </a:solidFill>
                <a:latin typeface="Georgia"/>
              </a:rPr>
              <a:t>Откуда  к  нам  </a:t>
            </a:r>
            <a:br>
              <a:rPr sz="9600"/>
            </a:br>
            <a:r>
              <a:rPr b="1" lang="ru-RU" sz="9600" spc="-1" strike="noStrike">
                <a:solidFill>
                  <a:srgbClr val="e46c0a"/>
                </a:solidFill>
                <a:latin typeface="Georgia"/>
              </a:rPr>
              <a:t>хлеб  пришёл </a:t>
            </a:r>
            <a:r>
              <a:rPr b="1" lang="en-US" sz="9600" spc="-1" strike="noStrike">
                <a:solidFill>
                  <a:srgbClr val="e46c0a"/>
                </a:solidFill>
                <a:latin typeface="Georgi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D9CC-3B79-4415-9F79-120BDD63ECD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0088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Сначала зёрнышко хлеба сажают в землю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6" descr="3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9B83-FAC6-49A5-81FA-1D0A936DEB4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18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Сажают специальными машинами - сеялкам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59.jpg"/>
          <p:cNvPicPr/>
          <p:nvPr/>
        </p:nvPicPr>
        <p:blipFill>
          <a:blip r:embed="rId1"/>
          <a:stretch/>
        </p:blipFill>
        <p:spPr>
          <a:xfrm>
            <a:off x="1752480" y="1747800"/>
            <a:ext cx="5639040" cy="422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C349-C778-4F57-8588-43C9B202B3A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Потом вырастают вот такие колос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3.jpg"/>
          <p:cNvPicPr/>
          <p:nvPr/>
        </p:nvPicPr>
        <p:blipFill>
          <a:blip r:embed="rId1"/>
          <a:stretch/>
        </p:blipFill>
        <p:spPr>
          <a:xfrm>
            <a:off x="1320840" y="1684440"/>
            <a:ext cx="6502320" cy="43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9A44-7B93-4393-8614-ECF62E2D1A6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Колоски собирают машины - комбайн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16.jpg"/>
          <p:cNvPicPr/>
          <p:nvPr/>
        </p:nvPicPr>
        <p:blipFill>
          <a:blip r:embed="rId1"/>
          <a:stretch/>
        </p:blipFill>
        <p:spPr>
          <a:xfrm>
            <a:off x="1523880" y="1862280"/>
            <a:ext cx="6096240" cy="400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F42D-4597-4F76-9278-927CC1B9886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Отвозят зерно на мельн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41.jpg"/>
          <p:cNvPicPr/>
          <p:nvPr/>
        </p:nvPicPr>
        <p:blipFill>
          <a:blip r:embed="rId1"/>
          <a:stretch/>
        </p:blipFill>
        <p:spPr>
          <a:xfrm>
            <a:off x="1155600" y="1600200"/>
            <a:ext cx="683280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3485-3999-40C1-AB78-1B2A432510B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Там зёрна перемелют в муку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40.jpg"/>
          <p:cNvPicPr/>
          <p:nvPr/>
        </p:nvPicPr>
        <p:blipFill>
          <a:blip r:embed="rId1"/>
          <a:stretch/>
        </p:blipFill>
        <p:spPr>
          <a:xfrm>
            <a:off x="973080" y="1979640"/>
            <a:ext cx="7197840" cy="376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C42C-63C1-401C-BE83-B086AA571C2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45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Из  муки на хлебозаводе  пекут хлеб, булк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5" descr="9.jpg"/>
          <p:cNvPicPr/>
          <p:nvPr/>
        </p:nvPicPr>
        <p:blipFill>
          <a:blip r:embed="rId1"/>
          <a:stretch/>
        </p:blipFill>
        <p:spPr>
          <a:xfrm>
            <a:off x="2333520" y="2071800"/>
            <a:ext cx="4476960" cy="35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9219-914A-4303-A3EC-BB030FE8721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Хлеб го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6" descr="66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Содержимое 7" descr="67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AB6C-CFC0-4FC6-B699-1C2D8730E94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5:13:17Z</dcterms:created>
  <dc:creator>Ольга</dc:creator>
  <dc:description/>
  <dc:language>en-US</dc:language>
  <cp:lastModifiedBy>Ольга</cp:lastModifiedBy>
  <dcterms:modified xsi:type="dcterms:W3CDTF">2015-10-19T17:58:51Z</dcterms:modified>
  <cp:revision>26</cp:revision>
  <dc:subject/>
  <dc:title>Откуда к нам хлеб пришёл</dc:title>
</cp:coreProperties>
</file>