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8353-035E-4B24-91D1-D825B9CB7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D4EF-BEBC-4784-B9EE-6893D599C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A2C7-793F-435D-A61A-E8803C1FE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AF7D-7907-495A-887A-9A6EB5CE0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42E4-B1BA-44A1-AEE7-5D907169F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6D51-3C55-4C76-B3EF-37E1DAEA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0A46-7D24-43EC-BFA9-229EC05AE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A2AB-DC7D-46DA-A417-F3AFF1FB6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C747-0A6A-4AAF-9FDE-CC9DF5B1B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367C-AFAA-4867-87DA-60FA182B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D916-4D59-460A-BA98-721FF60C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B381-BED0-449C-B5F9-EB0E2182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397BA-EB58-4657-B805-5E1F9893DB1E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ролова Ольга Ивановна  д/с № 1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6BF27-0BFD-44F3-A442-B517496BF91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e46c0a"/>
                </a:solidFill>
                <a:latin typeface="Georgia"/>
              </a:rPr>
              <a:t>Откуда  к  нам  </a:t>
            </a:r>
            <a:br>
              <a:rPr sz="9600"/>
            </a:br>
            <a:r>
              <a:rPr b="1" lang="ru-RU" sz="9600" spc="-1" strike="noStrike">
                <a:solidFill>
                  <a:srgbClr val="e46c0a"/>
                </a:solidFill>
                <a:latin typeface="Georgia"/>
              </a:rPr>
              <a:t>хлеб  пришёл </a:t>
            </a:r>
            <a:r>
              <a:rPr b="1" lang="en-US" sz="9600" spc="-1" strike="noStrike">
                <a:solidFill>
                  <a:srgbClr val="e46c0a"/>
                </a:solidFill>
                <a:latin typeface="Georgia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CF27A-BC3F-41ED-8FC3-BF6EE199A5F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30088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Сначала зёрнышко хлеба сажают в землю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Содержимое 6" descr="39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70F0A-9796-4085-B4F0-21DD425A882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362800" cy="18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Сажают специальными машинами - сеялками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Содержимое 3" descr="59.jpg"/>
          <p:cNvPicPr/>
          <p:nvPr/>
        </p:nvPicPr>
        <p:blipFill>
          <a:blip r:embed="rId1"/>
          <a:stretch/>
        </p:blipFill>
        <p:spPr>
          <a:xfrm>
            <a:off x="1752480" y="1747800"/>
            <a:ext cx="5639040" cy="422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7DBA-7169-435C-AFE1-967CDF57CEF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Потом вырастают вот такие колоск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3" descr="3.jpg"/>
          <p:cNvPicPr/>
          <p:nvPr/>
        </p:nvPicPr>
        <p:blipFill>
          <a:blip r:embed="rId1"/>
          <a:stretch/>
        </p:blipFill>
        <p:spPr>
          <a:xfrm>
            <a:off x="1320840" y="1684440"/>
            <a:ext cx="6502320" cy="435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2D479-C1D3-4AA3-9EC9-A0C6EB3D132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Колоски собирают машины - комбайны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3" descr="16.jpg"/>
          <p:cNvPicPr/>
          <p:nvPr/>
        </p:nvPicPr>
        <p:blipFill>
          <a:blip r:embed="rId1"/>
          <a:stretch/>
        </p:blipFill>
        <p:spPr>
          <a:xfrm>
            <a:off x="1523880" y="1862280"/>
            <a:ext cx="6096240" cy="4000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6238A-E321-437E-906E-963200B8253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Отвозят зерно на мельниц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3" descr="41.jpg"/>
          <p:cNvPicPr/>
          <p:nvPr/>
        </p:nvPicPr>
        <p:blipFill>
          <a:blip r:embed="rId1"/>
          <a:stretch/>
        </p:blipFill>
        <p:spPr>
          <a:xfrm>
            <a:off x="1155600" y="1600200"/>
            <a:ext cx="683280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D6969-5C5B-4D06-BFF3-7711F1659B1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Там зёрна перемелют в муку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Содержимое 3" descr="40.jpg"/>
          <p:cNvPicPr/>
          <p:nvPr/>
        </p:nvPicPr>
        <p:blipFill>
          <a:blip r:embed="rId1"/>
          <a:stretch/>
        </p:blipFill>
        <p:spPr>
          <a:xfrm>
            <a:off x="973080" y="1979640"/>
            <a:ext cx="7197840" cy="3767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F19ED-992D-4808-8B01-31C179F9F85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4456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Из  муки на хлебозаводе  пекут хлеб, булки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5" descr="9.jpg"/>
          <p:cNvPicPr/>
          <p:nvPr/>
        </p:nvPicPr>
        <p:blipFill>
          <a:blip r:embed="rId1"/>
          <a:stretch/>
        </p:blipFill>
        <p:spPr>
          <a:xfrm>
            <a:off x="2333520" y="2071800"/>
            <a:ext cx="4476960" cy="3581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3DE4B-777A-4325-AEBA-192A406C76A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Georgia"/>
              </a:rPr>
              <a:t>Хлеб гот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6" descr="66.jpg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6" name="Содержимое 7" descr="67.jpg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7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C4ABD-1A3A-4C6E-ABF8-EA523F30C42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05:13:17Z</dcterms:created>
  <dc:creator>Ольга</dc:creator>
  <dc:description/>
  <dc:language>en-US</dc:language>
  <cp:lastModifiedBy>Ольга</cp:lastModifiedBy>
  <dcterms:modified xsi:type="dcterms:W3CDTF">2015-10-19T17:58:51Z</dcterms:modified>
  <cp:revision>26</cp:revision>
  <dc:subject/>
  <dc:title>Откуда к нам хлеб пришёл</dc:title>
</cp:coreProperties>
</file>