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E33-28E5-4954-8AAB-5546B66D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A18-CF4A-4A74-BF19-67C96A7A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FD96-CC0B-48BB-83B4-7C0818B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52F9-3D99-4226-9142-D3B2482D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9E3E8-FEA4-470E-B112-A40CB40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97FBB-38C0-4B86-BE02-D360A8A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F910-F74F-4EB2-8072-FC414C5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04EF4-DFE8-4B5D-B26B-BFB92B7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60B01-6A99-423A-8592-6D15182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71B32-A946-47F8-B8D1-B113B12E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3EEAD-47A5-43F3-B252-C3611175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2369C-D8CB-4147-8978-A1AAF972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8AA-B1CE-448C-A66F-2F009BF3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3EDCA-37D4-40E6-8A6A-48CBB16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5E240-122D-434E-814A-0514253A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98477-4100-4B63-A8A7-667B0235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B2A5-F627-4003-9354-F0DACAC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5650-8DEA-4033-A38C-E7DB6A2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579F-E6C4-4C45-8E5E-C70BBCD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3978-B43C-4D62-A2B0-08C0E84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701A7-499C-42EB-B557-84B6338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6D6F9-F268-4570-AC4D-B775E92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4693-33FB-4460-A823-1C2B10FD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9FC-F5CD-4151-BDCE-91770A46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3171D-0790-4EDB-810C-FB637BE0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95AAE-7824-4173-8C06-0E4E921C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AB005-0CA1-42B2-8DA2-63BFBFFC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8339-3C3F-468E-A48D-C0AA5E62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0EEC-F3D6-4D74-9B3A-10F27B3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B355-80F5-45D3-8054-62243EC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D272-03C6-4CA2-9491-3486CB45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9C90F-30F8-4D1F-A2B0-2588CA2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572D0-FA69-46A1-BF00-11B59B9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285AA-79CA-4132-BA5E-2629BC7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1C8-8F0D-49A8-BF7A-7BBCB2FF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BA97-ACCA-43DB-A36D-43150F24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EB2A-E84C-4B19-91FA-950818DB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58762-7ECE-482F-A797-EEC082C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D642A-65EF-4CD3-B4BD-CEB21B69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D3D2-3013-4735-ABC7-BD24EC1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BAA28-1F12-46BC-A448-BA37DC2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B0FD0-926D-430C-BF09-E40EDF4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0D934-F1BE-4CF1-8DE1-EBE5672B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A8588-BDF2-4CE6-ADB9-DCC1490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441A0-62EC-49A5-973E-2D534E2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C6B-5842-419B-A1B8-6417316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62D70-28CE-4B4B-AAB7-E35E2F5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110DD-FB40-4879-9637-9129CEC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CA9C5-C7D7-48D3-9577-74D14B5E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C252-F9D0-494E-A6F6-72F796A0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B4B67-64BE-4E6F-A7FF-9169B1BB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862D-3A71-4728-B079-F6846C29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3C8-535D-41DD-99C3-87A6A36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FD4-C734-46EA-835F-73470DD9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6D9C-891B-427E-8B7F-9E722ABD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59B8-C893-42DC-9A24-755D3A9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503-1971-471A-AA6E-D583DF0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A1D1-9C3C-4976-AD8C-A979EF8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A19-845B-4B3E-8F28-5A434AA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9E8C-A4B9-46D6-AB1A-C3FD4FF0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A98C-6E8E-4814-BF26-91DC9185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FEF9-4A75-4337-B38E-BC3437B1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ADD8-2798-43F2-88E1-20E1C1B3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ABE7-6B04-420C-BAFB-3D40DC9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3742-5621-482F-82A0-10A37DDE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371F-4C81-46D0-BB5D-2129504C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6E4E-CA5D-4C0B-82C3-30B8B85B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120-5070-4C78-B9AB-C3503D2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4DD5-5F02-4B21-993F-1A35499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15CF-FA87-4983-9381-D589F1A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A217-51F7-42DC-B604-A087266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F88F-31A1-48B6-A796-D05FB383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5562-0C7E-41C6-A543-0A4BFF8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21E2-B4EB-4098-A860-1C4B8AE6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2DF0-9B53-4E3E-8010-FA3129C4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FDE3-FD6D-4C13-9BBE-E57B72CB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1147-DD61-4907-A9A1-1D5E74F9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43AB-31C3-40C0-915E-0ABEA2B4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E5F-F3D9-411F-9848-BC22109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54CC3-2D72-4770-89F9-9807BBE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4AE6-6452-4F02-879F-2C3A053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7DC7-00FA-4E14-A61C-8DC64FEC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50F1-EA26-4C60-9E26-A9447DB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8EFD-70A2-4DEB-9446-0600421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3B3F-9C4A-4946-939B-F0379C8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B9DC6-A61F-418F-906E-09126185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7673-0505-4730-93C5-A3CA202B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57EF-1D12-4423-9229-AF3BC97A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8352-C7FC-4C4B-A2F5-EEE64E2E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6FD-6D69-47A6-AB2F-2DB47E6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AB62-C695-4CE4-9FD7-B74621E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BDE00-CE9F-46BE-B1E1-9426D6AC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E040-CC0C-4A93-9868-49F0F30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7DD4-5C2C-4843-9AC5-D85C5B0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1EC1-6353-42F4-81AA-ED44BE25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5FD3-7854-468A-943C-4986E39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0EBD-9232-4C8C-9E8A-ABAE2B6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B1A5-0C28-4256-A4D8-50A6114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25E9E-BD1B-4E6D-9158-75B36FD1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F437-3C59-423B-847D-1262A637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164-9302-470C-9C69-45E6145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16B4-FE7A-4744-BADD-86B50D52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5840C-2A84-4F74-AF09-D827CCC2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1A6C-05AD-4EB1-BEB9-800E42A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B6FB-222D-47EB-8472-649D90D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DCFB-134B-463B-B22A-E437A0F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BD93-5E78-41AE-B9C0-1918329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9651-E0E6-4DD4-A398-15CDDD9E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5A0C-1DA2-4EBC-9E47-2B74DA0C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CF03-92B5-439B-90D8-366F3D1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3E14-47AD-4677-948D-4C1891E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C31-79AA-437F-8E7B-87FE00D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4E3A-3FB2-423A-9113-2D1E01DD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1610-6DCD-478E-A363-D9E6C7C0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ABDE-056D-46DC-90C5-F9153D4D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6C4A-276D-48DA-932E-29ADF50A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D3A1-5E14-4106-9A1B-8892AB7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2E87-C91F-4595-966E-AA44831E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3A57-21F6-419D-B463-EA996BE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26490-B1B2-4DEE-AED7-E70C0FE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2095-6BDF-4A05-9808-86210601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FD00-B9E0-4B53-92DE-D27E62C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DE3-35B3-41AA-812D-7003F26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4B73-990C-41F1-941F-451B282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DA2CE-CD45-4A13-A1C3-F0AA830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1852-4721-4505-8244-B69C8118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FE23-80C5-475D-8CF9-76E0A53F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0D54-382A-41E6-9A98-B7A308A5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D8C89-0575-47E7-80B4-357CA60A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1D8C-2634-4A53-B51A-53A1762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D921-9EB3-488C-9954-F409F5C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13EA-003B-4A3A-981C-8328482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A8D6-027E-4E11-A584-E413551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C29-3A0E-4B80-A49F-C779E69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470E-BCC0-4B2C-AE66-5E74170F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69F0-F3D3-40F7-A829-770797A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D58A-FEB4-4243-9A35-4B7EF17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006D-BB9B-46F8-8970-265C196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1A8BC-A721-4FCE-9E32-CBCB4237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C04A-10C1-4FDA-B4B6-67C79445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25D0-B7C3-4955-926D-25F5D557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F1053-8327-44E6-B934-D31B6DCA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91FCB-EC33-4058-8535-8169A2A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2555A-0D5D-4788-A328-8BCF3AD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CB2-CDCA-4A9A-9645-DBA0BC5247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9B07-0015-47FB-8630-DB3D582E9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A69-A9C9-41AB-AB93-4D72BB9E8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FCF-5AFC-4730-AED3-779606472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81D-BD41-477A-95DB-3BD526B55E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A03-79C3-421B-813F-C216930555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C2AA-4AC1-4756-8F4E-9EFCAD283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004-81EC-4A0B-951D-654B0A8EE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A4B-FC56-4879-B7AB-B1904102E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BB12-D5EB-4437-8916-AEC8A779A1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DDF-A460-49E8-986F-BF43F0A80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B86E-0BD4-45D2-B90E-6DB44A9CED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1091;&#1095;&#1077;&#1085;&#1080;&#1082;/&#1054;&#1075;&#1086;&#1088;&#1086;&#1076;%20&#1084;&#1086;&#1077;&#1081;%20&#1073;&#1072;&#1073;&#1091;&#1096;&#1082;&#1080;.ppt" TargetMode="External"/><Relationship Id="rId2" Type="http://schemas.openxmlformats.org/officeDocument/2006/relationships/hyperlink" Target="file:///../&#1076;&#1080;&#1076;&#1072;&#1082;&#1090;&#1080;&#1082;&#1072;/&#1054;&#1075;&#1086;&#1088;&#1086;&#1076;%20&#1085;&#1072;%20&#1086;&#1082;&#1085;&#1077;.ppt" TargetMode="External"/><Relationship Id="rId3" Type="http://schemas.openxmlformats.org/officeDocument/2006/relationships/hyperlink" Target="file:///../&#1091;&#1095;&#1077;&#1085;&#1080;&#1082;/&#1055;&#1088;&#1077;&#1079;&#1077;&#1085;&#1090;&#1072;&#1094;&#1080;&#1103;%20%20&#1052;&#1086;&#1088;&#1082;&#1086;&#1074;&#1100;.ppt" TargetMode="External"/><Relationship Id="rId4" Type="http://schemas.openxmlformats.org/officeDocument/2006/relationships/hyperlink" Target="file:///../&#1091;&#1095;&#1077;&#1085;&#1080;&#1082;/&#1087;&#1088;&#1086;&#1076;&#1086;&#1083;&#1078;&#1077;&#1085;&#1080;&#1077;%20&#1084;&#1086;&#1088;&#1082;&#1086;&#1074;&#1082;&#1072;.ppt" TargetMode="External"/><Relationship Id="rId5" Type="http://schemas.openxmlformats.org/officeDocument/2006/relationships/hyperlink" Target="file:///../&#1091;&#1095;&#1077;&#1085;&#1080;&#1082;/&#1057;&#1074;&#1077;&#1082;&#1083;&#1072;.ppt" TargetMode="External"/><Relationship Id="rId6" Type="http://schemas.openxmlformats.org/officeDocument/2006/relationships/hyperlink" Target="file:///&#1041;&#1091;&#1082;&#1083;&#1077;&#1090;.pub" TargetMode="External"/><Relationship Id="rId7" Type="http://schemas.openxmlformats.org/officeDocument/2006/relationships/hyperlink" Target="file:///../&#1076;&#1080;&#1076;&#1072;&#1082;&#1090;&#1080;&#1082;&#1072;/&#1087;&#1086;&#1075;&#1088;&#1077;&#1073;&#1086;&#1082;%20&#1079;&#1072;&#1075;&#1086;&#1090;&#1086;&#1074;&#1086;&#1082;.pub" TargetMode="External"/><Relationship Id="rId8" Type="http://schemas.openxmlformats.org/officeDocument/2006/relationships/hyperlink" Target="file:///../&#1076;&#1080;&#1076;&#1072;&#1082;&#1090;&#1080;&#1082;&#1072;/&#1085;&#1072;&#1087;&#1080;&#1090;&#1082;&#1080;%20&#1079;&#1072;&#1097;&#1080;&#1090;&#1085;&#1080;&#1082;&#1080;%20-%20&#1089;&#1086;&#1082;&#1080;.ppt" TargetMode="Externa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3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467480" cy="1322280"/>
          </a:xfrm>
          <a:prstGeom prst="rect">
            <a:avLst/>
          </a:prstGeom>
          <a:ln w="0">
            <a:noFill/>
          </a:ln>
        </p:spPr>
      </p:pic>
      <p:sp>
        <p:nvSpPr>
          <p:cNvPr id="493" name="TextBox 10"/>
          <p:cNvSpPr/>
          <p:nvPr/>
        </p:nvSpPr>
        <p:spPr>
          <a:xfrm>
            <a:off x="304920" y="4648320"/>
            <a:ext cx="883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336600"/>
                </a:solidFill>
                <a:latin typeface="Calibri"/>
                <a:ea typeface="Arial"/>
              </a:rPr>
              <a:t>Авторы: Торшенко С.Д. – воспитател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  <a:ea typeface="Arial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336600"/>
                </a:solidFill>
                <a:latin typeface="Calibri"/>
                <a:ea typeface="Arial"/>
              </a:rPr>
              <a:t>МДОКУ детский сад  «Светлячок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4" name="Picture 7" descr="000803_1064_9430_vnvv"/>
          <p:cNvPicPr/>
          <p:nvPr/>
        </p:nvPicPr>
        <p:blipFill>
          <a:blip r:embed="rId2"/>
          <a:stretch/>
        </p:blipFill>
        <p:spPr>
          <a:xfrm>
            <a:off x="304920" y="380880"/>
            <a:ext cx="1447560" cy="1576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2"/>
          <p:cNvSpPr/>
          <p:nvPr/>
        </p:nvSpPr>
        <p:spPr>
          <a:xfrm>
            <a:off x="2133720" y="914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Состав УМ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Box 3"/>
          <p:cNvSpPr/>
          <p:nvPr/>
        </p:nvSpPr>
        <p:spPr>
          <a:xfrm>
            <a:off x="1371600" y="213372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Визитка проект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Дидактические материалы:1,2,3,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Методические материалы: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Примеры работ детей1,2,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Информационные ресурс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9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2"/>
          <p:cNvSpPr/>
          <p:nvPr/>
        </p:nvSpPr>
        <p:spPr>
          <a:xfrm>
            <a:off x="2057400" y="533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mbria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304920" y="1676520"/>
            <a:ext cx="861048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лендарные праздники в детском саду</a:t>
            </a: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 (компакт-диск) – издательство «Учитель», 200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- Развлечения для самых маленьких. Сценарии досугов для детей первой младшей группы. – М.: ТЦ Сфера, 2007. – 96с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– Конспекты логоритмических занятий с детьми 2-3 лет. – М.: ТЦ Сфера, 2007. – 128с. – (Логопед в ДОУ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Забавы для малышей: Театрализованные развлечения для детей 2-3 лет. М.: ТЦ Сфера, 2005. – 192с. (Ранний возраст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Маханева М.Д., Рещикова С.В. – игровые занятия с детьми от 1 до 3 лет: Методичесое пособие для педагогов и родителей. – М.: ТЦ Сфера, 2005. – 96с. (ранний возраст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Овощи какие они? Книга для воспитателей, гувернеров и родителей/Т.А.Шорыгина. – М.: издательство ГНОМ и Д, 2008. – 64с. – (Знакомство с окружающим миром и развитие речи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Ознакомление детей раннего возраста с природой: занятия, наблюдения, досуг и развлечения. Учебное пособие. – М.: Педагогическое общество России, 2006. – 112с. – Зенина Т.Н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Cambria"/>
              </a:rPr>
              <a:t>http</a:t>
            </a: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: </a:t>
            </a:r>
            <a:r>
              <a:rPr b="0" lang="en-US" sz="1600" spc="-1" strike="noStrike">
                <a:solidFill>
                  <a:srgbClr val="336600"/>
                </a:solidFill>
                <a:latin typeface="Cambria"/>
              </a:rPr>
              <a:t>www.viki.rdf.ru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0"/>
          <p:cNvSpPr/>
          <p:nvPr/>
        </p:nvSpPr>
        <p:spPr>
          <a:xfrm>
            <a:off x="152280" y="538020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TextBox 5"/>
          <p:cNvSpPr/>
          <p:nvPr/>
        </p:nvSpPr>
        <p:spPr>
          <a:xfrm>
            <a:off x="1371600" y="1981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mbria"/>
              </a:rPr>
              <a:t>Творческое назва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1371600" y="28954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Вот веселый огород, что здесь только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не растет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8" name="Picture 7" descr="000803_1064_9430_vnvv"/>
          <p:cNvPicPr/>
          <p:nvPr/>
        </p:nvPicPr>
        <p:blipFill>
          <a:blip r:embed="rId1"/>
          <a:stretch/>
        </p:blipFill>
        <p:spPr>
          <a:xfrm>
            <a:off x="228600" y="304920"/>
            <a:ext cx="138924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1523880" y="9144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mbria"/>
              </a:rPr>
              <a:t>Основополагающий вопро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133720" y="25146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ambria"/>
              </a:rPr>
              <a:t>Что ест человек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1" name="Рисунок 25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20040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2" name="Рисунок 19" descr=""/>
          <p:cNvPicPr/>
          <p:nvPr/>
        </p:nvPicPr>
        <p:blipFill>
          <a:blip r:embed="rId2"/>
          <a:stretch/>
        </p:blipFill>
        <p:spPr>
          <a:xfrm>
            <a:off x="6480000" y="2743200"/>
            <a:ext cx="2378160" cy="19321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0" descr=""/>
          <p:cNvPicPr/>
          <p:nvPr/>
        </p:nvPicPr>
        <p:blipFill>
          <a:blip r:embed="rId3"/>
          <a:stretch/>
        </p:blipFill>
        <p:spPr>
          <a:xfrm>
            <a:off x="304920" y="2670120"/>
            <a:ext cx="2011320" cy="2133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000803_1064_9430_vnvv"/>
          <p:cNvPicPr/>
          <p:nvPr/>
        </p:nvPicPr>
        <p:blipFill>
          <a:blip r:embed="rId4"/>
          <a:stretch/>
        </p:blipFill>
        <p:spPr>
          <a:xfrm>
            <a:off x="304920" y="304920"/>
            <a:ext cx="138888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1"/>
          <p:cNvSpPr/>
          <p:nvPr/>
        </p:nvSpPr>
        <p:spPr>
          <a:xfrm>
            <a:off x="2209680" y="457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mbria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1143000" y="19810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ambria"/>
              </a:rPr>
              <a:t>Какие они - овощи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7" name="Рисунок 40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975040" cy="18162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7" descr=""/>
          <p:cNvPicPr/>
          <p:nvPr/>
        </p:nvPicPr>
        <p:blipFill>
          <a:blip r:embed="rId2"/>
          <a:stretch/>
        </p:blipFill>
        <p:spPr>
          <a:xfrm>
            <a:off x="304920" y="4651200"/>
            <a:ext cx="2743200" cy="17496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34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33001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0" name="Picture 7" descr="000803_1064_9430_vnvv"/>
          <p:cNvPicPr/>
          <p:nvPr/>
        </p:nvPicPr>
        <p:blipFill>
          <a:blip r:embed="rId4"/>
          <a:stretch/>
        </p:blipFill>
        <p:spPr>
          <a:xfrm>
            <a:off x="380880" y="228600"/>
            <a:ext cx="138924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28195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ambria"/>
                <a:ea typeface="Arial"/>
              </a:rPr>
              <a:t>О проект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TextBox 2"/>
          <p:cNvSpPr/>
          <p:nvPr/>
        </p:nvSpPr>
        <p:spPr>
          <a:xfrm>
            <a:off x="1143000" y="228600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Типология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информационны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Категория дошкольников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дети 2-3 ле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Предметная область: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Продолжительность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среднесрочны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3" name="Picture 7" descr="000803_1064_9430_vnvv"/>
          <p:cNvPicPr/>
          <p:nvPr/>
        </p:nvPicPr>
        <p:blipFill>
          <a:blip r:embed="rId1"/>
          <a:stretch/>
        </p:blipFill>
        <p:spPr>
          <a:xfrm>
            <a:off x="304920" y="228600"/>
            <a:ext cx="138888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2743200" y="6858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685800" y="175248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понимать характерные признаки некоторых овощей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различать овощи по внешнему виду, называть их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Развивающ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развивать моторику рук, наблюдательность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способствовать формированию информационной культуры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Воспитате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способствовать  воспитанию интереса к познанию окружающего мира, формированию коммуникативно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культуры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6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106668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Аннотация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762120" y="1981080"/>
            <a:ext cx="75438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Данный проект реализуется в ходе изучения темы «Овощи», предусмотренной комплексной программой «Радуга». Участие в проекте позволит детям расширить представления по данной теме, усвоить понятие «овощи», разнообразная продуктивная деятельность подарит радость познания и вызовет интерес к окружающему миру: рисование натуральными красками с использованием овощных печатей и пальчиков, лепка и элементы театр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К проекту могут быть привлечены родители: пошив костюмов, реклама овощей, изготовление витаминных блюд для детей с использованием овощ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Завершит работу над проектом досуг для детей «В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 огороде Заиньки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9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000803_1064_9430_vnvv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4112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2666880" y="304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  <a:ea typeface="Cambria Math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1600200"/>
          <a:ext cx="8196480" cy="5033880"/>
        </p:xfrm>
        <a:graphic>
          <a:graphicData uri="http://schemas.openxmlformats.org/drawingml/2006/table">
            <a:tbl>
              <a:tblPr/>
              <a:tblGrid>
                <a:gridCol w="2438640"/>
                <a:gridCol w="1127160"/>
                <a:gridCol w="2419200"/>
                <a:gridCol w="22114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Название этапа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Ребе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. 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в игр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оздание игровой ситуации, постановка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 Проектиров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в игровой и исследов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Определение тем, формулировка частных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 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5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Наблюдение, продуктивная деятельность, подготовка презентации и пошив костюмов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Координация работы, подбор художественной литературы и иллюст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4. Контрольно-корре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равнение с образц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5. 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детей в занятии-развле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Подготовка занятия-ра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1828800" y="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Частные вопросы и темы исследований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990720" y="19810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33520" y="1371600"/>
          <a:ext cx="8305560" cy="5288040"/>
        </p:xfrm>
        <a:graphic>
          <a:graphicData uri="http://schemas.openxmlformats.org/drawingml/2006/table">
            <a:tbl>
              <a:tblPr/>
              <a:tblGrid>
                <a:gridCol w="2209680"/>
                <a:gridCol w="3048120"/>
                <a:gridCol w="3047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Част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Тем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Формы отче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 Где растут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1. Огород моей бабу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2. Огород на ок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3. Теп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1"/>
                        </a:rPr>
                        <a:t>Фотоальб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2"/>
                        </a:rPr>
                        <a:t>Вы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Мак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 Какого цвета, какой формы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1. Морк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2. Све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3"/>
                        </a:rPr>
                        <a:t>Презентация 1</a:t>
                      </a: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,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4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5"/>
                        </a:rPr>
                        <a:t>Презентация</a:t>
                      </a: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 , выставка  творческих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. Для чего нужны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1.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2.Заготовки на зи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3. Напитки «защиты» - 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Плакат, 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6"/>
                        </a:rPr>
                        <a:t>бук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Творческие работы, 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7"/>
                        </a:rPr>
                        <a:t>газ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8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Итоговое за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«У Заиньки в огород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6" name="Picture 7" descr="000803_1064_9430_vnvv"/>
          <p:cNvPicPr/>
          <p:nvPr/>
        </p:nvPicPr>
        <p:blipFill>
          <a:blip r:embed="rId9"/>
          <a:stretch/>
        </p:blipFill>
        <p:spPr>
          <a:xfrm>
            <a:off x="304920" y="763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0-19T15:05:22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