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83D-9D69-467B-B38C-E78E5C59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ABA-D09A-4245-940F-A5748582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DA589-82D4-47E6-9733-526A7B14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2CDDF-FB4E-4382-92D6-1DD2B81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EED10-0765-4986-85F8-AF8F58F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48AA3-0F08-469D-9D9C-FFC0132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D22D-EEE2-4C24-8BE6-A8C6CAD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83785-1C02-4259-B480-2586479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52690-FC4F-4395-A7EE-14C1785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88C3-612D-4AB8-AB6B-4902A088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70BF7-2D72-4ECF-B64D-FBC757D2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44FE2-88F0-4ED2-BE72-7BB81FB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88D-9C04-4D33-930D-4A8523F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DABAC-CCB9-461E-8234-AA0899E1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7B136-E4C9-4A97-B02E-81A14983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34A1-2C2E-4F8C-9418-42E52A50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80E8-5A0E-47AD-ABB9-C88C1961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31EDC-0F3E-4E1F-BD60-CD86172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69371-7FF7-4DBA-96CD-002DB0F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0268D-9625-4C53-92E6-57E957F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B2380-7845-497D-94BE-7A6B59A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D6BE0-D28C-4662-AB98-2F07B85A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EB24B-59FB-4E54-877F-4AAC004A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99C-38C2-4BA0-B350-B72175E2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6288-119C-4BA1-BCCE-C4B8D5E0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ABCC-48C7-469B-AC18-23680B8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B467-040B-4FA3-B496-5934BFD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9728B-F9E5-453D-BB51-FE3B240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2125B-12EE-4404-85F2-96033B0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6E286-B21B-4881-8963-5CCE772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F89F3-9B9D-473E-A55B-7EBAE5E8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9883-87D9-4750-83D2-62C2C31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343D-95D3-471C-866E-2657480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31A29-A72A-4B20-9BA0-9332754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4E0-3565-4FDD-A5D8-5BA690C8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E90CB-E19D-4108-A1D0-FB8E70F5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852B-A5D7-4DEE-B641-D77BCA4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59DE-665B-438E-A111-97465B51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83CEA-305F-48C9-ABDD-78C0F202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27B7A-9A8D-40DD-A126-446BAB2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903E9-3E84-4ED9-BF21-ECB1EBC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D9119-3409-491E-AB42-E3B10846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840A6-34C7-4BD1-B73D-0B179514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A1D6A-4F1E-4DA8-9975-82A6AC9F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FC911-BD0B-4580-B91E-F1E3F12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D102-B7AB-43AF-B854-92BB638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FBE63-4163-4C6E-8FF5-48DA35C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BDD78-AE7B-4480-BD2D-92B3346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1D1A7-36F1-4DE7-8939-B83353F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79F1-EE39-47BB-8126-77C22FBF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29D2C-A348-4FED-A960-2CE43418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89A-256E-4A28-942E-F6ED1543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D7ED-E103-4D98-A293-F1F4DD6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8BD5-E0E8-4F2E-BCB8-B0F97B2E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E418-8E95-48CD-83F3-468A19A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1DFA-B03F-4232-8165-1996FF6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382-3244-45A1-BDAA-28AD717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3B2-EF2F-4953-95DF-E2B4A59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5330-EED3-4E92-8090-2189F22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168-25BE-4602-A50B-48AC033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027F-20C9-4304-9625-A713B8C0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2435-B2EC-4B14-BCA2-0AB893E7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4C0C-F1B7-4AA1-883B-01250FBB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DC3A-97FC-4C48-B12B-93538CB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24A0-C7DD-424F-B5A5-5EB97E6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3159-9841-4D26-9CAA-C4F40F6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6237-5D00-418E-8A9D-EC3A509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BFA-92C6-4F9F-BAFC-2223931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E5C8-5FE0-462C-BAB8-240542F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772D-983D-47AF-865C-AC4491C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C405-4F0E-4914-83DB-720B778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A605-5C53-4323-93A3-66EFE00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5816-4A17-4BE6-8FF6-B98D935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EC83-A925-4184-BA6C-0092EAE5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4A33-47FB-4C3D-A395-7EE0BD54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B8E1-AA40-4E7D-9066-B5C2F650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BEBE-B4EF-4948-A49C-2C0062D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C3CE-BE18-4BDE-886A-843CAF19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658-7FF6-4D35-8623-FF0B823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5F85-19BF-41DF-A942-5DB20302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18F7-8C0A-417B-9761-41846808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66E6-B0B7-410F-9E8D-6B095D4D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6BEF-B5AB-48A7-A5A6-7F6F951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BA3F-48ED-4E25-BAA9-2E6F37F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687C-2BE6-4363-B77A-54B80CD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4668-C8D5-425C-BE21-03E7F47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6C32-CC4C-4673-8996-DAF93DAF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D5DF-ACB4-48D3-9F27-B165F458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7227-1836-4764-8618-E61E8918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4AD-4BE4-4832-86B4-5EC468A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D933-2D78-43A3-BB66-C68CB21C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3F67-4C5C-4E95-99D8-FECFA740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6815-6B72-4639-B437-E0789789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7924-90B6-4A95-B696-F2028D5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3585-6394-4716-94EF-A9FB817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6919-D198-4202-82C8-BB191EA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D26B-9EC2-43CD-A034-8A2E412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5C8D-FDE6-46CC-8111-02A20EA0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71ED-BA80-4469-A622-F0B3E93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B419-5EAD-46FC-9A86-8A878F33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6F7-961F-4A22-9FEF-837D063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266C-2A6B-4603-ADAD-8E8559A6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653B-7CCB-4C8A-9F85-B4443FCC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6416-42AB-4FF8-91B2-0DEA19C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32182-D882-4023-8C87-16A487F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70B2-E56F-49D3-A805-116F3539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7ECC-107D-41D1-808C-7BBFD1A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FD64E-AB68-425D-9C3B-065A7FD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50A6-FDD1-472D-AE1B-ED2864D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DA75-6A45-4D51-8129-46E91DC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0A2D-65F3-4C03-9AE0-2196886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B7F-B4B6-443F-A47D-E2A2B9D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F9BB-D1B5-45FD-8881-86772B7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24D9-3E99-414B-B398-74F62325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EC8A-E413-4BCC-8E9E-A24809FD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D66C-FA54-4C96-91C1-4470C732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BB0C-EA92-47B0-B945-38F77ED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3CBF5-3C4F-4478-9D67-884D66AC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436C-209E-4A84-8862-E2DC8D4D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044C-0D78-4175-A3DE-02AFF43C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4DF5-1CB0-4BA7-9770-3C93793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B61B-53C8-4C5F-A2C5-064B702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DB7-8CBE-44A3-B339-FAFD367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9E66A-9215-4F29-BE05-93CDE5B7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A261-37CE-4D16-9E55-4C2FC88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026F-53BD-4259-AFC7-3351EEB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D0C2-C78B-434A-81FD-40E27AD8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1CBF-CE81-4CBC-A467-B4BA4D2A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249D-629D-4D3F-B3EA-E622C522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7A8D-149F-4373-8C5D-82F0B75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A376-6657-4CBF-AE29-9A4F9A1F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09B8B-A8DA-4CD8-B823-456FB00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3268-B845-4D80-8C31-F1359B99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C58-1386-495B-9273-03F0B0C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7B736-8F4C-4DA6-9609-F4BF007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B705-DE00-4C85-84A4-830C534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A0937-5D49-4C60-954A-12C7161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12F03-C1EB-4F88-BF0D-4802570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26C9-546D-4877-96B1-2586514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06E3-8979-445A-AD1D-A953482B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4BB0-C665-49FD-8A3D-B9B6E808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1D581-4862-484E-A97B-7A4AEE9A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0E6CC-6AA4-440B-BC43-3C5CBD0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E23E0-40CD-46ED-81A1-2C014C9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E2D-5E11-4989-A2D7-A40273873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F2B-E505-4C5E-960C-942F46AF9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3967-28D8-45EF-88C0-5DACFCA75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DCE6-9C03-44D3-BDE7-87B4CEE7EF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E36A-7E07-4B2A-A612-6E7253E7F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0FF-F132-4D8D-A88D-FD8EC24AEC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3F2-15EE-43E7-90FB-723A70A651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8365-2F7D-4D06-9A2D-236DD8A77F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7D3-3F73-4DA8-BA15-1D2A143F7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FBA7-878F-49C0-B9DE-63B61BFEC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8F3-BB62-41DD-BF9D-2521170B36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14C-6FF1-42EB-BF2B-F21F3B74E6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1091;&#1095;&#1077;&#1085;&#1080;&#1082;/&#1054;&#1075;&#1086;&#1088;&#1086;&#1076;%20&#1084;&#1086;&#1077;&#1081;%20&#1073;&#1072;&#1073;&#1091;&#1096;&#1082;&#1080;.ppt" TargetMode="External"/><Relationship Id="rId2" Type="http://schemas.openxmlformats.org/officeDocument/2006/relationships/hyperlink" Target="file:///../&#1076;&#1080;&#1076;&#1072;&#1082;&#1090;&#1080;&#1082;&#1072;/&#1054;&#1075;&#1086;&#1088;&#1086;&#1076;%20&#1085;&#1072;%20&#1086;&#1082;&#1085;&#1077;.ppt" TargetMode="External"/><Relationship Id="rId3" Type="http://schemas.openxmlformats.org/officeDocument/2006/relationships/hyperlink" Target="file:///../&#1091;&#1095;&#1077;&#1085;&#1080;&#1082;/&#1055;&#1088;&#1077;&#1079;&#1077;&#1085;&#1090;&#1072;&#1094;&#1080;&#1103;%20%20&#1052;&#1086;&#1088;&#1082;&#1086;&#1074;&#1100;.ppt" TargetMode="External"/><Relationship Id="rId4" Type="http://schemas.openxmlformats.org/officeDocument/2006/relationships/hyperlink" Target="file:///../&#1091;&#1095;&#1077;&#1085;&#1080;&#1082;/&#1087;&#1088;&#1086;&#1076;&#1086;&#1083;&#1078;&#1077;&#1085;&#1080;&#1077;%20&#1084;&#1086;&#1088;&#1082;&#1086;&#1074;&#1082;&#1072;.ppt" TargetMode="External"/><Relationship Id="rId5" Type="http://schemas.openxmlformats.org/officeDocument/2006/relationships/hyperlink" Target="file:///../&#1091;&#1095;&#1077;&#1085;&#1080;&#1082;/&#1057;&#1074;&#1077;&#1082;&#1083;&#1072;.ppt" TargetMode="External"/><Relationship Id="rId6" Type="http://schemas.openxmlformats.org/officeDocument/2006/relationships/hyperlink" Target="file:///&#1041;&#1091;&#1082;&#1083;&#1077;&#1090;.pub" TargetMode="External"/><Relationship Id="rId7" Type="http://schemas.openxmlformats.org/officeDocument/2006/relationships/hyperlink" Target="file:///../&#1076;&#1080;&#1076;&#1072;&#1082;&#1090;&#1080;&#1082;&#1072;/&#1087;&#1086;&#1075;&#1088;&#1077;&#1073;&#1086;&#1082;%20&#1079;&#1072;&#1075;&#1086;&#1090;&#1086;&#1074;&#1086;&#1082;.pub" TargetMode="External"/><Relationship Id="rId8" Type="http://schemas.openxmlformats.org/officeDocument/2006/relationships/hyperlink" Target="file:///../&#1076;&#1080;&#1076;&#1072;&#1082;&#1090;&#1080;&#1082;&#1072;/&#1085;&#1072;&#1087;&#1080;&#1090;&#1082;&#1080;%20&#1079;&#1072;&#1097;&#1080;&#1090;&#1085;&#1080;&#1082;&#1080;%20-%20&#1089;&#1086;&#1082;&#1080;.ppt" TargetMode="Externa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3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467480" cy="1322280"/>
          </a:xfrm>
          <a:prstGeom prst="rect">
            <a:avLst/>
          </a:prstGeom>
          <a:ln w="0">
            <a:noFill/>
          </a:ln>
        </p:spPr>
      </p:pic>
      <p:sp>
        <p:nvSpPr>
          <p:cNvPr id="493" name="TextBox 10"/>
          <p:cNvSpPr/>
          <p:nvPr/>
        </p:nvSpPr>
        <p:spPr>
          <a:xfrm>
            <a:off x="304920" y="4648320"/>
            <a:ext cx="883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336600"/>
                </a:solidFill>
                <a:latin typeface="Calibri"/>
                <a:ea typeface="Arial"/>
              </a:rPr>
              <a:t>Авторы: Торшенко С.Д. – воспитател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  <a:ea typeface="Arial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Calibri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336600"/>
                </a:solidFill>
                <a:latin typeface="Calibri"/>
                <a:ea typeface="Arial"/>
              </a:rPr>
              <a:t>МДОКУ детский сад  «Светлячок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4" name="Picture 7" descr="000803_1064_9430_vnvv"/>
          <p:cNvPicPr/>
          <p:nvPr/>
        </p:nvPicPr>
        <p:blipFill>
          <a:blip r:embed="rId2"/>
          <a:stretch/>
        </p:blipFill>
        <p:spPr>
          <a:xfrm>
            <a:off x="304920" y="380880"/>
            <a:ext cx="1447560" cy="1576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2"/>
          <p:cNvSpPr/>
          <p:nvPr/>
        </p:nvSpPr>
        <p:spPr>
          <a:xfrm>
            <a:off x="2133720" y="914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Состав УМ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Box 3"/>
          <p:cNvSpPr/>
          <p:nvPr/>
        </p:nvSpPr>
        <p:spPr>
          <a:xfrm>
            <a:off x="1371600" y="213372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Визитка проект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Дидактические материалы:1,2,3,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Методические материалы: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Примеры работ детей1,2,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</a:rPr>
              <a:t>Информационные ресурс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9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2"/>
          <p:cNvSpPr/>
          <p:nvPr/>
        </p:nvSpPr>
        <p:spPr>
          <a:xfrm>
            <a:off x="2057400" y="533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mbria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304920" y="1676520"/>
            <a:ext cx="861048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лендарные праздники в детском саду</a:t>
            </a: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 (компакт-диск) – издательство «Учитель», 200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- Развлечения для самых маленьких. Сценарии досугов для детей первой младшей группы. – М.: ТЦ Сфера, 2007. – 96с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– Конспекты логоритмических занятий с детьми 2-3 лет. – М.: ТЦ Сфера, 2007. – 128с. – (Логопед в ДОУ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Картушина М.Ю. Забавы для малышей: Театрализованные развлечения для детей 2-3 лет. М.: ТЦ Сфера, 2005. – 192с. (Ранний возраст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Маханева М.Д., Рещикова С.В. – игровые занятия с детьми от 1 до 3 лет: Методичесое пособие для педагогов и родителей. – М.: ТЦ Сфера, 2005. – 96с. (ранний возраст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Овощи какие они? Книга для воспитателей, гувернеров и родителей/Т.А.Шорыгина. – М.: издательство ГНОМ и Д, 2008. – 64с. – (Знакомство с окружающим миром и развитие речи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Ознакомление детей раннего возраста с природой: занятия, наблюдения, досуг и развлечения. Учебное пособие. – М.: Педагогическое общество России, 2006. – 112с. – Зенина Т.Н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Cambria"/>
              </a:rPr>
              <a:t>http</a:t>
            </a:r>
            <a:r>
              <a:rPr b="0" lang="ru-RU" sz="1600" spc="-1" strike="noStrike">
                <a:solidFill>
                  <a:srgbClr val="336600"/>
                </a:solidFill>
                <a:latin typeface="Cambria"/>
              </a:rPr>
              <a:t>: </a:t>
            </a:r>
            <a:r>
              <a:rPr b="0" lang="en-US" sz="1600" spc="-1" strike="noStrike">
                <a:solidFill>
                  <a:srgbClr val="336600"/>
                </a:solidFill>
                <a:latin typeface="Cambria"/>
              </a:rPr>
              <a:t>www.viki.rdf.ru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0"/>
          <p:cNvSpPr/>
          <p:nvPr/>
        </p:nvSpPr>
        <p:spPr>
          <a:xfrm>
            <a:off x="152280" y="538020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TextBox 5"/>
          <p:cNvSpPr/>
          <p:nvPr/>
        </p:nvSpPr>
        <p:spPr>
          <a:xfrm>
            <a:off x="1371600" y="1981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mbria"/>
              </a:rPr>
              <a:t>Творческое назва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1371600" y="28954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Вот веселый огород, что здесь только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не растет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8" name="Picture 7" descr="000803_1064_9430_vnvv"/>
          <p:cNvPicPr/>
          <p:nvPr/>
        </p:nvPicPr>
        <p:blipFill>
          <a:blip r:embed="rId1"/>
          <a:stretch/>
        </p:blipFill>
        <p:spPr>
          <a:xfrm>
            <a:off x="228600" y="304920"/>
            <a:ext cx="138924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1523880" y="9144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mbria"/>
              </a:rPr>
              <a:t>Основополагающий вопро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2133720" y="25146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ambria"/>
              </a:rPr>
              <a:t>Что ест человек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1" name="Рисунок 25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20040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2" name="Рисунок 19" descr=""/>
          <p:cNvPicPr/>
          <p:nvPr/>
        </p:nvPicPr>
        <p:blipFill>
          <a:blip r:embed="rId2"/>
          <a:stretch/>
        </p:blipFill>
        <p:spPr>
          <a:xfrm>
            <a:off x="6480000" y="2743200"/>
            <a:ext cx="2378160" cy="19321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0" descr=""/>
          <p:cNvPicPr/>
          <p:nvPr/>
        </p:nvPicPr>
        <p:blipFill>
          <a:blip r:embed="rId3"/>
          <a:stretch/>
        </p:blipFill>
        <p:spPr>
          <a:xfrm>
            <a:off x="304920" y="2670120"/>
            <a:ext cx="2011320" cy="2133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000803_1064_9430_vnvv"/>
          <p:cNvPicPr/>
          <p:nvPr/>
        </p:nvPicPr>
        <p:blipFill>
          <a:blip r:embed="rId4"/>
          <a:stretch/>
        </p:blipFill>
        <p:spPr>
          <a:xfrm>
            <a:off x="304920" y="304920"/>
            <a:ext cx="138888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1"/>
          <p:cNvSpPr/>
          <p:nvPr/>
        </p:nvSpPr>
        <p:spPr>
          <a:xfrm>
            <a:off x="2209680" y="457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mbria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1143000" y="19810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ambria"/>
              </a:rPr>
              <a:t>Какие они - овощи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7" name="Рисунок 40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975040" cy="18162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7" descr=""/>
          <p:cNvPicPr/>
          <p:nvPr/>
        </p:nvPicPr>
        <p:blipFill>
          <a:blip r:embed="rId2"/>
          <a:stretch/>
        </p:blipFill>
        <p:spPr>
          <a:xfrm>
            <a:off x="304920" y="4651200"/>
            <a:ext cx="2743200" cy="17496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34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33001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0" name="Picture 7" descr="000803_1064_9430_vnvv"/>
          <p:cNvPicPr/>
          <p:nvPr/>
        </p:nvPicPr>
        <p:blipFill>
          <a:blip r:embed="rId4"/>
          <a:stretch/>
        </p:blipFill>
        <p:spPr>
          <a:xfrm>
            <a:off x="380880" y="228600"/>
            <a:ext cx="138924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28195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ambria"/>
                <a:ea typeface="Arial"/>
              </a:rPr>
              <a:t>О проект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TextBox 2"/>
          <p:cNvSpPr/>
          <p:nvPr/>
        </p:nvSpPr>
        <p:spPr>
          <a:xfrm>
            <a:off x="1143000" y="228600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Типология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информационны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Категория дошкольников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дети 2-3 ле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Предметная область: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Продолжительность:</a:t>
            </a:r>
            <a:r>
              <a:rPr b="0" lang="ru-RU" sz="2800" spc="-1" strike="noStrike">
                <a:solidFill>
                  <a:srgbClr val="008000"/>
                </a:solidFill>
                <a:latin typeface="Cambria"/>
                <a:ea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Cambria"/>
                <a:ea typeface="Arial"/>
              </a:rPr>
              <a:t>среднесрочны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3" name="Picture 7" descr="000803_1064_9430_vnvv"/>
          <p:cNvPicPr/>
          <p:nvPr/>
        </p:nvPicPr>
        <p:blipFill>
          <a:blip r:embed="rId1"/>
          <a:stretch/>
        </p:blipFill>
        <p:spPr>
          <a:xfrm>
            <a:off x="304920" y="228600"/>
            <a:ext cx="138888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2743200" y="6858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685800" y="175248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понимать характерные признаки некоторых овощей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различать овощи по внешнему виду, называть их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Развивающ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развивать моторику рук, наблюдательность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способствовать формированию информационной культуры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mbria"/>
              </a:rPr>
              <a:t>Воспитате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способствовать  воспитанию интереса к познанию окружающего мира, формированию коммуникативно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Cambria"/>
                <a:ea typeface="Times New Roman"/>
              </a:rPr>
              <a:t>культуры.</a:t>
            </a:r>
            <a:r>
              <a:rPr b="0" lang="ru-RU" sz="2400" spc="-1" strike="noStrike">
                <a:solidFill>
                  <a:srgbClr val="3366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6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106668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Аннотация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762120" y="1981080"/>
            <a:ext cx="75438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Данный проект реализуется в ходе изучения темы «Овощи», предусмотренной комплексной программой «Радуга». Участие в проекте позволит детям расширить представления по данной теме, усвоить понятие «овощи», разнообразная продуктивная деятельность подарит радость познания и вызовет интерес к окружающему миру: рисование натуральными красками с использованием овощных печатей и пальчиков, лепка и элементы театр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К проекту могут быть привлечены родители: пошив костюмов, реклама овощей, изготовление витаминных блюд для детей с использованием овощ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Завершит работу над проектом досуг для детей «В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 огороде Заиньки</a:t>
            </a:r>
            <a:r>
              <a:rPr b="0" lang="ru-RU" sz="2000" spc="-1" strike="noStrike">
                <a:solidFill>
                  <a:srgbClr val="336600"/>
                </a:solidFill>
                <a:latin typeface="Cambri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9" name="Picture 7" descr="000803_1064_9430_vnvv"/>
          <p:cNvPicPr/>
          <p:nvPr/>
        </p:nvPicPr>
        <p:blipFill>
          <a:blip r:embed="rId1"/>
          <a:stretch/>
        </p:blipFill>
        <p:spPr>
          <a:xfrm>
            <a:off x="457200" y="3049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000803_1064_9430_vnvv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4112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2666880" y="304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  <a:ea typeface="Cambria Math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1600200"/>
          <a:ext cx="8196480" cy="5033880"/>
        </p:xfrm>
        <a:graphic>
          <a:graphicData uri="http://schemas.openxmlformats.org/drawingml/2006/table">
            <a:tbl>
              <a:tblPr/>
              <a:tblGrid>
                <a:gridCol w="2438640"/>
                <a:gridCol w="1127160"/>
                <a:gridCol w="2419200"/>
                <a:gridCol w="22114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Название этапа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Ребе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. 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в игр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оздание игровой ситуации, постановка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 Проектиров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в игровой и исследов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Определение тем, формулировка частных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 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5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Наблюдение, продуктивная деятельность, подготовка презентации и пошив костюмов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Координация работы, подбор художественной литературы и иллюст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4. Контрольно-корре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Сравнение с образц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5. 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1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Участие детей в занятии-развле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Подготовка занятия-ра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1828800" y="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mbria"/>
              </a:rPr>
              <a:t>Частные вопросы и темы исследований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990720" y="19810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33520" y="1371600"/>
          <a:ext cx="8305560" cy="5288040"/>
        </p:xfrm>
        <a:graphic>
          <a:graphicData uri="http://schemas.openxmlformats.org/drawingml/2006/table">
            <a:tbl>
              <a:tblPr/>
              <a:tblGrid>
                <a:gridCol w="2209680"/>
                <a:gridCol w="3048120"/>
                <a:gridCol w="3047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Част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Тем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Формы отче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 Где растут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1. Огород моей бабу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2. Огород на ок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.3. Теп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1"/>
                        </a:rPr>
                        <a:t>Фотоальб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2"/>
                        </a:rPr>
                        <a:t>Вы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Мак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 Какого цвета, какой формы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1. Морк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2.2. Све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3"/>
                        </a:rPr>
                        <a:t>Презентация 1</a:t>
                      </a: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,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4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"/>
                          <a:hlinkClick r:id="rId5"/>
                        </a:rPr>
                        <a:t>Презентация</a:t>
                      </a: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 , выставка  творческих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. Для чего нужны овощ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1.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2.Заготовки на зи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"/>
                        </a:rPr>
                        <a:t>3.3. Напитки «защиты» - 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Плакат, 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6"/>
                        </a:rPr>
                        <a:t>бук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Творческие работы, </a:t>
                      </a: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7"/>
                        </a:rPr>
                        <a:t>газ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Cambria Math"/>
                          <a:ea typeface="Cambria Math"/>
                          <a:hlinkClick r:id="rId8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Итоговое за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mbria Math"/>
                          <a:ea typeface="Cambria Math"/>
                        </a:rPr>
                        <a:t>«У Заиньки в огород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6" name="Picture 7" descr="000803_1064_9430_vnvv"/>
          <p:cNvPicPr/>
          <p:nvPr/>
        </p:nvPicPr>
        <p:blipFill>
          <a:blip r:embed="rId9"/>
          <a:stretch/>
        </p:blipFill>
        <p:spPr>
          <a:xfrm>
            <a:off x="304920" y="76320"/>
            <a:ext cx="123660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0-19T15:05:22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