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D8F9-0308-449F-BB3E-D4D509E1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E2E7-0AA3-49FC-9A25-CAE338A7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31C2-772D-434C-A0CB-48F72643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CC4D-1398-4E8B-81AA-25A06429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53B6-7932-49A9-AC82-54009C45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1C77-CE3D-42F7-97DB-B31F10F8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FDB-E030-483D-A0EA-9E708579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3252-D8DF-4AEB-B5F9-D9C5E986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D363-A011-450F-B31A-01897496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EB57-2F9E-4FA1-8263-9AB24295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8EC6-B9D3-4AD9-A1A7-242F1F8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30D0-5B18-4E52-8F0A-52CFED8C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0B16-B769-4531-94F4-8CFF60F6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9CE6-15F7-4225-B8EA-65A3A2F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C800-7347-4E80-9B34-25BD6D6F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A6A7-ADE8-444B-9F67-A35CFD15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491D-39E5-468C-9197-8C106884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86B7-B03E-4D5D-972C-0A14FED8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D727-9B8F-4D2D-85FE-98C0798B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EFE8-F151-4793-B554-58861AB1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2252-8822-447D-A333-FFA6972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2C97-4A97-49C4-B507-E33E8693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D9BF-A9B5-4D03-98E2-5FBB8290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9983-01CF-486A-B708-35A606B8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B985-93DB-44B9-A1AC-1333014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F98D-1204-409B-82B0-7AA61D8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6660-EFD7-4A0F-BC76-3ECF5A7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592A-870D-4F3A-AE56-51AF0FFF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7F36-892D-4EA2-83D4-6E0ADFDF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0A81-A633-4B5C-9807-9D6B4B00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D7B5-BB64-44E4-9535-959A0E0C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1CE2-DF88-4A08-8A39-CC5E66C6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FEF9-C163-4538-A72E-0BF610EB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512C-76AF-4F91-9E31-99A574C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CE55-1197-4896-8B1D-989C4FB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B9A5-F406-4759-8432-910C006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9765-E16D-4F0D-B0BB-FAD1F7F74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128-8B07-4C4B-AE5D-F270E95962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E3E5-B996-4CDA-95FF-0DB014338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Портфолио   по математик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ученика ________________________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___________________________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ои достижения </a:t>
            </a:r>
            <a:br>
              <a:rPr sz="3600"/>
            </a:b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Участие в олимпиадах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981080"/>
          <a:ext cx="8362800" cy="3886200"/>
        </p:xfrm>
        <a:graphic>
          <a:graphicData uri="http://schemas.openxmlformats.org/drawingml/2006/table">
            <a:tbl>
              <a:tblPr/>
              <a:tblGrid>
                <a:gridCol w="1090440"/>
                <a:gridCol w="2765520"/>
                <a:gridCol w="2416320"/>
                <a:gridCol w="20905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Д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з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ровень участи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Управляющая кнопка: назад 3">
            <a:hlinkClick r:id="rId2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Мои достижения</a:t>
            </a:r>
            <a:br>
              <a:rPr sz="3200"/>
            </a:br>
            <a:r>
              <a:rPr b="1" lang="en-US" sz="32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Участие в мероприятиях и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981080"/>
          <a:ext cx="8362800" cy="3886200"/>
        </p:xfrm>
        <a:graphic>
          <a:graphicData uri="http://schemas.openxmlformats.org/drawingml/2006/table">
            <a:tbl>
              <a:tblPr/>
              <a:tblGrid>
                <a:gridCol w="1090440"/>
                <a:gridCol w="2765520"/>
                <a:gridCol w="2416320"/>
                <a:gridCol w="20905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Д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з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ровень участи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Управляющая кнопка: назад 4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ои достижения </a:t>
            </a:r>
            <a:br>
              <a:rPr sz="3600"/>
            </a:br>
            <a:r>
              <a:rPr b="1" lang="en-US" sz="36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Исследовательская работа и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362800" cy="3886200"/>
        </p:xfrm>
        <a:graphic>
          <a:graphicData uri="http://schemas.openxmlformats.org/drawingml/2006/table">
            <a:tbl>
              <a:tblPr/>
              <a:tblGrid>
                <a:gridCol w="946080"/>
                <a:gridCol w="2909880"/>
                <a:gridCol w="2416320"/>
                <a:gridCol w="20905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Д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зван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ровень участи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Управляющая кнопка: назад 3">
            <a:hlinkClick r:id="rId2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одель портфоли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8360" y="1916280"/>
            <a:ext cx="230328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48000" y="1989000"/>
          <a:ext cx="5545080" cy="2664000"/>
        </p:xfrm>
        <a:graphic>
          <a:graphicData uri="http://schemas.openxmlformats.org/drawingml/2006/table">
            <a:tbl>
              <a:tblPr/>
              <a:tblGrid>
                <a:gridCol w="2016000"/>
                <a:gridCol w="3529080"/>
              </a:tblGrid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амил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От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>
            <a:off x="900000" y="522936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Период, за который представлены документы и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с _______________ 20__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по _______________ 20__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одержание портфоли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зю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Мои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Мои дост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Участие в олимпиадах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Участие в мероприятиях и конкурс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сследовательская работа и проек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Мои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Самоанал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Отзыв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Информационные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22031"/>
                </a:solidFill>
                <a:latin typeface="Times New Roman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7956720" y="5950080"/>
            <a:ext cx="755640" cy="57600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8332" h="21600">
                <a:moveTo>
                  <a:pt x="0" y="0"/>
                </a:moveTo>
                <a:lnTo>
                  <a:pt x="28332" y="0"/>
                </a:lnTo>
                <a:lnTo>
                  <a:pt x="28332" y="21600"/>
                </a:lnTo>
                <a:lnTo>
                  <a:pt x="0" y="21600"/>
                </a:lnTo>
                <a:close/>
              </a:path>
              <a:path fill="lightenLess" w="28332" h="21600">
                <a:moveTo>
                  <a:pt x="0" y="0"/>
                </a:moveTo>
                <a:lnTo>
                  <a:pt x="28332" y="0"/>
                </a:lnTo>
                <a:lnTo>
                  <a:pt x="26932" y="1400"/>
                </a:lnTo>
                <a:lnTo>
                  <a:pt x="1400" y="1400"/>
                </a:lnTo>
                <a:close/>
              </a:path>
              <a:path fill="darken" w="28332" h="21600">
                <a:moveTo>
                  <a:pt x="28332" y="0"/>
                </a:moveTo>
                <a:lnTo>
                  <a:pt x="28332" y="21600"/>
                </a:lnTo>
                <a:lnTo>
                  <a:pt x="26932" y="20200"/>
                </a:lnTo>
                <a:lnTo>
                  <a:pt x="26932" y="1400"/>
                </a:lnTo>
                <a:close/>
              </a:path>
              <a:path fill="darkenLess" w="28332" h="21600">
                <a:moveTo>
                  <a:pt x="28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2" y="20200"/>
                </a:lnTo>
                <a:close/>
              </a:path>
              <a:path fill="lighten" w="28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2" h="21600">
                <a:moveTo>
                  <a:pt x="17665" y="10800"/>
                </a:moveTo>
                <a:lnTo>
                  <a:pt x="7160" y="17806"/>
                </a:lnTo>
                <a:lnTo>
                  <a:pt x="7160" y="3794"/>
                </a:lnTo>
                <a:close/>
              </a:path>
              <a:path fill="darken" w="28332" h="21600">
                <a:moveTo>
                  <a:pt x="19510" y="3794"/>
                </a:moveTo>
                <a:lnTo>
                  <a:pt x="19510" y="17806"/>
                </a:lnTo>
                <a:lnTo>
                  <a:pt x="21173" y="17806"/>
                </a:lnTo>
                <a:lnTo>
                  <a:pt x="21173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imes New Roman"/>
              </a:rPr>
              <a:t>Резю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125360"/>
          <a:ext cx="8785440" cy="5369040"/>
        </p:xfrm>
        <a:graphic>
          <a:graphicData uri="http://schemas.openxmlformats.org/drawingml/2006/table">
            <a:tbl>
              <a:tblPr/>
              <a:tblGrid>
                <a:gridCol w="505080"/>
                <a:gridCol w="4679640"/>
                <a:gridCol w="1584360"/>
                <a:gridCol w="2016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 предме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ложительное, безразличное или негативн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я предм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личное, хорошее, слабое, очень слабое, нулев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омашн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сегда,  почти всегда, редко, почти никог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выполнению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амостоятельное, нуждаюсь в помощи, редко делаю сам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 на ур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тличное, хорошее, легко отвлекается, сам по себ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едение на ур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тличное, хорошее,  удовлетворительное, плох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Управляющая кнопка: назад 4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imes New Roman"/>
              </a:rPr>
              <a:t>Мои пл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197000"/>
          <a:ext cx="8713800" cy="4896000"/>
        </p:xfrm>
        <a:graphic>
          <a:graphicData uri="http://schemas.openxmlformats.org/drawingml/2006/table">
            <a:tbl>
              <a:tblPr/>
              <a:tblGrid>
                <a:gridCol w="1800000"/>
                <a:gridCol w="2557440"/>
                <a:gridCol w="2411640"/>
                <a:gridCol w="19447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Чего я хочу добиться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Что собираюсь для этого с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В конце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5e"/>
                </a:solidFill>
                <a:latin typeface="Arial"/>
              </a:rPr>
              <a:t>Мои дост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олимпиадах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мероприятиях и конкур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и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Мои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Самоанализ за учебный г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268280"/>
          <a:ext cx="8712000" cy="5227920"/>
        </p:xfrm>
        <a:graphic>
          <a:graphicData uri="http://schemas.openxmlformats.org/drawingml/2006/table">
            <a:tbl>
              <a:tblPr/>
              <a:tblGrid>
                <a:gridCol w="871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Я  научился дела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Я узнал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Осталось для меня непонятым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Я хочу узнать и научитьс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</a:tbl>
          </a:graphicData>
        </a:graphic>
      </p:graphicFrame>
      <p:sp>
        <p:nvSpPr>
          <p:cNvPr id="169" name="Управляющая кнопка: назад 4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Отзы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ff"/>
                </a:solidFill>
                <a:latin typeface="Arial"/>
              </a:rPr>
              <a:t>Род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ff"/>
                </a:solidFill>
                <a:latin typeface="Arial"/>
              </a:rPr>
              <a:t>Уч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ff"/>
                </a:solidFill>
                <a:latin typeface="Arial"/>
              </a:rPr>
              <a:t>Одно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6T11:33:16Z</dcterms:created>
  <dc:creator>Дмитрий</dc:creator>
  <dc:description/>
  <dc:language>en-US</dc:language>
  <cp:lastModifiedBy>Дмитрий</cp:lastModifiedBy>
  <dcterms:modified xsi:type="dcterms:W3CDTF">2015-10-19T17:46:12Z</dcterms:modified>
  <cp:revision>42</cp:revision>
  <dc:subject/>
  <dc:title>Слайд 1</dc:title>
</cp:coreProperties>
</file>