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8927-FEE6-4C3D-B5ED-F08B95C0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A847-5996-4BC7-8E31-67D84351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746E-A980-4624-AEFF-7EDB42C2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E065-7E22-493E-939D-D8C58CB7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27B6-D841-4B52-AD59-91E8CBFE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200-0108-498F-BEB9-16A0BB16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8A43-B0DD-4F2D-9A34-9343A023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F97-406B-40E0-B41B-E2C10EB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BB5-F4A4-40AC-970B-E52C600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93DE-F75F-4F8C-8238-E4FEF40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5B2-EA52-4483-99A4-3B5F0D7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875C-8F75-4353-AF30-7CBB5B2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BD7-2FB1-4776-A532-8540B9A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573-DE70-41D8-9F0A-0243980E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9E2-72B3-4975-9FD9-B484F68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F258-4F16-4E4B-B498-91FD17DE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780-D290-49C1-96B7-1F574B19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1C5A-AB0E-420E-A83B-9D7B09D2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1485-08AC-43F4-A3E5-8BB9F205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3322-94F8-4BCB-9EF9-ABFA2BAD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5579-8AB8-47AD-8C14-F1C0D98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8A0B-ACB7-4516-BB32-5ABEA02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BF1C-0491-4652-B787-D424CCE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6E70-0037-4D17-AE9F-C754CF9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2526-83AC-4817-99D7-DAB9F1C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E9F8-0EEE-4844-A8E3-078F645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9EAF-7344-436D-B2DA-CCF4136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28E7-549B-4269-A7F7-6796ED08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777C-72BD-4811-AA38-E7011000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D738-2A95-414A-9CB3-D3660334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B6D3-5032-4BA7-9F2E-179FFFA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D7F2-7C5D-490D-A7E8-BDCF592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D921-5EFA-4055-9EF3-07DCC77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5555-20FD-461D-B0C3-A8DA857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82A9-3B32-4F72-B044-E6F9D60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59AE-FC25-481E-9B32-723307D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2ECC-1F4F-49F3-BC16-ED6F261EB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50D-7AFF-4A4F-AD3A-315BF02431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BB7-C3DB-4BBB-9BF9-B5A1262CF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Портфолио   по математик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ученика ________________________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Times New Roman"/>
              </a:rPr>
              <a:t>___________________________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ои достижения </a:t>
            </a: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Участие в олимпиада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1090440"/>
                <a:gridCol w="276552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Управляющая кнопка: назад 3">
            <a:hlinkClick r:id="rId2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Мои достижения</a:t>
            </a:r>
            <a:br>
              <a:rPr sz="3200"/>
            </a:br>
            <a:r>
              <a:rPr b="1" lang="en-US" sz="32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Участие в мероприятиях и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1090440"/>
                <a:gridCol w="276552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ои достижения </a:t>
            </a:r>
            <a:br>
              <a:rPr sz="3600"/>
            </a:br>
            <a:r>
              <a:rPr b="1" lang="en-US" sz="36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Исследовательская работа и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362800" cy="3886200"/>
        </p:xfrm>
        <a:graphic>
          <a:graphicData uri="http://schemas.openxmlformats.org/drawingml/2006/table">
            <a:tbl>
              <a:tblPr/>
              <a:tblGrid>
                <a:gridCol w="946080"/>
                <a:gridCol w="2909880"/>
                <a:gridCol w="2416320"/>
                <a:gridCol w="20905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Д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зван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ровень участ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Управляющая кнопка: назад 3">
            <a:hlinkClick r:id="rId2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одель портфоли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8360" y="1916280"/>
            <a:ext cx="230328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48000" y="1989000"/>
          <a:ext cx="5545080" cy="2664000"/>
        </p:xfrm>
        <a:graphic>
          <a:graphicData uri="http://schemas.openxmlformats.org/drawingml/2006/table">
            <a:tbl>
              <a:tblPr/>
              <a:tblGrid>
                <a:gridCol w="2016000"/>
                <a:gridCol w="352908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От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>
            <a:off x="900000" y="522936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Период, за который представлены документы и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с _______________ 20__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по _______________ 20__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одержание портфоли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зю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Мои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Участие в олимпиада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Участие в мероприятиях и конкурс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сследовательская работа и проек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Мои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амоанал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тзы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Информацио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122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22031"/>
                </a:solidFill>
                <a:latin typeface="Times New Roman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7956720" y="5950080"/>
            <a:ext cx="755640" cy="57600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32" y="1400"/>
                </a:lnTo>
                <a:lnTo>
                  <a:pt x="1400" y="1400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32" y="20200"/>
                </a:lnTo>
                <a:lnTo>
                  <a:pt x="26932" y="1400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2" y="20200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2" h="21600">
                <a:moveTo>
                  <a:pt x="17665" y="10800"/>
                </a:moveTo>
                <a:lnTo>
                  <a:pt x="7160" y="17806"/>
                </a:lnTo>
                <a:lnTo>
                  <a:pt x="7160" y="3794"/>
                </a:lnTo>
                <a:close/>
              </a:path>
              <a:path fill="darken" w="28332" h="21600">
                <a:moveTo>
                  <a:pt x="19510" y="3794"/>
                </a:moveTo>
                <a:lnTo>
                  <a:pt x="19510" y="17806"/>
                </a:lnTo>
                <a:lnTo>
                  <a:pt x="21173" y="17806"/>
                </a:lnTo>
                <a:lnTo>
                  <a:pt x="2117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imes New Roman"/>
              </a:rPr>
              <a:t>Резю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125360"/>
          <a:ext cx="8785440" cy="5369040"/>
        </p:xfrm>
        <a:graphic>
          <a:graphicData uri="http://schemas.openxmlformats.org/drawingml/2006/table">
            <a:tbl>
              <a:tblPr/>
              <a:tblGrid>
                <a:gridCol w="505080"/>
                <a:gridCol w="4679640"/>
                <a:gridCol w="1584360"/>
                <a:gridCol w="2016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 предм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ложительное, безразличное или негативн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я предм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личное, хорошее, слабое, очень слабое, нулев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омашн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сегда,  почти всегда, редко, почти никог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выполнению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амостоятельное, нуждаюсь в помощи, редко делаю сам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личное, хорошее, легко отвлекается, сам по себ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дение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личное, хорошее,  удовлетворительное, плох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imes New Roman"/>
              </a:rPr>
              <a:t>Мои пл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197000"/>
          <a:ext cx="8713800" cy="4896000"/>
        </p:xfrm>
        <a:graphic>
          <a:graphicData uri="http://schemas.openxmlformats.org/drawingml/2006/table">
            <a:tbl>
              <a:tblPr/>
              <a:tblGrid>
                <a:gridCol w="1800000"/>
                <a:gridCol w="2557440"/>
                <a:gridCol w="2411640"/>
                <a:gridCol w="19447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Чего я хочу добитьс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Что собираюсь для этого с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В конце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5e"/>
                </a:solidFill>
                <a:latin typeface="Arial"/>
              </a:rPr>
              <a:t>Мои дост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лимпиада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мероприятиях и конкур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и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Мои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Самоанализ за учебный г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268280"/>
          <a:ext cx="8712000" cy="522792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 научился дела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узнал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Осталось для меня непонятым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2"/>
                          </a:solidFill>
                          <a:latin typeface="Times New Roman"/>
                          <a:ea typeface="Times New Roman"/>
                        </a:rPr>
                        <a:t>Я хочу узнать и научитьс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</a:tbl>
          </a:graphicData>
        </a:graphic>
      </p:graphicFrame>
      <p:sp>
        <p:nvSpPr>
          <p:cNvPr id="169" name="Управляющая кнопка: назад 4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Отзы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Род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Уч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ff"/>
                </a:solidFill>
                <a:latin typeface="Arial"/>
              </a:rPr>
              <a:t>Одно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назад 3">
            <a:hlinkClick r:id="rId1" action="ppaction://hlinksldjump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6T11:33:16Z</dcterms:created>
  <dc:creator>Дмитрий</dc:creator>
  <dc:description/>
  <dc:language>en-US</dc:language>
  <cp:lastModifiedBy>Дмитрий</cp:lastModifiedBy>
  <dcterms:modified xsi:type="dcterms:W3CDTF">2015-10-19T17:46:12Z</dcterms:modified>
  <cp:revision>42</cp:revision>
  <dc:subject/>
  <dc:title>Слайд 1</dc:title>
</cp:coreProperties>
</file>