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83C-50AE-45B4-97D0-573955FF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522-6BD6-420F-AF07-FD98071C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B16-6ECE-4F32-95EE-1716B0F8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F05-EB0B-48CE-98EA-F5242E3F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F8A-B66B-48E2-8D85-FC2193A4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024-5063-4C83-AE00-7AE50D93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4950-9F3F-4FC3-AEF9-20E033BE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F921-8FCF-47BC-8112-0D1A9D6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F229-867A-41F4-ADCE-6736D1C2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8BA-316F-45E4-90DF-657B2937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F2AF-FC73-4FA7-95F7-5892308B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DC6-33E1-4233-B4B4-73417EE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E5B5-552C-406D-9E98-B836227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DA3F-5ED3-4632-8712-0FCB622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5FDF-78FC-4D7A-AB32-DDB8AF60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C4FC-BE58-484D-B0C9-37F2921B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7D7-E7E9-41E8-B49E-2567BCC3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5BE-671E-4723-A1FF-C8616A47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D8C-25C2-49D5-BAD9-3A6D1999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109-E4DD-4514-80FC-34892834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43F-BFCC-4DFC-B1C0-49750748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2D8-9BF8-485C-9270-05DF0CB2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31A-50A9-4B02-B3CA-1B9087D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540-E1CB-4730-A161-42CAFF8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1A92-357F-4351-AF8A-492B957234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78FC-FC55-49E9-85BC-1ED334F807B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«От комплексного анализа  текста к написанию сочинения-рассуждени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РГУМЕНТАЦИЯ МНЕНИЯ ПО ПРОБЛЕМ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ация собственного мнения по проблем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помню, как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огласна с позицией автора. Мне сразу вспоминае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же можно привести пример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жно не согласиться с Лихачёвым, но можно привести достаточно много доказательств, что не все люди завистливы. Например,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Ответ на вопрос, поставленный во вступл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ассуждение о том, какое значение будет иметь для автора сочинения прочитанный тек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асширение проблемы. Новый вопро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ьте на один из вопросов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Какую мысль уношу с урок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Почему мы сегодня говорили об этом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Что я могу сделать, чтобы не испытывать  это чувство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После урока я задумаюсь о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Цель урока: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оздание условий для воспроизведения в памяти и применения знаний, умений и навыков в знакомой и новой учебных ситуация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408960" cy="7059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240" y="914040"/>
            <a:ext cx="6870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         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Comic Sans MS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подготовить учащихся к написанию сочинения – рассуждения по тексту Д.С.Лихачева “Про зависть”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развивать у обучающихся умение проводить самоанализ на основе личного жизненного опыта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создавать условия для развития устной монологической речи, мышления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воспитывать позитивное отношение к окружающим,, интерес к публицистике Д.С.Лихачева, подвести учащихся к осмыслению жизненной пози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4953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omic Sans MS"/>
              </a:rPr>
              <a:t>План написания сочинения-рассужде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1.Проблематика текста (Основные вопросы, поставленные в тексте, требующие изучения, разрешения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2.Комментарий проблемы (Толкование, разъяснение основного вопроса исходного текста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3. Позиция автора (Отношение автора к поднятой теме, проблемам, героям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4. Собственная позиция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5 Аргументы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6. Выв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ь никогда не знает праздника. (Ф.Бэкон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Из всех страстей зависть – самая отвратительная. Под именем зависти шествуют ненависть, предательство, интриги. (К.Гельвеций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ник не один раз умирает, а столько, сколько слышит похвал сопернику. (Б.Грассиан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 Зависть – подруга пустых душ. (Пиндар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ь – сожаление о чужом благе. (Плутарх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     Зависть – враг счастливых. (Эпиктет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Дмитрий Сергеевич Лихачев –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фигура не только знаков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культовая, не только во мног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эталон нравственност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Это, в первую очередь, фигура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человечна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А, может бы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именно этого качества та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не хватает сегодн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Ирина Тайманов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заслуженный деятель искусст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3441600" cy="5494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Возможные варианты вступ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Анализ разных точек зрения на пробле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Анализ поднимаемой проблемы в контексте эпохи, рассуждения о ее актуа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еречисления проблем исходного текс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Спор с мнимым оппонентом, рассуждения от «против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Краткие сведения об авторе исходного текста, о проблемах, нашедших отражение в его произвед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453600"/>
            <a:ext cx="67942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омментарий проблемы текст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чему автор предпочёл именно эту проблему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Актуальна ли она? Насколько злободневна в наши дн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 какой категории относится избранная автором проблем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ак автору удалось привлечь к ней внимание читателя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ак характеризует автора выбор данной проблем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КОМПОЗИЦИЯ РАССУЖД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09120" y="304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ская позиция может быть выражена: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ётко, прямо, непосредственн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названии текс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иторически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отдельных предложения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иторические восклиц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рез ряд аргу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рядок сл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ксические повтор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ценочная лекс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альные слова и частицы, вводные конструкц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31T13:56:5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