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9D0E-EA3E-4350-A62E-6B3B8795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AA0F-4E57-4F1A-B405-743D04DF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97F6-30D7-426B-9883-8BE2D991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5FFA-9691-475C-A809-B366D12D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9B02-9CF4-40DF-9863-10AC61BA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5891-946C-4C03-87FE-A3F311A2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D329-9987-4ED8-A997-97BA98ED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7D93-18F5-48DB-9D3A-DB906D70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DF4C-E504-4947-8311-428C9E36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008A-08BF-46F8-929A-590C03F6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F839-4455-41BC-B338-751C4D9A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CEFB-F714-450C-8D68-8A9EC0D9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AC4B-6791-421F-B057-2C61B980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B4C9-DD08-4397-8064-BDF4E675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7508-03B7-41F8-99A5-07E745F0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5B15-B474-48CD-AE84-2730EA51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CE79-F928-41FE-A638-A6187DF3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A24D-D26F-43BB-BF12-10FA2457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C9B5-69F1-4913-A7C4-FB1C6F55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ED53-AED3-448B-AB32-B95AFBC4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6EE2-784C-4FF2-9657-219D25F7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05C7-8402-46A8-902C-4B4646DA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FE73-8DF7-4207-8D25-6BE3F7E6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4D89-A52D-4171-A033-5BE02C79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CC8B-C682-4BBA-8A6B-56A0B3B9B1E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0DB3-A047-4DE1-BD56-88D97AB8F86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4" descr="Рисунок1.jpg"/>
          <p:cNvPicPr/>
          <p:nvPr/>
        </p:nvPicPr>
        <p:blipFill>
          <a:blip r:embed="rId1"/>
          <a:stretch/>
        </p:blipFill>
        <p:spPr>
          <a:xfrm>
            <a:off x="19080" y="12600"/>
            <a:ext cx="9105840" cy="68328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62120" y="83772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«От комплексного анализа  текста к написанию сочинения-рассуждения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АРГУМЕНТАЦИЯ МНЕНИЯ ПО ПРОБЛЕМ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19080" y="12600"/>
            <a:ext cx="9105840" cy="68328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гументация собственного мнения по проблем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 помню, как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 согласна с позицией автора. Мне сразу вспоминается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акже можно привести пример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ожно не согласиться с Лихачёвым, но можно привести достаточно много доказательств, что не все люди завистливы. Например,…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19080" y="12600"/>
            <a:ext cx="9105840" cy="68328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Ответ на вопрос, поставленный во вступлен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Рассуждение о том, какое значение будет иметь для автора сочинения прочитанный текс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Расширение проблемы. Новый вопрос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Содержимое 3" descr="Рисунок1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68706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ветьте на один из вопросов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Какую мысль уношу с урока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Почему мы сегодня говорили об этом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Что я могу сделать, чтобы не испытывать  это чувство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После урока я задумаюсь о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4" descr="Рисунок1.jpg"/>
          <p:cNvPicPr/>
          <p:nvPr/>
        </p:nvPicPr>
        <p:blipFill>
          <a:blip r:embed="rId1"/>
          <a:stretch/>
        </p:blipFill>
        <p:spPr>
          <a:xfrm>
            <a:off x="19080" y="12600"/>
            <a:ext cx="9105840" cy="68328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mic Sans MS"/>
              </a:rPr>
              <a:t>СПАСИБО ЗА УРОК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6" descr="Рисунок1.jpg"/>
          <p:cNvPicPr/>
          <p:nvPr/>
        </p:nvPicPr>
        <p:blipFill>
          <a:blip r:embed="rId1"/>
          <a:stretch/>
        </p:blipFill>
        <p:spPr>
          <a:xfrm>
            <a:off x="19080" y="12600"/>
            <a:ext cx="9105840" cy="6832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457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    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Цель урока:</a:t>
            </a:r>
            <a:r>
              <a:rPr b="0" lang="ru-RU" sz="3200" spc="-1" strike="noStrike" u="sng">
                <a:solidFill>
                  <a:srgbClr val="00206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создание условий для воспроизведения в памяти и применения знаний, умений и навыков в знакомой и новой учебных ситуациях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Содержимое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408960" cy="7059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14240" y="914040"/>
            <a:ext cx="6870600" cy="533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                               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                     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Comic Sans MS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- подготовить учащихся к написанию сочинения – рассуждения по тексту Д.С.Лихачева “Про зависть”;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- развивать у обучающихся умение проводить самоанализ на основе личного жизненного опыта;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- создавать условия для развития устной монологической речи, мышления;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- воспитывать позитивное отношение к окружающим,, интерес к публицистике Д.С.Лихачева, подвести учащихся к осмыслению жизненной позици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Содержимое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44953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Comic Sans MS"/>
              </a:rPr>
              <a:t>План написания сочинения-рассуждения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1.Проблематика текста (Основные вопросы, поставленные в тексте, требующие изучения, разрешения)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2.Комментарий проблемы (Толкование, разъяснение основного вопроса исходного текста)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3. Позиция автора (Отношение автора к поднятой теме, проблемам, героям)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4. Собственная позиция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5 Аргументы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6. Выво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Содержимое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434304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Зависть никогда не знает праздника. (Ф.Бэкон)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Из всех страстей зависть – самая отвратительная. Под именем зависти шествуют ненависть, предательство, интриги. (К.Гельвеций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Завистник не один раз умирает, а столько, сколько слышит похвал сопернику. (Б.Грассиан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              Зависть – подруга пустых душ. (Пиндар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Зависть – сожаление о чужом благе. (Плутарх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                  Зависть – враг счастливых. (Эпиктет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19080" y="12600"/>
            <a:ext cx="9105840" cy="68328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Дмитрий Сергеевич Лихачев –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фигура не только знаковая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культовая, не только во много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эталон нравственност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Это, в первую очередь, фигура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человечна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А, может быть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именно этого качества та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не хватает сегодня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    </a:t>
            </a:r>
            <a:r>
              <a:rPr b="1" lang="ru-RU" sz="1800" spc="-1" strike="noStrike">
                <a:solidFill>
                  <a:srgbClr val="002060"/>
                </a:solidFill>
                <a:latin typeface="Comic Sans MS"/>
              </a:rPr>
              <a:t>Ирина Тайманова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omic Sans MS"/>
              </a:rPr>
              <a:t>заслуженный деятель искусст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457200" y="838080"/>
            <a:ext cx="3441600" cy="5494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" dur="2000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" dur="2000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19080" y="12600"/>
            <a:ext cx="9105840" cy="6832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          </a:t>
            </a: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Возможные варианты вступлени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Анализ разных точек зрения на проблем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Анализ поднимаемой проблемы в контексте эпохи, рассуждения о ее актуаль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Перечисления проблем исходного текс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Спор с мнимым оппонентом, рассуждения от «противно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Краткие сведения об авторе исходного текста, о проблемах, нашедших отражение в его произведения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19080" y="12600"/>
            <a:ext cx="9105840" cy="6832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1760" y="453600"/>
            <a:ext cx="679428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                   </a:t>
            </a: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Комментарий проблемы текста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Почему автор предпочёл именно эту проблему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Актуальна ли она? Насколько злободневна в наши дни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К какой категории относится избранная автором проблема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Как автору удалось привлечь к ней внимание читателя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Как характеризует автора выбор данной проблемы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КОМПОЗИЦИЯ РАССУЖД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19080" y="12600"/>
            <a:ext cx="9105840" cy="6832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609120" y="3049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торская позиция может быть выражена: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ётко, прямо, непосредственно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названии текс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иторические вопрос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отдельных предложениях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иторические восклица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рез ряд аргументо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рядок слов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ексические повтор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ценочная лекси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дальные слова и частицы, вводные конструкци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3-31T13:56:5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