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8E4-B9C7-4FC2-BAD2-AEE53D45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052-A088-4C87-85E2-F110DD71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287-BE89-4290-9C9B-A1E6F633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2AF-50BC-4681-84F5-05676077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C067-3095-4C7D-8303-78654D4C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E9E1-3EFA-45E2-BF77-B78CCF5D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2124-1620-437D-849B-75F1512C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8B7E-4AF7-4C94-B825-B238790F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57B8-3114-48EF-A41A-D821D759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81A7-8C2D-4954-928A-25AAF2CB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2628-34D4-4E60-A61D-FE891F5B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D87-A44A-4DEE-AAD2-FDD6F3EA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12FF-3A4D-4EE4-AA78-CA9AE9F8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29BE-C5D7-48F5-B271-FC66BDFF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D54A-3352-4151-8352-DB09785C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F5A4-5964-4542-91D4-50FA51F0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E754-1447-48DE-B17F-30EEF64E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685-5877-48FA-A62E-504993B6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77D-75E2-43B3-9818-2FD3ECD1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98E-B8F3-4380-BDAC-DA39DCF5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36C-09B7-405C-B4A3-1E3AA47A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9A0-D694-4A88-9F1C-F53361C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8AB-57AB-4F2B-AB13-2D60C42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2EE-AF5E-40AE-BF1B-81A5DFF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3E60-B8AF-427A-8725-02DEF2697C9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625F-382E-4A28-A105-688538764BE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«От комплексного анализа  текста к написанию сочинения-рассуждени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РГУМЕНТАЦИЯ МНЕНИЯ ПО ПРОБЛЕМ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ация собственного мнения по проблем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помню, как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согласна с позицией автора. Мне сразу вспоминаетс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же можно привести пример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жно не согласиться с Лихачёвым, но можно привести достаточно много доказательств, что не все люди завистливы. Например,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Ответ на вопрос, поставленный во вступле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Рассуждение о том, какое значение будет иметь для автора сочинения прочитанный тек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Расширение проблемы. Новый вопро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тьте на один из вопросов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Какую мысль уношу с урок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Почему мы сегодня говорили об этом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Что я могу сделать, чтобы не испытывать  это чувство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После урока я задумаюсь о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Цель урока: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создание условий для воспроизведения в памяти и применения знаний, умений и навыков в знакомой и новой учебных ситуация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408960" cy="7059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240" y="914040"/>
            <a:ext cx="6870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         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Comic Sans MS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подготовить учащихся к написанию сочинения – рассуждения по тексту Д.С.Лихачева “Про зависть”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развивать у обучающихся умение проводить самоанализ на основе личного жизненного опыта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создавать условия для развития устной монологической речи, мышления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воспитывать позитивное отношение к окружающим,, интерес к публицистике Д.С.Лихачева, подвести учащихся к осмыслению жизненной пози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44953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Comic Sans MS"/>
              </a:rPr>
              <a:t>План написания сочинения-рассужден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1.Проблематика текста (Основные вопросы, поставленные в тексте, требующие изучения, разрешения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2.Комментарий проблемы (Толкование, разъяснение основного вопроса исходного текста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3. Позиция автора (Отношение автора к поднятой теме, проблемам, героям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4. Собственная позиция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5 Аргументы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6. Выв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Зависть никогда не знает праздника. (Ф.Бэкон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Из всех страстей зависть – самая отвратительная. Под именем зависти шествуют ненависть, предательство, интриги. (К.Гельвеций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Завистник не один раз умирает, а столько, сколько слышит похвал сопернику. (Б.Грассиан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      Зависть – подруга пустых душ. (Пиндар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Зависть – сожаление о чужом благе. (Плутарх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          Зависть – враг счастливых. (Эпиктет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Дмитрий Сергеевич Лихачев –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фигура не только знакова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культовая, не только во мног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эталон нравственност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Это, в первую очередь, фигура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человечна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А, может быть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именно этого качества та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не хватает сегодн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Ирина Тайманов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заслуженный деятель искусст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3441600" cy="5494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2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Возможные варианты вступл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Анализ разных точек зрения на пробле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Анализ поднимаемой проблемы в контексте эпохи, рассуждения о ее актуа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Перечисления проблем исходного текс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Спор с мнимым оппонентом, рассуждения от «против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Краткие сведения об авторе исходного текста, о проблемах, нашедших отражение в его произведе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453600"/>
            <a:ext cx="67942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омментарий проблемы текст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чему автор предпочёл именно эту проблему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Актуальна ли она? Насколько злободневна в наши дн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 какой категории относится избранная автором проблем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ак автору удалось привлечь к ней внимание читателя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ак характеризует автора выбор данной проблемы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КОМПОЗИЦИЯ РАССУЖД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609120" y="304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ская позиция может быть выражена: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ётко, прямо, непосредственн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названии текс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иторические вопро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отдельных предложениях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иторические восклиц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рез ряд аргумен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рядок сл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ксические повтор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ценочная лекс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альные слова и частицы, вводные конструкц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31T13:56:5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