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9D6-BA2C-4644-AD29-3E2DD7532E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8D0-F750-4293-B27F-0034194A78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981-E78A-411B-8048-AE7BADD62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A2E-5269-483A-91A2-88E5D610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852-492B-4371-B1DB-EA877942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A8E-A5F7-4351-AA92-935B231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AA0-8EDB-4BB8-BD86-CB23D40D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010-CCF6-464A-8ECA-2A920503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AD6-F17D-4F30-938C-74C73FA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C6E-D7BB-438B-93C3-DE27C665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4FF-45D6-4620-B799-7BDF063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20B-01B3-4CC1-9DB7-826427F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556-01D5-4A3E-8100-ADCE320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5B5-F9F7-4B48-9A30-5F1FBBB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480-DC10-4543-BDBC-9BF12D6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C6D-839D-469B-98F9-0DE7FA1DF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291960" y="171360"/>
            <a:ext cx="79380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F:\Магистратура\Сердце отдаю детям\Сердце отдаю детям город\огни города\800.jpg"/>
          <p:cNvPicPr/>
          <p:nvPr/>
        </p:nvPicPr>
        <p:blipFill>
          <a:blip r:embed="rId2"/>
          <a:stretch/>
        </p:blipFill>
        <p:spPr>
          <a:xfrm>
            <a:off x="-654120" y="-47520"/>
            <a:ext cx="13500000" cy="8991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3"/>
          <a:stretch/>
        </p:blipFill>
        <p:spPr>
          <a:xfrm>
            <a:off x="262080" y="755640"/>
            <a:ext cx="12320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1"/>
          <p:cNvSpPr/>
          <p:nvPr/>
        </p:nvSpPr>
        <p:spPr>
          <a:xfrm>
            <a:off x="9134640" y="3762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С МАКЕ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5319720" y="1020600"/>
            <a:ext cx="6464160" cy="461520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линейки произведи замеры макета в указанных точ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олученные значения на размерные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!!! Значения размеров указываются в миллиметр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Винт с ключом"/>
          <p:cNvPicPr/>
          <p:nvPr/>
        </p:nvPicPr>
        <p:blipFill>
          <a:blip r:embed="rId2"/>
          <a:stretch/>
        </p:blipFill>
        <p:spPr>
          <a:xfrm>
            <a:off x="10456920" y="4168800"/>
            <a:ext cx="156852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ЭМКЗ-488"/>
          <p:cNvPicPr/>
          <p:nvPr/>
        </p:nvPicPr>
        <p:blipFill>
          <a:blip r:embed="rId3"/>
          <a:stretch/>
        </p:blipFill>
        <p:spPr>
          <a:xfrm>
            <a:off x="163440" y="1352520"/>
            <a:ext cx="48895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1"/>
          <p:cNvSpPr/>
          <p:nvPr/>
        </p:nvSpPr>
        <p:spPr>
          <a:xfrm>
            <a:off x="9134640" y="3762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С МАКЕ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5408640" y="1803240"/>
            <a:ext cx="6594480" cy="42339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 принципиальную электрическую схему собранного мак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 указать полярность и номи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488 ПЭ"/>
          <p:cNvPicPr/>
          <p:nvPr/>
        </p:nvPicPr>
        <p:blipFill>
          <a:blip r:embed="rId2"/>
          <a:stretch/>
        </p:blipFill>
        <p:spPr>
          <a:xfrm>
            <a:off x="704880" y="1163520"/>
            <a:ext cx="4518000" cy="528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Винт с ключом"/>
          <p:cNvPicPr/>
          <p:nvPr/>
        </p:nvPicPr>
        <p:blipFill>
          <a:blip r:embed="rId3"/>
          <a:stretch/>
        </p:blipFill>
        <p:spPr>
          <a:xfrm>
            <a:off x="10431360" y="4095720"/>
            <a:ext cx="1663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8649360" y="37620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ЛЕКСИЯ. ОБРАТНАЯ СВЯЗ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2"/>
          <a:stretch/>
        </p:blipFill>
        <p:spPr>
          <a:xfrm>
            <a:off x="407880" y="-117360"/>
            <a:ext cx="7961400" cy="4386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СМАЙЛЫ"/>
          <p:cNvPicPr/>
          <p:nvPr/>
        </p:nvPicPr>
        <p:blipFill>
          <a:blip r:embed="rId3"/>
          <a:stretch/>
        </p:blipFill>
        <p:spPr>
          <a:xfrm>
            <a:off x="2298600" y="3203640"/>
            <a:ext cx="1314720" cy="3535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4005360" y="3951360"/>
            <a:ext cx="496800" cy="498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4005360" y="5603760"/>
            <a:ext cx="496800" cy="497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5504040" y="1973160"/>
            <a:ext cx="6478560" cy="384804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 СЕГОДНЯШ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ЯТИЕ, ВЫБР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УЮЩУЮ КАРТИНК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5" descr="Винт класс"/>
          <p:cNvPicPr/>
          <p:nvPr/>
        </p:nvPicPr>
        <p:blipFill>
          <a:blip r:embed="rId4"/>
          <a:stretch/>
        </p:blipFill>
        <p:spPr>
          <a:xfrm>
            <a:off x="9872640" y="4008600"/>
            <a:ext cx="1630440" cy="273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галочка"/>
          <p:cNvPicPr/>
          <p:nvPr/>
        </p:nvPicPr>
        <p:blipFill>
          <a:blip r:embed="rId5"/>
          <a:stretch/>
        </p:blipFill>
        <p:spPr>
          <a:xfrm>
            <a:off x="7821720" y="4152960"/>
            <a:ext cx="1295280" cy="1001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G:\Магистратура\Сердце отдаю детям\Сердце отдаю детям город\0020.gif"/>
          <p:cNvPicPr/>
          <p:nvPr/>
        </p:nvPicPr>
        <p:blipFill>
          <a:blip r:embed="rId6"/>
          <a:stretch/>
        </p:blipFill>
        <p:spPr>
          <a:xfrm>
            <a:off x="10991880" y="843120"/>
            <a:ext cx="9525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6259680" y="1969920"/>
            <a:ext cx="5663880" cy="401652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и выполни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 восстановить эволюцию уличного осве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Фонарь-Одиночный_2"/>
          <p:cNvPicPr/>
          <p:nvPr/>
        </p:nvPicPr>
        <p:blipFill>
          <a:blip r:embed="rId2"/>
          <a:stretch/>
        </p:blipFill>
        <p:spPr>
          <a:xfrm>
            <a:off x="0" y="785880"/>
            <a:ext cx="3639960" cy="4911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1"/>
          <p:cNvSpPr/>
          <p:nvPr/>
        </p:nvSpPr>
        <p:spPr>
          <a:xfrm>
            <a:off x="8541000" y="3762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ВОЛЮЦИЯ УЛИЧНОГО ФОНАР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Винт с книгой"/>
          <p:cNvPicPr/>
          <p:nvPr/>
        </p:nvPicPr>
        <p:blipFill>
          <a:blip r:embed="rId3"/>
          <a:stretch/>
        </p:blipFill>
        <p:spPr>
          <a:xfrm>
            <a:off x="10306080" y="4068720"/>
            <a:ext cx="16686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8535960" y="2573280"/>
            <a:ext cx="3281400" cy="342108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7078680" y="635004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Фонарь-Одиночный_2"/>
          <p:cNvPicPr/>
          <p:nvPr/>
        </p:nvPicPr>
        <p:blipFill>
          <a:blip r:embed="rId2"/>
          <a:stretch/>
        </p:blipFill>
        <p:spPr>
          <a:xfrm>
            <a:off x="0" y="785880"/>
            <a:ext cx="2181240" cy="2943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5"/>
          <p:cNvSpPr/>
          <p:nvPr/>
        </p:nvSpPr>
        <p:spPr>
          <a:xfrm>
            <a:off x="1592280" y="4351320"/>
            <a:ext cx="5705280" cy="801720"/>
          </a:xfrm>
          <a:prstGeom prst="rect">
            <a:avLst/>
          </a:prstGeom>
          <a:solidFill>
            <a:srgbClr val="ff0000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ы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1041480" y="5164200"/>
            <a:ext cx="7064280" cy="8618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осиновы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2228760" y="3618000"/>
            <a:ext cx="4432320" cy="757080"/>
          </a:xfrm>
          <a:prstGeom prst="rect">
            <a:avLst/>
          </a:prstGeom>
          <a:solidFill>
            <a:srgbClr val="ffc000"/>
          </a:solidFill>
          <a:ln w="12600">
            <a:solidFill>
              <a:srgbClr val="7f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а накал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8541000" y="3762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ВОЛЮЦИЯ УЛИЧНОГО ФОНАР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719440" y="2798640"/>
            <a:ext cx="3433680" cy="819360"/>
          </a:xfrm>
          <a:prstGeom prst="rect">
            <a:avLst/>
          </a:prstGeom>
          <a:solidFill>
            <a:srgbClr val="4472c4"/>
          </a:solidFill>
          <a:ln w="12600">
            <a:solidFill>
              <a:srgbClr val="1f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й фонар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299880" y="6041880"/>
            <a:ext cx="8547120" cy="785880"/>
          </a:xfrm>
          <a:prstGeom prst="rect">
            <a:avLst/>
          </a:prstGeom>
          <a:solidFill>
            <a:srgbClr val="70ad47"/>
          </a:solidFill>
          <a:ln w="12600">
            <a:solidFill>
              <a:srgbClr val="375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яно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2870280" y="1920960"/>
            <a:ext cx="3132000" cy="853920"/>
          </a:xfrm>
          <a:prstGeom prst="rect">
            <a:avLst/>
          </a:prstGeom>
          <a:solidFill>
            <a:srgbClr val="ed7d31"/>
          </a:solidFill>
          <a:ln w="12600">
            <a:solidFill>
              <a:srgbClr val="823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диодны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Винт класс"/>
          <p:cNvPicPr/>
          <p:nvPr/>
        </p:nvPicPr>
        <p:blipFill>
          <a:blip r:embed="rId3"/>
          <a:stretch/>
        </p:blipFill>
        <p:spPr>
          <a:xfrm>
            <a:off x="10488600" y="4030560"/>
            <a:ext cx="1557360" cy="2608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G:\Магистратура\Сердце отдаю детям\Сердце отдаю детям город\0020.gif"/>
          <p:cNvPicPr/>
          <p:nvPr/>
        </p:nvPicPr>
        <p:blipFill>
          <a:blip r:embed="rId4"/>
          <a:stretch/>
        </p:blipFill>
        <p:spPr>
          <a:xfrm>
            <a:off x="9175680" y="4576680"/>
            <a:ext cx="10350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7672320" y="2395440"/>
            <a:ext cx="4048200" cy="35751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м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Фонарь-Одиночный_2"/>
          <p:cNvPicPr/>
          <p:nvPr/>
        </p:nvPicPr>
        <p:blipFill>
          <a:blip r:embed="rId2"/>
          <a:stretch/>
        </p:blipFill>
        <p:spPr>
          <a:xfrm>
            <a:off x="0" y="785880"/>
            <a:ext cx="2181240" cy="2943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1"/>
          <p:cNvSpPr/>
          <p:nvPr/>
        </p:nvSpPr>
        <p:spPr>
          <a:xfrm>
            <a:off x="8744400" y="41580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ЕНИЕ ТЕМЫ  ЗАН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" descr="Винт с книгой"/>
          <p:cNvPicPr/>
          <p:nvPr/>
        </p:nvPicPr>
        <p:blipFill>
          <a:blip r:embed="rId3"/>
          <a:stretch/>
        </p:blipFill>
        <p:spPr>
          <a:xfrm>
            <a:off x="10506240" y="4233960"/>
            <a:ext cx="1569960" cy="2624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5"/>
          <p:cNvSpPr/>
          <p:nvPr/>
        </p:nvSpPr>
        <p:spPr>
          <a:xfrm>
            <a:off x="2117880" y="925560"/>
            <a:ext cx="48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 простог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2509920" y="2552760"/>
            <a:ext cx="55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 себ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54080" y="4025880"/>
            <a:ext cx="31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я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6954840" y="1457280"/>
            <a:ext cx="35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-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98600" y="5672160"/>
            <a:ext cx="62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? Практика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4187880" y="4440240"/>
            <a:ext cx="38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ч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5" descr="G:\Магистратура\Сердце отдаю детям\Сердце отдаю детям город\0020.gif"/>
          <p:cNvPicPr/>
          <p:nvPr/>
        </p:nvPicPr>
        <p:blipFill>
          <a:blip r:embed="rId4"/>
          <a:stretch/>
        </p:blipFill>
        <p:spPr>
          <a:xfrm>
            <a:off x="8458200" y="4111560"/>
            <a:ext cx="11048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3"/>
          <p:cNvPicPr/>
          <p:nvPr/>
        </p:nvPicPr>
        <p:blipFill>
          <a:blip r:embed="rId1"/>
          <a:stretch/>
        </p:blipFill>
        <p:spPr>
          <a:xfrm>
            <a:off x="291960" y="981000"/>
            <a:ext cx="389592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3"/>
          <p:cNvPicPr/>
          <p:nvPr/>
        </p:nvPicPr>
        <p:blipFill>
          <a:blip r:embed="rId2"/>
          <a:stretch/>
        </p:blipFill>
        <p:spPr>
          <a:xfrm>
            <a:off x="291960" y="171360"/>
            <a:ext cx="793800" cy="7858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7"/>
          <p:cNvSpPr/>
          <p:nvPr/>
        </p:nvSpPr>
        <p:spPr>
          <a:xfrm>
            <a:off x="184320" y="4770360"/>
            <a:ext cx="34858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дагог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ХРОВА Вероник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807000" y="338040"/>
            <a:ext cx="8264520" cy="538020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диоды – полупроводниковые приборы. Практическое применение светодиодов. Преимущества и недостатки их применения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Винт прощание"/>
          <p:cNvPicPr/>
          <p:nvPr/>
        </p:nvPicPr>
        <p:blipFill>
          <a:blip r:embed="rId3"/>
          <a:stretch/>
        </p:blipFill>
        <p:spPr>
          <a:xfrm>
            <a:off x="10144080" y="3963960"/>
            <a:ext cx="1927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8294760" y="2011320"/>
            <a:ext cx="3851280" cy="35355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8474760" y="37620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ИСТИКИ СВЕТОД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7008840" y="1974960"/>
            <a:ext cx="1528560" cy="48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04760" y="860400"/>
          <a:ext cx="6973920" cy="5630760"/>
        </p:xfrm>
        <a:graphic>
          <a:graphicData uri="http://schemas.openxmlformats.org/drawingml/2006/table">
            <a:tbl>
              <a:tblPr/>
              <a:tblGrid>
                <a:gridCol w="4344840"/>
                <a:gridCol w="1381320"/>
                <a:gridCol w="1247760"/>
              </a:tblGrid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ди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ток почти без потерь преобразуется в светов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нагре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чисты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и про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службы до 10000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вольтный, безоп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ая работа при «-» темпера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г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зучено вредное воздействие на человеческий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шел устойчивого применения в бы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"/>
          <p:cNvSpPr/>
          <p:nvPr/>
        </p:nvSpPr>
        <p:spPr>
          <a:xfrm>
            <a:off x="8537400" y="2254320"/>
            <a:ext cx="36021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характеристики светоди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Винт с книгой"/>
          <p:cNvPicPr/>
          <p:nvPr/>
        </p:nvPicPr>
        <p:blipFill>
          <a:blip r:embed="rId3"/>
          <a:stretch/>
        </p:blipFill>
        <p:spPr>
          <a:xfrm>
            <a:off x="10766520" y="4476600"/>
            <a:ext cx="1425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8693280" y="2052720"/>
            <a:ext cx="3343320" cy="34941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1"/>
          <p:cNvSpPr/>
          <p:nvPr/>
        </p:nvSpPr>
        <p:spPr>
          <a:xfrm>
            <a:off x="8474760" y="37620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ИСТИКИ СВЕТОД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7399440" y="2052720"/>
            <a:ext cx="1528560" cy="48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04760" y="941400"/>
          <a:ext cx="6973920" cy="5319720"/>
        </p:xfrm>
        <a:graphic>
          <a:graphicData uri="http://schemas.openxmlformats.org/drawingml/2006/table">
            <a:tbl>
              <a:tblPr/>
              <a:tblGrid>
                <a:gridCol w="4344840"/>
                <a:gridCol w="1381320"/>
                <a:gridCol w="124776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ди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ток почти без потерь преобразуется в светов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нагре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чисты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и про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службы до 10000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вольтный, безоп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ая работа при «-» темпера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г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зучено вредное воздействие на человеческий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шел устойчивого применения в бы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" descr="Винт класс"/>
          <p:cNvPicPr/>
          <p:nvPr/>
        </p:nvPicPr>
        <p:blipFill>
          <a:blip r:embed="rId3"/>
          <a:stretch/>
        </p:blipFill>
        <p:spPr>
          <a:xfrm>
            <a:off x="10559880" y="4125960"/>
            <a:ext cx="1632240" cy="2732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9" descr="G:\Магистратура\Сердце отдаю детям\Сердце отдаю детям город\0020.gif"/>
          <p:cNvPicPr/>
          <p:nvPr/>
        </p:nvPicPr>
        <p:blipFill>
          <a:blip r:embed="rId4"/>
          <a:stretch/>
        </p:blipFill>
        <p:spPr>
          <a:xfrm>
            <a:off x="9029880" y="4214880"/>
            <a:ext cx="952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1"/>
          <p:cNvSpPr/>
          <p:nvPr/>
        </p:nvSpPr>
        <p:spPr>
          <a:xfrm>
            <a:off x="6794280" y="378000"/>
            <a:ext cx="52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А ПОВЕДЕНИЯ И 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листики"/>
          <p:cNvPicPr/>
          <p:nvPr/>
        </p:nvPicPr>
        <p:blipFill>
          <a:blip r:embed="rId2"/>
          <a:stretch/>
        </p:blipFill>
        <p:spPr>
          <a:xfrm>
            <a:off x="214200" y="1947960"/>
            <a:ext cx="4010040" cy="4618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 rot="384000">
            <a:off x="503280" y="5035680"/>
            <a:ext cx="3181320" cy="6094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b86"/>
                </a:solidFill>
                <a:latin typeface="Calibri"/>
              </a:rPr>
              <a:t>Ознакомле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Ручка"/>
          <p:cNvPicPr/>
          <p:nvPr/>
        </p:nvPicPr>
        <p:blipFill>
          <a:blip r:embed="rId3"/>
          <a:stretch/>
        </p:blipFill>
        <p:spPr>
          <a:xfrm>
            <a:off x="3529080" y="3186000"/>
            <a:ext cx="1388880" cy="22780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5060880" y="878040"/>
            <a:ext cx="6697800" cy="465588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технику без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 внимате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й указания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чистоту на рабоче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 вопрос – спрос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Винт внимание"/>
          <p:cNvPicPr/>
          <p:nvPr/>
        </p:nvPicPr>
        <p:blipFill>
          <a:blip r:embed="rId4"/>
          <a:stretch/>
        </p:blipFill>
        <p:spPr>
          <a:xfrm>
            <a:off x="10180800" y="3854520"/>
            <a:ext cx="17208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1"/>
          <p:cNvSpPr/>
          <p:nvPr/>
        </p:nvSpPr>
        <p:spPr>
          <a:xfrm>
            <a:off x="9329400" y="3762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БОРКА МАК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4687920" y="1184400"/>
            <a:ext cx="7250040" cy="480348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ери необходимые элементы для сборки и вспомни их наз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схему как показано на рисун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 внимание на полярность элем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 над назначением данной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Винт с ключом"/>
          <p:cNvPicPr/>
          <p:nvPr/>
        </p:nvPicPr>
        <p:blipFill>
          <a:blip r:embed="rId2"/>
          <a:stretch/>
        </p:blipFill>
        <p:spPr>
          <a:xfrm>
            <a:off x="10536120" y="4303800"/>
            <a:ext cx="1592280" cy="255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488_1"/>
          <p:cNvPicPr/>
          <p:nvPr/>
        </p:nvPicPr>
        <p:blipFill>
          <a:blip r:embed="rId3"/>
          <a:stretch/>
        </p:blipFill>
        <p:spPr>
          <a:xfrm>
            <a:off x="299880" y="922320"/>
            <a:ext cx="41976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9:43:27Z</dcterms:created>
  <dc:creator>Alex</dc:creator>
  <dc:description/>
  <dc:language>en-US</dc:language>
  <cp:lastModifiedBy>Учитель</cp:lastModifiedBy>
  <dcterms:modified xsi:type="dcterms:W3CDTF">2015-10-19T11:00:37Z</dcterms:modified>
  <cp:revision>41</cp:revision>
  <dc:subject/>
  <dc:title>Презентация PowerPoint</dc:title>
</cp:coreProperties>
</file>