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5AA2-5693-4B0B-8805-54F4C18CF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DBF6-AD03-493D-A535-F78B5975B2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34AD-00A9-4894-BCAD-C6AB481C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0F6D3-0FB4-4212-B744-26432118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25B8-7EA3-4EE3-856F-FB18C66D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6EBAC-9B52-4DDA-9083-F8572320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584D-71D3-49B4-BE37-F107ACEC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21F4-6CBA-485A-81DC-7B88FFFC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0949-D469-4624-956E-3AFBD968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37B7-4CC6-4BB4-B64C-C6444474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4CFB-39BF-4206-B323-501F1CB0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7919-7784-4D2D-8A81-AD073524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9817-F238-454E-A3CD-1DAE728C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B4529-3D05-4B65-8E2D-51608B7F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66EC-F625-49CB-A5D1-5D0F3799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F64D-FBE5-4E52-A208-FBB27939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88C4-D9BD-4F1C-9C73-19546D44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0FF1-C966-4741-AE05-026E933F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96CA-5D5E-44F6-9EE5-85A94746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E20E-B40E-45A8-99B7-5269146A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7E5A8-F572-46B8-8C21-CEB0C92A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83837-4A7F-4F13-86EA-2743E181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AF81-B3C5-43D6-8E51-EF458C67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E69E-48FE-4134-8160-2E5E8886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F7CA3-0DE4-4052-8C17-3BABA72B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BC564-1D47-454F-8529-9FB64C73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03FC-0207-4B7C-B0EC-CBE25B445F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8558-38CA-4E82-8E29-646F5F37BF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Русский (родной) язык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                Чтение и развитие речи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200" spc="-1" strike="noStrike" u="sng">
                <a:solidFill>
                  <a:srgbClr val="e5e5ff"/>
                </a:solidFill>
                <a:uFillTx/>
                <a:latin typeface="Times New Roman"/>
              </a:rPr>
              <a:t>Раздел программы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Произведения устного народного творчества: сказки, загадки, поговорки, былины, баллады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47280" y="5589720"/>
            <a:ext cx="61534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 клас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227664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Апробирование на уроке (конспект №1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СХЕМА4-новая!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Times New Roman"/>
              </a:rPr>
              <a:t>Проект № 2. Опорная таблица «Сказочный герой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СХЕМА3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826920" y="6237360"/>
            <a:ext cx="79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Апробирование на уроке (конспект №2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Исследование состояния знаний по разделу устное народное творчество на конец </a:t>
            </a:r>
            <a:r>
              <a:rPr b="0" lang="en-US" sz="3200" spc="-1" strike="noStrike">
                <a:solidFill>
                  <a:srgbClr val="e5e5ff"/>
                </a:solidFill>
                <a:latin typeface="Times New Roman"/>
              </a:rPr>
              <a:t>I </a:t>
            </a: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четверти 2010-2011 уч. года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1231920" y="2158920"/>
          <a:ext cx="6629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>
                    <a:alphaModFix amt="74000"/>
                  </a:blip>
                  <a:stretch/>
                </p:blipFill>
                <p:spPr>
                  <a:xfrm>
                    <a:off x="1231920" y="2158920"/>
                    <a:ext cx="6629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4080" y="331560"/>
            <a:ext cx="798012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e5ff"/>
                </a:solidFill>
                <a:uFillTx/>
                <a:latin typeface="Times New Roman"/>
              </a:rPr>
              <a:t>ВЫВОД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207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Сформированность знаний и умений, заложенных  в программе коррекционной школ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Развитие положительных качеств лич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Формирование жизненно-важных компетенц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 Становление гражданственных и патриотических компетен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. Успешная адаптация в современном обществ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. Дальнейшая успешная социализац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6183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5e5ff"/>
                </a:solidFill>
                <a:latin typeface="Times New Roman"/>
              </a:rPr>
              <a:t>Спасибо </a:t>
            </a:r>
            <a:br>
              <a:rPr sz="9600"/>
            </a:br>
            <a:r>
              <a:rPr b="0" lang="en-US" sz="9600" spc="-1" strike="noStrike">
                <a:solidFill>
                  <a:srgbClr val="e5e5ff"/>
                </a:solidFill>
                <a:latin typeface="Times New Roman"/>
              </a:rPr>
              <a:t>за внимание!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803916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Times New Roman"/>
              </a:rPr>
              <a:t>Знания и умения, которыми должен обладать обучающийся воспитанник 9 клас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497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Читать осознанно, правильно, бегло, выразительно вслух; читать «про себя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ыделять главную мысль произведе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Давать характеристику главным героя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ысказывать своё отношение к героям и их поступка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ересказывать содержание произведения,       рассказывать по предложенной теме  в связи с   прочитанны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5e5ff"/>
                </a:solidFill>
                <a:latin typeface="Times New Roman"/>
              </a:rPr>
              <a:t>Исследование состояния знаний по разделу «Устное народное творчество на начало 2009-2010 уч. года.»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539640" y="1700280"/>
          <a:ext cx="7439040" cy="49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743904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e5ff"/>
                </a:solidFill>
                <a:uFillTx/>
                <a:latin typeface="Times New Roman"/>
              </a:rPr>
              <a:t>Цель: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 Совершенствование знаний о разнообразии жанров устного народного творчеств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11280" y="2133720"/>
          <a:ext cx="8137440" cy="4333680"/>
        </p:xfrm>
        <a:graphic>
          <a:graphicData uri="http://schemas.openxmlformats.org/drawingml/2006/table">
            <a:tbl>
              <a:tblPr/>
              <a:tblGrid>
                <a:gridCol w="2736720"/>
                <a:gridCol w="2687760"/>
                <a:gridCol w="2712960"/>
              </a:tblGrid>
              <a:tr h="709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дач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Коррекционно-общеобразователь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знакомить обучающихся, воспитанников с наследием русского народа – устным народным творчеств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меть систематизировать различные виды устного народного творч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ить применять на практике выработанные схемы и табл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Коррекционно-развивающ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рекция  и развитие связной устной ре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полнение и обогащение пассивного и активного словарного зап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рекция и развитие личностных качеств обучающихся, воспитанни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рекция и развитие мыслительной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Коррекционно-воспитатель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спитывать любовь к Родине, наследию своего народа, гордость за свою стран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меть работать в групп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Times New Roman"/>
              </a:rPr>
              <a:t>Ожидаемый результа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96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Сформированность у обучающихся, воспитанников  умения ориентироваться в жанрах устного народного творчества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Совершенствование смыслового уровня восприятия текста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Совершенствование сформированности  навыка выразительного, беглого, осознанного чтения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Развитие социальных положительных качеств личности, ведущих к адаптации обучающихся, воспитанников в обществе: самоуважения, уважения к своему народу, русскому творческому наследию, гордости за свою страну, доброты, справедливости, сочувствия к ближнему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Изменение ценностных ориентиров личности обучающегося, воспитанника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ополнение и обогащение активного и пассивного словаря обучающихся , воспитанников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803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Times New Roman"/>
              </a:rPr>
              <a:t>Методы и приё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3520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7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ловесные метод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-7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ска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-7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се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-7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ясн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-7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скусс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глядные метод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-7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люстративный (плакаты, таблицы, иллюстрации, картины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-7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монстрационный (кинофильмы, диафильмы, электронные презентаци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актическ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5680" indent="-7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книг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e5e5ff"/>
                </a:solidFill>
                <a:uFillTx/>
                <a:latin typeface="Times New Roman"/>
              </a:rPr>
              <a:t>Синквейн</a:t>
            </a:r>
            <a:r>
              <a:rPr b="1" lang="ru-RU" sz="4000" spc="-1" strike="noStrike">
                <a:solidFill>
                  <a:srgbClr val="e5e5ff"/>
                </a:solidFill>
                <a:latin typeface="Times New Roman"/>
              </a:rPr>
              <a:t> - метод, способствующий умению резюмировать информаци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69" descr="СХЕМА"/>
          <p:cNvPicPr/>
          <p:nvPr/>
        </p:nvPicPr>
        <p:blipFill>
          <a:blip r:embed="rId1"/>
          <a:stretch/>
        </p:blipFill>
        <p:spPr>
          <a:xfrm>
            <a:off x="357120" y="1785960"/>
            <a:ext cx="831528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Times New Roman"/>
              </a:rPr>
              <a:t>Многофункциональный прием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e5e5ff"/>
                </a:solidFill>
                <a:uFillTx/>
                <a:latin typeface="Times New Roman"/>
              </a:rPr>
              <a:t>КЛАСТЕР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АСТИЧНО – ПОИСКОВАЯ ДЕЯТЕЛЬНОС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30" descr="СХЕМА2"/>
          <p:cNvPicPr/>
          <p:nvPr/>
        </p:nvPicPr>
        <p:blipFill>
          <a:blip r:embed="rId1"/>
          <a:stretch/>
        </p:blipFill>
        <p:spPr>
          <a:xfrm>
            <a:off x="642960" y="1571760"/>
            <a:ext cx="7929720" cy="45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35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Мыслительные шапки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тод социальной рефлекс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Инсерт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Приём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заимообуч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епутанные логические цеп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тодический прием: разработки для самостоятельной рабо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5:46:42Z</dcterms:created>
  <dc:creator>1</dc:creator>
  <dc:description/>
  <dc:language>en-US</dc:language>
  <cp:lastModifiedBy>Nabster</cp:lastModifiedBy>
  <dcterms:modified xsi:type="dcterms:W3CDTF">2011-04-13T11:07:51Z</dcterms:modified>
  <cp:revision>21</cp:revision>
  <dc:subject/>
  <dc:title>Русский (родной) язык Чтение и развитие речи  Раздел программы: Произведения устного народного творчества: сказки, загадки, поговорки, былины, баллады.</dc:title>
</cp:coreProperties>
</file>