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8508-C6A4-41AF-867A-7CD596FF3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CE4-CD48-41AD-8249-6CA69D57BB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09ED-C087-47B9-87D9-6E730EAD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D559-E852-4B12-933C-02E6825D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7D02-D247-47ED-9DE1-70AE68A3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AA06-99C2-441B-918F-5CECFC8B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E039-5761-404E-8186-1AF44DE9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2427-5FA2-42CA-B9A2-0A157E23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9396-E104-448D-9E12-210E30E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CCE1-2EDF-4647-8E74-DDA3D08F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EDE0-8F97-4A05-B03E-EFE1DBCE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DB8-F806-45EC-894A-B5CD1D6C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3339-52CF-4E15-868D-0728F952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C41D-660C-419E-A828-C754909B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D37B-BF18-4A46-82F6-D634C2CC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ABE7-CDA2-471E-BDBA-B4A5BFA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574D-5273-4ABB-A2C4-4CB74F6E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B864-D3ED-4D89-B88D-0FFFEA22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D3E-5D9E-4D96-AA94-89B86A2E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9937-047B-4B81-A853-152EA1A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14A5-DCC0-4D49-B3BE-9DA9AB05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1C06-6A8A-47C6-A100-8FDFC91C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7855-0EF7-480C-BFD8-3535075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8ED8-0984-4161-9B52-FFBA0720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C281-68C1-4C57-9E8D-6C89FD09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13DA-36A7-4EE9-9900-AEAD1B8F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1392-4DC4-43DF-9A50-81C45FD4D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72C6-93CD-457A-99D6-D19CA00B55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Русский (родной) язык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               Чтение и развитие речи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Раздел программы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Произведения устного народного творчества: сказки, загадки, поговорки, былины, баллады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47280" y="5589720"/>
            <a:ext cx="61534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 клас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Апробирование на уроке (конспект №1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СХЕМА4-новая!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Проект № 2. Опорная таблица «Сказочный герой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СХЕМА3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826920" y="623736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Апробирование на уроке (конспект №2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Исследование состояния знаний по разделу устное народное творчество на конец 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четверти 2010-2011 уч. года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231920" y="2158920"/>
          <a:ext cx="6629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>
                    <a:alphaModFix amt="74000"/>
                  </a:blip>
                  <a:stretch/>
                </p:blipFill>
                <p:spPr>
                  <a:xfrm>
                    <a:off x="1231920" y="2158920"/>
                    <a:ext cx="6629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080" y="331560"/>
            <a:ext cx="7980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Times New Roman"/>
              </a:rPr>
              <a:t>ВЫВОД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07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Сформированность знаний и умений, заложенных  в программе коррекционной школ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Развитие положительных качеств лич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Формирование жизненно-важных компетенц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Становление гражданственных и патриотических компетен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Успешная адаптация в современном обществ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. Дальнейшая успешная социализац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6183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5e5ff"/>
                </a:solidFill>
                <a:latin typeface="Times New Roman"/>
              </a:rPr>
              <a:t>Спасибо </a:t>
            </a:r>
            <a:br>
              <a:rPr sz="9600"/>
            </a:br>
            <a:r>
              <a:rPr b="0" lang="en-US" sz="9600" spc="-1" strike="noStrike">
                <a:solidFill>
                  <a:srgbClr val="e5e5ff"/>
                </a:solidFill>
                <a:latin typeface="Times New Roman"/>
              </a:rPr>
              <a:t>за внимание!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03916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Знания и умения, которыми должен обладать обучающийся воспитанник 9 клас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итать осознанно, правильно, бегло, выразительно вслух; читать «про себя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ыделять главную мысль произведе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авать характеристику главным героя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ысказывать своё отношение к героям и их поступка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ересказывать содержание произведения,       рассказывать по предложенной теме  в связи с   прочитан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5e5ff"/>
                </a:solidFill>
                <a:latin typeface="Times New Roman"/>
              </a:rPr>
              <a:t>Исследование состояния знаний по разделу «Устное народное творчество на начало 2009-2010 уч. года.»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39640" y="1700280"/>
          <a:ext cx="743904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743904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Times New Roman"/>
              </a:rPr>
              <a:t>Цель: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Совершенствование знаний о разнообразии жанров устного народного творчеств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2133720"/>
          <a:ext cx="8137440" cy="4333680"/>
        </p:xfrm>
        <a:graphic>
          <a:graphicData uri="http://schemas.openxmlformats.org/drawingml/2006/table">
            <a:tbl>
              <a:tblPr/>
              <a:tblGrid>
                <a:gridCol w="2736720"/>
                <a:gridCol w="2687760"/>
                <a:gridCol w="2712960"/>
              </a:tblGrid>
              <a:tr h="709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ч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Коррекционно-общеобразовате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знакомить обучающихся, воспитанников с наследием русского народа – устным народным творчеств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ть систематизировать различные виды устного народного творч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ь применять на практике выработанные 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Коррекционно-развивающ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рекция  и развитие связной устной ре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полнение и обогащение пассивного и активного словарного зап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рекция и развитие личностных качеств обучающихся, воспитанн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рекция и развитие мыслительн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Коррекционно-воспитате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спитывать любовь к Родине, наследию своего народа, гордость за свою стран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ть работать в групп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Times New Roman"/>
              </a:rPr>
              <a:t>Ожидаемый результа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формированность у обучающихся, воспитанников  умения ориентироваться в жанрах устного народного творчества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овершенствование смыслового уровня восприятия текста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овершенствование сформированности  навыка выразительного, беглого, осознанного чтения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Развитие социальных положительных качеств личности, ведущих к адаптации обучающихся, воспитанников в обществе: самоуважения, уважения к своему народу, русскому творческому наследию, гордости за свою страну, доброты, справедливости, сочувствия к ближнему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Изменение ценностных ориентиров личности обучающегося, воспитанника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ополнение и обогащение активного и пассивного словаря обучающихся , воспитанников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80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Times New Roman"/>
              </a:rPr>
              <a:t>Методы и приё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3520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ловесные мето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к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се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ясн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кусс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глядные мето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люстративный (плакаты, таблицы, иллюстрации, картины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монстрационный (кинофильмы, диафильмы, электронные презентаци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ктическ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книг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e5ff"/>
                </a:solidFill>
                <a:uFillTx/>
                <a:latin typeface="Times New Roman"/>
              </a:rPr>
              <a:t>Синквейн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- метод, способствующий умению резюмировать информаци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69" descr="СХЕМА"/>
          <p:cNvPicPr/>
          <p:nvPr/>
        </p:nvPicPr>
        <p:blipFill>
          <a:blip r:embed="rId1"/>
          <a:stretch/>
        </p:blipFill>
        <p:spPr>
          <a:xfrm>
            <a:off x="357120" y="1785960"/>
            <a:ext cx="83152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Многофункциональный прием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e5e5ff"/>
                </a:solidFill>
                <a:uFillTx/>
                <a:latin typeface="Times New Roman"/>
              </a:rPr>
              <a:t>КЛАСТЕР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АСТИЧНО – ПОИСКОВАЯ ДЕЯТЕЛЬН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30" descr="СХЕМА2"/>
          <p:cNvPicPr/>
          <p:nvPr/>
        </p:nvPicPr>
        <p:blipFill>
          <a:blip r:embed="rId1"/>
          <a:stretch/>
        </p:blipFill>
        <p:spPr>
          <a:xfrm>
            <a:off x="642960" y="1571760"/>
            <a:ext cx="7929720" cy="45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35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Мыслительные шапки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од социальной рефлек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Инсерт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риём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заимообу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епутанные логические цеп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одический прием: разработки для самостоятельной рабо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5:46:42Z</dcterms:created>
  <dc:creator>1</dc:creator>
  <dc:description/>
  <dc:language>en-US</dc:language>
  <cp:lastModifiedBy>Nabster</cp:lastModifiedBy>
  <dcterms:modified xsi:type="dcterms:W3CDTF">2011-04-13T11:07:51Z</dcterms:modified>
  <cp:revision>21</cp:revision>
  <dc:subject/>
  <dc:title>Русский (родной) язык Чтение и развитие речи  Раздел программы: Произведения устного народного творчества: сказки, загадки, поговорки, былины, баллады.</dc:title>
</cp:coreProperties>
</file>