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9.gif" ContentType="image/gif"/>
  <Override PartName="/ppt/media/image14.jpeg" ContentType="image/jpeg"/>
  <Override PartName="/ppt/media/image7.gif" ContentType="image/gif"/>
  <Override PartName="/ppt/media/image26.jpeg" ContentType="image/jpeg"/>
  <Override PartName="/ppt/media/image11.jpeg" ContentType="image/jpeg"/>
  <Override PartName="/ppt/media/image12.jpeg" ContentType="image/jpeg"/>
  <Override PartName="/ppt/media/image10.gif" ContentType="image/gif"/>
  <Override PartName="/ppt/media/image13.jpeg" ContentType="image/jpeg"/>
  <Override PartName="/ppt/media/image40.jpeg" ContentType="image/jpeg"/>
  <Override PartName="/ppt/media/image6.gif" ContentType="image/gif"/>
  <Override PartName="/ppt/media/image37.jpeg" ContentType="image/jpe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1.png" ContentType="image/png"/>
  <Override PartName="/ppt/media/image3.gif" ContentType="image/gif"/>
  <Override PartName="/ppt/media/image34.jpeg" ContentType="image/jpeg"/>
  <Override PartName="/ppt/media/image36.png" ContentType="image/png"/>
  <Override PartName="/ppt/media/image8.gif" ContentType="image/gif"/>
  <Override PartName="/ppt/media/image18.jpeg" ContentType="image/jpeg"/>
  <Override PartName="/ppt/media/image33.jpeg" ContentType="image/jpeg"/>
  <Override PartName="/ppt/media/image39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B528-806A-4938-8DF3-51FEB3D45B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9296-7DD0-464E-8411-F43C0CF88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E404-83E0-447C-ADA4-EB4F9FC105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BD1B-074D-4EAF-9286-2DBCF387A5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DF6-16C1-491D-B18A-C616FB82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383-9A94-46AE-AE8D-E8F6903F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3DAC4-3143-4984-A2AD-BE341401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37EE6-CB9C-4DF8-BEEC-34A3A2B4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5AB80-36BC-4D94-BAE0-4116216C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6248E-1423-4C2A-A9DC-A92E1A9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2DFE1-7C0F-4200-8065-2C2A640C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6B1E6-A1CB-4CBE-9CE8-CE08996A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F3D9F-585D-4778-8C17-92E96E7E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A18A4-F277-4D39-BD26-4446A8EB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3A06A-E6E3-4D1D-93AA-BE4A9184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C702B-55AD-4547-9ECD-3B6AA2F3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68D-C719-46FF-A399-29C468E1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66570-1E61-43E5-BC7A-71A32DB8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7BAB6-886D-4C87-96B1-D2825654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07CEC-ED3F-4758-BDC2-3EA4B54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A1A5E-C4FA-460B-88D7-5371B6F1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BF03F-F23A-4C67-B332-BEFA2AA8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03B1C-BF72-45A0-92FF-D11B0541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382A8-DC63-4F5A-866C-7DFA08B0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C3F01-575D-4986-8248-9573C72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44FC3-961B-43F2-AAB1-5FCB3F7A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81DDA-C565-4B3C-96B0-93BBF6BC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BD7-41BD-44A0-8679-3E5BE9CF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4AD9F-AA06-4E8A-8757-5FF325AF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E7C99-F74D-4B36-9666-5C41B433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15E6A-DB4D-498B-874C-F0900D3A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B6979-2DE2-44F9-874E-1766DAC0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0F9AB-859C-4BDC-BD2F-35EA0009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EB538-2696-4076-8857-2065A80F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881BF-26B1-40AF-85B6-738AD0BD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0B100-30DA-49B7-9F74-8F0EF2F1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9FAAC-2E66-4617-9DF3-7D15A1C8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F5867-C156-4844-8130-B02A865F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4D3B-96ED-4BF1-A7D5-07A2B214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A3BDD-9238-4A87-A633-030BA356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15D4A-95B4-4FB9-BE30-870F4255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01949-3649-43EA-BC84-21CEC48F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E4E2-C6AC-41A9-B790-8ADFD332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DBDD-049D-4189-A7EB-D21F4C6C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0E89-882C-4704-83E3-70670F67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3421-E632-4C9F-A210-DBE6FF3D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760B-D09E-4AE1-A436-B58D089F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8B13-4879-494B-B90A-A3A6D4AD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3BA-617D-4807-B6DA-FC40B52B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F7B4-D120-478E-95D5-0E59F3F6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95C9-0243-4BCB-83FD-E44ADC1C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8433-3B56-4DE1-8F94-C1344501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20D1-758E-496D-B7C5-37EA01B6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1FE7-81AD-4530-9799-18E4C19B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C0EE4-7270-4EC3-958A-2A5B57DF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8FEA2-0452-48C1-840A-9E0AA172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A6DC3-7758-48CC-B7E0-B4C1CA46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4D185-0833-4F2D-B842-5DFC8E48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14BB4-7EDA-40BC-B338-A8CDD6B6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9DC-8111-4386-AF64-6A7F6A42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481A-70FC-47EA-8DB1-0CB050F6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30F6-1CE4-4D2B-9D5D-DC94ADCA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A732-081C-42B4-8EC3-A8CFDB4C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0898-C548-474E-842D-6CC6873E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D4FD-A6C1-4DEC-8D09-BB07DDBE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AA00-3521-4CFA-83DA-B3BA4D25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2993-5B5D-4616-9971-E775A07A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AAC5-D1B2-4308-A277-57B3F6B0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91C0-5E89-457E-9CB0-27F2F762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AFCE-046D-4AE5-8934-C8E1A526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D24-6818-48A0-B76A-414E46AA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5F720-C2C6-49D0-AF3A-E1B95FE3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2A21A-3CC0-4B16-8619-6967631C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777BA-5193-460F-B4E3-43D08793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DC4E4-3746-4526-A669-AEE0C373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101FE-7589-4C8E-B426-E31BEA92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65E3-EE39-4DB4-AD2C-9DCC75E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0A22E-03F7-4E8E-A144-B3DD4DE2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D943E-EDB6-4F99-A8E7-E66C8A44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1741-3247-4FE1-887E-215D93C9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B59D3-8F89-48C9-B495-4A1C0CCE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089-AFC5-4B56-B127-DECE1178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3942F-CA32-4A1D-8F57-3CA2AC35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04EB2-22B3-45A5-BFDC-5F6FBE9D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1309F-9F26-47C6-8B1A-970DB10D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B97F-C058-4BC8-914E-F7C431AB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B7211-BE62-4677-9775-1AB3F2C0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D3ED7-E534-4E4B-9704-B10B1E30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5078F-B159-47AD-9E4F-E1EFDA2E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9F820-7EEE-4617-8B7B-BD15FE82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4788-3FEA-4F18-8F1A-FC7A0EA6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E8859-A62E-4CC2-BDEE-2FDDAAD2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647-E020-4F51-AAF3-365A2F8E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5F2C1-3849-4D71-8501-C832F6EA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079C2-C49F-4E9F-813A-D6750B08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52A2B-2216-48D1-8397-04CFDA15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C99AD-DFC2-4A74-9FEE-9AD499F2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5EEE3-978E-4058-B27F-8F2061DA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3304D-9852-447B-AB87-EF59F6B2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EBA7B-2EF8-4069-B17D-4ACD5337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BB982-DE20-4876-8D36-7793618F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B3F7-EC3D-4AFF-BB85-3A37A50C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BDCD9-DCF9-49CF-A1C8-113E164D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DA6-0009-40B9-BD69-89480C29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1CA19-0D61-4FB7-8138-ADB4E50D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8CD8-6ED2-45CC-9CE5-80812B1E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941E2-5488-44F7-BC60-27E074D2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4799E-5278-47E6-8065-E631D430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3CCD5-CDDB-4BB6-9B9B-B84FF85A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0711A-7B9C-4630-B5B6-D69FF829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D0361-E469-4228-813C-EFA95042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4DCDD-0E08-4215-93B9-1717193C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9EFF2-C5F3-460A-B4FA-57940D63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2EBA8-9467-4834-8F17-DDDFC1EB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DB6-62F4-4CDE-BEDB-ACF1BDA7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8B91D-0446-433F-ABCD-8ABFEB3C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411B5-1140-435C-A193-A440E435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8B82F-CFDA-459B-84A2-5787FE0F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34F72-6E7C-4E69-943C-2B691EF5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46E93-0E71-4753-9274-304E6AEE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1EA89-EE9A-472B-955B-6BB06FA9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AFE44-FB34-4147-8946-92ED97F2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F030C-A71E-4603-BC5D-05FEE2A0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AF57C-F53F-4D8F-A63B-FE1E89E5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78F61-1BF8-45D8-BAC1-7ADFBF58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0A0-2503-43A1-AAF1-6DEB0900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680E2-7BBA-4F73-934F-1C1DAE84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78B12-EA90-4732-8135-E8523E11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7122A-E168-46B4-A981-860127CE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63661-2258-4E59-A643-B8EEF23C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6F4A8-576F-428B-9E04-D9EF5403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EEB62-AB2F-4655-9D3B-3B132796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679BA-8C04-4176-A527-275C1843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66760-3232-4AC2-992D-7DC9A340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8D77F-E2FC-424B-8C1D-3BAD7D59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FA916-5DFB-467F-B5FD-716680AD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B068-2D8E-4022-A640-F3488805C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A1AF-76B0-4E67-8BF7-3E4DB2CB6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A2A2-ECA1-438D-91D0-BB16F441C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2D38-3CD1-4DC2-9467-9C51D3F66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C9CA-5BE8-4B4D-B937-58DB8ABB9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725B-0D1C-4423-AE9D-42643AA48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97C9-1D70-45C5-80F9-821699AA4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7E53-8B00-42C9-B7F4-3076538B8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802B-9227-4FE4-A3FD-3310FE46A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7201-7B1B-4200-AE06-C1EEBB557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C771-D642-4905-AB3D-7E939C1F2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" descr="54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WordArt 4"/>
          <p:cNvSpPr txBox="1"/>
          <p:nvPr/>
        </p:nvSpPr>
        <p:spPr>
          <a:xfrm>
            <a:off x="1619280" y="981000"/>
            <a:ext cx="576108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Ө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1" name="Прямоугольник 4"/>
          <p:cNvSpPr/>
          <p:nvPr/>
        </p:nvSpPr>
        <p:spPr>
          <a:xfrm>
            <a:off x="2286000" y="44290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Кырлар буш 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Яңгырлар я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tt-RU" sz="2800" spc="-1" strike="noStrike">
                <a:solidFill>
                  <a:srgbClr val="ffff00"/>
                </a:solidFill>
                <a:latin typeface="Arial"/>
              </a:rPr>
              <a:t>Җирләр дымлана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tt-RU" sz="2800" spc="-1" strike="noStrike">
                <a:solidFill>
                  <a:srgbClr val="ffff00"/>
                </a:solidFill>
                <a:latin typeface="Arial"/>
              </a:rPr>
              <a:t>Бу кайчак була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9600" spc="-1" strike="noStrike">
                <a:solidFill>
                  <a:srgbClr val="ff5050"/>
                </a:solidFill>
                <a:latin typeface="Arial"/>
              </a:rPr>
              <a:t>Көзге уңы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49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2286000" y="428760"/>
            <a:ext cx="3857760" cy="1479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i-18"/>
          <p:cNvPicPr/>
          <p:nvPr/>
        </p:nvPicPr>
        <p:blipFill>
          <a:blip r:embed="rId12"/>
          <a:stretch/>
        </p:blipFill>
        <p:spPr>
          <a:xfrm>
            <a:off x="500040" y="3571920"/>
            <a:ext cx="828036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856800" y="500040"/>
            <a:ext cx="721044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ff0000"/>
                </a:solidFill>
                <a:latin typeface="Arial"/>
              </a:rPr>
              <a:t>Җиләк-җимешләр бак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2714760" y="3500280"/>
            <a:ext cx="2879640" cy="2617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smorodinat"/>
          <p:cNvPicPr/>
          <p:nvPr/>
        </p:nvPicPr>
        <p:blipFill>
          <a:blip r:embed="rId1"/>
          <a:stretch/>
        </p:blipFill>
        <p:spPr>
          <a:xfrm>
            <a:off x="1403280" y="836640"/>
            <a:ext cx="648036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AE0E0CFBB450"/>
          <p:cNvPicPr/>
          <p:nvPr/>
        </p:nvPicPr>
        <p:blipFill>
          <a:blip r:embed="rId1"/>
          <a:stretch/>
        </p:blipFill>
        <p:spPr>
          <a:xfrm>
            <a:off x="2627280" y="620640"/>
            <a:ext cx="40482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10"/>
          <p:cNvPicPr/>
          <p:nvPr/>
        </p:nvPicPr>
        <p:blipFill>
          <a:blip r:embed="rId1"/>
          <a:stretch/>
        </p:blipFill>
        <p:spPr>
          <a:xfrm>
            <a:off x="1908000" y="119700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apple"/>
          <p:cNvPicPr/>
          <p:nvPr/>
        </p:nvPicPr>
        <p:blipFill>
          <a:blip r:embed="rId1"/>
          <a:stretch/>
        </p:blipFill>
        <p:spPr>
          <a:xfrm>
            <a:off x="1763640" y="1052640"/>
            <a:ext cx="5616720" cy="43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Яшелчәләр бакч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19"/>
          <p:cNvPicPr/>
          <p:nvPr/>
        </p:nvPicPr>
        <p:blipFill>
          <a:blip r:embed="rId1"/>
          <a:stretch/>
        </p:blipFill>
        <p:spPr>
          <a:xfrm>
            <a:off x="1116000" y="14572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Arial"/>
              </a:rPr>
              <a:t>Көз билгелә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өн кояш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Arial"/>
              </a:rPr>
              <a:t>Көн болыт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Arial"/>
              </a:rPr>
              <a:t>Салкын җил ис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Arial"/>
              </a:rPr>
              <a:t>Агачларда сары, кызыл яфракл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ар я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Arial"/>
              </a:rPr>
              <a:t>Яңгырлар я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өн җы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ошлар сайр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4" descr="MPj04005840000[1]"/>
          <p:cNvPicPr/>
          <p:nvPr/>
        </p:nvPicPr>
        <p:blipFill>
          <a:blip r:embed="rId1"/>
          <a:stretch/>
        </p:blipFill>
        <p:spPr>
          <a:xfrm>
            <a:off x="1979640" y="189000"/>
            <a:ext cx="518328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2" descr="помидор"/>
          <p:cNvPicPr/>
          <p:nvPr/>
        </p:nvPicPr>
        <p:blipFill>
          <a:blip r:embed="rId1"/>
          <a:stretch/>
        </p:blipFill>
        <p:spPr>
          <a:xfrm>
            <a:off x="2268360" y="333360"/>
            <a:ext cx="462780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4" descr="N6BF8E21C3D76"/>
          <p:cNvPicPr/>
          <p:nvPr/>
        </p:nvPicPr>
        <p:blipFill>
          <a:blip r:embed="rId1"/>
          <a:stretch/>
        </p:blipFill>
        <p:spPr>
          <a:xfrm>
            <a:off x="2050920" y="692280"/>
            <a:ext cx="51850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item_3950"/>
          <p:cNvPicPr/>
          <p:nvPr/>
        </p:nvPicPr>
        <p:blipFill>
          <a:blip r:embed="rId1"/>
          <a:stretch/>
        </p:blipFill>
        <p:spPr>
          <a:xfrm>
            <a:off x="755640" y="1268280"/>
            <a:ext cx="741672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b698b793c6db"/>
          <p:cNvPicPr/>
          <p:nvPr/>
        </p:nvPicPr>
        <p:blipFill>
          <a:blip r:embed="rId1"/>
          <a:stretch/>
        </p:blipFill>
        <p:spPr>
          <a:xfrm>
            <a:off x="2411280" y="549360"/>
            <a:ext cx="4179960" cy="55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7" descr="капуста"/>
          <p:cNvPicPr/>
          <p:nvPr/>
        </p:nvPicPr>
        <p:blipFill>
          <a:blip r:embed="rId1"/>
          <a:stretch/>
        </p:blipFill>
        <p:spPr>
          <a:xfrm>
            <a:off x="2340000" y="1125360"/>
            <a:ext cx="4896000" cy="48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onion"/>
          <p:cNvPicPr/>
          <p:nvPr/>
        </p:nvPicPr>
        <p:blipFill>
          <a:blip r:embed="rId1"/>
          <a:stretch/>
        </p:blipFill>
        <p:spPr>
          <a:xfrm>
            <a:off x="1619280" y="1052640"/>
            <a:ext cx="6192720" cy="46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491253"/>
          <p:cNvPicPr/>
          <p:nvPr/>
        </p:nvPicPr>
        <p:blipFill>
          <a:blip r:embed="rId1"/>
          <a:stretch/>
        </p:blipFill>
        <p:spPr>
          <a:xfrm>
            <a:off x="2050920" y="981000"/>
            <a:ext cx="504216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Прямоугольник 2"/>
          <p:cNvSpPr/>
          <p:nvPr/>
        </p:nvSpPr>
        <p:spPr>
          <a:xfrm>
            <a:off x="785880" y="357120"/>
            <a:ext cx="7643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өзге таб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өзге табын-бай табы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ыяр,карбыз һәм кав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Телем-телем теленгә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Өем-өем өелгә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Алмалары ал төс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Балкып туган таң төс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апсаң эри авыз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Һәр кисәге бал төс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Ә җимеше, җимеш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Ачысы бар,төчес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Яңа пешкән күмәч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айнар кояш төсле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Әткәм кебек тырыш кө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Әнкәм кебек юмарт кө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өзләр юмарт булганг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Бик бәхетле, бик шат б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Фәнис Ярул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8" descr="farm_market_037"/>
          <p:cNvPicPr/>
          <p:nvPr/>
        </p:nvPicPr>
        <p:blipFill>
          <a:blip r:embed="rId1"/>
          <a:stretch/>
        </p:blipFill>
        <p:spPr>
          <a:xfrm>
            <a:off x="5715000" y="785880"/>
            <a:ext cx="285768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"/>
          <p:cNvSpPr/>
          <p:nvPr/>
        </p:nvSpPr>
        <p:spPr>
          <a:xfrm>
            <a:off x="1800" y="5040"/>
            <a:ext cx="18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0" y="13870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Сүзлек  э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Табын</a:t>
            </a:r>
            <a:r>
              <a:rPr b="0" lang="tt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- стол,накрытый стол с 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Телемләргә</a:t>
            </a:r>
            <a:r>
              <a:rPr b="0" lang="tt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- разрезать на лом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Телем-телем</a:t>
            </a:r>
            <a:r>
              <a:rPr b="0" lang="tt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- лом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9" descr="MMj02237740000[1]"/>
          <p:cNvPicPr/>
          <p:nvPr/>
        </p:nvPicPr>
        <p:blipFill>
          <a:blip r:embed="rId1"/>
          <a:stretch/>
        </p:blipFill>
        <p:spPr>
          <a:xfrm>
            <a:off x="438120" y="3857760"/>
            <a:ext cx="413388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1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0306400">
            <a:off x="7563960" y="162864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0" descr="сомбелэ"/>
          <p:cNvPicPr/>
          <p:nvPr/>
        </p:nvPicPr>
        <p:blipFill>
          <a:blip r:embed="rId6"/>
          <a:stretch/>
        </p:blipFill>
        <p:spPr>
          <a:xfrm>
            <a:off x="0" y="0"/>
            <a:ext cx="5570640" cy="50482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8"/>
          <p:cNvSpPr/>
          <p:nvPr/>
        </p:nvSpPr>
        <p:spPr>
          <a:xfrm>
            <a:off x="5643720" y="719280"/>
            <a:ext cx="8715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700" spc="-1" strike="noStrike">
                <a:solidFill>
                  <a:srgbClr val="c00000"/>
                </a:solidFill>
                <a:latin typeface="Arial"/>
                <a:ea typeface="Times New Roman"/>
              </a:rPr>
              <a:t>Көз, Көз, әйт әле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700" spc="-1" strike="noStrike">
                <a:solidFill>
                  <a:srgbClr val="c00000"/>
                </a:solidFill>
                <a:latin typeface="Arial"/>
                <a:ea typeface="Times New Roman"/>
              </a:rPr>
              <a:t>Кәрзинеңдә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700" spc="-1" strike="noStrike">
                <a:solidFill>
                  <a:srgbClr val="c00000"/>
                </a:solidFill>
                <a:latin typeface="Arial"/>
                <a:ea typeface="Times New Roman"/>
              </a:rPr>
              <a:t>ниләр бар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3508560" y="-31320"/>
            <a:ext cx="212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әрзинемдә кыярла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идор һәм алмал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429160" y="2148120"/>
            <a:ext cx="9215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002060"/>
                </a:solidFill>
                <a:latin typeface="Arial"/>
                <a:ea typeface="Times New Roman"/>
              </a:rPr>
              <a:t>Кәрзинемдә кыярлар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002060"/>
                </a:solidFill>
                <a:latin typeface="Arial"/>
                <a:ea typeface="Times New Roman"/>
              </a:rPr>
              <a:t>Помидор һәм алмалар</a:t>
            </a:r>
            <a:r>
              <a:rPr b="0" lang="tt-RU" sz="21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5429160" y="4221360"/>
            <a:ext cx="427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Кәрзинемдә сары, кызы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ын, матур төслә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tt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бар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1"/>
          <p:cNvSpPr/>
          <p:nvPr/>
        </p:nvSpPr>
        <p:spPr>
          <a:xfrm>
            <a:off x="5500800" y="3071880"/>
            <a:ext cx="5286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Көз, Көз, әйт әле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Кәрзинеңдә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ниләр бар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0" y="1623960"/>
            <a:ext cx="871524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900" spc="-1" strike="noStrike">
                <a:solidFill>
                  <a:srgbClr val="c00000"/>
                </a:solidFill>
                <a:latin typeface="Arial"/>
                <a:ea typeface="Times New Roman"/>
              </a:rPr>
              <a:t>1.Шигырь ни өчен “Көзге табын” дип атал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900" spc="-1" strike="noStrike">
                <a:solidFill>
                  <a:srgbClr val="c00000"/>
                </a:solidFill>
                <a:latin typeface="Arial"/>
                <a:ea typeface="Times New Roman"/>
              </a:rPr>
              <a:t>“</a:t>
            </a:r>
            <a:r>
              <a:rPr b="1" i="1" lang="tt-RU" sz="1900" spc="-1" strike="noStrike">
                <a:solidFill>
                  <a:srgbClr val="c00000"/>
                </a:solidFill>
                <a:latin typeface="Arial"/>
                <a:ea typeface="Times New Roman"/>
              </a:rPr>
              <a:t>Көзге табын-бай табын”диелә шигырдә.Табынның байлыгын сурәтләгән юлларны табып ук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0070c0"/>
                </a:solidFill>
                <a:latin typeface="Arial"/>
                <a:ea typeface="Times New Roman"/>
              </a:rPr>
              <a:t>2.Ни өчен көз әти-әни белән чагыштырылган икән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700" spc="-1" strike="noStrike">
                <a:solidFill>
                  <a:srgbClr val="00b050"/>
                </a:solidFill>
                <a:latin typeface="Arial"/>
                <a:ea typeface="Times New Roman"/>
              </a:rPr>
              <a:t>3.Шигырдә нинди чагыштырулар бар,аларны табып укы</a:t>
            </a:r>
            <a:r>
              <a:rPr b="1" i="1" lang="tt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"/>
          <p:cNvSpPr/>
          <p:nvPr/>
        </p:nvSpPr>
        <p:spPr>
          <a:xfrm>
            <a:off x="0" y="1517400"/>
            <a:ext cx="91440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ЧАГЫШТЫРУ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нинди дә булса предметны яки күренешне аңа охшаш ягы булган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икенче предмет яки күренеш белән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чагыштырып сурәтләү.Чагыштыруда кебек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шикелле,төсле сүзләре һәм –дай, -дәй,-тай,-тәй,төсле сүзләр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кулланы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Arial"/>
              </a:rPr>
              <a:t>Өй эш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285920" y="2286000"/>
            <a:ext cx="640080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Көз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» 55нче  бит шигырьне ятлар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ынландыру 57нче бит,чагыштыру 62нче нче бит 5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.(яз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1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flipH="1" rot="682200">
            <a:off x="4211640" y="522720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36" descr="0018"/>
          <p:cNvPicPr/>
          <p:nvPr/>
        </p:nvPicPr>
        <p:blipFill>
          <a:blip r:embed="rId1"/>
          <a:stretch/>
        </p:blipFill>
        <p:spPr>
          <a:xfrm>
            <a:off x="5076720" y="1773360"/>
            <a:ext cx="1725840" cy="1699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8" descr="0008"/>
          <p:cNvPicPr/>
          <p:nvPr/>
        </p:nvPicPr>
        <p:blipFill>
          <a:blip r:embed="rId2"/>
          <a:stretch/>
        </p:blipFill>
        <p:spPr>
          <a:xfrm>
            <a:off x="3924360" y="3429000"/>
            <a:ext cx="1224000" cy="13809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gallery_27_19270"/>
          <p:cNvPicPr/>
          <p:nvPr/>
        </p:nvPicPr>
        <p:blipFill>
          <a:blip r:embed="rId3"/>
          <a:stretch/>
        </p:blipFill>
        <p:spPr>
          <a:xfrm>
            <a:off x="684360" y="1484280"/>
            <a:ext cx="1477800" cy="1393920"/>
          </a:xfrm>
          <a:prstGeom prst="rect">
            <a:avLst/>
          </a:prstGeom>
          <a:ln cap="rnd" w="57240">
            <a:solidFill>
              <a:srgbClr val="ccffff"/>
            </a:solidFill>
            <a:custDash>
              <a:ds d="100000" sp="1000"/>
            </a:custDash>
            <a:miter/>
          </a:ln>
        </p:spPr>
      </p:pic>
      <p:pic>
        <p:nvPicPr>
          <p:cNvPr id="550" name="Picture 14" descr="смородина"/>
          <p:cNvPicPr/>
          <p:nvPr/>
        </p:nvPicPr>
        <p:blipFill>
          <a:blip r:embed="rId4"/>
          <a:stretch/>
        </p:blipFill>
        <p:spPr>
          <a:xfrm>
            <a:off x="7020000" y="404640"/>
            <a:ext cx="1655640" cy="1405080"/>
          </a:xfrm>
          <a:prstGeom prst="rect">
            <a:avLst/>
          </a:prstGeom>
          <a:ln cap="rnd" w="57240">
            <a:solidFill>
              <a:srgbClr val="ccffff"/>
            </a:solidFill>
            <a:custDash>
              <a:ds d="100000" sp="1000"/>
            </a:custDash>
            <a:miter/>
          </a:ln>
        </p:spPr>
      </p:pic>
      <p:pic>
        <p:nvPicPr>
          <p:cNvPr id="551" name="Picture 10" descr="кр"/>
          <p:cNvPicPr/>
          <p:nvPr/>
        </p:nvPicPr>
        <p:blipFill>
          <a:blip r:embed="rId5"/>
          <a:stretch/>
        </p:blipFill>
        <p:spPr>
          <a:xfrm>
            <a:off x="4788000" y="333360"/>
            <a:ext cx="1800000" cy="1484280"/>
          </a:xfrm>
          <a:prstGeom prst="rect">
            <a:avLst/>
          </a:prstGeom>
          <a:ln cap="rnd" w="57240">
            <a:solidFill>
              <a:srgbClr val="ccffff"/>
            </a:solidFill>
            <a:custDash>
              <a:ds d="100000" sp="1000"/>
            </a:custDash>
            <a:miter/>
          </a:ln>
        </p:spPr>
      </p:pic>
      <p:pic>
        <p:nvPicPr>
          <p:cNvPr id="552" name="Picture 22" descr=""/>
          <p:cNvPicPr/>
          <p:nvPr/>
        </p:nvPicPr>
        <p:blipFill>
          <a:blip r:embed="rId6"/>
          <a:stretch/>
        </p:blipFill>
        <p:spPr>
          <a:xfrm>
            <a:off x="250920" y="3789360"/>
            <a:ext cx="3851280" cy="3311640"/>
          </a:xfrm>
          <a:prstGeom prst="rect">
            <a:avLst/>
          </a:prstGeom>
          <a:ln w="0">
            <a:noFill/>
          </a:ln>
        </p:spPr>
      </p:pic>
      <p:sp>
        <p:nvSpPr>
          <p:cNvPr id="553" name="WordArt 29"/>
          <p:cNvSpPr txBox="1"/>
          <p:nvPr/>
        </p:nvSpPr>
        <p:spPr>
          <a:xfrm>
            <a:off x="1258920" y="5084640"/>
            <a:ext cx="1886040" cy="15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 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яшелчә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4" name="Picture 22" descr=""/>
          <p:cNvPicPr/>
          <p:nvPr/>
        </p:nvPicPr>
        <p:blipFill>
          <a:blip r:embed="rId7"/>
          <a:stretch/>
        </p:blipFill>
        <p:spPr>
          <a:xfrm>
            <a:off x="5003640" y="3789360"/>
            <a:ext cx="3851280" cy="3311640"/>
          </a:xfrm>
          <a:prstGeom prst="rect">
            <a:avLst/>
          </a:prstGeom>
          <a:ln w="0">
            <a:noFill/>
          </a:ln>
        </p:spPr>
      </p:pic>
      <p:sp>
        <p:nvSpPr>
          <p:cNvPr id="555" name="WordArt 30"/>
          <p:cNvSpPr txBox="1"/>
          <p:nvPr/>
        </p:nvSpPr>
        <p:spPr>
          <a:xfrm>
            <a:off x="5003640" y="5522760"/>
            <a:ext cx="316260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Җиләк-җимеш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6" name="Picture 15" descr="item_3950"/>
          <p:cNvPicPr/>
          <p:nvPr/>
        </p:nvPicPr>
        <p:blipFill>
          <a:blip r:embed="rId8"/>
          <a:stretch/>
        </p:blipFill>
        <p:spPr>
          <a:xfrm>
            <a:off x="179280" y="189000"/>
            <a:ext cx="2017800" cy="10652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6" descr="businessobpicture16241"/>
          <p:cNvPicPr/>
          <p:nvPr/>
        </p:nvPicPr>
        <p:blipFill>
          <a:blip r:embed="rId9"/>
          <a:stretch/>
        </p:blipFill>
        <p:spPr>
          <a:xfrm>
            <a:off x="2627280" y="333360"/>
            <a:ext cx="1728720" cy="1398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7" descr="1256404673_tikva3"/>
          <p:cNvPicPr/>
          <p:nvPr/>
        </p:nvPicPr>
        <p:blipFill>
          <a:blip r:embed="rId10"/>
          <a:stretch/>
        </p:blipFill>
        <p:spPr>
          <a:xfrm>
            <a:off x="6877080" y="206064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8" descr="risunok28"/>
          <p:cNvPicPr/>
          <p:nvPr/>
        </p:nvPicPr>
        <p:blipFill>
          <a:blip r:embed="rId11"/>
          <a:stretch/>
        </p:blipFill>
        <p:spPr>
          <a:xfrm>
            <a:off x="2643120" y="2000160"/>
            <a:ext cx="200988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02893 L 0.06701 0.93704 E">
                                      <p:cBhvr>
                                        <p:cTn id="72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013 0.4655 L 0.03732 -0.00695 E">
                                      <p:cBhvr>
                                        <p:cTn id="7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9 0.17847 L -1.38889E-006 4.07407E-006 E">
                                      <p:cBhvr>
                                        <p:cTn id="80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49 -0.05857 L 0.07482 0.82245 E">
                                      <p:cBhvr>
                                        <p:cTn id="84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827E-007 L -0.47257 0.66096 E">
                                      <p:cBhvr>
                                        <p:cTn id="88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0.04394 L 0.28368 0.65888 E">
                                      <p:cBhvr>
                                        <p:cTn id="92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49769E-007 L -0.42518 0.93363 E">
                                      <p:cBhvr>
                                        <p:cTn id="96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56244E-006 L 0.15746 1.07008 E">
                                      <p:cBhvr>
                                        <p:cTn id="100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88529E-007 L -0.85434 0.66073 E">
                                      <p:cBhvr>
                                        <p:cTn id="104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"/>
          <p:cNvSpPr/>
          <p:nvPr/>
        </p:nvSpPr>
        <p:spPr>
          <a:xfrm>
            <a:off x="2074680" y="1069200"/>
            <a:ext cx="48182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Шаяра әле күбәләк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Үтсәләр дә җәйләр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Ә урамга килеп керд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Килде яфрак бәйрәм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Нинди генә төсләре юк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Күреп исең китәрл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Яфрак ява яфрак яв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Юлыбызга түшәлеп</a:t>
            </a:r>
            <a:r>
              <a:rPr b="0" lang="ru-RU" sz="33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3717720" y="2143080"/>
            <a:ext cx="31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7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3"/>
          <p:cNvSpPr/>
          <p:nvPr/>
        </p:nvSpPr>
        <p:spPr>
          <a:xfrm>
            <a:off x="785880" y="214200"/>
            <a:ext cx="83581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100" spc="-1" strike="noStrike">
                <a:solidFill>
                  <a:srgbClr val="c00000"/>
                </a:solidFill>
                <a:latin typeface="Arial"/>
              </a:rPr>
              <a:t>“ </a:t>
            </a:r>
            <a:r>
              <a:rPr b="0" lang="tt-RU" sz="3100" spc="-1" strike="noStrike">
                <a:solidFill>
                  <a:srgbClr val="c00000"/>
                </a:solidFill>
                <a:latin typeface="Arial"/>
              </a:rPr>
              <a:t>Алтын сукмак буйлап көз атлый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5"/>
          <p:cNvSpPr/>
          <p:nvPr/>
        </p:nvSpPr>
        <p:spPr>
          <a:xfrm>
            <a:off x="3476520" y="380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ө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2500200" y="1721160"/>
            <a:ext cx="4429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Ө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яш офык ишегенн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Керергә кыймый </a:t>
            </a:r>
            <a:r>
              <a:rPr b="1" i="1" lang="tt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Йөзен борды,колак сал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Торналар тавышына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   “</a:t>
            </a: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Торык-торыйк,торыйк-торыйк”,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</a:t>
            </a: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Китеп бара торнала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</a:t>
            </a: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Соңгы кат авыл өстенд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</a:t>
            </a: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Нур белән </a:t>
            </a:r>
            <a:r>
              <a:rPr b="1" i="1" lang="tt-RU" sz="1500" spc="-1" strike="noStrike" u="sng">
                <a:solidFill>
                  <a:srgbClr val="7030a0"/>
                </a:solidFill>
                <a:uFillTx/>
                <a:latin typeface="Arial"/>
                <a:ea typeface="Times New Roman"/>
              </a:rPr>
              <a:t>коеналар</a:t>
            </a:r>
            <a:r>
              <a:rPr b="0" lang="tt-RU" sz="1400" spc="-1" strike="noStrike" u="sng">
                <a:solidFill>
                  <a:srgbClr val="7030a0"/>
                </a:solidFill>
                <a:uFillTx/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Кояш аларны җылыты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Озатты</a:t>
            </a:r>
            <a:r>
              <a:rPr b="1" i="1" lang="tt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 ерак юл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Артларыннан, </a:t>
            </a:r>
            <a:r>
              <a:rPr b="1" i="1" lang="tt-RU" sz="18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яулык болгап</a:t>
            </a:r>
            <a:r>
              <a:rPr b="1" i="1" lang="tt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Болыт килә авылга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            “</a:t>
            </a: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Исән-сау барып җитегез”,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              </a:t>
            </a: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Диде дә торналарг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 u="sng">
                <a:solidFill>
                  <a:srgbClr val="ff5050"/>
                </a:solidFill>
                <a:uFillTx/>
                <a:latin typeface="Arial"/>
                <a:ea typeface="Times New Roman"/>
              </a:rPr>
              <a:t>              </a:t>
            </a:r>
            <a:r>
              <a:rPr b="1" i="1" lang="tt-RU" sz="1500" spc="-1" strike="noStrike" u="sng">
                <a:solidFill>
                  <a:srgbClr val="ff5050"/>
                </a:solidFill>
                <a:uFillTx/>
                <a:latin typeface="Arial"/>
                <a:ea typeface="Times New Roman"/>
              </a:rPr>
              <a:t>Йомшак күңелле</a:t>
            </a: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 шул болыт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              </a:t>
            </a: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Әй, тотынды еларга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"/>
          <p:cNvSpPr/>
          <p:nvPr/>
        </p:nvSpPr>
        <p:spPr>
          <a:xfrm>
            <a:off x="1357200" y="1635840"/>
            <a:ext cx="77868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1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</a:t>
            </a:r>
            <a:r>
              <a:rPr b="1" i="1" lang="tt-RU" sz="3100" spc="-1" strike="noStrike">
                <a:solidFill>
                  <a:srgbClr val="7030a0"/>
                </a:solidFill>
                <a:latin typeface="Arial"/>
                <a:ea typeface="Times New Roman"/>
              </a:rPr>
              <a:t>Сүзлек эш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100" spc="-1" strike="noStrike">
                <a:solidFill>
                  <a:srgbClr val="7030a0"/>
                </a:solidFill>
                <a:latin typeface="Arial"/>
                <a:ea typeface="Times New Roman"/>
              </a:rPr>
              <a:t>ОФЫК-   небосклон,горизон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100" spc="-1" strike="noStrike">
                <a:solidFill>
                  <a:srgbClr val="7030a0"/>
                </a:solidFill>
                <a:latin typeface="Arial"/>
                <a:ea typeface="Times New Roman"/>
              </a:rPr>
              <a:t>КЫЙМЫЙ-   яхшысынмы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100" spc="-1" strike="noStrike">
                <a:solidFill>
                  <a:srgbClr val="7030a0"/>
                </a:solidFill>
                <a:latin typeface="Arial"/>
                <a:ea typeface="Times New Roman"/>
              </a:rPr>
              <a:t>НУР БЕЛӘН КОЕНАЛАР-  нурга күмеләлә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214200" y="1638360"/>
            <a:ext cx="89298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c00000"/>
                </a:solidFill>
                <a:latin typeface="Arial"/>
                <a:ea typeface="Times New Roman"/>
              </a:rPr>
              <a:t>1.Шигырдә кояш һәм болыт нинди эшләр башкаралар? Шул сүзләрне табып укып күрсәт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2.Болыт ни өчен елый? Торналар киткәнгәме? Аңа күңелсезме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"/>
          <p:cNvSpPr/>
          <p:nvPr/>
        </p:nvSpPr>
        <p:spPr>
          <a:xfrm>
            <a:off x="0" y="1297440"/>
            <a:ext cx="914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500" spc="-1" strike="noStrike">
                <a:solidFill>
                  <a:srgbClr val="002060"/>
                </a:solidFill>
                <a:latin typeface="Arial"/>
                <a:ea typeface="Times New Roman"/>
              </a:rPr>
              <a:t>Җансыз предметны, күренешне җанлы итеп күрсәтү-СЫНЛАНДЫРУ дип атала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3" descr="C:\Users\Пользователь\Pictures\Рисунок1.png"/>
          <p:cNvPicPr/>
          <p:nvPr/>
        </p:nvPicPr>
        <p:blipFill>
          <a:blip r:embed="rId1"/>
          <a:stretch/>
        </p:blipFill>
        <p:spPr>
          <a:xfrm>
            <a:off x="0" y="299880"/>
            <a:ext cx="3571920" cy="488484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3"/>
          <p:cNvSpPr/>
          <p:nvPr/>
        </p:nvSpPr>
        <p:spPr>
          <a:xfrm>
            <a:off x="4000680" y="1643040"/>
            <a:ext cx="4786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100" spc="-1" strike="noStrike">
                <a:solidFill>
                  <a:srgbClr val="c00000"/>
                </a:solidFill>
                <a:latin typeface="Arial"/>
                <a:ea typeface="Arial"/>
              </a:rPr>
              <a:t>Физкул</a:t>
            </a:r>
            <a:r>
              <a:rPr b="0" lang="ru-RU" sz="3100" spc="-1" strike="noStrike">
                <a:solidFill>
                  <a:srgbClr val="c00000"/>
                </a:solidFill>
                <a:latin typeface="Arial"/>
                <a:ea typeface="Arial"/>
              </a:rPr>
              <a:t>ьтминут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H:\Documents and Settings\Aida\Рабочий стол\НОвая ГРАФИКА сборник\КАРТИНКИ СБОРНИК_ школьные\Ballonnen 1 (8).gif"/>
          <p:cNvPicPr/>
          <p:nvPr/>
        </p:nvPicPr>
        <p:blipFill>
          <a:blip r:embed="rId2"/>
          <a:stretch/>
        </p:blipFill>
        <p:spPr>
          <a:xfrm>
            <a:off x="7929720" y="357120"/>
            <a:ext cx="436320" cy="1714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H:\Documents and Settings\Aida\Рабочий стол\НОвая ГРАФИКА сборник\КАРТИНКИ СБОРНИК_ школьные\Ballonnen 1 (8).gif"/>
          <p:cNvPicPr/>
          <p:nvPr/>
        </p:nvPicPr>
        <p:blipFill>
          <a:blip r:embed="rId3"/>
          <a:stretch/>
        </p:blipFill>
        <p:spPr>
          <a:xfrm>
            <a:off x="7929720" y="2052720"/>
            <a:ext cx="428400" cy="20876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H:\Documents and Settings\Aida\Рабочий стол\НОвая ГРАФИКА сборник\КАРТИНКИ СБОРНИК_ школьные\Ballonnen 1 (8).gif"/>
          <p:cNvPicPr/>
          <p:nvPr/>
        </p:nvPicPr>
        <p:blipFill>
          <a:blip r:embed="rId4"/>
          <a:stretch/>
        </p:blipFill>
        <p:spPr>
          <a:xfrm>
            <a:off x="7858080" y="3929040"/>
            <a:ext cx="486000" cy="2428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H:\Documents and Settings\Aida\Рабочий стол\НОвая ГРАФИКА сборник\КАРТИНКИ СБОРНИК_ школьные\63196.gif"/>
          <p:cNvPicPr/>
          <p:nvPr/>
        </p:nvPicPr>
        <p:blipFill>
          <a:blip r:embed="rId5"/>
          <a:stretch/>
        </p:blipFill>
        <p:spPr>
          <a:xfrm>
            <a:off x="3571920" y="4365720"/>
            <a:ext cx="2857320" cy="207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25:44Z</dcterms:created>
  <dc:creator>Учебный</dc:creator>
  <dc:description/>
  <dc:language>en-US</dc:language>
  <cp:lastModifiedBy>Пользователь</cp:lastModifiedBy>
  <dcterms:modified xsi:type="dcterms:W3CDTF">2015-10-15T16:33:38Z</dcterms:modified>
  <cp:revision>90</cp:revision>
  <dc:subject/>
  <dc:title>В огороде осенью</dc:title>
</cp:coreProperties>
</file>