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18DA-D491-4080-99BC-09CD6851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AC97-D48A-4D14-9B4C-A5D3C95A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0F2E-7573-4AF2-AAC8-3DA3E58C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37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39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37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39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11AD-F7D4-4B58-9D5A-551B1981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9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FE0B-DEDC-456E-A923-84FA43D1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37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339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388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37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339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E1D0-BFD5-40EB-8235-5BA6A79D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9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737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39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1388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737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39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768-BBD8-4592-9B12-F1037C8F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9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737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33920" y="168264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1388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737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33920" y="3892680"/>
            <a:ext cx="2723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496-28B8-4486-8A69-47512611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9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D2B6-A538-411B-B5CC-2D2E3D17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DFBD-4BC7-4CCD-84B3-76505D65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920" y="389268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F8F-F260-475B-B7A1-BD6B8E45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7920" y="1682640"/>
            <a:ext cx="41274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3892680"/>
            <a:ext cx="845820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1435-F9F0-42F9-9E75-AA0FD8F9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4000"/>
            <a:ext cx="307980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413995-42FB-4E74-8C22-DF9CF925A2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698400" y="6066000"/>
            <a:ext cx="902196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916280" y="6248520"/>
            <a:ext cx="780408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698400" y="6066000"/>
            <a:ext cx="902196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1916280" y="6248520"/>
            <a:ext cx="780408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1"/>
          <p:cNvSpPr/>
          <p:nvPr/>
        </p:nvSpPr>
        <p:spPr>
          <a:xfrm>
            <a:off x="390600" y="1623960"/>
            <a:ext cx="9329760" cy="4856040"/>
          </a:xfrm>
          <a:prstGeom prst="roundRect">
            <a:avLst>
              <a:gd name="adj" fmla="val 32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4240" y="47592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1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14240" y="1801440"/>
            <a:ext cx="829944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0" y="0"/>
            <a:ext cx="174600" cy="787320"/>
          </a:xfrm>
          <a:custGeom>
            <a:avLst/>
            <a:gdLst>
              <a:gd name="textAreaLeft" fmla="*/ 360 w 174600"/>
              <a:gd name="textAreaRight" fmla="*/ 174240 w 17460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7244">
                <a:moveTo>
                  <a:pt x="196" y="0"/>
                </a:moveTo>
                <a:arcTo wR="196" hR="196" stAng="16200000" swAng="-5400000"/>
                <a:lnTo>
                  <a:pt x="0" y="97048"/>
                </a:lnTo>
                <a:arcTo wR="196" hR="196" stAng="10800000" swAng="-5400000"/>
                <a:lnTo>
                  <a:pt x="21404" y="97244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0" y="2041560"/>
            <a:ext cx="174600" cy="787320"/>
          </a:xfrm>
          <a:custGeom>
            <a:avLst/>
            <a:gdLst>
              <a:gd name="textAreaLeft" fmla="*/ 360 w 174600"/>
              <a:gd name="textAreaRight" fmla="*/ 174240 w 17460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7244">
                <a:moveTo>
                  <a:pt x="196" y="0"/>
                </a:moveTo>
                <a:arcTo wR="196" hR="196" stAng="16200000" swAng="-5400000"/>
                <a:lnTo>
                  <a:pt x="0" y="97048"/>
                </a:lnTo>
                <a:arcTo wR="196" hR="196" stAng="10800000" swAng="-5400000"/>
                <a:lnTo>
                  <a:pt x="21404" y="97244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0" y="1001880"/>
            <a:ext cx="174600" cy="787320"/>
          </a:xfrm>
          <a:custGeom>
            <a:avLst/>
            <a:gdLst>
              <a:gd name="textAreaLeft" fmla="*/ 360 w 174600"/>
              <a:gd name="textAreaRight" fmla="*/ 174240 w 17460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7244">
                <a:moveTo>
                  <a:pt x="196" y="0"/>
                </a:moveTo>
                <a:arcTo wR="196" hR="196" stAng="16200000" swAng="-5400000"/>
                <a:lnTo>
                  <a:pt x="0" y="97048"/>
                </a:lnTo>
                <a:arcTo wR="196" hR="196" stAng="10800000" swAng="-5400000"/>
                <a:lnTo>
                  <a:pt x="21404" y="97244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ff9966"/>
                </a:solidFill>
                <a:uFillTx/>
                <a:latin typeface="Arial"/>
              </a:rPr>
              <a:t>Автоматизация звука «Т» в словах</a:t>
            </a:r>
            <a:r>
              <a:rPr b="1" i="1" lang="en-US" sz="3600" spc="-1" strike="noStrike" u="sng">
                <a:solidFill>
                  <a:srgbClr val="ff9966"/>
                </a:solidFill>
                <a:uFillTx/>
                <a:latin typeface="Arial"/>
              </a:rPr>
              <a:t> (</a:t>
            </a:r>
            <a:r>
              <a:rPr b="1" i="1" lang="ru-RU" sz="3600" spc="-1" strike="noStrike" u="sng">
                <a:solidFill>
                  <a:srgbClr val="ff9966"/>
                </a:solidFill>
                <a:uFillTx/>
                <a:latin typeface="Arial"/>
              </a:rPr>
              <a:t>в начале слова)</a:t>
            </a:r>
            <a:endParaRPr b="1" i="1" lang="en-US" sz="36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14240" y="1682280"/>
            <a:ext cx="8460000" cy="42325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cccc"/>
                </a:solidFill>
                <a:latin typeface="Times New Roman"/>
              </a:rPr>
              <a:t>ЗВУК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340000" y="1509840"/>
            <a:ext cx="5327640" cy="4609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ОК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117880" y="1919160"/>
            <a:ext cx="5081400" cy="3481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ом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564000" y="1476360"/>
            <a:ext cx="2636640" cy="4438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ОЧК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886120" y="1682640"/>
            <a:ext cx="411624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ОПОР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2143080" y="1682640"/>
            <a:ext cx="560088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УМБ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414520" y="1682640"/>
            <a:ext cx="505800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УЧК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995560" y="1682640"/>
            <a:ext cx="38973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УФЛИ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838600" y="1682640"/>
            <a:ext cx="421164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узик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2827440" y="1682640"/>
            <a:ext cx="42321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ОРТИК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2819520" y="1682640"/>
            <a:ext cx="424944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ЫКВ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05000" y="1619280"/>
            <a:ext cx="5715000" cy="3638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З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349360" y="1682640"/>
            <a:ext cx="51879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20720" y="179280"/>
            <a:ext cx="830088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ПКИ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203640" y="1295280"/>
            <a:ext cx="3456000" cy="4619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ЧК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454120" y="1682640"/>
            <a:ext cx="497844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РЕЛК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122560" y="1682640"/>
            <a:ext cx="564192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КСИ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692440" y="1682640"/>
            <a:ext cx="450216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БУН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963800" y="1682640"/>
            <a:ext cx="596088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НЕЦ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2546280" y="1682640"/>
            <a:ext cx="479592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Т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АБЛЕТКИ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770120" y="1682640"/>
            <a:ext cx="6348240" cy="423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8T15:38:41Z</dcterms:created>
  <dc:creator>Sony</dc:creator>
  <dc:description/>
  <dc:language>en-US</dc:language>
  <cp:lastModifiedBy>Sony</cp:lastModifiedBy>
  <dcterms:modified xsi:type="dcterms:W3CDTF">2015-10-18T20:45:47Z</dcterms:modified>
  <cp:revision>13</cp:revision>
  <dc:subject/>
  <dc:title>Автоматизация звука «Т» в словах</dc:title>
</cp:coreProperties>
</file>