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FEF-2C16-4FC3-ACAD-A404A926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495-0B03-4EAF-B08D-D4DA309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3DF-64BE-4D49-8CBB-3FA184E4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599-1F6C-4A9C-8140-70181229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735-5855-41C5-A388-1CB148B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0B7-168D-43B7-9B4B-C4FBAED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F31-8AFB-4982-8014-6236CF5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4AA-89BF-4184-9435-7433761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10B-C3EB-4A78-B14A-8F61B89E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330-A07C-4887-8A9E-C3AB5223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C6A-79CB-48D7-869D-1D5AAF4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3BD-AF93-47A1-9F04-B8638C9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9C0BF9-64F2-48AF-BF51-C073BA9A2A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944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Автоматизация звука «Т» в словах</a:t>
            </a:r>
            <a:r>
              <a:rPr b="1" i="1" lang="en-US" sz="3600" spc="-1" strike="noStrike" u="sng">
                <a:solidFill>
                  <a:srgbClr val="ff9966"/>
                </a:solidFill>
                <a:uFillTx/>
                <a:latin typeface="Arial"/>
              </a:rPr>
              <a:t> (</a:t>
            </a: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в начале слова)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14240" y="1682280"/>
            <a:ext cx="846000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cc"/>
                </a:solidFill>
                <a:latin typeface="Times New Roman"/>
              </a:rPr>
              <a:t>ЗВУК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340000" y="1509840"/>
            <a:ext cx="5327640" cy="46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117880" y="1919160"/>
            <a:ext cx="5081400" cy="348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м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564000" y="1476360"/>
            <a:ext cx="2636640" cy="4438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Ч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886120" y="1682640"/>
            <a:ext cx="41162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ПОР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143080" y="1682640"/>
            <a:ext cx="560088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МБ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414520" y="1682640"/>
            <a:ext cx="505800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Ч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995560" y="1682640"/>
            <a:ext cx="38973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ФЛ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838600" y="1682640"/>
            <a:ext cx="42116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зи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РТИ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819520" y="1682640"/>
            <a:ext cx="42494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КВ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05000" y="1619280"/>
            <a:ext cx="571500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З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349360" y="1682640"/>
            <a:ext cx="51879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83008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ПК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03640" y="1295280"/>
            <a:ext cx="3456000" cy="461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Ч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454120" y="1682640"/>
            <a:ext cx="49784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РЕЛ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КС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692440" y="1682640"/>
            <a:ext cx="450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БУН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963800" y="1682640"/>
            <a:ext cx="596088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НЕЦ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546280" y="1682640"/>
            <a:ext cx="4795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БЛЕТК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770120" y="1682640"/>
            <a:ext cx="63482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5:38:41Z</dcterms:created>
  <dc:creator>Sony</dc:creator>
  <dc:description/>
  <dc:language>en-US</dc:language>
  <cp:lastModifiedBy>Sony</cp:lastModifiedBy>
  <dcterms:modified xsi:type="dcterms:W3CDTF">2015-10-18T20:45:47Z</dcterms:modified>
  <cp:revision>13</cp:revision>
  <dc:subject/>
  <dc:title>Автоматизация звука «Т» в словах</dc:title>
</cp:coreProperties>
</file>