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96E9-6622-42B3-805C-B3023148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F04-A5E3-4A83-BDF2-8A94B716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1B59-51DD-4219-9EEE-BB894A00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37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39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388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37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39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B410-9BEF-4CDC-8716-616D5FEC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14240" y="240840"/>
            <a:ext cx="8299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4997-AC81-4F4E-BE45-33670887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737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339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388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737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339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C89-D063-42BC-8232-3D28ED7F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14240" y="240840"/>
            <a:ext cx="8299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737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39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1388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737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39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60BE-E057-49F1-818F-AFDE55B3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14240" y="240840"/>
            <a:ext cx="8299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737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339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1388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737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339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8A1A-0E55-4B89-89EE-E390E47E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240840"/>
            <a:ext cx="8299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59A4-C975-4DB0-AFCF-C8B335A6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2FFE-D9BF-4A09-BE39-C09B6AAD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060E-9EFD-4606-92B6-93AB2477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9B37-3053-4CC7-9B09-31477737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4000"/>
            <a:ext cx="307980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E3AC56-28E1-40AB-B565-83676FA199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698400" y="6066000"/>
            <a:ext cx="902196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916280" y="6248520"/>
            <a:ext cx="780408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698400" y="6066000"/>
            <a:ext cx="902196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1916280" y="6248520"/>
            <a:ext cx="780408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1"/>
          <p:cNvSpPr/>
          <p:nvPr/>
        </p:nvSpPr>
        <p:spPr>
          <a:xfrm>
            <a:off x="390600" y="1623960"/>
            <a:ext cx="9329760" cy="4856040"/>
          </a:xfrm>
          <a:prstGeom prst="roundRect">
            <a:avLst>
              <a:gd name="adj" fmla="val 32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4240" y="47592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1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14240" y="1801440"/>
            <a:ext cx="829944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0" y="0"/>
            <a:ext cx="174600" cy="787320"/>
          </a:xfrm>
          <a:custGeom>
            <a:avLst/>
            <a:gdLst>
              <a:gd name="textAreaLeft" fmla="*/ 360 w 174600"/>
              <a:gd name="textAreaRight" fmla="*/ 174240 w 174600"/>
              <a:gd name="textAreaTop" fmla="*/ 360 h 787320"/>
              <a:gd name="textAreaBottom" fmla="*/ 786960 h 787320"/>
            </a:gdLst>
            <a:ahLst/>
            <a:rect l="textAreaLeft" t="textAreaTop" r="textAreaRight" b="textAreaBottom"/>
            <a:pathLst>
              <a:path w="21600" h="97244">
                <a:moveTo>
                  <a:pt x="196" y="0"/>
                </a:moveTo>
                <a:arcTo wR="196" hR="196" stAng="16200000" swAng="-5400000"/>
                <a:lnTo>
                  <a:pt x="0" y="97048"/>
                </a:lnTo>
                <a:arcTo wR="196" hR="196" stAng="10800000" swAng="-5400000"/>
                <a:lnTo>
                  <a:pt x="21404" y="97244"/>
                </a:lnTo>
                <a:arcTo wR="196" hR="196" stAng="5400000" swAng="-5400000"/>
                <a:lnTo>
                  <a:pt x="21600" y="196"/>
                </a:lnTo>
                <a:arcTo wR="196" hR="196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0" y="2041560"/>
            <a:ext cx="174600" cy="787320"/>
          </a:xfrm>
          <a:custGeom>
            <a:avLst/>
            <a:gdLst>
              <a:gd name="textAreaLeft" fmla="*/ 360 w 174600"/>
              <a:gd name="textAreaRight" fmla="*/ 174240 w 174600"/>
              <a:gd name="textAreaTop" fmla="*/ 360 h 787320"/>
              <a:gd name="textAreaBottom" fmla="*/ 786960 h 787320"/>
            </a:gdLst>
            <a:ahLst/>
            <a:rect l="textAreaLeft" t="textAreaTop" r="textAreaRight" b="textAreaBottom"/>
            <a:pathLst>
              <a:path w="21600" h="97244">
                <a:moveTo>
                  <a:pt x="196" y="0"/>
                </a:moveTo>
                <a:arcTo wR="196" hR="196" stAng="16200000" swAng="-5400000"/>
                <a:lnTo>
                  <a:pt x="0" y="97048"/>
                </a:lnTo>
                <a:arcTo wR="196" hR="196" stAng="10800000" swAng="-5400000"/>
                <a:lnTo>
                  <a:pt x="21404" y="97244"/>
                </a:lnTo>
                <a:arcTo wR="196" hR="196" stAng="5400000" swAng="-5400000"/>
                <a:lnTo>
                  <a:pt x="21600" y="196"/>
                </a:lnTo>
                <a:arcTo wR="196" hR="196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0" y="1001880"/>
            <a:ext cx="174600" cy="787320"/>
          </a:xfrm>
          <a:custGeom>
            <a:avLst/>
            <a:gdLst>
              <a:gd name="textAreaLeft" fmla="*/ 360 w 174600"/>
              <a:gd name="textAreaRight" fmla="*/ 174240 w 174600"/>
              <a:gd name="textAreaTop" fmla="*/ 360 h 787320"/>
              <a:gd name="textAreaBottom" fmla="*/ 786960 h 787320"/>
            </a:gdLst>
            <a:ahLst/>
            <a:rect l="textAreaLeft" t="textAreaTop" r="textAreaRight" b="textAreaBottom"/>
            <a:pathLst>
              <a:path w="21600" h="97244">
                <a:moveTo>
                  <a:pt x="196" y="0"/>
                </a:moveTo>
                <a:arcTo wR="196" hR="196" stAng="16200000" swAng="-5400000"/>
                <a:lnTo>
                  <a:pt x="0" y="97048"/>
                </a:lnTo>
                <a:arcTo wR="196" hR="196" stAng="10800000" swAng="-5400000"/>
                <a:lnTo>
                  <a:pt x="21404" y="97244"/>
                </a:lnTo>
                <a:arcTo wR="196" hR="196" stAng="5400000" swAng="-5400000"/>
                <a:lnTo>
                  <a:pt x="21600" y="196"/>
                </a:lnTo>
                <a:arcTo wR="196" hR="196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ff9966"/>
                </a:solidFill>
                <a:uFillTx/>
                <a:latin typeface="Arial"/>
              </a:rPr>
              <a:t>Автоматизация звука «Т» в словах</a:t>
            </a:r>
            <a:r>
              <a:rPr b="1" i="1" lang="en-US" sz="3600" spc="-1" strike="noStrike" u="sng">
                <a:solidFill>
                  <a:srgbClr val="ff9966"/>
                </a:solidFill>
                <a:uFillTx/>
                <a:latin typeface="Arial"/>
              </a:rPr>
              <a:t> </a:t>
            </a:r>
            <a:br>
              <a:rPr sz="3600"/>
            </a:br>
            <a:r>
              <a:rPr b="1" i="1" lang="en-US" sz="3600" spc="-1" strike="noStrike" u="sng">
                <a:solidFill>
                  <a:srgbClr val="ff9966"/>
                </a:solidFill>
                <a:uFillTx/>
                <a:latin typeface="Arial"/>
              </a:rPr>
              <a:t>(</a:t>
            </a:r>
            <a:r>
              <a:rPr b="1" i="1" lang="ru-RU" sz="3600" spc="-1" strike="noStrike" u="sng">
                <a:solidFill>
                  <a:srgbClr val="ff9966"/>
                </a:solidFill>
                <a:uFillTx/>
                <a:latin typeface="Arial"/>
              </a:rPr>
              <a:t>в середине и в конце слова)</a:t>
            </a:r>
            <a:endParaRPr b="1" i="1" lang="en-US" sz="36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14240" y="1682280"/>
            <a:ext cx="8460000" cy="42325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cccc"/>
                </a:solidFill>
                <a:latin typeface="Times New Roman"/>
              </a:rPr>
              <a:t>ЗВУК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340000" y="1509840"/>
            <a:ext cx="5327640" cy="4609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КО — 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Ы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122560" y="1682640"/>
            <a:ext cx="564192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КИ — 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Ы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2538360" y="1682640"/>
            <a:ext cx="4481640" cy="3718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НО — 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Ы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168640" y="1682640"/>
            <a:ext cx="554976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БАН — 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Ы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2111400" y="1682640"/>
            <a:ext cx="566424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ЗОН — 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Ы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55720" y="1682640"/>
            <a:ext cx="637380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КОФ - 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Ы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122560" y="1682640"/>
            <a:ext cx="564192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ЦВЕ - 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Ы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2122560" y="1682640"/>
            <a:ext cx="564192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КОНФЕ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Ы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2122560" y="1682640"/>
            <a:ext cx="564192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ИС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Ы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2120760" y="1682640"/>
            <a:ext cx="564516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КИ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060720" y="1655640"/>
            <a:ext cx="4081320" cy="388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НО - 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3419640" y="1800360"/>
            <a:ext cx="251928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ЩИ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2827440" y="1682640"/>
            <a:ext cx="423216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КО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321000" y="1371600"/>
            <a:ext cx="3483000" cy="4543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КОМПО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2827440" y="1682640"/>
            <a:ext cx="423216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КАНА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827440" y="1682640"/>
            <a:ext cx="423216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ЗОН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2827440" y="1682640"/>
            <a:ext cx="423216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БАН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2836800" y="1682640"/>
            <a:ext cx="4214880" cy="42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ИС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1979640" y="1682640"/>
            <a:ext cx="5791320" cy="37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ЛИС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3097080" y="1682640"/>
            <a:ext cx="369252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ГАЗЕ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800360" y="1862280"/>
            <a:ext cx="5789520" cy="3536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КОФ — 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827440" y="1682640"/>
            <a:ext cx="423216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КОНФЕ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151000" y="1682640"/>
            <a:ext cx="5048280" cy="3718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КАПИ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Н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827440" y="1682640"/>
            <a:ext cx="3652560" cy="3718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ПАЛЬ - 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О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827440" y="1682640"/>
            <a:ext cx="423216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МОЛО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ОК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2390760" y="2043000"/>
            <a:ext cx="5168880" cy="3357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В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ОБУС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827440" y="1682640"/>
            <a:ext cx="4232160" cy="4232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8T15:38:41Z</dcterms:created>
  <dc:creator>Sony</dc:creator>
  <dc:description/>
  <dc:language>en-US</dc:language>
  <cp:lastModifiedBy>Sony</cp:lastModifiedBy>
  <dcterms:modified xsi:type="dcterms:W3CDTF">2015-10-18T20:59:21Z</dcterms:modified>
  <cp:revision>13</cp:revision>
  <dc:subject/>
  <dc:title>Автоматизация звука «Т» в словах</dc:title>
</cp:coreProperties>
</file>