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290-DB7A-46D3-89A1-C5701B20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6BA-BC17-4FE1-A90E-B21A547D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33B-BE5C-40F9-919C-13D1A9AD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4EE-7EA2-43AA-9B31-5249458B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2C9-E701-40AA-84BD-4CB3D0C1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A0C-B07B-4AFA-A197-454723C8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17C-75C1-4A58-B7A4-B34117E3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E20-ED29-4D7B-B78E-5E17432C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323-753F-4CA1-912D-2ACC5AC5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E1E-E3A5-4782-BCA2-1676EC0D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B80-8153-477F-B2F5-D0D62C5C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360-68C7-47FA-BA0B-A1DC2519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A9F23E-2090-46BC-B1C3-89B85EF8B2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"/>
          <p:cNvSpPr/>
          <p:nvPr/>
        </p:nvSpPr>
        <p:spPr>
          <a:xfrm>
            <a:off x="390600" y="1623960"/>
            <a:ext cx="9329760" cy="4856040"/>
          </a:xfrm>
          <a:prstGeom prst="roundRect">
            <a:avLst>
              <a:gd name="adj" fmla="val 32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47592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14240" y="1801440"/>
            <a:ext cx="829944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204156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100188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Автоматизация звука «Т» в словах</a:t>
            </a:r>
            <a:r>
              <a:rPr b="1" i="1" lang="en-US" sz="3600" spc="-1" strike="noStrike" u="sng">
                <a:solidFill>
                  <a:srgbClr val="ff9966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 u="sng">
                <a:solidFill>
                  <a:srgbClr val="ff9966"/>
                </a:solidFill>
                <a:uFillTx/>
                <a:latin typeface="Arial"/>
              </a:rPr>
              <a:t>(</a:t>
            </a: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в середине и в конце слова)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14240" y="1682280"/>
            <a:ext cx="846000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cccc"/>
                </a:solidFill>
                <a:latin typeface="Times New Roman"/>
              </a:rPr>
              <a:t>ЗВУК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340000" y="1509840"/>
            <a:ext cx="5327640" cy="46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И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38360" y="1682640"/>
            <a:ext cx="448164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НО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168640" y="1682640"/>
            <a:ext cx="55497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БАН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111400" y="1682640"/>
            <a:ext cx="56642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ЗОН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55720" y="1682640"/>
            <a:ext cx="637380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Ф -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ЦВЕ -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НФЕ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ИС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120760" y="1682640"/>
            <a:ext cx="5645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И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060720" y="1655640"/>
            <a:ext cx="4081320" cy="388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НО -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419640" y="1800360"/>
            <a:ext cx="25192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ЩИ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321000" y="1371600"/>
            <a:ext cx="348300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МПО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АНА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ЗОН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БАН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836800" y="1682640"/>
            <a:ext cx="421488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ИС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979640" y="1682640"/>
            <a:ext cx="5791320" cy="37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ЛИС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3097080" y="1682640"/>
            <a:ext cx="36925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ГАЗЕ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800360" y="1862280"/>
            <a:ext cx="5789520" cy="353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Ф —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ОНФЕ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151000" y="1682640"/>
            <a:ext cx="504828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АПИ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Н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365256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АЛЬ -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ЛО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К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390760" y="2043000"/>
            <a:ext cx="51688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В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БУС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5:38:41Z</dcterms:created>
  <dc:creator>Sony</dc:creator>
  <dc:description/>
  <dc:language>en-US</dc:language>
  <cp:lastModifiedBy>Sony</cp:lastModifiedBy>
  <dcterms:modified xsi:type="dcterms:W3CDTF">2015-10-18T20:59:21Z</dcterms:modified>
  <cp:revision>13</cp:revision>
  <dc:subject/>
  <dc:title>Автоматизация звука «Т» в словах</dc:title>
</cp:coreProperties>
</file>