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24C-F409-4A0D-AF03-9DF23702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D02-4421-49A5-B73B-542A6277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A7A-AF7E-43F9-A678-D18CA863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780-2F6E-41A3-8B99-C717B8C4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DC172-7945-4F03-94DA-57F81D01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8191C-9134-4645-8075-1001D6D4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AF1D4-EFE6-4C66-A379-87DABE4A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3F05F-96D5-4A18-9861-294771DD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2F8B5-BF50-441C-93D3-7E905408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0A939-09BC-480B-81C7-FE08445B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70960-F222-47F8-AA91-FAF80A2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79D-7D19-4437-AD38-3E483931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782C6-0931-4E9F-BF58-4507695B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7576D-0CAF-4FE7-A345-64D17F7F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86D7D-C725-43C8-A113-05F78990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49B95-CAA3-4CD9-AEAB-ACEE745F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CBA3E-DFA3-430C-BAF2-370666B1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E81-CCCD-4083-909F-D01CB021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4EE-011A-494E-A883-F917DBE9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AD0-C916-434A-9E08-46E208FF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CAC-093D-4BF4-86D2-3642B87E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DD3-00A9-4CFA-AA48-C76BA8CB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683-D493-4915-8846-7394C50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3BA-A699-4642-9022-2F70EF6D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4299-61E6-4F2A-965C-E58ACA25EB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70B6-1E46-4502-AAE2-52A9497DC2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&amp;pcy;&amp;rcy;&amp;icy;&amp;rcy;&amp;ocy;&amp;dcy;&amp;acy;, &amp;dcy;&amp;iecy;&amp;rcy;&amp;iecy;&amp;vcy;&amp;softcy;&amp;yacy;, &amp;pcy;&amp;iecy;&amp;jcy;&amp;zcy;&amp;acy;&amp;zhcy;, &amp;Lcy;&amp;iecy;&amp;scy;, &amp;ecy;&amp;kcy;&amp;ocy;&amp;lcy;&amp;ocy;&amp;gcy;&amp;icy;&amp;yacy;, &amp;lcy;&amp;iocy;&amp;gcy;&amp;kcy;&amp;icy;&amp;iecy;, &amp;rcy;&amp;iecy;&amp;kcy;&amp;acy;, 2800x1636 &amp;ocy;&amp;bcy;&amp;ocy;&amp;icy; &amp;ncy;&amp;acy; &amp;rcy;&amp;acy;&amp;bcy;&amp;ocy;&amp;chcy;&amp;icy;&amp;jcy; &amp;scy;&amp;tcy;&amp;ocy;&amp;lcy; &amp;kcy;&amp;acy;&amp;rcy;&amp;tcy;&amp;icy;&amp;ncy;&amp;kcy;&amp;icy; 1024x768 &amp;scy;&amp;kcy;&amp;acy;&amp;chcy;&amp;acy;&amp;tcy;&amp;softcy; &amp;bcy;&amp;iecy;&amp;scy;&amp;pcy;&amp;lcy;&amp;acy;&amp;tcy;&amp;ncy;&amp;ocy;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ОБЛЕМЫ ЭКОЛОГИ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Артамонова М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&amp;Ecy;&amp;kcy;&amp;ocy;&amp;lcy;&amp;ocy;&amp;gcy;&amp;icy;&amp;chcy;&amp;iecy;&amp;scy;&amp;kcy;&amp;acy;&amp;yacy; &amp;pcy;&amp;rcy;&amp;ocy;&amp;bcy;&amp;lcy;&amp;iecy;&amp;mcy;&amp;acy; &amp;ncy;&amp;ocy;&amp;mcy;&amp;iecy;&amp;rcy; 1 - &amp;Kcy;&amp;acy;&amp;rcy;&amp;tcy;&amp;icy;&amp;ncy;&amp;kcy;&amp;acy; 12410/33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Современная цивилизация осуществляет невиданное давление на природу. Сейчас человечество находится на грани всемирной экологической катастроф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Охрана окружающей природной среды - одна из наиболее актуальных проблем современности. Научно-технический прогресс и усиление антропогенного да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на природную среду неизбеж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приводят к обострению экологической ситу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егодняшний день в мире существует много экологических проблем, начиная от исчезновения некоторых видов растений и животных, заканчивая угрозой вырождения человеческой р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http://www.izhevskinfo.ru/img/news/504x400_8794.jpg"/>
          <p:cNvPicPr/>
          <p:nvPr/>
        </p:nvPicPr>
        <p:blipFill>
          <a:blip r:embed="rId1"/>
          <a:stretch/>
        </p:blipFill>
        <p:spPr>
          <a:xfrm>
            <a:off x="4114800" y="152280"/>
            <a:ext cx="4800600" cy="360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http://www.greenpeace.org/finland/Global/international/photos/nuclear/2010/nuclear-hongkong.JPG"/>
          <p:cNvPicPr/>
          <p:nvPr/>
        </p:nvPicPr>
        <p:blipFill>
          <a:blip r:embed="rId2"/>
          <a:stretch/>
        </p:blipFill>
        <p:spPr>
          <a:xfrm>
            <a:off x="4114800" y="3886200"/>
            <a:ext cx="48006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Societal Problems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НОВНЫЕ ПРОБЛЕМЫ ЭКОЛОГ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Загрязнение атмосфе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2. Парниковый эффе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 Истощение озонного сло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4. Кислотные дож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5. Загрязнение возду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6. Массовое сведение ле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7. Мусор и отхо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8. Загрязнение природных в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&amp;Ecy;&amp;ncy;&amp;iecy;&amp;rcy;&amp;gcy;&amp;ocy;&amp;scy;&amp;bcy;&amp;iecy;&amp;rcy;&amp;iecy;&amp;gcy;&amp;acy;&amp;yucy;&amp;shchcy;&amp;acy;&amp;yacy; &amp;tcy;&amp;iecy;&amp;khcy;&amp;ncy;&amp;icy;&amp;kcy;&amp;acy; &amp;Scy;&amp;tcy;&amp;rcy;&amp;ocy;&amp;icy;&amp;tcy;&amp;iecy;&amp;lcy;&amp;softcy;&amp;ncy;&amp;ycy;&amp;jcy; &amp;bcy;&amp;lcy;&amp;ocy;&amp;gcy; &amp;Mcy;&amp;icy;&amp;khcy;&amp;acy;&amp;icy;&amp;lcy;&amp;acy; &amp;Scy;&amp;tcy;&amp;rcy;&amp;ocy;&amp;pcy;&amp;ocy;&amp;vcy;&amp;acy;"/>
          <p:cNvPicPr/>
          <p:nvPr/>
        </p:nvPicPr>
        <p:blipFill>
          <a:blip r:embed="rId1"/>
          <a:stretch/>
        </p:blipFill>
        <p:spPr>
          <a:xfrm>
            <a:off x="0" y="0"/>
            <a:ext cx="11430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арниковый эффект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ерить прогнозам, то потепление мирового климата на сегодняшний день представляет наиболее серьёзную угрозу среде об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какой-то мере парниковый эффект существует в природе, без него жизнь на земле была бы невозможна. Хотя на три пятых парниковый эффект объясняется накоплением в атмосфере углекислого газа, другие газы тоже способствуют его возникновению. Вторым по важности является метан, выделяемый бактериями, живущими в поч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&amp;Vcy;&amp;ycy;&amp;pcy;&amp;ucy;&amp;scy;&amp;kcy; &quot;ECOportal: &amp;Ecy;&amp;kcy;&amp;ocy;&amp;lcy;&amp;ocy;&amp;gcy;&amp;icy;&amp;yacy; &amp;zcy;&amp;acy; &amp;ncy;&amp;iecy;&amp;dcy;&amp;iecy;&amp;lcy;&amp;yucy; #468&quot; &amp;rcy;&amp;acy;&amp;scy;&amp;scy;&amp;ycy;&amp;lcy;&amp;kcy;&amp;icy; &quot;ECOportal: &amp;Ecy;&amp;kcy;&amp;ocy;&amp;lcy;&amp;ocy;&amp;gcy;&amp;icy;&amp;yacy; &amp;zcy;&amp;acy; &amp;ncy;&amp;iecy;&amp;dcy;&amp;iecy;&amp;lcy;&amp;yucy;&quot; &amp;ocy;&amp;tcy; 21 &amp;ncy;&amp;ocy;&amp;yacy;&amp;bcy;&amp;rcy;&amp;yacy; 2011 &amp;gcy;&amp;ocy;&amp;dcy;&amp;acy;. &amp;Rcy;&amp;acy;&amp;scy;&amp;scy;&amp;ycy;&amp;lcy;&amp;kcy;&amp;icy; @MAIL.RU:"/>
          <p:cNvPicPr/>
          <p:nvPr/>
        </p:nvPicPr>
        <p:blipFill>
          <a:blip r:embed="rId1"/>
          <a:stretch/>
        </p:blipFill>
        <p:spPr>
          <a:xfrm>
            <a:off x="5562720" y="3352680"/>
            <a:ext cx="3581280" cy="245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&amp;Kcy;&amp;acy;&amp;rcy;&amp;ocy;&amp;lcy;&amp;icy;&amp;ncy;&amp;acy; &amp;vcy;&amp;yacy;&amp;zcy;&amp;acy;&amp;ncy;&amp;icy;&amp;iecy; &amp;kcy;&amp;ucy;&amp;lcy;&amp;icy;&amp;ncy;&amp;acy;&amp;rcy;&amp;icy;&amp;yacy; :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2"/>
          <a:stretch/>
        </p:blipFill>
        <p:spPr>
          <a:xfrm>
            <a:off x="5715000" y="914400"/>
            <a:ext cx="3429000" cy="2403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УСОР И ОТХ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бавиться от твёрдого мусора можно тремя способами: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капывать, сжигать или утилизироват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Однако мусорные свалки занимают много места и быстро заполняются, а сжигание загрязняет воздух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 сжигании уменьшается объём, но не масса мусора, а концентрация токсических веществ повыш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илизация мусора – весьма эффективный способ решения  проблемы, но для этого необходимо изменить привычное поведение людей, поскольку требуется  сортировать хозяйственный мусор, собирая отдельно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еталл, бумагу и стекл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&amp;Vcy; &amp;Kcy;&amp;rcy;&amp;iecy;&amp;mcy;&amp;lcy;&amp;iecy; &amp;rcy;&amp;acy;&amp;zcy;&amp;bcy;&amp;iecy;&amp;rcy;&amp;ucy;&amp;tcy;&amp;scy;&amp;yacy; &amp;scy; &amp;vcy;&amp;ycy;&amp;rcy;&amp;ucy;&amp;bcy;&amp;kcy;&amp;ocy;&amp;jcy; &amp;lcy;&amp;iecy;&amp;scy;&amp;acy; &amp;acy;&amp;mcy;&amp;ucy;&amp;rcy;&amp;scy;&amp;kcy;&amp;icy;&amp;khcy; &amp;tcy;&amp;icy;&amp;gcy;&amp;rcy;&amp;ocy;&amp;vcy;"/>
          <p:cNvPicPr/>
          <p:nvPr/>
        </p:nvPicPr>
        <p:blipFill>
          <a:blip r:embed="rId1"/>
          <a:stretch/>
        </p:blipFill>
        <p:spPr>
          <a:xfrm>
            <a:off x="0" y="0"/>
            <a:ext cx="9448920" cy="6896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ВЕДЕНИЕ ЛЕС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меньшение площади лесов нарушает процесс круговорота кислорода и углерода в биосфере. Несмотря на то, что катастрофические последствия сведения лесов уже широко известны, уничтожение их продолж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енно интенсивно уничтожаются влажные тропические леса в Азии, Африке, Америке и некоторых других регионах мира.. Сведение лесов влечёт за собой гибель их богатейших флоры и фауны. Под угрозой исчезновения находится некоторые виды птиц, растений, млекопитающих и земноводны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6. &amp;Mcy;&amp;iecy;&amp;tcy;&amp;ocy;&amp;dcy;&amp;icy;&amp;chcy;&amp;iecy;&amp;scy;&amp;kcy;&amp;icy;&amp;iecy; &amp;rcy;&amp;acy;&amp;zcy;&amp;rcy;&amp;acy;&amp;bcy;&amp;ocy;&amp;tcy;&amp;kcy;&amp;icy; / &amp;Scy;&amp;acy;&amp;jcy;&amp;tcy; &amp;ucy;&amp;chcy;&amp;icy;&amp;tcy;&amp;iecy;&amp;lcy;&amp;yacy; &amp;bcy;&amp;icy;&amp;ocy;&amp;lcy;&amp;ocy;&amp;gcy;&amp;icy;&amp;icy; &amp;icy; &amp;gcy;&amp;iecy;&amp;ocy;&amp;gcy;&amp;rcy;&amp;acy;&amp;fcy;&amp;icy;&amp;icy; / &amp;Pcy;&amp;ocy;&amp;rcy;&amp;tcy;&amp;acy;&amp;lcy; &amp;ocy;&amp;bcy;&amp;rcy;&amp;acy;&amp;zcy;&amp;ocy;&amp;vcy;&amp;acy;&amp;ncy;&amp;icy;&amp;yacy; &amp;CHcy;&amp;Rcy;"/>
          <p:cNvPicPr/>
          <p:nvPr/>
        </p:nvPicPr>
        <p:blipFill>
          <a:blip r:embed="rId1"/>
          <a:stretch/>
        </p:blipFill>
        <p:spPr>
          <a:xfrm>
            <a:off x="914400" y="106668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 Артамонов</cp:lastModifiedBy>
  <dcterms:modified xsi:type="dcterms:W3CDTF">2014-09-11T20:12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