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B727-FC81-4FDC-8B42-4F30F0D4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132-8278-46D8-BB96-04ECDC36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01B6-5EA8-4C37-BDD3-160B35A3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2AC-025F-4618-BC9C-3F026F93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9725F-1826-4451-894C-C4C3D257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63FDC-447B-48AD-8559-0EC3C73C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F095F-CFC8-41C7-8C7B-2E8B896D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31B3A-E2CD-4EB4-A3D4-8286D4B2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2DD89-4963-4A4E-8CCC-34DA10A9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B7456-07DC-4E3D-857F-CF671BD9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DD44B-4DF4-4597-832E-09D71F29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34E3-CED8-46A6-AFB7-3C2B49DB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E599D-C9E5-4EAF-A24D-6CB9D09C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AE773-E187-4506-A0C1-1C7351B9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56997-8AE0-47E1-A994-1610B39D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2293A-842D-4E82-A5F7-7199FEC4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8246D-CC06-4954-B7D3-E181773A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0C3-A1B7-4990-9D60-AC06483D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D1E5-C8EF-4487-8AC0-B5FAF6A9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523A-FC94-4A23-98D1-D9AD3683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C55-27B3-4B0C-B346-6130200D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BE5-B1A3-44C2-BBB4-4E81D57C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272-A3A0-4A0E-9B1A-1C64B3CD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25F-23AA-41B1-BD37-B3735FDE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33C9-285F-4A77-84C5-35CE28CDE8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2415-BD3C-4CD9-938E-E98F391C64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&amp;pcy;&amp;rcy;&amp;icy;&amp;rcy;&amp;ocy;&amp;dcy;&amp;acy;, &amp;dcy;&amp;iecy;&amp;rcy;&amp;iecy;&amp;vcy;&amp;softcy;&amp;yacy;, &amp;pcy;&amp;iecy;&amp;jcy;&amp;zcy;&amp;acy;&amp;zhcy;, &amp;Lcy;&amp;iecy;&amp;scy;, &amp;ecy;&amp;kcy;&amp;ocy;&amp;lcy;&amp;ocy;&amp;gcy;&amp;icy;&amp;yacy;, &amp;lcy;&amp;iocy;&amp;gcy;&amp;kcy;&amp;icy;&amp;iecy;, &amp;rcy;&amp;iecy;&amp;kcy;&amp;acy;, 2800x1636 &amp;ocy;&amp;bcy;&amp;ocy;&amp;icy; &amp;ncy;&amp;acy; &amp;rcy;&amp;acy;&amp;bcy;&amp;ocy;&amp;chcy;&amp;icy;&amp;jcy; &amp;scy;&amp;tcy;&amp;ocy;&amp;lcy; &amp;kcy;&amp;acy;&amp;rcy;&amp;tcy;&amp;icy;&amp;ncy;&amp;kcy;&amp;icy; 1024x768 &amp;scy;&amp;kcy;&amp;acy;&amp;chcy;&amp;acy;&amp;tcy;&amp;softcy; &amp;bcy;&amp;iecy;&amp;scy;&amp;pcy;&amp;lcy;&amp;acy;&amp;tcy;&amp;ncy;&amp;ocy;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ПРОБЛЕМЫ ЭКОЛОГИИ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ла Артамонова М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&amp;Ecy;&amp;kcy;&amp;ocy;&amp;lcy;&amp;ocy;&amp;gcy;&amp;icy;&amp;chcy;&amp;iecy;&amp;scy;&amp;kcy;&amp;acy;&amp;yacy; &amp;pcy;&amp;rcy;&amp;ocy;&amp;bcy;&amp;lcy;&amp;iecy;&amp;mcy;&amp;acy; &amp;ncy;&amp;ocy;&amp;mcy;&amp;iecy;&amp;rcy; 1 - &amp;Kcy;&amp;acy;&amp;rcy;&amp;tcy;&amp;icy;&amp;ncy;&amp;kcy;&amp;acy; 12410/33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 Extra Bold"/>
              </a:rPr>
              <a:t>Современная цивилизация осуществляет невиданное давление на природу. Сейчас человечество находится на грани всемирной экологической катастроф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 Extra Bold"/>
              </a:rPr>
              <a:t>Охрана окружающей природной среды - одна из наиболее актуальных проблем современности. Научно-технический прогресс и усиление антропогенного давл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 Extra Bol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Rockwell Extra Bold"/>
              </a:rPr>
              <a:t>на природную среду неизбежн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 Extra Bol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Rockwell Extra Bold"/>
              </a:rPr>
              <a:t>приводят к обострению экологической ситу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сегодняшний день в мире существует много экологических проблем, начиная от исчезновения некоторых видов растений и животных, заканчивая угрозой вырождения человеческой ра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http://www.izhevskinfo.ru/img/news/504x400_8794.jpg"/>
          <p:cNvPicPr/>
          <p:nvPr/>
        </p:nvPicPr>
        <p:blipFill>
          <a:blip r:embed="rId1"/>
          <a:stretch/>
        </p:blipFill>
        <p:spPr>
          <a:xfrm>
            <a:off x="4114800" y="152280"/>
            <a:ext cx="4800600" cy="3600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http://www.greenpeace.org/finland/Global/international/photos/nuclear/2010/nuclear-hongkong.JPG"/>
          <p:cNvPicPr/>
          <p:nvPr/>
        </p:nvPicPr>
        <p:blipFill>
          <a:blip r:embed="rId2"/>
          <a:stretch/>
        </p:blipFill>
        <p:spPr>
          <a:xfrm>
            <a:off x="4114800" y="3886200"/>
            <a:ext cx="480060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Societal Problems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СНОВНЫЕ ПРОБЛЕМЫ ЭКОЛОГ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1.Загрязнение атмосфе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2. Парниковый эффек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. Истощение озонного сло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4. Кислотные дож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5. Загрязнение воздух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6. Массовое сведение ле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7. Мусор и отход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8. Загрязнение природных во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&amp;Ecy;&amp;ncy;&amp;iecy;&amp;rcy;&amp;gcy;&amp;ocy;&amp;scy;&amp;bcy;&amp;iecy;&amp;rcy;&amp;iecy;&amp;gcy;&amp;acy;&amp;yucy;&amp;shchcy;&amp;acy;&amp;yacy; &amp;tcy;&amp;iecy;&amp;khcy;&amp;ncy;&amp;icy;&amp;kcy;&amp;acy; &amp;Scy;&amp;tcy;&amp;rcy;&amp;ocy;&amp;icy;&amp;tcy;&amp;iecy;&amp;lcy;&amp;softcy;&amp;ncy;&amp;ycy;&amp;jcy; &amp;bcy;&amp;lcy;&amp;ocy;&amp;gcy; &amp;Mcy;&amp;icy;&amp;khcy;&amp;acy;&amp;icy;&amp;lcy;&amp;acy; &amp;Scy;&amp;tcy;&amp;rcy;&amp;ocy;&amp;pcy;&amp;ocy;&amp;vcy;&amp;acy;"/>
          <p:cNvPicPr/>
          <p:nvPr/>
        </p:nvPicPr>
        <p:blipFill>
          <a:blip r:embed="rId1"/>
          <a:stretch/>
        </p:blipFill>
        <p:spPr>
          <a:xfrm>
            <a:off x="0" y="0"/>
            <a:ext cx="11430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арниковый эффект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верить прогнозам, то потепление мирового климата на сегодняшний день представляет наиболее серьёзную угрозу среде обит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какой-то мере парниковый эффект существует в природе, без него жизнь на земле была бы невозможна. Хотя на три пятых парниковый эффект объясняется накоплением в атмосфере углекислого газа, другие газы тоже способствуют его возникновению. Вторым по важности является метан, выделяемый бактериями, живущими в почв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&amp;Vcy;&amp;ycy;&amp;pcy;&amp;ucy;&amp;scy;&amp;kcy; &quot;ECOportal: &amp;Ecy;&amp;kcy;&amp;ocy;&amp;lcy;&amp;ocy;&amp;gcy;&amp;icy;&amp;yacy; &amp;zcy;&amp;acy; &amp;ncy;&amp;iecy;&amp;dcy;&amp;iecy;&amp;lcy;&amp;yucy; #468&quot; &amp;rcy;&amp;acy;&amp;scy;&amp;scy;&amp;ycy;&amp;lcy;&amp;kcy;&amp;icy; &quot;ECOportal: &amp;Ecy;&amp;kcy;&amp;ocy;&amp;lcy;&amp;ocy;&amp;gcy;&amp;icy;&amp;yacy; &amp;zcy;&amp;acy; &amp;ncy;&amp;iecy;&amp;dcy;&amp;iecy;&amp;lcy;&amp;yucy;&quot; &amp;ocy;&amp;tcy; 21 &amp;ncy;&amp;ocy;&amp;yacy;&amp;bcy;&amp;rcy;&amp;yacy; 2011 &amp;gcy;&amp;ocy;&amp;dcy;&amp;acy;. &amp;Rcy;&amp;acy;&amp;scy;&amp;scy;&amp;ycy;&amp;lcy;&amp;kcy;&amp;icy; @MAIL.RU:"/>
          <p:cNvPicPr/>
          <p:nvPr/>
        </p:nvPicPr>
        <p:blipFill>
          <a:blip r:embed="rId1"/>
          <a:stretch/>
        </p:blipFill>
        <p:spPr>
          <a:xfrm>
            <a:off x="5562720" y="3352680"/>
            <a:ext cx="3581280" cy="2459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&amp;Kcy;&amp;acy;&amp;rcy;&amp;ocy;&amp;lcy;&amp;icy;&amp;ncy;&amp;acy; &amp;vcy;&amp;yacy;&amp;zcy;&amp;acy;&amp;ncy;&amp;icy;&amp;iecy; &amp;kcy;&amp;ucy;&amp;lcy;&amp;icy;&amp;ncy;&amp;acy;&amp;rcy;&amp;icy;&amp;yacy; :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2"/>
          <a:stretch/>
        </p:blipFill>
        <p:spPr>
          <a:xfrm>
            <a:off x="5715000" y="914400"/>
            <a:ext cx="3429000" cy="2403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МУСОР И ОТХОД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бавиться от твёрдого мусора можно тремя способами: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капывать, сжигать или утилизироват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Однако мусорные свалки занимают много места и быстро заполняются, а сжигание загрязняет воздух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 сжигании уменьшается объём, но не масса мусора, а концентрация токсических веществ повыша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илизация мусора – весьма эффективный способ решения  проблемы, но для этого необходимо изменить привычное поведение людей, поскольку требуется  сортировать хозяйственный мусор, собирая отдельно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металл, бумагу и стекл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&amp;Vcy; &amp;Kcy;&amp;rcy;&amp;iecy;&amp;mcy;&amp;lcy;&amp;iecy; &amp;rcy;&amp;acy;&amp;zcy;&amp;bcy;&amp;iecy;&amp;rcy;&amp;ucy;&amp;tcy;&amp;scy;&amp;yacy; &amp;scy; &amp;vcy;&amp;ycy;&amp;rcy;&amp;ucy;&amp;bcy;&amp;kcy;&amp;ocy;&amp;jcy; &amp;lcy;&amp;iecy;&amp;scy;&amp;acy; &amp;acy;&amp;mcy;&amp;ucy;&amp;rcy;&amp;scy;&amp;kcy;&amp;icy;&amp;khcy; &amp;tcy;&amp;icy;&amp;gcy;&amp;rcy;&amp;ocy;&amp;vcy;"/>
          <p:cNvPicPr/>
          <p:nvPr/>
        </p:nvPicPr>
        <p:blipFill>
          <a:blip r:embed="rId1"/>
          <a:stretch/>
        </p:blipFill>
        <p:spPr>
          <a:xfrm>
            <a:off x="0" y="0"/>
            <a:ext cx="9448920" cy="68961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ВЕДЕНИЕ ЛЕС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37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меньшение площади лесов нарушает процесс круговорота кислорода и углерода в биосфере. Несмотря на то, что катастрофические последствия сведения лесов уже широко известны, уничтожение их продолжа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обенно интенсивно уничтожаются влажные тропические леса в Азии, Африке, Америке и некоторых других регионах мира.. Сведение лесов влечёт за собой гибель их богатейших флоры и фауны. Под угрозой исчезновения находится некоторые виды птиц, растений, млекопитающих и земноводны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6. &amp;Mcy;&amp;iecy;&amp;tcy;&amp;ocy;&amp;dcy;&amp;icy;&amp;chcy;&amp;iecy;&amp;scy;&amp;kcy;&amp;icy;&amp;iecy; &amp;rcy;&amp;acy;&amp;zcy;&amp;rcy;&amp;acy;&amp;bcy;&amp;ocy;&amp;tcy;&amp;kcy;&amp;icy; / &amp;Scy;&amp;acy;&amp;jcy;&amp;tcy; &amp;ucy;&amp;chcy;&amp;icy;&amp;tcy;&amp;iecy;&amp;lcy;&amp;yacy; &amp;bcy;&amp;icy;&amp;ocy;&amp;lcy;&amp;ocy;&amp;gcy;&amp;icy;&amp;icy; &amp;icy; &amp;gcy;&amp;iecy;&amp;ocy;&amp;gcy;&amp;rcy;&amp;acy;&amp;fcy;&amp;icy;&amp;icy; / &amp;Pcy;&amp;ocy;&amp;rcy;&amp;tcy;&amp;acy;&amp;lcy; &amp;ocy;&amp;bcy;&amp;rcy;&amp;acy;&amp;zcy;&amp;ocy;&amp;vcy;&amp;acy;&amp;ncy;&amp;icy;&amp;yacy; &amp;CHcy;&amp;Rcy;"/>
          <p:cNvPicPr/>
          <p:nvPr/>
        </p:nvPicPr>
        <p:blipFill>
          <a:blip r:embed="rId1"/>
          <a:stretch/>
        </p:blipFill>
        <p:spPr>
          <a:xfrm>
            <a:off x="914400" y="1066680"/>
            <a:ext cx="7620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рий Артамонов</cp:lastModifiedBy>
  <dcterms:modified xsi:type="dcterms:W3CDTF">2014-09-11T20:12:3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