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C88-C717-40E2-8C01-A19D26A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401-E6E9-4C47-96D0-15E81F86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D9F-88BE-472A-A97D-33A58FF3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583-7D7C-4050-972F-BB155927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E58B-5C30-417E-B17B-6679788E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AF6-FA68-48FB-BDB2-3A7732FE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431E-E4FD-433F-9051-6E20C10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1B6-EEA2-4727-9D70-507151E3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48EA-3DAA-4C04-8896-EC77BD3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847A-D268-4C49-BAAC-40EDE3EA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F63D-FF57-434C-BD68-9DCBBF24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D84-473F-4200-ADE3-0A552CB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901D-C138-437D-B5F5-D904060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74E3-5CB8-45AD-AC73-E8A00D26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8FD-9F86-4219-A070-03F8D11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9F7-A799-464A-9F5A-3476FB08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B100-F388-4C02-85E7-126263B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B02-017B-4830-A0D8-4C9D6BE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5F3-DD90-423C-BEA8-EC2D0F2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095-70F5-4D1D-8BBB-42B4C9BA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FB4-071F-4AD1-BF24-92349F2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E71-3973-4AB1-A29B-E6FE1CA5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605-2D6C-4618-B17E-E129E15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C56-345B-4F98-89FC-1700513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9B3-45D1-4112-BC81-1C4981E712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C4B-F445-4637-8C07-DE54830531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7195" r="0" b="21941"/>
          <a:stretch/>
        </p:blipFill>
        <p:spPr>
          <a:xfrm>
            <a:off x="0" y="0"/>
            <a:ext cx="4343400" cy="2462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066920" cy="3363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0" t="50335" r="49580" b="0"/>
          <a:stretch/>
        </p:blipFill>
        <p:spPr>
          <a:xfrm>
            <a:off x="468360" y="2997360"/>
            <a:ext cx="2089080" cy="2841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0" t="0" r="49580" b="50917"/>
          <a:stretch/>
        </p:blipFill>
        <p:spPr>
          <a:xfrm>
            <a:off x="2987640" y="2924280"/>
            <a:ext cx="2089080" cy="2808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219640" y="3213000"/>
            <a:ext cx="3743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2520720" cy="2055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7195" r="49452" b="21941"/>
          <a:stretch/>
        </p:blipFill>
        <p:spPr>
          <a:xfrm>
            <a:off x="539640" y="404640"/>
            <a:ext cx="2195640" cy="2462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4235400" cy="3178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219640" y="476280"/>
            <a:ext cx="3635280" cy="3006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796000" y="3068640"/>
            <a:ext cx="2495520" cy="34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68480" cy="282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3818160" cy="286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3095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765000"/>
            <a:ext cx="194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doni MT"/>
              </a:rPr>
              <a:t>c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doni MT"/>
              <a:ea typeface="Bodoni M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435640" y="260280"/>
            <a:ext cx="1727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doni MT"/>
              </a:rPr>
              <a:t>k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doni MT"/>
              <a:ea typeface="Bodoni M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63640" y="3716280"/>
            <a:ext cx="2376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/k/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51640" y="3213000"/>
            <a:ext cx="280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Bodoni MT"/>
              </a:rPr>
              <a:t>ck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Bodoni MT"/>
              <a:ea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85800" y="152280"/>
          <a:ext cx="7695360" cy="5333400"/>
        </p:xfrm>
        <a:graphic>
          <a:graphicData uri="http://schemas.openxmlformats.org/drawingml/2006/table">
            <a:tbl>
              <a:tblPr/>
              <a:tblGrid>
                <a:gridCol w="2565360"/>
                <a:gridCol w="2564640"/>
                <a:gridCol w="2565360"/>
              </a:tblGrid>
              <a:tr h="84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k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cke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ngaro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c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c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9:52:03Z</dcterms:created>
  <dc:creator>1</dc:creator>
  <dc:description/>
  <dc:language>en-US</dc:language>
  <cp:lastModifiedBy>1</cp:lastModifiedBy>
  <dcterms:modified xsi:type="dcterms:W3CDTF">2014-05-13T20:43:36Z</dcterms:modified>
  <cp:revision>2</cp:revision>
  <dc:subject/>
  <dc:title>Слайд 1</dc:title>
</cp:coreProperties>
</file>