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499-AE63-4C03-9231-2143EFA1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1D7-12CB-4A94-9CCC-6A2ABDF1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23E-26F5-4BC7-8383-7DA09BDA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BAD-65F7-46A7-A341-40F155B4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6466-F7C7-44E4-9F09-78657055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F8FD-A86E-4C80-B69F-6D06E131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CC8C-7945-47D8-B5B2-2A2F8A7D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4CD9-B741-4A63-A91E-85676744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F8F0-70CE-4C43-AAAB-48A4DF38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9439-75C5-4DDB-9A13-DF37A011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10E3-4D1D-4FE9-9FED-0175797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251-B20D-44DC-89A6-75EE3493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52DF-156D-420D-9CDE-4484D1C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0C14-4F26-45C5-B311-E2538F71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8B67-B635-43AC-B67E-8E9CC0EE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B28E-58D5-4620-AAEA-C6F0FFBC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8B4A-4ED1-43EC-ACDF-01D98BFB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837-619B-4A9B-8B70-2ACE399C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702-C3DC-4C27-9AFB-0F3E5093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259-44A4-49B3-998D-56FE2523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3BE-BE73-45FA-8627-45EF8936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20F-6B7C-4B4A-BE40-B74DD4B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35E-556C-482A-A80D-75C045BC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8A3-DB79-4398-A778-183115B3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1188-B8C1-4548-B4B3-BB184FDC33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E25D-6C2E-4D34-AE38-B03338F22C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7195" r="0" b="21941"/>
          <a:stretch/>
        </p:blipFill>
        <p:spPr>
          <a:xfrm>
            <a:off x="0" y="0"/>
            <a:ext cx="4343400" cy="2462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066920" cy="3363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0" t="50335" r="49580" b="0"/>
          <a:stretch/>
        </p:blipFill>
        <p:spPr>
          <a:xfrm>
            <a:off x="468360" y="2997360"/>
            <a:ext cx="2089080" cy="2841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rcRect l="0" t="0" r="49580" b="50917"/>
          <a:stretch/>
        </p:blipFill>
        <p:spPr>
          <a:xfrm>
            <a:off x="2987640" y="2924280"/>
            <a:ext cx="2089080" cy="2808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219640" y="3213000"/>
            <a:ext cx="3743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59280" y="549360"/>
            <a:ext cx="2520720" cy="2055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7195" r="49452" b="21941"/>
          <a:stretch/>
        </p:blipFill>
        <p:spPr>
          <a:xfrm>
            <a:off x="539640" y="404640"/>
            <a:ext cx="2195640" cy="2462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4235400" cy="3178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219640" y="476280"/>
            <a:ext cx="3635280" cy="3006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796000" y="3068640"/>
            <a:ext cx="2495520" cy="343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68480" cy="282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3818160" cy="286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3095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03280" y="765000"/>
            <a:ext cx="194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doni MT"/>
              </a:rPr>
              <a:t>c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doni MT"/>
              <a:ea typeface="Bodoni M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435640" y="260280"/>
            <a:ext cx="1727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doni MT"/>
              </a:rPr>
              <a:t>k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doni MT"/>
              <a:ea typeface="Bodoni M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63640" y="3716280"/>
            <a:ext cx="2376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/k/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51640" y="3213000"/>
            <a:ext cx="280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Bodoni MT"/>
              </a:rPr>
              <a:t>ck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Bodoni MT"/>
              <a:ea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685800" y="152280"/>
          <a:ext cx="7695360" cy="5333400"/>
        </p:xfrm>
        <a:graphic>
          <a:graphicData uri="http://schemas.openxmlformats.org/drawingml/2006/table">
            <a:tbl>
              <a:tblPr/>
              <a:tblGrid>
                <a:gridCol w="2565360"/>
                <a:gridCol w="2564640"/>
                <a:gridCol w="2565360"/>
              </a:tblGrid>
              <a:tr h="84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k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cke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angaro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c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c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19:52:03Z</dcterms:created>
  <dc:creator>1</dc:creator>
  <dc:description/>
  <dc:language>en-US</dc:language>
  <cp:lastModifiedBy>1</cp:lastModifiedBy>
  <dcterms:modified xsi:type="dcterms:W3CDTF">2014-05-13T20:43:36Z</dcterms:modified>
  <cp:revision>2</cp:revision>
  <dc:subject/>
  <dc:title>Слайд 1</dc:title>
</cp:coreProperties>
</file>