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3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2AC9-525B-49BB-B287-87CD4CFC8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268D-9C2A-4B7E-8BB1-C728BA2B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01BF-E099-4793-8A8E-90470CE59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71F8-A1D7-4D00-A9D4-8C85D9ED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A701-9959-407E-9297-EFA0F4323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76D1-4D8B-42E5-9F07-C5E142CA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6C1F-9E13-472C-8F05-065E3D90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17CF-4142-4107-80DA-40151BD3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FDA5-D187-4E05-BB28-FFE09369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5FFF-7C4A-4A18-86B7-0531CC81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FD6A-BFB0-4470-9B99-2F574E2A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A115-A701-4411-83BA-E407A186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7432-C2E9-4B9A-A2A4-04965023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5BD1-3C1B-446E-8FBF-48687E45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8912-38A0-452B-A03D-87E5BDDE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C740-AEE1-4584-A185-E6E3BEFD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535B-48DE-442F-9C4D-6C42C7D1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9B0C-B22C-4CA5-9812-3D31C5D1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D274-0738-425E-8BAE-EF4F4C54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5F08-6A7C-4FD2-B3EE-BD9FA1FA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2805-1BC1-438A-839C-024186AF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7AE1-37E9-4042-A273-D6E39E28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00F6-E0B1-45C7-94C1-1D6014C5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57E4-5FD3-47EF-BCE1-B9AAC1F0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9C36-2DE8-48E1-BBC6-426D646CCD3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6326-09E7-4512-84D0-3F43CBADB96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wmf"/><Relationship Id="rId13" Type="http://schemas.openxmlformats.org/officeDocument/2006/relationships/image" Target="../media/image5.gi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684360" y="260280"/>
            <a:ext cx="84596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ок-это зеркало общей и педагогиче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ультуры учителя,мерило 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теллектуального богат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казатель его кругозора и эруди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.Сухомлин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611280" y="3357720"/>
            <a:ext cx="81374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ое условие, которое надлежит      выполнять      в математике, - это быть точным, второе - быть ясным и, насколько                 можно, простым.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. Кар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7">
            <a:hlinkClick r:id="" action="ppaction://hlinkshowjump?jump=firstslide"/>
          </p:cNvPr>
          <p:cNvSpPr/>
          <p:nvPr/>
        </p:nvSpPr>
        <p:spPr>
          <a:xfrm>
            <a:off x="759636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8">
            <a:hlinkClick r:id="" action="ppaction://hlinkshowjump?jump=nextslide"/>
          </p:cNvPr>
          <p:cNvSpPr/>
          <p:nvPr/>
        </p:nvSpPr>
        <p:spPr>
          <a:xfrm>
            <a:off x="8388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1258920" y="1773360"/>
            <a:ext cx="705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Урок математики в 5 класс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148360" y="9079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ahom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шноков А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9" descr="g02.gif (90094 bytes)"/>
          <p:cNvPicPr/>
          <p:nvPr/>
        </p:nvPicPr>
        <p:blipFill>
          <a:blip r:embed="rId1"/>
          <a:stretch/>
        </p:blipFill>
        <p:spPr>
          <a:xfrm>
            <a:off x="3276720" y="3645000"/>
            <a:ext cx="2879640" cy="287964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10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1">
            <a:hlinkClick r:id="" action="ppaction://hlinkshowjump?jump=firstslide"/>
          </p:cNvPr>
          <p:cNvSpPr/>
          <p:nvPr/>
        </p:nvSpPr>
        <p:spPr>
          <a:xfrm>
            <a:off x="759636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2">
            <a:hlinkClick r:id="" action="ppaction://hlinkshowjump?jump=nextslide"/>
          </p:cNvPr>
          <p:cNvSpPr/>
          <p:nvPr/>
        </p:nvSpPr>
        <p:spPr>
          <a:xfrm>
            <a:off x="8388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Тема урока: умножение </a:t>
            </a:r>
            <a:br>
              <a:rPr sz="4200"/>
            </a:b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                  десятичных дробей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41440" y="16286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 урока: закрепление алгоритма умн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сятичных дробей; отработка 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ановки запятой в результате действ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математического мышления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гической речи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animvasa.gif (244584 bytes)"/>
          <p:cNvPicPr/>
          <p:nvPr/>
        </p:nvPicPr>
        <p:blipFill>
          <a:blip r:embed="rId1"/>
          <a:stretch/>
        </p:blipFill>
        <p:spPr>
          <a:xfrm>
            <a:off x="2340000" y="4211640"/>
            <a:ext cx="3672000" cy="245736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6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7">
            <a:hlinkClick r:id="" action="ppaction://hlinkshowjump?jump=firstslide"/>
          </p:cNvPr>
          <p:cNvSpPr/>
          <p:nvPr/>
        </p:nvSpPr>
        <p:spPr>
          <a:xfrm>
            <a:off x="759636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>
            <a:hlinkClick r:id="" action="ppaction://hlinkshowjump?jump=nextslide"/>
          </p:cNvPr>
          <p:cNvSpPr/>
          <p:nvPr/>
        </p:nvSpPr>
        <p:spPr>
          <a:xfrm>
            <a:off x="8388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468360" y="98100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онный момен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Собрать рабочие тетради №1 учащихся на провер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Записать в рабочих тетрадях №2 да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Сообщение темы и цели у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animunch.gif (54187 bytes)"/>
          <p:cNvPicPr/>
          <p:nvPr/>
        </p:nvPicPr>
        <p:blipFill>
          <a:blip r:embed="rId1"/>
          <a:stretch/>
        </p:blipFill>
        <p:spPr>
          <a:xfrm>
            <a:off x="2052720" y="3068640"/>
            <a:ext cx="4680000" cy="281160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7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8">
            <a:hlinkClick r:id="" action="ppaction://hlinkshowjump?jump=firstslide"/>
          </p:cNvPr>
          <p:cNvSpPr/>
          <p:nvPr/>
        </p:nvSpPr>
        <p:spPr>
          <a:xfrm>
            <a:off x="759636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9">
            <a:hlinkClick r:id="" action="ppaction://hlinkshowjump?jump=nextslide"/>
          </p:cNvPr>
          <p:cNvSpPr/>
          <p:nvPr/>
        </p:nvSpPr>
        <p:spPr>
          <a:xfrm>
            <a:off x="8388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539640" y="260280"/>
            <a:ext cx="8535960" cy="67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.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инка для у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этом разделе запланированы две логические задач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торые должны активизировать умственную деятель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щихся, задать темп всему уро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Разгадать логическую цепочку и вставить пропущ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ис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5"/>
          <p:cNvGraphicFramePr/>
          <p:nvPr/>
        </p:nvGraphicFramePr>
        <p:xfrm>
          <a:off x="1476360" y="2444760"/>
          <a:ext cx="331164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444760"/>
                    <a:ext cx="331164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8"/>
          <p:cNvSpPr/>
          <p:nvPr/>
        </p:nvSpPr>
        <p:spPr>
          <a:xfrm>
            <a:off x="2700360" y="29973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3492360" y="29973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2916360" y="37893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12"/>
          <p:cNvGraphicFramePr/>
          <p:nvPr/>
        </p:nvGraphicFramePr>
        <p:xfrm>
          <a:off x="3781440" y="2421000"/>
          <a:ext cx="3311640" cy="22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1440" y="2421000"/>
                    <a:ext cx="331164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Text Box 13"/>
          <p:cNvSpPr/>
          <p:nvPr/>
        </p:nvSpPr>
        <p:spPr>
          <a:xfrm>
            <a:off x="4716360" y="29973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5508720" y="29973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5219640" y="371628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16"/>
          <p:cNvGraphicFramePr/>
          <p:nvPr/>
        </p:nvGraphicFramePr>
        <p:xfrm>
          <a:off x="6012000" y="2443320"/>
          <a:ext cx="331128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2000" y="2443320"/>
                    <a:ext cx="33112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 Box 17"/>
          <p:cNvSpPr/>
          <p:nvPr/>
        </p:nvSpPr>
        <p:spPr>
          <a:xfrm>
            <a:off x="6877080" y="299736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7812000" y="2997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0"/>
          <p:cNvSpPr/>
          <p:nvPr/>
        </p:nvSpPr>
        <p:spPr>
          <a:xfrm>
            <a:off x="7451640" y="3645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22"/>
          <p:cNvGraphicFramePr/>
          <p:nvPr/>
        </p:nvGraphicFramePr>
        <p:xfrm>
          <a:off x="1476360" y="4648320"/>
          <a:ext cx="3311640" cy="2209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6" name="Object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76360" y="4648320"/>
                    <a:ext cx="331164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23"/>
          <p:cNvGraphicFramePr/>
          <p:nvPr/>
        </p:nvGraphicFramePr>
        <p:xfrm>
          <a:off x="3780000" y="4648320"/>
          <a:ext cx="3311280" cy="2209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8" name="Object 2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80000" y="4648320"/>
                    <a:ext cx="33112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24"/>
          <p:cNvGraphicFramePr/>
          <p:nvPr/>
        </p:nvGraphicFramePr>
        <p:xfrm>
          <a:off x="6012000" y="4603680"/>
          <a:ext cx="3311280" cy="2210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0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12000" y="4603680"/>
                    <a:ext cx="331128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Text Box 27"/>
          <p:cNvSpPr/>
          <p:nvPr/>
        </p:nvSpPr>
        <p:spPr>
          <a:xfrm>
            <a:off x="2340000" y="522936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9"/>
          <p:cNvSpPr/>
          <p:nvPr/>
        </p:nvSpPr>
        <p:spPr>
          <a:xfrm>
            <a:off x="3203640" y="5229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0"/>
          <p:cNvSpPr/>
          <p:nvPr/>
        </p:nvSpPr>
        <p:spPr>
          <a:xfrm>
            <a:off x="2771640" y="58770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1"/>
          <p:cNvSpPr/>
          <p:nvPr/>
        </p:nvSpPr>
        <p:spPr>
          <a:xfrm>
            <a:off x="4788000" y="5300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2"/>
          <p:cNvSpPr/>
          <p:nvPr/>
        </p:nvSpPr>
        <p:spPr>
          <a:xfrm>
            <a:off x="5580000" y="5337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3"/>
          <p:cNvSpPr/>
          <p:nvPr/>
        </p:nvSpPr>
        <p:spPr>
          <a:xfrm>
            <a:off x="5292720" y="598500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4"/>
          <p:cNvSpPr/>
          <p:nvPr/>
        </p:nvSpPr>
        <p:spPr>
          <a:xfrm>
            <a:off x="7093080" y="530064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5"/>
          <p:cNvSpPr/>
          <p:nvPr/>
        </p:nvSpPr>
        <p:spPr>
          <a:xfrm>
            <a:off x="7812000" y="5300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6"/>
          <p:cNvSpPr/>
          <p:nvPr/>
        </p:nvSpPr>
        <p:spPr>
          <a:xfrm>
            <a:off x="7524720" y="59500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8" descr="g03.gif (9655 bytes)"/>
          <p:cNvPicPr/>
          <p:nvPr/>
        </p:nvPicPr>
        <p:blipFill>
          <a:blip r:embed="rId13"/>
          <a:stretch/>
        </p:blipFill>
        <p:spPr>
          <a:xfrm>
            <a:off x="587520" y="3787920"/>
            <a:ext cx="1608120" cy="172872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39">
            <a:hlinkClick r:id="" action="ppaction://hlinkshowjump?jump=previousslide"/>
          </p:cNvPr>
          <p:cNvSpPr/>
          <p:nvPr/>
        </p:nvSpPr>
        <p:spPr>
          <a:xfrm>
            <a:off x="7093080" y="26028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0">
            <a:hlinkClick r:id="" action="ppaction://hlinkshowjump?jump=firstslide"/>
          </p:cNvPr>
          <p:cNvSpPr/>
          <p:nvPr/>
        </p:nvSpPr>
        <p:spPr>
          <a:xfrm>
            <a:off x="7667640" y="117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1">
            <a:hlinkClick r:id="" action="ppaction://hlinkshowjump?jump=nextslide"/>
          </p:cNvPr>
          <p:cNvSpPr/>
          <p:nvPr/>
        </p:nvSpPr>
        <p:spPr>
          <a:xfrm>
            <a:off x="8459640" y="26028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1377360" y="1635120"/>
            <a:ext cx="6877080" cy="30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Ученик переписал числовое выражение, знач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торого равно 58,но забыл поставить ско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 него получилос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*6+20:4-2=5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 в этом выражении должны стоять скоб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xbox.gif (18989 bytes)"/>
          <p:cNvPicPr/>
          <p:nvPr/>
        </p:nvPicPr>
        <p:blipFill>
          <a:blip r:embed="rId1"/>
          <a:stretch/>
        </p:blipFill>
        <p:spPr>
          <a:xfrm>
            <a:off x="2843280" y="4673520"/>
            <a:ext cx="3673440" cy="1708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глаза"/>
          <p:cNvPicPr/>
          <p:nvPr/>
        </p:nvPicPr>
        <p:blipFill>
          <a:blip r:embed="rId2"/>
          <a:stretch/>
        </p:blipFill>
        <p:spPr>
          <a:xfrm>
            <a:off x="3381480" y="333360"/>
            <a:ext cx="2381040" cy="98100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8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9">
            <a:hlinkClick r:id="" action="ppaction://hlinkshowjump?jump=firstslide"/>
          </p:cNvPr>
          <p:cNvSpPr/>
          <p:nvPr/>
        </p:nvSpPr>
        <p:spPr>
          <a:xfrm>
            <a:off x="759636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0">
            <a:hlinkClick r:id="" action="ppaction://hlinkshowjump?jump=nextslide"/>
          </p:cNvPr>
          <p:cNvSpPr/>
          <p:nvPr/>
        </p:nvSpPr>
        <p:spPr>
          <a:xfrm>
            <a:off x="8388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528840" y="549360"/>
            <a:ext cx="898020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тные упраж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д началом выполнения устных упражнений необходи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вторить с учащимися  как читаются десятичные дроби 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ило постановки запятой в результате произве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вух десятичных дроб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Прочитать дроби в порядке убыв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            о              г                д             р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,23;     98,704;     100,1;       0,993;       8,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ое слово зашифрован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В каком месте должна стоять запятая в результа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читать равен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0,3*34=23902              7,03*3,4=23902          0,703*34=239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0,3*3.4=23902             0,703*3,4=23902        703*0,34=239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5">
            <a:hlinkClick r:id="" action="ppaction://hlinkshowjump?jump=nextslide"/>
          </p:cNvPr>
          <p:cNvSpPr/>
          <p:nvPr/>
        </p:nvSpPr>
        <p:spPr>
          <a:xfrm>
            <a:off x="8388360" y="62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">
            <a:hlinkClick r:id="" action="ppaction://hlinkshowjump?jump=firstslide"/>
          </p:cNvPr>
          <p:cNvSpPr/>
          <p:nvPr/>
        </p:nvSpPr>
        <p:spPr>
          <a:xfrm>
            <a:off x="7596360" y="4762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7">
            <a:hlinkClick r:id="" action="ppaction://hlinkshowjump?jump=previousslide"/>
          </p:cNvPr>
          <p:cNvSpPr/>
          <p:nvPr/>
        </p:nvSpPr>
        <p:spPr>
          <a:xfrm>
            <a:off x="7021440" y="62064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755640" y="476280"/>
            <a:ext cx="475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900000" y="981000"/>
            <a:ext cx="187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39640" y="477720"/>
            <a:ext cx="8533080" cy="60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V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работка навыков умножения десятичных дроб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Игровое зад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доске отдельно друг от друга запис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жнения и их результаты, среди которых д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верных, и зашифровано слово «умница». Учащие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лжны решить упражнения и получить результ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)85,3*4,1=                                         0,0168(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)6,36*32,5=                                       349,73(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)27,2*4,8=                                         20,67(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)1,56*20,7=                                        32,292(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)0,75*0,12=                                        0,09(ц)           206,7(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)0,08*0,21=                                        130,56(н)       13,056(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7">
            <a:hlinkClick r:id="" action="ppaction://hlinkshowjump?jump=previousslide"/>
          </p:cNvPr>
          <p:cNvSpPr/>
          <p:nvPr/>
        </p:nvSpPr>
        <p:spPr>
          <a:xfrm>
            <a:off x="3708360" y="602136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9">
            <a:hlinkClick r:id="" action="ppaction://hlinkshowjump?jump=nextslide"/>
          </p:cNvPr>
          <p:cNvSpPr/>
          <p:nvPr/>
        </p:nvSpPr>
        <p:spPr>
          <a:xfrm>
            <a:off x="5076720" y="602136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0">
            <a:hlinkClick r:id="" action="ppaction://hlinkshowjump?jump=firstslide"/>
          </p:cNvPr>
          <p:cNvSpPr/>
          <p:nvPr/>
        </p:nvSpPr>
        <p:spPr>
          <a:xfrm>
            <a:off x="428472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826920" y="476280"/>
            <a:ext cx="7848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Работа с учебником. Решение упражнений №1028(3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29(2),1031(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Подведение ито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Выставление в классный журнал и днев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щихся оцен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Задание на дом:№1029(1),1030,1031(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структаж по его выполн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Books.gif (4516 bytes)"/>
          <p:cNvPicPr/>
          <p:nvPr/>
        </p:nvPicPr>
        <p:blipFill>
          <a:blip r:embed="rId1"/>
          <a:stretch/>
        </p:blipFill>
        <p:spPr>
          <a:xfrm>
            <a:off x="3419640" y="436572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7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8">
            <a:hlinkClick r:id="" action="ppaction://hlinkshowjump?jump=firstslide"/>
          </p:cNvPr>
          <p:cNvSpPr/>
          <p:nvPr/>
        </p:nvSpPr>
        <p:spPr>
          <a:xfrm>
            <a:off x="759636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>
            <a:hlinkClick r:id="" action="ppaction://hlinkshowjump?jump=nextslide"/>
          </p:cNvPr>
          <p:cNvSpPr/>
          <p:nvPr/>
        </p:nvSpPr>
        <p:spPr>
          <a:xfrm>
            <a:off x="8388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05:33:30Z</dcterms:created>
  <dc:creator>Ошноков</dc:creator>
  <dc:description/>
  <dc:language>en-US</dc:language>
  <cp:lastModifiedBy>Елена</cp:lastModifiedBy>
  <dcterms:modified xsi:type="dcterms:W3CDTF">2015-07-23T06:52:19Z</dcterms:modified>
  <cp:revision>29</cp:revision>
  <dc:subject/>
  <dc:title>Слайд 1</dc:title>
</cp:coreProperties>
</file>