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gif" ContentType="image/gif"/>
  <Override PartName="/ppt/media/image3.gif" ContentType="image/gif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D9E0-1DA7-4D06-A52B-657A5ACD2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4A7B-007D-4648-9888-244D3D4D4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CF7F-6C6B-42AF-9F9E-0BDF6660C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9821-2EF9-42E3-B18A-CCEB58CD8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365BA-BD45-4E0C-A090-91B6BFD76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217AF-68C0-494F-9DED-0D41EE253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19F45-1A03-4F90-A9F3-A607F7581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63F86-D5B3-4CA7-9B79-337B95E1B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E2061-A7E9-4857-90FA-B017442E3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07D1B-B255-487B-BD7C-3F5BAAD04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CF147-507A-472F-8543-156464B84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70F2-A0BE-4009-8EA2-263799F38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67F6A-ADC7-46D4-951B-D74A5E83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A7B81-E0EF-4A08-BAE5-7CF7D04B5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372D8-B248-4C54-BFD4-30E6EADFF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41502-E762-43F8-8BEA-3AE09D39C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B3DB5-EB3F-455E-AE73-69F3D3C0A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97E1-BAEB-43B0-9A2C-8949829F4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96BB-B3B0-4EE3-A811-B76D8AEB7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33A8-8E65-48EF-BD31-0357E20C8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D80D-BDE0-420B-AAF7-180761EF1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76CC-AA45-4B22-B4C4-CC14E98F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543F-6CBA-4281-B3FE-83F3F9236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5450-A269-416B-8C02-329ED3984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FE16C-0285-4B3B-8D38-0BC813CB5D5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1A4D8-47DF-4EA2-A387-FB4AC53B9B2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.wmf"/><Relationship Id="rId13" Type="http://schemas.openxmlformats.org/officeDocument/2006/relationships/image" Target="../media/image5.gif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684360" y="260280"/>
            <a:ext cx="84596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рок-это зеркало общей и педагогичес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ультуры учителя,мерило 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теллектуального богатст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казатель его кругозора и эруди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.Сухомлинск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611280" y="3357720"/>
            <a:ext cx="813744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вое условие, которое надлежит      выполнять      в математике, - это быть точным, второе - быть ясным и, насколько                 можно, простым.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. Кар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6">
            <a:hlinkClick r:id="" action="ppaction://hlinkshowjump?jump=previousslide"/>
          </p:cNvPr>
          <p:cNvSpPr/>
          <p:nvPr/>
        </p:nvSpPr>
        <p:spPr>
          <a:xfrm>
            <a:off x="702000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7">
            <a:hlinkClick r:id="" action="ppaction://hlinkshowjump?jump=firstslide"/>
          </p:cNvPr>
          <p:cNvSpPr/>
          <p:nvPr/>
        </p:nvSpPr>
        <p:spPr>
          <a:xfrm>
            <a:off x="7596360" y="595008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12018" y="3837"/>
                </a:moveTo>
                <a:lnTo>
                  <a:pt x="14594" y="6448"/>
                </a:ln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lnTo>
                  <a:pt x="18981" y="10800"/>
                </a:lnTo>
                <a:lnTo>
                  <a:pt x="17327" y="10800"/>
                </a:lnTo>
                <a:lnTo>
                  <a:pt x="17327" y="17989"/>
                </a:lnTo>
                <a:lnTo>
                  <a:pt x="6709" y="17989"/>
                </a:lnTo>
                <a:lnTo>
                  <a:pt x="6709" y="10800"/>
                </a:lnTo>
                <a:lnTo>
                  <a:pt x="5055" y="10800"/>
                </a:lnTo>
                <a:close/>
              </a:path>
              <a:path fill="darkenLess" w="24036" h="21600">
                <a:moveTo>
                  <a:pt x="14594" y="6448"/>
                </a:move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close/>
              </a:path>
              <a:path fill="darkenLess" w="24036" h="21600">
                <a:moveTo>
                  <a:pt x="11095" y="14299"/>
                </a:moveTo>
                <a:lnTo>
                  <a:pt x="12941" y="14299"/>
                </a:lnTo>
                <a:lnTo>
                  <a:pt x="12941" y="17989"/>
                </a:lnTo>
                <a:lnTo>
                  <a:pt x="17327" y="17989"/>
                </a:lnTo>
                <a:lnTo>
                  <a:pt x="17327" y="10800"/>
                </a:lnTo>
                <a:lnTo>
                  <a:pt x="6709" y="10800"/>
                </a:lnTo>
                <a:lnTo>
                  <a:pt x="6709" y="17989"/>
                </a:lnTo>
                <a:lnTo>
                  <a:pt x="11095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8">
            <a:hlinkClick r:id="" action="ppaction://hlinkshowjump?jump=nextslide"/>
          </p:cNvPr>
          <p:cNvSpPr/>
          <p:nvPr/>
        </p:nvSpPr>
        <p:spPr>
          <a:xfrm>
            <a:off x="8388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1258920" y="1773360"/>
            <a:ext cx="705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Урок математики в 5 классе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5148360" y="90792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Tahoma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Ошноков А.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9" descr="g02.gif (90094 bytes)"/>
          <p:cNvPicPr/>
          <p:nvPr/>
        </p:nvPicPr>
        <p:blipFill>
          <a:blip r:embed="rId1"/>
          <a:stretch/>
        </p:blipFill>
        <p:spPr>
          <a:xfrm>
            <a:off x="3276720" y="3645000"/>
            <a:ext cx="2879640" cy="287964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10">
            <a:hlinkClick r:id="" action="ppaction://hlinkshowjump?jump=previousslide"/>
          </p:cNvPr>
          <p:cNvSpPr/>
          <p:nvPr/>
        </p:nvSpPr>
        <p:spPr>
          <a:xfrm>
            <a:off x="702000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1">
            <a:hlinkClick r:id="" action="ppaction://hlinkshowjump?jump=firstslide"/>
          </p:cNvPr>
          <p:cNvSpPr/>
          <p:nvPr/>
        </p:nvSpPr>
        <p:spPr>
          <a:xfrm>
            <a:off x="7596360" y="595008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12018" y="3837"/>
                </a:moveTo>
                <a:lnTo>
                  <a:pt x="14594" y="6448"/>
                </a:ln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lnTo>
                  <a:pt x="18981" y="10800"/>
                </a:lnTo>
                <a:lnTo>
                  <a:pt x="17327" y="10800"/>
                </a:lnTo>
                <a:lnTo>
                  <a:pt x="17327" y="17989"/>
                </a:lnTo>
                <a:lnTo>
                  <a:pt x="6709" y="17989"/>
                </a:lnTo>
                <a:lnTo>
                  <a:pt x="6709" y="10800"/>
                </a:lnTo>
                <a:lnTo>
                  <a:pt x="5055" y="10800"/>
                </a:lnTo>
                <a:close/>
              </a:path>
              <a:path fill="darkenLess" w="24036" h="21600">
                <a:moveTo>
                  <a:pt x="14594" y="6448"/>
                </a:move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close/>
              </a:path>
              <a:path fill="darkenLess" w="24036" h="21600">
                <a:moveTo>
                  <a:pt x="11095" y="14299"/>
                </a:moveTo>
                <a:lnTo>
                  <a:pt x="12941" y="14299"/>
                </a:lnTo>
                <a:lnTo>
                  <a:pt x="12941" y="17989"/>
                </a:lnTo>
                <a:lnTo>
                  <a:pt x="17327" y="17989"/>
                </a:lnTo>
                <a:lnTo>
                  <a:pt x="17327" y="10800"/>
                </a:lnTo>
                <a:lnTo>
                  <a:pt x="6709" y="10800"/>
                </a:lnTo>
                <a:lnTo>
                  <a:pt x="6709" y="17989"/>
                </a:lnTo>
                <a:lnTo>
                  <a:pt x="11095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2">
            <a:hlinkClick r:id="" action="ppaction://hlinkshowjump?jump=nextslide"/>
          </p:cNvPr>
          <p:cNvSpPr/>
          <p:nvPr/>
        </p:nvSpPr>
        <p:spPr>
          <a:xfrm>
            <a:off x="8388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188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</a:rPr>
              <a:t>Тема урока: умножение </a:t>
            </a:r>
            <a:br>
              <a:rPr sz="4200"/>
            </a:br>
            <a:r>
              <a:rPr b="0" lang="ru-RU" sz="4200" spc="-1" strike="noStrike">
                <a:solidFill>
                  <a:srgbClr val="000000"/>
                </a:solidFill>
                <a:latin typeface="Times New Roman"/>
              </a:rPr>
              <a:t>                  десятичных дробей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41440" y="162864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ль урока: закрепление алгоритма умн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сятичных дробей; отработка прави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тановки запятой в результате действ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тие математического мышления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огической речи учащих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animvasa.gif (244584 bytes)"/>
          <p:cNvPicPr/>
          <p:nvPr/>
        </p:nvPicPr>
        <p:blipFill>
          <a:blip r:embed="rId1"/>
          <a:stretch/>
        </p:blipFill>
        <p:spPr>
          <a:xfrm>
            <a:off x="2340000" y="4211640"/>
            <a:ext cx="3672000" cy="2457360"/>
          </a:xfrm>
          <a:prstGeom prst="rect">
            <a:avLst/>
          </a:prstGeom>
          <a:ln w="0">
            <a:noFill/>
          </a:ln>
        </p:spPr>
      </p:pic>
      <p:sp>
        <p:nvSpPr>
          <p:cNvPr id="111" name="AutoShape 6">
            <a:hlinkClick r:id="" action="ppaction://hlinkshowjump?jump=previousslide"/>
          </p:cNvPr>
          <p:cNvSpPr/>
          <p:nvPr/>
        </p:nvSpPr>
        <p:spPr>
          <a:xfrm>
            <a:off x="702000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7">
            <a:hlinkClick r:id="" action="ppaction://hlinkshowjump?jump=firstslide"/>
          </p:cNvPr>
          <p:cNvSpPr/>
          <p:nvPr/>
        </p:nvSpPr>
        <p:spPr>
          <a:xfrm>
            <a:off x="7596360" y="595008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12018" y="3837"/>
                </a:moveTo>
                <a:lnTo>
                  <a:pt x="14594" y="6448"/>
                </a:ln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lnTo>
                  <a:pt x="18981" y="10800"/>
                </a:lnTo>
                <a:lnTo>
                  <a:pt x="17327" y="10800"/>
                </a:lnTo>
                <a:lnTo>
                  <a:pt x="17327" y="17989"/>
                </a:lnTo>
                <a:lnTo>
                  <a:pt x="6709" y="17989"/>
                </a:lnTo>
                <a:lnTo>
                  <a:pt x="6709" y="10800"/>
                </a:lnTo>
                <a:lnTo>
                  <a:pt x="5055" y="10800"/>
                </a:lnTo>
                <a:close/>
              </a:path>
              <a:path fill="darkenLess" w="24036" h="21600">
                <a:moveTo>
                  <a:pt x="14594" y="6448"/>
                </a:move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close/>
              </a:path>
              <a:path fill="darkenLess" w="24036" h="21600">
                <a:moveTo>
                  <a:pt x="11095" y="14299"/>
                </a:moveTo>
                <a:lnTo>
                  <a:pt x="12941" y="14299"/>
                </a:lnTo>
                <a:lnTo>
                  <a:pt x="12941" y="17989"/>
                </a:lnTo>
                <a:lnTo>
                  <a:pt x="17327" y="17989"/>
                </a:lnTo>
                <a:lnTo>
                  <a:pt x="17327" y="10800"/>
                </a:lnTo>
                <a:lnTo>
                  <a:pt x="6709" y="10800"/>
                </a:lnTo>
                <a:lnTo>
                  <a:pt x="6709" y="17989"/>
                </a:lnTo>
                <a:lnTo>
                  <a:pt x="11095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8">
            <a:hlinkClick r:id="" action="ppaction://hlinkshowjump?jump=nextslide"/>
          </p:cNvPr>
          <p:cNvSpPr/>
          <p:nvPr/>
        </p:nvSpPr>
        <p:spPr>
          <a:xfrm>
            <a:off x="8388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468360" y="981000"/>
            <a:ext cx="835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ганизационный момен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Собрать рабочие тетради №1 учащихся на провер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Записать в рабочих тетрадях №2 да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Сообщение темы и цели уро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animunch.gif (54187 bytes)"/>
          <p:cNvPicPr/>
          <p:nvPr/>
        </p:nvPicPr>
        <p:blipFill>
          <a:blip r:embed="rId1"/>
          <a:stretch/>
        </p:blipFill>
        <p:spPr>
          <a:xfrm>
            <a:off x="2052720" y="3068640"/>
            <a:ext cx="4680000" cy="281160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7">
            <a:hlinkClick r:id="" action="ppaction://hlinkshowjump?jump=previousslide"/>
          </p:cNvPr>
          <p:cNvSpPr/>
          <p:nvPr/>
        </p:nvSpPr>
        <p:spPr>
          <a:xfrm>
            <a:off x="702000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8">
            <a:hlinkClick r:id="" action="ppaction://hlinkshowjump?jump=firstslide"/>
          </p:cNvPr>
          <p:cNvSpPr/>
          <p:nvPr/>
        </p:nvSpPr>
        <p:spPr>
          <a:xfrm>
            <a:off x="7596360" y="595008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12018" y="3837"/>
                </a:moveTo>
                <a:lnTo>
                  <a:pt x="14594" y="6448"/>
                </a:ln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lnTo>
                  <a:pt x="18981" y="10800"/>
                </a:lnTo>
                <a:lnTo>
                  <a:pt x="17327" y="10800"/>
                </a:lnTo>
                <a:lnTo>
                  <a:pt x="17327" y="17989"/>
                </a:lnTo>
                <a:lnTo>
                  <a:pt x="6709" y="17989"/>
                </a:lnTo>
                <a:lnTo>
                  <a:pt x="6709" y="10800"/>
                </a:lnTo>
                <a:lnTo>
                  <a:pt x="5055" y="10800"/>
                </a:lnTo>
                <a:close/>
              </a:path>
              <a:path fill="darkenLess" w="24036" h="21600">
                <a:moveTo>
                  <a:pt x="14594" y="6448"/>
                </a:move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close/>
              </a:path>
              <a:path fill="darkenLess" w="24036" h="21600">
                <a:moveTo>
                  <a:pt x="11095" y="14299"/>
                </a:moveTo>
                <a:lnTo>
                  <a:pt x="12941" y="14299"/>
                </a:lnTo>
                <a:lnTo>
                  <a:pt x="12941" y="17989"/>
                </a:lnTo>
                <a:lnTo>
                  <a:pt x="17327" y="17989"/>
                </a:lnTo>
                <a:lnTo>
                  <a:pt x="17327" y="10800"/>
                </a:lnTo>
                <a:lnTo>
                  <a:pt x="6709" y="10800"/>
                </a:lnTo>
                <a:lnTo>
                  <a:pt x="6709" y="17989"/>
                </a:lnTo>
                <a:lnTo>
                  <a:pt x="11095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9">
            <a:hlinkClick r:id="" action="ppaction://hlinkshowjump?jump=nextslide"/>
          </p:cNvPr>
          <p:cNvSpPr/>
          <p:nvPr/>
        </p:nvSpPr>
        <p:spPr>
          <a:xfrm>
            <a:off x="8388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539640" y="260280"/>
            <a:ext cx="8535960" cy="67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.”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минка для ум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этом разделе запланированы две логические задач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торые должны активизировать умственную деятель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ащихся, задать темп всему уро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Разгадать логическую цепочку и вставить пропущ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ис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Object 5"/>
          <p:cNvGraphicFramePr/>
          <p:nvPr/>
        </p:nvGraphicFramePr>
        <p:xfrm>
          <a:off x="1476360" y="2444760"/>
          <a:ext cx="3311640" cy="22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444760"/>
                    <a:ext cx="331164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Text Box 8"/>
          <p:cNvSpPr/>
          <p:nvPr/>
        </p:nvSpPr>
        <p:spPr>
          <a:xfrm>
            <a:off x="2700360" y="299736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3492360" y="299736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2916360" y="378936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Object 12"/>
          <p:cNvGraphicFramePr/>
          <p:nvPr/>
        </p:nvGraphicFramePr>
        <p:xfrm>
          <a:off x="3781440" y="2421000"/>
          <a:ext cx="3311640" cy="220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1440" y="2421000"/>
                    <a:ext cx="331164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Text Box 13"/>
          <p:cNvSpPr/>
          <p:nvPr/>
        </p:nvSpPr>
        <p:spPr>
          <a:xfrm>
            <a:off x="4716360" y="299736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4"/>
          <p:cNvSpPr/>
          <p:nvPr/>
        </p:nvSpPr>
        <p:spPr>
          <a:xfrm>
            <a:off x="5508720" y="299736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5"/>
          <p:cNvSpPr/>
          <p:nvPr/>
        </p:nvSpPr>
        <p:spPr>
          <a:xfrm>
            <a:off x="5219640" y="371628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Object 16"/>
          <p:cNvGraphicFramePr/>
          <p:nvPr/>
        </p:nvGraphicFramePr>
        <p:xfrm>
          <a:off x="6012000" y="2443320"/>
          <a:ext cx="3311280" cy="220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1" name="Object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12000" y="2443320"/>
                    <a:ext cx="331128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Text Box 17"/>
          <p:cNvSpPr/>
          <p:nvPr/>
        </p:nvSpPr>
        <p:spPr>
          <a:xfrm>
            <a:off x="6877080" y="299736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9"/>
          <p:cNvSpPr/>
          <p:nvPr/>
        </p:nvSpPr>
        <p:spPr>
          <a:xfrm>
            <a:off x="7812000" y="299736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0"/>
          <p:cNvSpPr/>
          <p:nvPr/>
        </p:nvSpPr>
        <p:spPr>
          <a:xfrm>
            <a:off x="7451640" y="364500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Object 22"/>
          <p:cNvGraphicFramePr/>
          <p:nvPr/>
        </p:nvGraphicFramePr>
        <p:xfrm>
          <a:off x="1476360" y="4648320"/>
          <a:ext cx="3311640" cy="2209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6" name="Object 2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76360" y="4648320"/>
                    <a:ext cx="331164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Object 23"/>
          <p:cNvGraphicFramePr/>
          <p:nvPr/>
        </p:nvGraphicFramePr>
        <p:xfrm>
          <a:off x="3780000" y="4648320"/>
          <a:ext cx="3311280" cy="2209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8" name="Object 2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80000" y="4648320"/>
                    <a:ext cx="331128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24"/>
          <p:cNvGraphicFramePr/>
          <p:nvPr/>
        </p:nvGraphicFramePr>
        <p:xfrm>
          <a:off x="6012000" y="4603680"/>
          <a:ext cx="3311280" cy="2210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0" name="Object 2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12000" y="4603680"/>
                    <a:ext cx="3311280" cy="22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Text Box 27"/>
          <p:cNvSpPr/>
          <p:nvPr/>
        </p:nvSpPr>
        <p:spPr>
          <a:xfrm>
            <a:off x="2340000" y="522936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9"/>
          <p:cNvSpPr/>
          <p:nvPr/>
        </p:nvSpPr>
        <p:spPr>
          <a:xfrm>
            <a:off x="3203640" y="522936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0"/>
          <p:cNvSpPr/>
          <p:nvPr/>
        </p:nvSpPr>
        <p:spPr>
          <a:xfrm>
            <a:off x="2771640" y="587700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1"/>
          <p:cNvSpPr/>
          <p:nvPr/>
        </p:nvSpPr>
        <p:spPr>
          <a:xfrm>
            <a:off x="4788000" y="530064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2"/>
          <p:cNvSpPr/>
          <p:nvPr/>
        </p:nvSpPr>
        <p:spPr>
          <a:xfrm>
            <a:off x="5580000" y="53370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3"/>
          <p:cNvSpPr/>
          <p:nvPr/>
        </p:nvSpPr>
        <p:spPr>
          <a:xfrm>
            <a:off x="5292720" y="598500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4"/>
          <p:cNvSpPr/>
          <p:nvPr/>
        </p:nvSpPr>
        <p:spPr>
          <a:xfrm>
            <a:off x="7093080" y="530064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5"/>
          <p:cNvSpPr/>
          <p:nvPr/>
        </p:nvSpPr>
        <p:spPr>
          <a:xfrm>
            <a:off x="7812000" y="53006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6"/>
          <p:cNvSpPr/>
          <p:nvPr/>
        </p:nvSpPr>
        <p:spPr>
          <a:xfrm>
            <a:off x="7524720" y="595008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8" descr="g03.gif (9655 bytes)"/>
          <p:cNvPicPr/>
          <p:nvPr/>
        </p:nvPicPr>
        <p:blipFill>
          <a:blip r:embed="rId13"/>
          <a:stretch/>
        </p:blipFill>
        <p:spPr>
          <a:xfrm>
            <a:off x="587520" y="3787920"/>
            <a:ext cx="1608120" cy="1728720"/>
          </a:xfrm>
          <a:prstGeom prst="rect">
            <a:avLst/>
          </a:prstGeom>
          <a:ln w="0">
            <a:noFill/>
          </a:ln>
        </p:spPr>
      </p:pic>
      <p:sp>
        <p:nvSpPr>
          <p:cNvPr id="151" name="AutoShape 39">
            <a:hlinkClick r:id="" action="ppaction://hlinkshowjump?jump=previousslide"/>
          </p:cNvPr>
          <p:cNvSpPr/>
          <p:nvPr/>
        </p:nvSpPr>
        <p:spPr>
          <a:xfrm>
            <a:off x="7093080" y="26028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40">
            <a:hlinkClick r:id="" action="ppaction://hlinkshowjump?jump=firstslide"/>
          </p:cNvPr>
          <p:cNvSpPr/>
          <p:nvPr/>
        </p:nvSpPr>
        <p:spPr>
          <a:xfrm>
            <a:off x="7667640" y="11736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12018" y="3837"/>
                </a:moveTo>
                <a:lnTo>
                  <a:pt x="14594" y="6448"/>
                </a:ln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lnTo>
                  <a:pt x="18981" y="10800"/>
                </a:lnTo>
                <a:lnTo>
                  <a:pt x="17327" y="10800"/>
                </a:lnTo>
                <a:lnTo>
                  <a:pt x="17327" y="17989"/>
                </a:lnTo>
                <a:lnTo>
                  <a:pt x="6709" y="17989"/>
                </a:lnTo>
                <a:lnTo>
                  <a:pt x="6709" y="10800"/>
                </a:lnTo>
                <a:lnTo>
                  <a:pt x="5055" y="10800"/>
                </a:lnTo>
                <a:close/>
              </a:path>
              <a:path fill="darkenLess" w="24036" h="21600">
                <a:moveTo>
                  <a:pt x="14594" y="6448"/>
                </a:move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close/>
              </a:path>
              <a:path fill="darkenLess" w="24036" h="21600">
                <a:moveTo>
                  <a:pt x="11095" y="14299"/>
                </a:moveTo>
                <a:lnTo>
                  <a:pt x="12941" y="14299"/>
                </a:lnTo>
                <a:lnTo>
                  <a:pt x="12941" y="17989"/>
                </a:lnTo>
                <a:lnTo>
                  <a:pt x="17327" y="17989"/>
                </a:lnTo>
                <a:lnTo>
                  <a:pt x="17327" y="10800"/>
                </a:lnTo>
                <a:lnTo>
                  <a:pt x="6709" y="10800"/>
                </a:lnTo>
                <a:lnTo>
                  <a:pt x="6709" y="17989"/>
                </a:lnTo>
                <a:lnTo>
                  <a:pt x="11095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41">
            <a:hlinkClick r:id="" action="ppaction://hlinkshowjump?jump=nextslide"/>
          </p:cNvPr>
          <p:cNvSpPr/>
          <p:nvPr/>
        </p:nvSpPr>
        <p:spPr>
          <a:xfrm>
            <a:off x="8459640" y="26028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4"/>
          <p:cNvSpPr/>
          <p:nvPr/>
        </p:nvSpPr>
        <p:spPr>
          <a:xfrm>
            <a:off x="1377360" y="1635120"/>
            <a:ext cx="6877080" cy="30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Ученик переписал числовое выражение, знач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торого равно 58,но забыл поставить скоб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 него получилос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8*6+20:4-2=5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де в этом выражении должны стоять скобк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6" descr="xbox.gif (18989 bytes)"/>
          <p:cNvPicPr/>
          <p:nvPr/>
        </p:nvPicPr>
        <p:blipFill>
          <a:blip r:embed="rId1"/>
          <a:stretch/>
        </p:blipFill>
        <p:spPr>
          <a:xfrm>
            <a:off x="2843280" y="4673520"/>
            <a:ext cx="3673440" cy="17082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глаза"/>
          <p:cNvPicPr/>
          <p:nvPr/>
        </p:nvPicPr>
        <p:blipFill>
          <a:blip r:embed="rId2"/>
          <a:stretch/>
        </p:blipFill>
        <p:spPr>
          <a:xfrm>
            <a:off x="3381480" y="333360"/>
            <a:ext cx="2381040" cy="98100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8">
            <a:hlinkClick r:id="" action="ppaction://hlinkshowjump?jump=previousslide"/>
          </p:cNvPr>
          <p:cNvSpPr/>
          <p:nvPr/>
        </p:nvSpPr>
        <p:spPr>
          <a:xfrm>
            <a:off x="702000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9">
            <a:hlinkClick r:id="" action="ppaction://hlinkshowjump?jump=firstslide"/>
          </p:cNvPr>
          <p:cNvSpPr/>
          <p:nvPr/>
        </p:nvSpPr>
        <p:spPr>
          <a:xfrm>
            <a:off x="7596360" y="595008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12018" y="3837"/>
                </a:moveTo>
                <a:lnTo>
                  <a:pt x="14594" y="6448"/>
                </a:ln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lnTo>
                  <a:pt x="18981" y="10800"/>
                </a:lnTo>
                <a:lnTo>
                  <a:pt x="17327" y="10800"/>
                </a:lnTo>
                <a:lnTo>
                  <a:pt x="17327" y="17989"/>
                </a:lnTo>
                <a:lnTo>
                  <a:pt x="6709" y="17989"/>
                </a:lnTo>
                <a:lnTo>
                  <a:pt x="6709" y="10800"/>
                </a:lnTo>
                <a:lnTo>
                  <a:pt x="5055" y="10800"/>
                </a:lnTo>
                <a:close/>
              </a:path>
              <a:path fill="darkenLess" w="24036" h="21600">
                <a:moveTo>
                  <a:pt x="14594" y="6448"/>
                </a:move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close/>
              </a:path>
              <a:path fill="darkenLess" w="24036" h="21600">
                <a:moveTo>
                  <a:pt x="11095" y="14299"/>
                </a:moveTo>
                <a:lnTo>
                  <a:pt x="12941" y="14299"/>
                </a:lnTo>
                <a:lnTo>
                  <a:pt x="12941" y="17989"/>
                </a:lnTo>
                <a:lnTo>
                  <a:pt x="17327" y="17989"/>
                </a:lnTo>
                <a:lnTo>
                  <a:pt x="17327" y="10800"/>
                </a:lnTo>
                <a:lnTo>
                  <a:pt x="6709" y="10800"/>
                </a:lnTo>
                <a:lnTo>
                  <a:pt x="6709" y="17989"/>
                </a:lnTo>
                <a:lnTo>
                  <a:pt x="11095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0">
            <a:hlinkClick r:id="" action="ppaction://hlinkshowjump?jump=nextslide"/>
          </p:cNvPr>
          <p:cNvSpPr/>
          <p:nvPr/>
        </p:nvSpPr>
        <p:spPr>
          <a:xfrm>
            <a:off x="8388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4"/>
          <p:cNvSpPr/>
          <p:nvPr/>
        </p:nvSpPr>
        <p:spPr>
          <a:xfrm>
            <a:off x="528840" y="549360"/>
            <a:ext cx="8980200" cy="61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I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стные упражн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ед началом выполнения устных упражнений необходим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вторить с учащимися  как читаются десятичные дроби 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авило постановки запятой в результате произве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вух десятичных дроб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)Прочитать дроби в порядке убыв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             о              г                д             р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,23;     98,704;     100,1;       0,993;       8,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ое слово зашифрован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)В каком месте должна стоять запятая в результат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читать равен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0,3*34=23902              7,03*3,4=23902          0,703*34=239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0,3*3.4=23902             0,703*3,4=23902        703*0,34=239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5">
            <a:hlinkClick r:id="" action="ppaction://hlinkshowjump?jump=nextslide"/>
          </p:cNvPr>
          <p:cNvSpPr/>
          <p:nvPr/>
        </p:nvSpPr>
        <p:spPr>
          <a:xfrm>
            <a:off x="8388360" y="62064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6">
            <a:hlinkClick r:id="" action="ppaction://hlinkshowjump?jump=firstslide"/>
          </p:cNvPr>
          <p:cNvSpPr/>
          <p:nvPr/>
        </p:nvSpPr>
        <p:spPr>
          <a:xfrm>
            <a:off x="7596360" y="47628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12018" y="3837"/>
                </a:moveTo>
                <a:lnTo>
                  <a:pt x="14594" y="6448"/>
                </a:ln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lnTo>
                  <a:pt x="18981" y="10800"/>
                </a:lnTo>
                <a:lnTo>
                  <a:pt x="17327" y="10800"/>
                </a:lnTo>
                <a:lnTo>
                  <a:pt x="17327" y="17989"/>
                </a:lnTo>
                <a:lnTo>
                  <a:pt x="6709" y="17989"/>
                </a:lnTo>
                <a:lnTo>
                  <a:pt x="6709" y="10800"/>
                </a:lnTo>
                <a:lnTo>
                  <a:pt x="5055" y="10800"/>
                </a:lnTo>
                <a:close/>
              </a:path>
              <a:path fill="darkenLess" w="24036" h="21600">
                <a:moveTo>
                  <a:pt x="14594" y="6448"/>
                </a:move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close/>
              </a:path>
              <a:path fill="darkenLess" w="24036" h="21600">
                <a:moveTo>
                  <a:pt x="11095" y="14299"/>
                </a:moveTo>
                <a:lnTo>
                  <a:pt x="12941" y="14299"/>
                </a:lnTo>
                <a:lnTo>
                  <a:pt x="12941" y="17989"/>
                </a:lnTo>
                <a:lnTo>
                  <a:pt x="17327" y="17989"/>
                </a:lnTo>
                <a:lnTo>
                  <a:pt x="17327" y="10800"/>
                </a:lnTo>
                <a:lnTo>
                  <a:pt x="6709" y="10800"/>
                </a:lnTo>
                <a:lnTo>
                  <a:pt x="6709" y="17989"/>
                </a:lnTo>
                <a:lnTo>
                  <a:pt x="11095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7">
            <a:hlinkClick r:id="" action="ppaction://hlinkshowjump?jump=previousslide"/>
          </p:cNvPr>
          <p:cNvSpPr/>
          <p:nvPr/>
        </p:nvSpPr>
        <p:spPr>
          <a:xfrm>
            <a:off x="7021440" y="62064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4"/>
          <p:cNvSpPr/>
          <p:nvPr/>
        </p:nvSpPr>
        <p:spPr>
          <a:xfrm>
            <a:off x="755640" y="476280"/>
            <a:ext cx="4753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900000" y="981000"/>
            <a:ext cx="1871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539640" y="477720"/>
            <a:ext cx="8533080" cy="60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V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работка навыков умножения десятичных дроб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Игровое зад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доске отдельно друг от друга записа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пражнения и их результаты, среди которых д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верных, и зашифровано слово «умница». Учащие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лжны решить упражнения и получить результа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)85,3*4,1=                                         0,0168(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)6,36*32,5=                                       349,73(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)27,2*4,8=                                         20,67(р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)1,56*20,7=                                        32,292(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)0,75*0,12=                                        0,09(ц)           206,7(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)0,08*0,21=                                        130,56(н)       13,056(д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7">
            <a:hlinkClick r:id="" action="ppaction://hlinkshowjump?jump=previousslide"/>
          </p:cNvPr>
          <p:cNvSpPr/>
          <p:nvPr/>
        </p:nvSpPr>
        <p:spPr>
          <a:xfrm>
            <a:off x="3708360" y="602136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9">
            <a:hlinkClick r:id="" action="ppaction://hlinkshowjump?jump=nextslide"/>
          </p:cNvPr>
          <p:cNvSpPr/>
          <p:nvPr/>
        </p:nvSpPr>
        <p:spPr>
          <a:xfrm>
            <a:off x="5076720" y="602136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0">
            <a:hlinkClick r:id="" action="ppaction://hlinkshowjump?jump=firstslide"/>
          </p:cNvPr>
          <p:cNvSpPr/>
          <p:nvPr/>
        </p:nvSpPr>
        <p:spPr>
          <a:xfrm>
            <a:off x="4284720" y="595008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12018" y="3837"/>
                </a:moveTo>
                <a:lnTo>
                  <a:pt x="14594" y="6448"/>
                </a:ln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lnTo>
                  <a:pt x="18981" y="10800"/>
                </a:lnTo>
                <a:lnTo>
                  <a:pt x="17327" y="10800"/>
                </a:lnTo>
                <a:lnTo>
                  <a:pt x="17327" y="17989"/>
                </a:lnTo>
                <a:lnTo>
                  <a:pt x="6709" y="17989"/>
                </a:lnTo>
                <a:lnTo>
                  <a:pt x="6709" y="10800"/>
                </a:lnTo>
                <a:lnTo>
                  <a:pt x="5055" y="10800"/>
                </a:lnTo>
                <a:close/>
              </a:path>
              <a:path fill="darkenLess" w="24036" h="21600">
                <a:moveTo>
                  <a:pt x="14594" y="6448"/>
                </a:move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close/>
              </a:path>
              <a:path fill="darkenLess" w="24036" h="21600">
                <a:moveTo>
                  <a:pt x="11095" y="14299"/>
                </a:moveTo>
                <a:lnTo>
                  <a:pt x="12941" y="14299"/>
                </a:lnTo>
                <a:lnTo>
                  <a:pt x="12941" y="17989"/>
                </a:lnTo>
                <a:lnTo>
                  <a:pt x="17327" y="17989"/>
                </a:lnTo>
                <a:lnTo>
                  <a:pt x="17327" y="10800"/>
                </a:lnTo>
                <a:lnTo>
                  <a:pt x="6709" y="10800"/>
                </a:lnTo>
                <a:lnTo>
                  <a:pt x="6709" y="17989"/>
                </a:lnTo>
                <a:lnTo>
                  <a:pt x="11095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4"/>
          <p:cNvSpPr/>
          <p:nvPr/>
        </p:nvSpPr>
        <p:spPr>
          <a:xfrm>
            <a:off x="826920" y="476280"/>
            <a:ext cx="784872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Работа с учебником. Решение упражнений №1028(3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29(2),1031(2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Подведение итог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Выставление в классный журнал и днев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ащихся оцен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Задание на дом:№1029(1),1030,1031(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структаж по его выполне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6" descr="Books.gif (4516 bytes)"/>
          <p:cNvPicPr/>
          <p:nvPr/>
        </p:nvPicPr>
        <p:blipFill>
          <a:blip r:embed="rId1"/>
          <a:stretch/>
        </p:blipFill>
        <p:spPr>
          <a:xfrm>
            <a:off x="3419640" y="4365720"/>
            <a:ext cx="2232000" cy="2232000"/>
          </a:xfrm>
          <a:prstGeom prst="rect">
            <a:avLst/>
          </a:prstGeom>
          <a:ln w="0">
            <a:noFill/>
          </a:ln>
        </p:spPr>
      </p:pic>
      <p:sp>
        <p:nvSpPr>
          <p:cNvPr id="172" name="AutoShape 7">
            <a:hlinkClick r:id="" action="ppaction://hlinkshowjump?jump=previousslide"/>
          </p:cNvPr>
          <p:cNvSpPr/>
          <p:nvPr/>
        </p:nvSpPr>
        <p:spPr>
          <a:xfrm>
            <a:off x="702000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8">
            <a:hlinkClick r:id="" action="ppaction://hlinkshowjump?jump=firstslide"/>
          </p:cNvPr>
          <p:cNvSpPr/>
          <p:nvPr/>
        </p:nvSpPr>
        <p:spPr>
          <a:xfrm>
            <a:off x="7596360" y="595008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12018" y="3837"/>
                </a:moveTo>
                <a:lnTo>
                  <a:pt x="14594" y="6448"/>
                </a:ln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lnTo>
                  <a:pt x="18981" y="10800"/>
                </a:lnTo>
                <a:lnTo>
                  <a:pt x="17327" y="10800"/>
                </a:lnTo>
                <a:lnTo>
                  <a:pt x="17327" y="17989"/>
                </a:lnTo>
                <a:lnTo>
                  <a:pt x="6709" y="17989"/>
                </a:lnTo>
                <a:lnTo>
                  <a:pt x="6709" y="10800"/>
                </a:lnTo>
                <a:lnTo>
                  <a:pt x="5055" y="10800"/>
                </a:lnTo>
                <a:close/>
              </a:path>
              <a:path fill="darkenLess" w="24036" h="21600">
                <a:moveTo>
                  <a:pt x="14594" y="6448"/>
                </a:move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close/>
              </a:path>
              <a:path fill="darkenLess" w="24036" h="21600">
                <a:moveTo>
                  <a:pt x="11095" y="14299"/>
                </a:moveTo>
                <a:lnTo>
                  <a:pt x="12941" y="14299"/>
                </a:lnTo>
                <a:lnTo>
                  <a:pt x="12941" y="17989"/>
                </a:lnTo>
                <a:lnTo>
                  <a:pt x="17327" y="17989"/>
                </a:lnTo>
                <a:lnTo>
                  <a:pt x="17327" y="10800"/>
                </a:lnTo>
                <a:lnTo>
                  <a:pt x="6709" y="10800"/>
                </a:lnTo>
                <a:lnTo>
                  <a:pt x="6709" y="17989"/>
                </a:lnTo>
                <a:lnTo>
                  <a:pt x="11095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>
            <a:hlinkClick r:id="" action="ppaction://hlinkshowjump?jump=nextslide"/>
          </p:cNvPr>
          <p:cNvSpPr/>
          <p:nvPr/>
        </p:nvSpPr>
        <p:spPr>
          <a:xfrm>
            <a:off x="8388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5T05:33:30Z</dcterms:created>
  <dc:creator>Ошноков</dc:creator>
  <dc:description/>
  <dc:language>en-US</dc:language>
  <cp:lastModifiedBy>Елена</cp:lastModifiedBy>
  <dcterms:modified xsi:type="dcterms:W3CDTF">2015-07-23T06:52:19Z</dcterms:modified>
  <cp:revision>29</cp:revision>
  <dc:subject/>
  <dc:title>Слайд 1</dc:title>
</cp:coreProperties>
</file>