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AB0C-2DD7-4213-A3A0-163F10833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28880" y="1571760"/>
            <a:ext cx="701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28880" y="3935880"/>
            <a:ext cx="701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2B8C-4020-4B67-87AD-388ED95A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28880" y="1571760"/>
            <a:ext cx="342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3840" y="1571760"/>
            <a:ext cx="342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28880" y="3935880"/>
            <a:ext cx="342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3840" y="3935880"/>
            <a:ext cx="342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8E5C-8EA5-4C90-BED4-DB5C5FB5C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28880" y="1571760"/>
            <a:ext cx="225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00920" y="1571760"/>
            <a:ext cx="225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72960" y="1571760"/>
            <a:ext cx="225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28880" y="3935880"/>
            <a:ext cx="225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00920" y="3935880"/>
            <a:ext cx="225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72960" y="3935880"/>
            <a:ext cx="225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C4E1-45BC-4D07-A981-D4ACCB5D7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92F37-67B5-40AB-BE31-D8E3FFE3E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28880" y="1571760"/>
            <a:ext cx="7014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9F92-A3DE-4ED5-8E76-530FB450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28880" y="1571760"/>
            <a:ext cx="701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FF42-9356-47FB-9201-3C6B662C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28880" y="1571760"/>
            <a:ext cx="342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23840" y="1571760"/>
            <a:ext cx="342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A43F-1A69-49B7-B4B1-A92579AF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34DCA-5E4A-43A7-A6BA-EFD451A6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85880" y="356760"/>
            <a:ext cx="8143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C3CE-9304-4A48-BA50-C882FC5B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28880" y="1571760"/>
            <a:ext cx="342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23840" y="1571760"/>
            <a:ext cx="342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28880" y="3935880"/>
            <a:ext cx="342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3E82-C6CB-460C-8212-5DA6C2F1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28880" y="1571760"/>
            <a:ext cx="7014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0FF4-0347-4471-BC32-E61C7699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28880" y="1571760"/>
            <a:ext cx="342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23840" y="1571760"/>
            <a:ext cx="342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23840" y="3935880"/>
            <a:ext cx="342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5CF6-CA6C-4AA2-A57B-A42513B4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28880" y="1571760"/>
            <a:ext cx="342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23840" y="1571760"/>
            <a:ext cx="342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28880" y="3935880"/>
            <a:ext cx="701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83DC-0112-42EA-9A10-5D09FD56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28880" y="1571760"/>
            <a:ext cx="701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28880" y="3935880"/>
            <a:ext cx="701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A3DEF-32C2-4AC0-AEF5-654D4894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28880" y="1571760"/>
            <a:ext cx="342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23840" y="1571760"/>
            <a:ext cx="342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28880" y="3935880"/>
            <a:ext cx="342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23840" y="3935880"/>
            <a:ext cx="342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8B58-6658-4F98-8AA0-26C3B3400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28880" y="1571760"/>
            <a:ext cx="225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00920" y="1571760"/>
            <a:ext cx="225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72960" y="1571760"/>
            <a:ext cx="225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28880" y="3935880"/>
            <a:ext cx="225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00920" y="3935880"/>
            <a:ext cx="225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72960" y="3935880"/>
            <a:ext cx="225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3608-B6DE-4E2C-AC4F-F4E40E289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28880" y="1571760"/>
            <a:ext cx="701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D74E-3191-4E36-9301-CE957BCF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28880" y="1571760"/>
            <a:ext cx="342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3840" y="1571760"/>
            <a:ext cx="342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33A3-E4C7-44B6-A78D-684572BD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C8AB-911A-4BA7-8F73-BC05443C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85880" y="356760"/>
            <a:ext cx="8143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AAF9-9B0C-4A85-9B75-54A25ED8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28880" y="1571760"/>
            <a:ext cx="342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3840" y="1571760"/>
            <a:ext cx="342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28880" y="3935880"/>
            <a:ext cx="342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A103-E933-4160-9333-A5DDAAE7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28880" y="1571760"/>
            <a:ext cx="342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3840" y="1571760"/>
            <a:ext cx="342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3840" y="3935880"/>
            <a:ext cx="342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1207-AB3E-49B3-B0CB-559B808B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28880" y="1571760"/>
            <a:ext cx="342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3840" y="1571760"/>
            <a:ext cx="342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28880" y="3935880"/>
            <a:ext cx="701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45DD-0A4F-47EE-84F1-7AA27B66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28880" y="1571760"/>
            <a:ext cx="701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71B0-680D-457D-B319-CCFBE55A39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28880" y="1571760"/>
            <a:ext cx="701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DE24-A7EF-4D64-B7EF-ACDADFD3C1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2279520" y="1152360"/>
            <a:ext cx="7188480" cy="24624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286160" y="3857760"/>
            <a:ext cx="4471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ланкина Валентина Тимоф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1 квалификационная катег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КДОУ «Краснянский детский сад общеразвивающего вида «Ивуш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2600" y="14292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ем переходим к функции</a:t>
            </a:r>
            <a:br>
              <a:rPr sz="3200"/>
            </a:b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деопереход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помощью мыши перетаскиваем его и помещаем между кадрами на раскадровке. Сохраняем.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03" name="Содержимое 7" descr="Новый рисунок (2).bmp"/>
          <p:cNvPicPr/>
          <p:nvPr/>
        </p:nvPicPr>
        <p:blipFill>
          <a:blip r:embed="rId1"/>
          <a:stretch/>
        </p:blipFill>
        <p:spPr>
          <a:xfrm>
            <a:off x="2500200" y="2320920"/>
            <a:ext cx="5929560" cy="3705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1357200" y="357120"/>
            <a:ext cx="728676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здание титров и назван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Добавить название в начале филь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этого находим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тово, добавить название в филь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кне просмотра можно посмотреть, как будет выглядеть ваше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зва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6" descr="C:\Users\Импульс\Desktop\Новая папка (7)\011614_0932_6.jpg"/>
          <p:cNvPicPr/>
          <p:nvPr/>
        </p:nvPicPr>
        <p:blipFill>
          <a:blip r:embed="rId1"/>
          <a:stretch/>
        </p:blipFill>
        <p:spPr>
          <a:xfrm>
            <a:off x="2500200" y="3357720"/>
            <a:ext cx="5786640" cy="3071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C:\Users\Импульс\Desktop\4f2859270d413Nebo_28janv.JPG"/>
          <p:cNvPicPr/>
          <p:nvPr/>
        </p:nvPicPr>
        <p:blipFill>
          <a:blip r:embed="rId2"/>
          <a:stretch/>
        </p:blipFill>
        <p:spPr>
          <a:xfrm>
            <a:off x="5786280" y="3857760"/>
            <a:ext cx="2143440" cy="1643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781200" y="353880"/>
            <a:ext cx="8154720" cy="1150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1928880" y="1571400"/>
            <a:ext cx="69292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ока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Завершение создания филь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ираем функцию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охранение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жат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Файл-Сохранить проект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Вы всегда могли изменить проект, подредактир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Прямоугольник 1" descr=""/>
          <p:cNvPicPr/>
          <p:nvPr/>
        </p:nvPicPr>
        <p:blipFill>
          <a:blip r:embed="rId1"/>
          <a:stretch/>
        </p:blipFill>
        <p:spPr>
          <a:xfrm>
            <a:off x="2170080" y="596880"/>
            <a:ext cx="4791240" cy="27860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781200" y="353880"/>
            <a:ext cx="7941960" cy="1150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2786040" y="1642680"/>
            <a:ext cx="55008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 настоящее время актуальным является вопрос обобщения и распространения передового педагогического опыта. При этом, педагоги испытывают определенные трудности в создании и разработке качественного продукта, который будет наглядно демонстрировать картину его значимых результатов в цел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егодня таким продуктом может служить портфолио, творческий отчет, эссе, самопрезентация педагога и пр. Наряду с этим, существует проблема представления созданного материала на публике, то есть его творческой презентации. И здесь, конечно же, не обойтись без знания компьютерных программ, позволяющих быстро и качественно создать необходимый продукт и эффектно продемонстрировать результаты своей педагогическ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3" descr=""/>
          <p:cNvPicPr/>
          <p:nvPr/>
        </p:nvPicPr>
        <p:blipFill>
          <a:blip r:embed="rId2"/>
          <a:stretch/>
        </p:blipFill>
        <p:spPr>
          <a:xfrm>
            <a:off x="785880" y="1643040"/>
            <a:ext cx="1501560" cy="1000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512640" y="-23760"/>
            <a:ext cx="7856640" cy="37479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2142720" y="3714480"/>
            <a:ext cx="67150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Windows Movie Maker –стандартная Windows-программа предназначенная для создания и редактирования видеоролик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781200" y="353880"/>
            <a:ext cx="8154720" cy="1150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1928520" y="1571760"/>
            <a:ext cx="70009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лучение видео с цифровой видеокаме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оздание слайд-шоу из изображ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Обрезание или склеивание виде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аложение звуковой дорож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Добавление заголовков и титр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оздание переходов между фрагментами виде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Добавление простых эффек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ывод проекта в формат WMV или AVI с настраиваемым качест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найти программу в компьютере: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071440" y="1785600"/>
            <a:ext cx="651492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вой кнопкой мышки нажимаем на кнопку 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УС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(внизу рабочего стола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ираем "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СЕ программ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" и далее из списка этих программ программу 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Windows Movie Maker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646200" y="-55440"/>
            <a:ext cx="8216640" cy="2603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Users\Импульс\Desktop\Мастер класс киностудия\video-2.gif"/>
          <p:cNvPicPr/>
          <p:nvPr/>
        </p:nvPicPr>
        <p:blipFill>
          <a:blip r:embed="rId2"/>
          <a:stretch/>
        </p:blipFill>
        <p:spPr>
          <a:xfrm>
            <a:off x="2214720" y="2928960"/>
            <a:ext cx="6643440" cy="37148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 необходимо перетащить изображения с помощью мыши на шкалу времени в строку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део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96" name="Содержимое 3" descr="C:\Users\Импульс\Desktop\011614_0932_3.jpg"/>
          <p:cNvPicPr/>
          <p:nvPr/>
        </p:nvPicPr>
        <p:blipFill>
          <a:blip r:embed="rId1"/>
          <a:stretch/>
        </p:blipFill>
        <p:spPr>
          <a:xfrm>
            <a:off x="2000160" y="2286000"/>
            <a:ext cx="6715080" cy="35719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428760" y="299880"/>
            <a:ext cx="8286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звращаемся 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ерации с фильм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одим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у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мпорт музыки и зву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ираем из появившегося окна музыку, прикрепляем ее. Нажимаем 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мпор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таскиваем на шкалу времени в строку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вук или музы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2" descr="C:\Users\Импульс\Desktop\011614_0932_4.jpg"/>
          <p:cNvPicPr/>
          <p:nvPr/>
        </p:nvPicPr>
        <p:blipFill>
          <a:blip r:embed="rId1"/>
          <a:stretch/>
        </p:blipFill>
        <p:spPr>
          <a:xfrm>
            <a:off x="2928960" y="3071880"/>
            <a:ext cx="53578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781200" y="189000"/>
            <a:ext cx="8154720" cy="1322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1928880" y="1571760"/>
            <a:ext cx="7014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ираем функцию просмотр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идеоэффек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3" descr="C:\Users\Импульс\Desktop\011614_0932_5.jpg"/>
          <p:cNvPicPr/>
          <p:nvPr/>
        </p:nvPicPr>
        <p:blipFill>
          <a:blip r:embed="rId2"/>
          <a:stretch/>
        </p:blipFill>
        <p:spPr>
          <a:xfrm>
            <a:off x="2428920" y="2857680"/>
            <a:ext cx="6083280" cy="374328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4T06:23:31Z</dcterms:created>
  <dc:creator>Comp</dc:creator>
  <dc:description/>
  <dc:language>en-US</dc:language>
  <cp:lastModifiedBy>Импульс</cp:lastModifiedBy>
  <dcterms:modified xsi:type="dcterms:W3CDTF">2015-10-19T16:03:15Z</dcterms:modified>
  <cp:revision>57</cp:revision>
  <dc:subject/>
  <dc:title>Слайд 1</dc:title>
</cp:coreProperties>
</file>