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204-6A04-4B08-B0CE-3EDE8440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88E-0561-445F-8D02-27BD5EB3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779-C41B-4F37-BB8C-8DBC0EEC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092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888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092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850-9C93-4A66-97BA-58317C27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7D4-69D9-4570-9145-5D98FA13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8C7D-D3A1-422E-8F94-F572B0B0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B21E-3BBA-4134-A832-2304D723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F40A-C24B-4BEC-9642-116C8ECF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1C90-8A4C-46F4-A996-18A103FC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85B0-CD00-45A6-A0C1-926EEB8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DFE4-E51A-48D0-BA87-2ACDBF1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088-5C00-4383-8D7E-2194137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B2AD-8B6D-4703-98CD-4C950A0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8B07-AB09-41D6-BE76-BC91A8B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C3F-F9E5-4105-B394-2E8EE8F5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A48C-7472-4BF4-B7FC-027ACED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0092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96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2888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0092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96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CCF-D9F4-43EE-9222-60987304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77C-3367-4F7D-ACCB-A5B4592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920-66BC-436B-917D-202ABCB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445-7C8E-4470-AD7F-2EBE0024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48B-C37B-4AB8-BCEC-4F85E45C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39C-04E9-4963-97CB-4EB4EB8F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166-6FDF-4B7F-B444-0E91CE8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413-9F67-4904-BCFD-943B806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188-975F-4617-8B66-135C7D05F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53E1-2E9B-4C4D-95EB-E540B1D7C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79520" y="1152360"/>
            <a:ext cx="7188480" cy="2462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6160" y="3857760"/>
            <a:ext cx="4471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кина Валентина Тимоф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КДОУ «Краснянский детский сад общеразвивающего вида «И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600" y="14292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переходим к функции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еопереход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мощью мыши перетаскиваем его и помещаем между кадрами на раскадровке. Сохраняем.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3" name="Содержимое 7" descr="Новый рисунок (2).bmp"/>
          <p:cNvPicPr/>
          <p:nvPr/>
        </p:nvPicPr>
        <p:blipFill>
          <a:blip r:embed="rId1"/>
          <a:stretch/>
        </p:blipFill>
        <p:spPr>
          <a:xfrm>
            <a:off x="2500200" y="2320920"/>
            <a:ext cx="5929560" cy="3705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357200" y="357120"/>
            <a:ext cx="72867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ние титров и назв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бавить название в начале фил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находим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тово, добавить название в филь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кне просмотра можно посмотреть, как будет выглядеть ваш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C:\Users\Импульс\Desktop\Новая папка (7)\011614_0932_6.jpg"/>
          <p:cNvPicPr/>
          <p:nvPr/>
        </p:nvPicPr>
        <p:blipFill>
          <a:blip r:embed="rId1"/>
          <a:stretch/>
        </p:blipFill>
        <p:spPr>
          <a:xfrm>
            <a:off x="2500200" y="3357720"/>
            <a:ext cx="5786640" cy="30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Импульс\Desktop\4f2859270d413Nebo_28janv.JPG"/>
          <p:cNvPicPr/>
          <p:nvPr/>
        </p:nvPicPr>
        <p:blipFill>
          <a:blip r:embed="rId2"/>
          <a:stretch/>
        </p:blipFill>
        <p:spPr>
          <a:xfrm>
            <a:off x="5786280" y="3857760"/>
            <a:ext cx="2143440" cy="16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154720" cy="115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928880" y="1571400"/>
            <a:ext cx="69292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вершение создания фил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функцию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хранение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айл-Сохранить проект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ы всегда могли изменить проект, подредакт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2170080" y="596880"/>
            <a:ext cx="4791240" cy="2786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7941960" cy="115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786040" y="1642680"/>
            <a:ext cx="5500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настоящее время актуальным является вопрос обобщения и распространения передового педагогического опыта. При этом, педагоги испытывают определенные трудности в создании и разработке качественного продукта, который будет наглядно демонстрировать картину его значимых результатов в це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егодня таким продуктом может служить портфолио, творческий отчет, эссе, самопрезентация педагога и пр. Наряду с этим, существует проблема представления созданного материала на публике, то есть его творческой презентации. И здесь, конечно же, не обойтись без знания компьютерных программ, позволяющих быстро и качественно создать необходимый продукт и эффектно продемонстрировать результаты своей педагог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785880" y="1643040"/>
            <a:ext cx="1501560" cy="10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512640" y="-23760"/>
            <a:ext cx="7856640" cy="3747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142720" y="371448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indows Movie Maker –стандартная Windows-программа предназначенная для создания и редактирования видеорол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154720" cy="115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928520" y="1571760"/>
            <a:ext cx="7000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лучение видео с цифровой видеокам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е слайд-шоу из изобра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резание или склеивание 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ложение звуковой дорож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бавление заголовков и тит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е переходов между фрагментами 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бавление простых эфф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 проекта в формат WMV или AVI с настраиваемым к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йти программу в компьютере: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071440" y="1785600"/>
            <a:ext cx="6514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ой кнопкой мышки нажимаем на кнопку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УС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внизу рабочего стол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С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далее из списка этих программ программу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Windows Movie Maker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646200" y="-55440"/>
            <a:ext cx="8216640" cy="260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Импульс\Desktop\Мастер класс киностудия\video-2.gif"/>
          <p:cNvPicPr/>
          <p:nvPr/>
        </p:nvPicPr>
        <p:blipFill>
          <a:blip r:embed="rId2"/>
          <a:stretch/>
        </p:blipFill>
        <p:spPr>
          <a:xfrm>
            <a:off x="2214720" y="2928960"/>
            <a:ext cx="6643440" cy="3714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еобходимо перетащить изображения с помощью мыши на шкалу времени в строку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ео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96" name="Содержимое 3" descr="C:\Users\Импульс\Desktop\011614_0932_3.jpg"/>
          <p:cNvPicPr/>
          <p:nvPr/>
        </p:nvPicPr>
        <p:blipFill>
          <a:blip r:embed="rId1"/>
          <a:stretch/>
        </p:blipFill>
        <p:spPr>
          <a:xfrm>
            <a:off x="2000160" y="2286000"/>
            <a:ext cx="6715080" cy="3571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28760" y="299880"/>
            <a:ext cx="8286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вращаемся 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ции с филь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порт музыки и зв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из появившегося окна музыку, прикрепляем ее. Нажимаем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таскиваем на шкалу времени в строку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или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C:\Users\Импульс\Desktop\011614_0932_4.jpg"/>
          <p:cNvPicPr/>
          <p:nvPr/>
        </p:nvPicPr>
        <p:blipFill>
          <a:blip r:embed="rId1"/>
          <a:stretch/>
        </p:blipFill>
        <p:spPr>
          <a:xfrm>
            <a:off x="2928960" y="307188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781200" y="189000"/>
            <a:ext cx="815472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функцию просмотр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идеоэффе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C:\Users\Импульс\Desktop\011614_0932_5.jpg"/>
          <p:cNvPicPr/>
          <p:nvPr/>
        </p:nvPicPr>
        <p:blipFill>
          <a:blip r:embed="rId2"/>
          <a:stretch/>
        </p:blipFill>
        <p:spPr>
          <a:xfrm>
            <a:off x="2428920" y="2857680"/>
            <a:ext cx="608328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6:23:31Z</dcterms:created>
  <dc:creator>Comp</dc:creator>
  <dc:description/>
  <dc:language>en-US</dc:language>
  <cp:lastModifiedBy>Импульс</cp:lastModifiedBy>
  <dcterms:modified xsi:type="dcterms:W3CDTF">2015-10-19T16:03:15Z</dcterms:modified>
  <cp:revision>57</cp:revision>
  <dc:subject/>
  <dc:title>Слайд 1</dc:title>
</cp:coreProperties>
</file>