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278240" y="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ldNum" idx="1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38C32-5DFC-469A-9F51-5D6B167220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004760" y="1027080"/>
            <a:ext cx="5550120" cy="370044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1260000" y="5071680"/>
            <a:ext cx="5226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се чистоговорки проговариваются чётко с отхлопыванием или оттопыванием слог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2FE62-CB11-4B6C-9DB9-BCE9765A0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6903D-E964-49E2-A95C-DC70BE4D2F0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05DA9-45BA-4AFA-84AC-99597C3615D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B4165-9A6D-42B7-AB0F-9767B54FB1D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86971-FF20-4B31-B2EB-FF67CE465DA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E5C09-4CF5-40E0-AD9C-ED9D2AA1894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200DD-CE2F-44D9-A91D-11083A6EC6A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9465C-E26A-4175-A457-F948F3D7225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2D543-1F93-4B64-8950-D09D2B4EC65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3B3D7-97BD-45F3-9465-E288545A8C3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3C4A7-39E2-4B28-AECE-01363B7D00C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52760A-DA48-4A4E-8BFB-8D7948B50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F85A-5CD6-46D0-A4D3-AF0B6B7582A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B60EAC-93BE-4F35-BCA5-8C4491B086E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FAC48F-07F3-441F-B4E0-9C4FE711CF9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BCC701-0271-4271-BD82-9DB2AB96BB2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27321D-D24D-4F1F-B44D-DC08B36E181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FD7CB2-48C4-4AF2-80E4-FB388987600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FB07C2-ACAF-49E9-8884-23B921973CB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1DE463-8166-439C-8FD3-223E05F9F49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376E2F-A577-4E64-96AA-3206FE50E0A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4F684C-E6AB-444D-A755-0316E937A37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B0665E-D585-4CFF-A1A8-6DFDDFDDC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C2D56-8EF9-4C81-8145-31FBBFE6363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219B9F-0682-43F3-9125-C6B30706263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29E95E-50BB-4275-866E-E33DE0B02E6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0685A7-B2E8-4446-81BE-999223E91E1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F158D9-BC7A-4CDB-AC46-452B3396299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7F5E6D-5ECB-4B40-BB19-69E9C67C6B4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B95919-65B5-4345-9670-6E66D0EBB0C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DA10E1-F4BC-45B2-B822-9D43E3EB1C8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0DEF57-654C-4818-BE9E-2C99C588CD6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D582B0-2E25-4327-9A88-ACED1DA8010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CCE0AB-F853-4048-87D1-BC8B82675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A3AC0-630D-4C9C-BF8C-C73B9D2DAC6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600719-CB95-4483-BFD1-FD5CD583019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60954C-2C51-4497-8112-F022A176742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BB8BC4-8029-4325-A3CB-DABB4258882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F65B0-2619-4FEB-9CAA-CF4059F47C6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39AE3-E7FE-42C6-8159-AB389E07882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9E2BD-8A44-4DF2-8415-1CF1B84E9F6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E6FE2-04E5-493E-A878-BCAB01F3AA8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467E0-A043-4A7A-A26A-90BB36FF4B9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C3B90-BF02-4B9F-8301-05FED17BC3E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37A77-B42C-4117-B0AE-EDBAA44EE7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F6845-14F1-429C-8F22-831D1D77017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20ACD-1291-4B3C-AB17-EAFD32293B7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09E39-1B5E-463F-9DB7-AD00A3FD0C3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75F63-FCB2-4D9A-8354-13A384CCD0A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0529E-B6E3-4810-A28B-80AF53B171F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C0CCC-9DB1-477A-AFDD-CBD57FAA88E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486D0-8D3A-411A-AB48-5D7E3274633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ACDC4-2542-456B-924C-9736ADB31D8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EF625-7FF0-4E71-893E-3886A652AC2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B7AC9-9816-4500-947E-6E5A786A7D7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F2F82-7793-432E-9C65-1EA0B7F910D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C47CB-1BBF-4698-AAB0-862F5187F9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5B4AC-890C-4926-AC65-0ADEBF07307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A9054-761C-4975-B306-A19FB1514AF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C55DC-3C4E-4487-B367-5A6DE8E7828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33AA4-4537-4189-82AE-614D73801C9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27148-BA19-435D-BB5B-47C679E2CD3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B7F0-28A0-47B9-8BF1-D997EF7AA62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CAA8-F500-4AAA-B851-C317818683A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D692-EDAB-421A-93A1-9D2ED28E1E3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A35F-C828-4404-AAB1-822EBA7BDB9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2451-C94B-48BD-BD5E-A388AB6226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00E33-8C09-4430-927D-25602FC9A9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87A9-2E0A-420C-8463-F27B62AB62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EE40-E648-4C02-B8BE-0352542AC7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78DA-FFC4-4424-80D6-15C7FFE38B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8EA1-5A7F-449B-85CE-998265E4FC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3871-0ACB-4D23-B263-52EB9CF832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9403-3D69-4D3E-9D57-73CED2F6B7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FD1A-1AF8-4E61-A9D9-EF9566B10F0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463BA-5E72-419C-B1D0-F5D606DF604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86B6A-DE8D-4740-BC89-CB7C1EE822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9E6CE-F078-4195-A677-BCDE3A3F3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3FEBD-4437-45A3-A18C-20983A34350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F3A7B-2EE7-425C-B276-CAD17B32D6E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2294A-2329-43C4-8E38-583F3AD0E40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A491E-62E2-462C-9B7B-F034F1D1299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7005C-5254-43B7-858B-72080D6889A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75515-BBE9-4A66-B5E0-C0463693101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77526-AF1B-4F90-A38C-1C5C456C91E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368DB-867A-4275-8892-09FA185E22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3C25C-44FF-41A1-82DA-B6BCF8C828E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8204B-8210-47BF-865B-040237F778E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FC5C6-81A3-40F7-AFAC-FA31DD248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B8C2-2047-4BE1-BFF2-F7DA4DE2C79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399EC-3058-41D0-93B5-BFA9A23A436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78974-16EA-4DF5-AD18-88C9C3EA70E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4CCAE-50EB-43CF-A788-9445415AB82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B7A7F-3332-4CD7-BF8B-E0290CFA90F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E5C49-8F23-4D13-9134-3C6B18D7A23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A3B5F-EA19-4BA4-B3A5-72D0786CE09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963A4-6F06-4208-9CA6-B18B70751CB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DECA7-E8DB-4A8A-BB99-B4AD2640122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BEC96-F3D3-49D0-9E3F-81049544DE9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2D336-DE80-47DE-94EA-952540348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36736-9D65-4597-9147-F09ACAEAB19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5A83C-56A9-47B1-8F8D-BF47762870C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07FE-9D89-44E3-973A-2A18CC9CE1D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3CB2-F098-4E0F-B71C-DAE0A347F72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4EB9-AC9D-4DD8-9169-12B080F44E7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107D-1CDF-40E4-B15F-2EBFA4416C0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58CA-4AA9-4E22-9A4E-97508431615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BB06-7F3C-49A3-B353-21FE7BDFF8A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AF07-3808-4FA4-886E-C320FE717EA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879E-6C50-4835-ACE6-F017FF47B1C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9EE5-7616-4740-A1D6-25DDC2064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1DDD-66AC-4DF4-BC79-7834349A8C5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63B9-E87B-46A8-87E4-C97CCE2FE95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A344-40DD-42F7-B7A7-044E9057542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6BE6-0BE8-4F4D-BD4F-9EA48BBEE12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E7EE5D-EB16-40F7-8180-10A248DC99B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175FAE-8BB7-463E-B558-E9350638FCF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9516E7-348A-4571-B59C-902EAA3556B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A31CD6-8293-4131-91E4-F3C2D0576BD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600DE3-A215-461B-80CB-99DC52A687D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EA226F-848D-4DAA-866D-A3FEAAC5B13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BD1632-917A-47D9-9437-0EEB4DD37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A0648-FA0F-479E-B3FA-84BAA536F12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8AE788-ADDF-4953-A61F-BFAAA633CDE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23E005-CD32-4A44-A50B-10B34DA533C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7C275E-6EB3-4D85-81D4-E8FAC745C23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4CFC1A-096C-4AC1-9AAD-7CDFB036F44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BC0949-686B-4468-8B8C-A5AC7286D09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C9D908-FC18-4C89-AD5D-EF040E02FF0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23B34-A5BF-4A68-B265-A672BB2E72A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D24B4E-DD7E-4BFF-91E4-C930E4CED8C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685994-FD20-418E-9E87-2D0B41BF414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A09C12-F6F5-48B6-93C0-B648665A2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A7F13-EDAA-49EC-84B0-2BB548B828F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82DB7-1966-4F0A-8CCF-204B334539C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55D10B-B437-437C-B91F-AE3833FD3D5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122EB-6A2B-44C3-ACEB-0387A405CE7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821863-2009-43BC-8EC7-885CDCD0865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795F19-3CB4-4858-A07F-4C35E7D46EC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BF286-F621-4E12-BA7E-3380568A8AD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F2E33-0416-4C03-A5F5-725A201EB2F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E006F-7A4F-4461-9AB0-F98ACB7EBCA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33577-FB55-4FD2-AB0C-A697BABD864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9B1D6-6043-4494-8A66-6C8A1BEFB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85640" y="5904000"/>
            <a:ext cx="2264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324240" y="5904000"/>
            <a:ext cx="3081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990B4-3E76-4296-8BB7-ADB303B7A8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904760" y="4535640"/>
            <a:ext cx="583092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905120" y="579600"/>
            <a:ext cx="58323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904760" y="5072040"/>
            <a:ext cx="5830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7000"/>
          </a:bodyPr>
          <a:p>
            <a:pPr marL="5832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320" indent="-58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8320" indent="-58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58320" indent="-58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58320" indent="-58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58320" indent="-58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58320" indent="-58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85640" y="5904000"/>
            <a:ext cx="2264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324240" y="5904000"/>
            <a:ext cx="3081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Num" idx="10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8F229-74FB-4282-91E3-2FBF6BD964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5640" y="5904000"/>
            <a:ext cx="2264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24240" y="5904000"/>
            <a:ext cx="3081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sldNum" idx="11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49DE6-5491-4626-B55C-9A3404D249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047000" y="258840"/>
            <a:ext cx="2184480" cy="55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85640" y="258840"/>
            <a:ext cx="6407280" cy="55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5640" y="5904000"/>
            <a:ext cx="2264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24240" y="5904000"/>
            <a:ext cx="3081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2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7DEB9-8AC6-49F5-9532-B7C9D09882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98400" y="6066000"/>
            <a:ext cx="902196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916280" y="6248520"/>
            <a:ext cx="780408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698400" y="6066000"/>
            <a:ext cx="902196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16280" y="6248520"/>
            <a:ext cx="780408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28640" y="2013120"/>
            <a:ext cx="8261280" cy="13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1457280" y="3671640"/>
            <a:ext cx="6804000" cy="16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 fontScale="38000"/>
          </a:bodyPr>
          <a:p>
            <a:pPr marL="13032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698400" y="6066000"/>
            <a:ext cx="902196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916280" y="6248520"/>
            <a:ext cx="780408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14240" y="1682640"/>
            <a:ext cx="846000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63640" indent="-646200">
              <a:lnSpc>
                <a:spcPct val="100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Образец текста</a:t>
            </a:r>
            <a:br>
              <a:rPr sz="2100"/>
            </a:br>
            <a:r>
              <a:rPr b="0" lang="ru-RU" sz="24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Второй уровень</a:t>
            </a:r>
            <a:br>
              <a:rPr sz="2400"/>
            </a:br>
            <a:r>
              <a:rPr b="0" lang="ru-RU" sz="21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Третий уровень</a:t>
            </a:r>
            <a:br>
              <a:rPr sz="2100"/>
            </a:br>
            <a:r>
              <a:rPr b="0" lang="ru-RU" sz="17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Четвертый уровень</a:t>
            </a:r>
            <a:br>
              <a:rPr sz="1700"/>
            </a:br>
            <a:r>
              <a:rPr b="0" lang="ru-RU" sz="17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Пятый уровен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698400" y="6066000"/>
            <a:ext cx="902196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916280" y="6248520"/>
            <a:ext cx="780408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68240" y="4164120"/>
            <a:ext cx="82598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68240" y="2746080"/>
            <a:ext cx="82598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33000"/>
          </a:bodyPr>
          <a:p>
            <a:pPr marL="113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698400" y="6066000"/>
            <a:ext cx="902196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16280" y="6248520"/>
            <a:ext cx="780408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14240" y="1682640"/>
            <a:ext cx="415296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63640" indent="-646200">
              <a:lnSpc>
                <a:spcPct val="100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Образец текста</a:t>
            </a:r>
            <a:br>
              <a:rPr sz="2800"/>
            </a:br>
            <a:r>
              <a:rPr b="0" lang="ru-RU" sz="24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19840" y="1682640"/>
            <a:ext cx="415440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63640" indent="-646200">
              <a:lnSpc>
                <a:spcPct val="100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Образец текста</a:t>
            </a:r>
            <a:br>
              <a:rPr sz="2800"/>
            </a:br>
            <a:r>
              <a:rPr b="0" lang="ru-RU" sz="24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98400" y="6066000"/>
            <a:ext cx="902196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916280" y="6248520"/>
            <a:ext cx="780408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485280" y="1450800"/>
            <a:ext cx="429444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14000"/>
          </a:bodyPr>
          <a:p>
            <a:pPr marL="478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7880" indent="-47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7880" indent="-47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47880" indent="-47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47880" indent="-47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47880" indent="-47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47880" indent="-47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85640" y="2055960"/>
            <a:ext cx="429588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63640" indent="-646200">
              <a:lnSpc>
                <a:spcPct val="100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Образец текста</a:t>
            </a:r>
            <a:br>
              <a:rPr sz="2400"/>
            </a:br>
            <a:r>
              <a:rPr b="0" lang="ru-RU" sz="20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Второй уровень</a:t>
            </a:r>
            <a:br>
              <a:rPr sz="2000"/>
            </a:br>
            <a:r>
              <a:rPr b="0" lang="ru-RU" sz="18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Третий уровень</a:t>
            </a:r>
            <a:br>
              <a:rPr sz="1800"/>
            </a:br>
            <a:r>
              <a:rPr b="0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Четвертый уровень</a:t>
            </a:r>
            <a:br>
              <a:rPr sz="1600"/>
            </a:br>
            <a:r>
              <a:rPr b="0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937040" y="1450800"/>
            <a:ext cx="42973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937040" y="2055960"/>
            <a:ext cx="429732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63640" indent="-646200">
              <a:lnSpc>
                <a:spcPct val="100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Образец текста</a:t>
            </a:r>
            <a:br>
              <a:rPr sz="2400"/>
            </a:br>
            <a:r>
              <a:rPr b="0" lang="ru-RU" sz="20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Второй уровень</a:t>
            </a:r>
            <a:br>
              <a:rPr sz="2000"/>
            </a:br>
            <a:r>
              <a:rPr b="0" lang="ru-RU" sz="18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Третий уровень</a:t>
            </a:r>
            <a:br>
              <a:rPr sz="1800"/>
            </a:br>
            <a:r>
              <a:rPr b="0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Четвертый уровень</a:t>
            </a:r>
            <a:br>
              <a:rPr sz="1600"/>
            </a:br>
            <a:r>
              <a:rPr b="0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698400" y="6066000"/>
            <a:ext cx="902196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916280" y="6248520"/>
            <a:ext cx="780408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28640" y="2013120"/>
            <a:ext cx="8261280" cy="13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457280" y="3671640"/>
            <a:ext cx="6804000" cy="16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 fontScale="38000"/>
          </a:bodyPr>
          <a:p>
            <a:pPr marL="13032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5640" y="5904000"/>
            <a:ext cx="2264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24240" y="5904000"/>
            <a:ext cx="3081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4A6DC-C974-4F45-AE60-71CDB23D08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698400" y="6066000"/>
            <a:ext cx="902196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916280" y="6248520"/>
            <a:ext cx="780408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698400" y="6066000"/>
            <a:ext cx="902196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916280" y="6248520"/>
            <a:ext cx="780408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31975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0520" y="258840"/>
            <a:ext cx="5433840" cy="55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63640" indent="-646200">
              <a:lnSpc>
                <a:spcPct val="100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Образец текста</a:t>
            </a:r>
            <a:br>
              <a:rPr sz="3200"/>
            </a:br>
            <a:r>
              <a:rPr b="0" lang="ru-RU" sz="28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Второй уровень</a:t>
            </a:r>
            <a:br>
              <a:rPr sz="2800"/>
            </a:br>
            <a:r>
              <a:rPr b="0" lang="ru-RU" sz="24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Третий уровень</a:t>
            </a:r>
            <a:br>
              <a:rPr sz="2400"/>
            </a:br>
            <a:r>
              <a:rPr b="0" lang="ru-RU" sz="20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Четвертый уровень</a:t>
            </a:r>
            <a:br>
              <a:rPr sz="2000"/>
            </a:br>
            <a:r>
              <a:rPr b="0" lang="ru-RU" sz="20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485640" y="1355400"/>
            <a:ext cx="3197520" cy="44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marL="226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-22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26080" indent="-22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26080" indent="-22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6080" indent="-22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6080" indent="-22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6080" indent="-22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698400" y="6066000"/>
            <a:ext cx="902196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916280" y="6248520"/>
            <a:ext cx="780408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904760" y="4535640"/>
            <a:ext cx="583092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905120" y="579600"/>
            <a:ext cx="58323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1904760" y="5072040"/>
            <a:ext cx="5830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7000"/>
          </a:bodyPr>
          <a:p>
            <a:pPr marL="5832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320" indent="-58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8320" indent="-58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58320" indent="-58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58320" indent="-58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58320" indent="-58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58320" indent="-58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698400" y="6066000"/>
            <a:ext cx="902196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916280" y="6248520"/>
            <a:ext cx="780408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698400" y="6066000"/>
            <a:ext cx="902196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916280" y="6248520"/>
            <a:ext cx="780408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7059240" y="241200"/>
            <a:ext cx="2112840" cy="56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714240" y="241200"/>
            <a:ext cx="6191280" cy="56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5640" y="1515960"/>
            <a:ext cx="874728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63640" indent="-646200" algn="ctr">
              <a:lnSpc>
                <a:spcPct val="100000"/>
              </a:lnSpc>
              <a:spcAft>
                <a:spcPts val="122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27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Второй уровень</a:t>
            </a:r>
            <a:br>
              <a:rPr sz="24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Microsoft YaHei"/>
              </a:rPr>
              <a:t>Третий уровень</a:t>
            </a:r>
            <a:br>
              <a:rPr sz="21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Четвертый уровень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Пятый уровен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5640" y="5904000"/>
            <a:ext cx="2264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24240" y="5904000"/>
            <a:ext cx="3081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Num" idx="3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EC351-BB40-4C75-A996-B22393C936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8240" y="4164120"/>
            <a:ext cx="82598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68240" y="2746080"/>
            <a:ext cx="82598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33000"/>
          </a:bodyPr>
          <a:p>
            <a:pPr marL="113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640" y="5904000"/>
            <a:ext cx="2264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24240" y="5904000"/>
            <a:ext cx="3081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A3CC1-10A5-4EC9-8CD4-122759739B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640" y="1515960"/>
            <a:ext cx="429732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63640" indent="-646200" algn="ctr">
              <a:lnSpc>
                <a:spcPct val="100000"/>
              </a:lnSpc>
              <a:spcAft>
                <a:spcPts val="122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5600" y="1515960"/>
            <a:ext cx="429732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63640" indent="-646200" algn="ctr">
              <a:lnSpc>
                <a:spcPct val="100000"/>
              </a:lnSpc>
              <a:spcAft>
                <a:spcPts val="122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5640" y="5904000"/>
            <a:ext cx="2264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24240" y="5904000"/>
            <a:ext cx="3081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ldNum" idx="5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0CD14-32B8-4550-8420-8569601602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85280" y="1450800"/>
            <a:ext cx="429444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14000"/>
          </a:bodyPr>
          <a:p>
            <a:pPr marL="478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7880" indent="-47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7880" indent="-47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47880" indent="-47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47880" indent="-47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47880" indent="-47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47880" indent="-47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5640" y="2055960"/>
            <a:ext cx="429588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63640" indent="-646200" algn="ctr">
              <a:lnSpc>
                <a:spcPct val="100000"/>
              </a:lnSpc>
              <a:spcAft>
                <a:spcPts val="122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Второ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Третий уровень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Четвертый уровень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37040" y="1450800"/>
            <a:ext cx="42973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spcAft>
                <a:spcPts val="12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7040" y="2055960"/>
            <a:ext cx="429732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63640" indent="-646200" algn="ctr">
              <a:lnSpc>
                <a:spcPct val="100000"/>
              </a:lnSpc>
              <a:spcAft>
                <a:spcPts val="122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Второ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Третий уровень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Четвертый уровень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5640" y="5904000"/>
            <a:ext cx="2264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24240" y="5904000"/>
            <a:ext cx="3081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6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9DD10-5E1E-4867-877D-D83713E5BB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5640" y="5904000"/>
            <a:ext cx="2264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324240" y="5904000"/>
            <a:ext cx="3081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ldNum" idx="7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84E65-F387-4E2A-8D82-E7CEEFA93A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5640" y="5904000"/>
            <a:ext cx="2264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24240" y="5904000"/>
            <a:ext cx="3081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Num" idx="8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B9561-9652-4F38-AD59-BCB329125F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31975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00520" y="258840"/>
            <a:ext cx="5433840" cy="55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63640" indent="-646200" algn="ctr">
              <a:lnSpc>
                <a:spcPct val="100000"/>
              </a:lnSpc>
              <a:spcAft>
                <a:spcPts val="122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Второй уровень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Трети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Четвертый уровен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85640" y="1355400"/>
            <a:ext cx="3197520" cy="44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marL="226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-22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26080" indent="-22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26080" indent="-22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6080" indent="-22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6080" indent="-22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6080" indent="-22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85640" y="5904000"/>
            <a:ext cx="2264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324240" y="5904000"/>
            <a:ext cx="3081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Num" idx="9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FE14C-7381-4AD0-83DA-B5229DF928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30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720720" y="178920"/>
            <a:ext cx="83008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9966"/>
                </a:solidFill>
                <a:latin typeface="Arial"/>
              </a:rPr>
              <a:t>         </a:t>
            </a:r>
            <a:r>
              <a:rPr b="1" i="1" lang="ru-RU" sz="2600" spc="-1" strike="noStrike" u="sng">
                <a:solidFill>
                  <a:srgbClr val="ff9966"/>
                </a:solidFill>
                <a:uFillTx/>
                <a:latin typeface="Arial"/>
              </a:rPr>
              <a:t>РАЗВИТИЕ СЛОГОВОЙ СТРУКТУРЫ </a:t>
            </a:r>
            <a:r>
              <a:rPr b="1" i="1" lang="ru-RU" sz="2600" spc="-1" strike="noStrike">
                <a:solidFill>
                  <a:srgbClr val="ff9966"/>
                </a:solidFill>
                <a:latin typeface="Arial"/>
              </a:rPr>
              <a:t>          </a:t>
            </a:r>
            <a:r>
              <a:rPr b="1" i="1" lang="ru-RU" sz="2600" spc="-1" strike="noStrike" u="sng">
                <a:solidFill>
                  <a:srgbClr val="ff9966"/>
                </a:solidFill>
                <a:uFillTx/>
                <a:latin typeface="Arial"/>
              </a:rPr>
              <a:t>СЛОВА У ДОШКОЛЬНИКОВ</a:t>
            </a:r>
            <a:br>
              <a:rPr sz="3200"/>
            </a:br>
            <a:r>
              <a:rPr b="1" i="1" lang="ru-RU" sz="3200" spc="-1" strike="noStrike" u="sng">
                <a:solidFill>
                  <a:srgbClr val="ff9966"/>
                </a:solidFill>
                <a:uFillTx/>
                <a:latin typeface="Arial"/>
              </a:rPr>
              <a:t>«Угадай словечко»</a:t>
            </a:r>
            <a:br>
              <a:rPr sz="3600"/>
            </a:br>
            <a:r>
              <a:rPr b="1" i="1" lang="ru-RU" sz="2100" spc="-1" strike="noStrike" u="sng">
                <a:solidFill>
                  <a:srgbClr val="ff9966"/>
                </a:solidFill>
                <a:uFillTx/>
                <a:latin typeface="Arial"/>
              </a:rPr>
              <a:t>Чистоговорки с двусложными словами (открытые слоги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684000" y="1488960"/>
            <a:ext cx="8459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8" name="" descr=""/>
          <p:cNvPicPr/>
          <p:nvPr/>
        </p:nvPicPr>
        <p:blipFill>
          <a:blip r:embed="rId1"/>
          <a:stretch/>
        </p:blipFill>
        <p:spPr>
          <a:xfrm>
            <a:off x="2262240" y="2160720"/>
            <a:ext cx="40370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71424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100" spc="-1" strike="noStrike">
                <a:solidFill>
                  <a:srgbClr val="ff9966"/>
                </a:solidFill>
                <a:latin typeface="Arial"/>
              </a:rPr>
              <a:t>                                   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СА — 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0" name="" descr=""/>
          <p:cNvPicPr/>
          <p:nvPr/>
        </p:nvPicPr>
        <p:blipFill>
          <a:blip r:embed="rId1"/>
          <a:stretch/>
        </p:blipFill>
        <p:spPr>
          <a:xfrm>
            <a:off x="5508720" y="2160720"/>
            <a:ext cx="3419280" cy="2520720"/>
          </a:xfrm>
          <a:prstGeom prst="rect">
            <a:avLst/>
          </a:prstGeom>
          <a:ln w="0">
            <a:noFill/>
          </a:ln>
        </p:spPr>
      </p:pic>
      <p:pic>
        <p:nvPicPr>
          <p:cNvPr id="991" name="" descr=""/>
          <p:cNvPicPr/>
          <p:nvPr/>
        </p:nvPicPr>
        <p:blipFill>
          <a:blip r:embed="rId2"/>
          <a:stretch/>
        </p:blipFill>
        <p:spPr>
          <a:xfrm>
            <a:off x="900000" y="2087640"/>
            <a:ext cx="360072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71424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                       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СА — 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3" name="" descr=""/>
          <p:cNvPicPr/>
          <p:nvPr/>
        </p:nvPicPr>
        <p:blipFill>
          <a:blip r:embed="rId1"/>
          <a:stretch/>
        </p:blipFill>
        <p:spPr>
          <a:xfrm>
            <a:off x="922320" y="1897200"/>
            <a:ext cx="3051360" cy="251928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/>
          <p:cNvPicPr/>
          <p:nvPr/>
        </p:nvPicPr>
        <p:blipFill>
          <a:blip r:embed="rId2"/>
          <a:stretch/>
        </p:blipFill>
        <p:spPr>
          <a:xfrm>
            <a:off x="5219640" y="1800360"/>
            <a:ext cx="346572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71424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100" spc="-1" strike="noStrike">
                <a:solidFill>
                  <a:srgbClr val="ff9966"/>
                </a:solidFill>
                <a:latin typeface="Arial"/>
              </a:rPr>
              <a:t>                              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     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СЫ — 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6" name="" descr=""/>
          <p:cNvPicPr/>
          <p:nvPr/>
        </p:nvPicPr>
        <p:blipFill>
          <a:blip r:embed="rId1"/>
          <a:stretch/>
        </p:blipFill>
        <p:spPr>
          <a:xfrm>
            <a:off x="5580000" y="1871640"/>
            <a:ext cx="3083040" cy="251928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/>
          <p:cNvPicPr/>
          <p:nvPr/>
        </p:nvPicPr>
        <p:blipFill>
          <a:blip r:embed="rId2"/>
          <a:stretch/>
        </p:blipFill>
        <p:spPr>
          <a:xfrm>
            <a:off x="900000" y="1944720"/>
            <a:ext cx="345600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71424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СЫ — 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1"/>
          <a:stretch/>
        </p:blipFill>
        <p:spPr>
          <a:xfrm>
            <a:off x="4932360" y="1944720"/>
            <a:ext cx="3852720" cy="2916360"/>
          </a:xfrm>
          <a:prstGeom prst="rect">
            <a:avLst/>
          </a:prstGeom>
          <a:ln w="0">
            <a:noFill/>
          </a:ln>
        </p:spPr>
      </p:pic>
      <p:pic>
        <p:nvPicPr>
          <p:cNvPr id="1000" name="" descr=""/>
          <p:cNvPicPr/>
          <p:nvPr/>
        </p:nvPicPr>
        <p:blipFill>
          <a:blip r:embed="rId2"/>
          <a:stretch/>
        </p:blipFill>
        <p:spPr>
          <a:xfrm>
            <a:off x="900000" y="2016000"/>
            <a:ext cx="301644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71424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 u="sng">
                <a:solidFill>
                  <a:srgbClr val="ff9966"/>
                </a:solidFill>
                <a:uFillTx/>
                <a:latin typeface="Arial"/>
              </a:rPr>
              <a:t>СЫ — 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1"/>
          <a:stretch/>
        </p:blipFill>
        <p:spPr>
          <a:xfrm>
            <a:off x="5040360" y="1800360"/>
            <a:ext cx="3587760" cy="2879640"/>
          </a:xfrm>
          <a:prstGeom prst="rect">
            <a:avLst/>
          </a:prstGeom>
          <a:ln w="0">
            <a:noFill/>
          </a:ln>
        </p:spPr>
      </p:pic>
      <p:pic>
        <p:nvPicPr>
          <p:cNvPr id="1003" name="" descr=""/>
          <p:cNvPicPr/>
          <p:nvPr/>
        </p:nvPicPr>
        <p:blipFill>
          <a:blip r:embed="rId2"/>
          <a:stretch/>
        </p:blipFill>
        <p:spPr>
          <a:xfrm>
            <a:off x="720720" y="1800360"/>
            <a:ext cx="321948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71424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ЗА — 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" descr=""/>
          <p:cNvPicPr/>
          <p:nvPr/>
        </p:nvPicPr>
        <p:blipFill>
          <a:blip r:embed="rId1"/>
          <a:stretch/>
        </p:blipFill>
        <p:spPr>
          <a:xfrm>
            <a:off x="5435640" y="1871640"/>
            <a:ext cx="3162240" cy="27716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2"/>
          <a:stretch/>
        </p:blipFill>
        <p:spPr>
          <a:xfrm>
            <a:off x="826920" y="1871640"/>
            <a:ext cx="3449880" cy="26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71424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ЗА — 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" descr=""/>
          <p:cNvPicPr/>
          <p:nvPr/>
        </p:nvPicPr>
        <p:blipFill>
          <a:blip r:embed="rId1"/>
          <a:stretch/>
        </p:blipFill>
        <p:spPr>
          <a:xfrm>
            <a:off x="5400720" y="1347840"/>
            <a:ext cx="3046320" cy="3959280"/>
          </a:xfrm>
          <a:prstGeom prst="rect">
            <a:avLst/>
          </a:prstGeom>
          <a:ln w="0">
            <a:noFill/>
          </a:ln>
        </p:spPr>
      </p:pic>
      <p:pic>
        <p:nvPicPr>
          <p:cNvPr id="1009" name="" descr=""/>
          <p:cNvPicPr/>
          <p:nvPr/>
        </p:nvPicPr>
        <p:blipFill>
          <a:blip r:embed="rId2"/>
          <a:stretch/>
        </p:blipFill>
        <p:spPr>
          <a:xfrm>
            <a:off x="539640" y="1600200"/>
            <a:ext cx="386712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71424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ЗЫ — 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4680000" y="1800360"/>
            <a:ext cx="4240080" cy="2879640"/>
          </a:xfrm>
          <a:prstGeom prst="rect">
            <a:avLst/>
          </a:prstGeom>
          <a:ln w="0">
            <a:noFill/>
          </a:ln>
        </p:spPr>
      </p:pic>
      <p:pic>
        <p:nvPicPr>
          <p:cNvPr id="1012" name="" descr=""/>
          <p:cNvPicPr/>
          <p:nvPr/>
        </p:nvPicPr>
        <p:blipFill>
          <a:blip r:embed="rId2"/>
          <a:stretch/>
        </p:blipFill>
        <p:spPr>
          <a:xfrm>
            <a:off x="720720" y="1440000"/>
            <a:ext cx="2774880" cy="360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7T14:51:16Z</dcterms:created>
  <dc:creator>Sony</dc:creator>
  <dc:description/>
  <dc:language>en-US</dc:language>
  <cp:lastModifiedBy/>
  <dcterms:modified xsi:type="dcterms:W3CDTF">2015-10-18T21:34:28Z</dcterms:modified>
  <cp:revision>7</cp:revision>
  <dc:subject/>
  <dc:title>    РАЗВИТИЕ СЛОГОВОЙ СТРУКТУРЫ                   СЛОВА У ДОШКОЛЬНИКОВ «Угадай словечко» Чистоговорки с двусложными словами (открытые слоги)</dc:title>
</cp:coreProperties>
</file>