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27824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D94CE-FE51-4182-B90F-EF248DED81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004760" y="1027080"/>
            <a:ext cx="5550120" cy="37004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1260000" y="5071680"/>
            <a:ext cx="5226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се чистоговорки проговариваются чётко с отхлопыванием или оттопыванием сло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8B13-BE66-438E-9544-E765D111D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523A-A811-48A9-BBE3-4B36CCAE226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68A9-0F43-4AE9-B221-2B3C07FC7D3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30AC-7FF9-4942-8F35-CBC850FE731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A1E6-2419-4020-80BA-D6F44C6136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1FC0-393D-44B6-8444-B27AAA0195B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7FD7-0FF9-49EE-B2BF-03C6D3D1AA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31FF-0357-4016-A6A4-7D5FFDA08C0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AD8DF-BE63-407A-A88F-2BADB646A78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AF45-CBAD-4F81-8DAB-D648B89176B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888F-4C68-48AA-AF05-E3AA08F9A81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DFA62-DACD-4FCD-9322-0DA6468DB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3EA5-B737-47E2-86D2-30F2353085B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559F2-0033-4B29-AC72-C2215D4676A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415807-074B-4DFE-B1AD-1BC005D11BF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0C36F-4ED1-4BF1-BF3D-A7055B1611B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45A86-8FC2-4B7E-B11C-C79121AFEBB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E629F-6C93-418D-9FF7-4647B2153B2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C7820-DEA0-4A12-B7DE-B3F4F1D740B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FE46D-D3BC-4C40-9599-1788F1B20F1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7E5F3-5341-4269-86BD-13F8B4EF766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00543-DAE7-4FB6-BE44-359D02B267F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3036D-91ED-4B09-8E77-D9944B3C4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71DB-011F-45D7-9A30-9C235055235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E5D21-23C0-4CD3-896E-467DFDB525B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8103F-EE6F-4388-AC89-AB2752955A3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EAC3F-D9ED-42E1-998D-C28733EE71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996C2-55A7-492E-83D6-4FCB12C0B61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4ACB46-DE26-44EC-8446-61520243763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3032C-972B-4512-BE04-F0B1D74A14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5DE5D8-0876-4282-8CB4-76D75F2B642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E4146-76FF-44B7-A603-7D068EE2169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EBE1E-B0A1-43C8-9A33-6BD6C015AC2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D0724-FB69-478E-A94C-DF072FF51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208E-4742-4785-A800-69877AAC011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30341-0BAB-4417-B550-032FA62EB64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8B764-3049-4A0E-B99D-7A357D85BB3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AA692-F68D-4428-904D-8F0C01C964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AA08-B3FE-4FDD-A79D-A750388E2F7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F5B3-C5B5-4FBF-85A2-2463AED5E8C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8977-83C9-4373-8889-5AF772AAFBD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B62C-F0C1-492B-AF15-9FEF955E88C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CF11-FC3B-4539-83B2-8942FFCE691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0D018-5D4A-45D4-B027-2E64F25762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11148-BB1F-49FE-8D69-1A399D0CEA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AAA1-E818-4682-B153-9DAF2373247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73DF4-4E36-4056-897F-85D5E5EF8C4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B34C7-F5EC-4757-90B5-4FFB89D2055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729C-F87D-400F-A78E-A4EEB9078CE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7FBB8-64C2-4899-8609-CB902A54930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E05D1-ED49-4F16-AC49-EDB56D33BC4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6E1A-16A3-4D78-A8D0-35E31B108F2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E371-6E98-4732-8458-3B826B0CEA4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59D7-9140-45AE-8955-36E853C4599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7B0C-C75F-4B90-8904-D4DAB8C2517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402F-9326-4A05-975A-B39EB75F4E5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7E8A-A1A9-4C31-B67A-A203EEBC6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8D12-D3A8-4FFC-A930-CB179FDB158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85A2-DFD6-4C4E-90E3-5218319E55E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D5C8-F083-45A6-98F8-3FD8D581822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C984-8134-4CEA-8069-FE7A49A23CC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1008-EDC2-4636-B9AC-92BF58D8153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E06-C621-4CDC-A383-EEB41D9F0B0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F6B-A3F4-44DA-9F3F-A78BF6AD74E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3BB-0A1F-4064-80C4-779DB2E72C5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B34-09E3-4F21-B7FE-EEC035D333F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2BB-0789-4DE2-BD4D-34C152868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0906-566A-45DB-AAEB-D35DBF3F70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722-EF65-40EB-B382-A34EECEA37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1E0-9E5C-48BE-B882-93B5C2A4D8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114-8B2B-4412-8FF7-98DA4E7B5A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A56-0963-4E5D-8C43-903BB68159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7A8-3CC0-477A-AB53-B66CAEC408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1CC-572B-4BCC-BE8B-5469DF4F47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709-5FDC-4CEE-8AC2-C19DEC9F8B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7FA39-A482-4A83-9B43-67AF3F7F91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771C5-216E-4B50-A77C-29D13BC8EB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EB49F-CD2E-466D-9993-FEC2AF86E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F195-6E84-44B1-822B-3B22EE1F55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B3584-8C46-4699-BCDD-804C19B58E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159BA-5FB3-4826-BC56-E1A2311E8F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EEC37-D7C2-482B-B893-529AE87D50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28E39-52E2-463A-9713-302833E31F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65032-8D17-4A3A-A89F-974D5E3758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5A2E7-AF3F-4F47-9907-6BAC8393E6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32D2A-72CC-4F4D-A237-12EAB0126A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7390F-4A5D-43E4-B8A4-EC742381D0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5BCD5-F486-4918-A714-B872F24D310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5EDDC-32BF-4DE1-9192-52E19B47F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A311-C543-4FBB-B544-9F93D624BE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38B39-A2D3-4A36-A0DC-F2849B8883E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702B5-4FAA-417C-8D75-808651EE95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C65EA-FA8C-425F-80C9-E25B65E776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6862E-ED9F-4A52-9DA0-9C5C8264F7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C8E58-0C86-44F6-B44D-E9CCB5B739D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52611-DCDA-428E-B024-5ABA87EB94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507DF-3DEE-4243-A1FB-704FAF824C9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475F1-9A71-41DA-9B41-01FBE70D3A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07173-D252-492B-91F7-14080827BB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7B96D-25D1-4498-998B-4A395A452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F9F8-657F-4D97-89FA-AC9F0C388B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E7FF4-1636-4360-BABC-379CA17705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1DEE-472B-4CCE-B677-BA7D83B25A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DF78-BE33-4B0F-B4F5-C4416981DD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4A4A-0C1F-47D0-8E23-551FF5D43AC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3CE6-4634-43EB-8C06-3B6BEFFF517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2252-B1BF-4239-A359-8E5235A57E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935C-0502-42B6-BF26-2666C623C9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E884-2399-4E33-8116-A1C719CBDA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F0BA-A303-4D14-95B1-4510B98A9B9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D266-1C94-4D9F-8335-27A0020A9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4D49-61B7-47C9-9CF4-643D4ADF3B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0A0E-12E4-40FA-A0EE-31D346EA96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FDC9-8E4A-4867-93C8-8C5CE4ABBF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82EF-C777-495F-8316-C2168B0E0C0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DA6C2F-D78C-4B84-8281-809654E571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71F68-B137-49EF-A4ED-71569683F67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DAB73-A307-40E2-BFE1-512A62674B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5E913D-A844-48F6-BB6C-CB8F7116F8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155E3-F7A0-4BD2-8E6C-907360C55A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8D2A1C-B5B2-4720-A517-60A9DE39C8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D0F3B4-F259-43E8-A0EC-7B308B402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4432-B934-490E-AE48-03EE06DF53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8CAFA-954B-439F-9C58-14AD5A1A7A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642A3-255D-4810-BB59-2593AC2DA50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F13C4-B397-4E24-9F1F-63E8B1DFF6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4190F-2234-4B73-8D35-F8732C174B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FD204-4C40-4CDD-9DB3-4911331B213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91295-F9B0-4D82-9722-9F81662F898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20133-738C-4616-8935-9E8CE1BC6B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ABE12-ED80-4A1B-BB84-4D6178C56C5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2C7A4-651C-47F5-8703-5D83F10D27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CD08D-6F30-4AA8-B756-B60720507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F966-6DFB-4535-BD64-0B9F491ED3D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9918D-C022-4473-BA9D-956E84C1D16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6CFFC-2910-412C-9355-92FFA9776C5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0B83C-CEC7-4BD6-8FB0-0A07D2E960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94CBC-A2CD-4584-9D4B-8987051834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119CE-E865-412F-86F1-1DB985602A1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6CFB9-495C-4678-99BB-C5A94DFD45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AFA36-BAF4-43B4-B0A7-0429D21DC85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6140-F3C2-4D8D-8DA1-9107CC0EE4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6CDA-BCE3-40F0-B9AE-F6604D717B3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FF0B-FC13-46F3-A1E0-4A676306A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E6F28-238E-4872-95F2-91A358C6E4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04760" y="4535640"/>
            <a:ext cx="583092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05120" y="579600"/>
            <a:ext cx="5832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904760" y="5072040"/>
            <a:ext cx="5830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7000"/>
          </a:bodyPr>
          <a:p>
            <a:pPr marL="58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0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12055-D3C3-44A2-9CE2-2E5B263461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11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4BB06-286C-4B12-BF0B-3A597250B7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47000" y="258840"/>
            <a:ext cx="21844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85640" y="258840"/>
            <a:ext cx="64072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2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64642-F47B-4AF6-AE8E-E8B6EA9EB8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28640" y="2013120"/>
            <a:ext cx="826128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457280" y="3671640"/>
            <a:ext cx="68040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38000"/>
          </a:bodyPr>
          <a:p>
            <a:pPr marL="130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4240" y="1682640"/>
            <a:ext cx="84600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2100"/>
            </a:b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400"/>
            </a:br>
            <a:r>
              <a:rPr b="0" lang="ru-RU" sz="21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2100"/>
            </a:br>
            <a:r>
              <a:rPr b="0" lang="ru-RU" sz="17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1700"/>
            </a:br>
            <a:r>
              <a:rPr b="0" lang="ru-RU" sz="17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8240" y="4164120"/>
            <a:ext cx="82598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68240" y="2746080"/>
            <a:ext cx="82598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33000"/>
          </a:bodyPr>
          <a:p>
            <a:pPr marL="113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4240" y="1682640"/>
            <a:ext cx="415296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1682640"/>
            <a:ext cx="41544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85280" y="1450800"/>
            <a:ext cx="429444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14000"/>
          </a:bodyPr>
          <a:p>
            <a:pPr marL="478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85640" y="2055960"/>
            <a:ext cx="429588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24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0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1800"/>
            </a:br>
            <a:r>
              <a:rPr b="0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1600"/>
            </a:br>
            <a:r>
              <a:rPr b="0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37040" y="1450800"/>
            <a:ext cx="4297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937040" y="2055960"/>
            <a:ext cx="429732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24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000"/>
            </a:b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1800"/>
            </a:br>
            <a:r>
              <a:rPr b="0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1600"/>
            </a:br>
            <a:r>
              <a:rPr b="0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28640" y="2013120"/>
            <a:ext cx="826128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457280" y="3671640"/>
            <a:ext cx="68040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38000"/>
          </a:bodyPr>
          <a:p>
            <a:pPr marL="130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8A3AF-7A03-4630-81EB-AB3DB52A04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31975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0520" y="258840"/>
            <a:ext cx="54338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>
              <a:lnSpc>
                <a:spcPct val="10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разец текста</a:t>
            </a:r>
            <a:br>
              <a:rPr sz="3200"/>
            </a:br>
            <a:r>
              <a:rPr b="0" lang="ru-RU" sz="2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торой уровень</a:t>
            </a:r>
            <a:br>
              <a:rPr sz="2800"/>
            </a:b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Третий уровень</a:t>
            </a:r>
            <a:br>
              <a:rPr sz="24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Четвертый уровень</a:t>
            </a:r>
            <a:br>
              <a:rPr sz="2000"/>
            </a:br>
            <a:r>
              <a:rPr b="0" lang="ru-RU" sz="20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85640" y="1355400"/>
            <a:ext cx="319752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904760" y="4535640"/>
            <a:ext cx="583092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05120" y="579600"/>
            <a:ext cx="5832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904760" y="5072040"/>
            <a:ext cx="5830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7000"/>
          </a:bodyPr>
          <a:p>
            <a:pPr marL="58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832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9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82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698400" y="6066000"/>
            <a:ext cx="902196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16280" y="6248520"/>
            <a:ext cx="780408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7059240" y="241200"/>
            <a:ext cx="211284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714240" y="241200"/>
            <a:ext cx="619128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640" y="1515960"/>
            <a:ext cx="87472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27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4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21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1669B-101C-4CAB-B279-E92CE6E7C6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8240" y="4164120"/>
            <a:ext cx="82598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68240" y="2746080"/>
            <a:ext cx="82598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33000"/>
          </a:bodyPr>
          <a:p>
            <a:pPr marL="113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E7340-AEE9-4F6A-BF78-7A30E66112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640" y="1515960"/>
            <a:ext cx="42973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5600" y="1515960"/>
            <a:ext cx="42973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Num" idx="5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426A6-B7FA-49FC-8829-20C244B5CD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85280" y="1450800"/>
            <a:ext cx="429444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14000"/>
          </a:bodyPr>
          <a:p>
            <a:pPr marL="478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7880" indent="-47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5640" y="2055960"/>
            <a:ext cx="429588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7040" y="1450800"/>
            <a:ext cx="4297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2055960"/>
            <a:ext cx="429732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6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B2A57-335C-4BCA-B7BB-58C0F72B6C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Num" idx="7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C42E0-FDE2-4703-9773-21FCF19E49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Num" idx="8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1CB9B-8EDA-4AED-8544-38E5B2FF72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31975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0520" y="258840"/>
            <a:ext cx="54338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63640" indent="-646200" algn="ctr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уровень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ти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Четвертый урове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85640" y="1355400"/>
            <a:ext cx="319752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6080" indent="-22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5640" y="5904000"/>
            <a:ext cx="226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24240" y="5904000"/>
            <a:ext cx="308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9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6FD20-C171-4F2B-84F7-9DED45C5A0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30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20720" y="178920"/>
            <a:ext cx="83008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         </a:t>
            </a:r>
            <a:r>
              <a:rPr b="1" i="1" lang="ru-RU" sz="2600" spc="-1" strike="noStrike" u="sng">
                <a:solidFill>
                  <a:srgbClr val="ff9966"/>
                </a:solidFill>
                <a:uFillTx/>
                <a:latin typeface="Arial"/>
              </a:rPr>
              <a:t>РАЗВИТИЕ СЛОГОВОЙ СТРУКТУРЫ </a:t>
            </a:r>
            <a:r>
              <a:rPr b="1" i="1" lang="ru-RU" sz="2600" spc="-1" strike="noStrike">
                <a:solidFill>
                  <a:srgbClr val="ff9966"/>
                </a:solidFill>
                <a:latin typeface="Arial"/>
              </a:rPr>
              <a:t>          </a:t>
            </a:r>
            <a:r>
              <a:rPr b="1" i="1" lang="ru-RU" sz="2600" spc="-1" strike="noStrike" u="sng">
                <a:solidFill>
                  <a:srgbClr val="ff9966"/>
                </a:solidFill>
                <a:uFillTx/>
                <a:latin typeface="Arial"/>
              </a:rPr>
              <a:t>СЛОВА У ДОШКОЛЬНИКОВ</a:t>
            </a:r>
            <a:br>
              <a:rPr sz="3200"/>
            </a:br>
            <a:r>
              <a:rPr b="1" i="1" lang="ru-RU" sz="3200" spc="-1" strike="noStrike" u="sng">
                <a:solidFill>
                  <a:srgbClr val="ff9966"/>
                </a:solidFill>
                <a:uFillTx/>
                <a:latin typeface="Arial"/>
              </a:rPr>
              <a:t>«Угадай словечко»</a:t>
            </a:r>
            <a:br>
              <a:rPr sz="3600"/>
            </a:br>
            <a:r>
              <a:rPr b="1" i="1" lang="ru-RU" sz="2100" spc="-1" strike="noStrike" u="sng">
                <a:solidFill>
                  <a:srgbClr val="ff9966"/>
                </a:solidFill>
                <a:uFillTx/>
                <a:latin typeface="Arial"/>
              </a:rPr>
              <a:t>Чистоговорки с двусложными словами (открытые слог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684000" y="1488960"/>
            <a:ext cx="8459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2262240" y="2160720"/>
            <a:ext cx="40370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100" spc="-1" strike="noStrike">
                <a:solidFill>
                  <a:srgbClr val="ff9966"/>
                </a:solidFill>
                <a:latin typeface="Arial"/>
              </a:rPr>
              <a:t>                                  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СА — 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5508720" y="2160720"/>
            <a:ext cx="3419280" cy="252072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900000" y="2087640"/>
            <a:ext cx="3600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                     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СА — 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922320" y="1897200"/>
            <a:ext cx="3051360" cy="251928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34657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100" spc="-1" strike="noStrike">
                <a:solidFill>
                  <a:srgbClr val="ff9966"/>
                </a:solidFill>
                <a:latin typeface="Arial"/>
              </a:rPr>
              <a:t>                              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    </a:t>
            </a: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СЫ — 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5580000" y="1871640"/>
            <a:ext cx="3083040" cy="25192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2"/>
          <a:stretch/>
        </p:blipFill>
        <p:spPr>
          <a:xfrm>
            <a:off x="900000" y="1944720"/>
            <a:ext cx="3456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СЫ — 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4932360" y="1944720"/>
            <a:ext cx="3852720" cy="291636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2"/>
          <a:stretch/>
        </p:blipFill>
        <p:spPr>
          <a:xfrm>
            <a:off x="900000" y="2016000"/>
            <a:ext cx="30164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9966"/>
                </a:solidFill>
                <a:uFillTx/>
                <a:latin typeface="Arial"/>
              </a:rPr>
              <a:t>СЫ — 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5040360" y="1800360"/>
            <a:ext cx="3587760" cy="287964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32194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ЗА — 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"/>
          <a:stretch/>
        </p:blipFill>
        <p:spPr>
          <a:xfrm>
            <a:off x="5435640" y="1871640"/>
            <a:ext cx="3162240" cy="27716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826920" y="1871640"/>
            <a:ext cx="34498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ЗА — 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5400720" y="1347840"/>
            <a:ext cx="3046320" cy="395928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539640" y="1600200"/>
            <a:ext cx="38671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71424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9966"/>
                </a:solidFill>
                <a:uFillTx/>
                <a:latin typeface="Arial"/>
              </a:rPr>
              <a:t>ЗЫ — 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4240080" cy="287964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720720" y="1440000"/>
            <a:ext cx="27748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4:51:16Z</dcterms:created>
  <dc:creator>Sony</dc:creator>
  <dc:description/>
  <dc:language>en-US</dc:language>
  <cp:lastModifiedBy/>
  <dcterms:modified xsi:type="dcterms:W3CDTF">2015-10-18T21:34:28Z</dcterms:modified>
  <cp:revision>7</cp:revision>
  <dc:subject/>
  <dc:title>    РАЗВИТИЕ СЛОГОВОЙ СТРУКТУРЫ                   СЛОВА У ДОШКОЛЬНИКОВ «Угадай словечко» Чистоговорки с двусложными словами (открытые слоги)</dc:title>
</cp:coreProperties>
</file>