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1483-609F-4174-AE99-A1A6BEE4D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8C8A-CAEF-4CAC-ACA0-D0D30DF8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B530-B332-4A33-8D2D-A25F6186D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5AF5-9082-43A9-B70A-93782203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3A31-28D2-483D-B514-59E628EA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8694-CB77-4350-B61B-D62B0820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B3AE-B041-4FBB-8B47-C4F8A31C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CA87-059A-4569-AB10-C0292FC4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813C-29FE-42A7-A337-88F140B4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BCF5-8610-471F-8CE2-BD9BD81E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F679-5040-4AD8-A411-5C25CFBF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BA16-ED7F-470C-A40C-C64EF76A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5740-D1DA-44B7-B85F-4BF637CE9A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!!! Документы и Р.С. - НЕ трогать!!!!\Desktop\fon 14\13-14.jpg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1258920" y="193680"/>
            <a:ext cx="684216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е дошкольное образовательное учреждение «Липицкий детский сад комбинированного вида «Колос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2"/>
          <p:cNvSpPr txBox="1"/>
          <p:nvPr/>
        </p:nvSpPr>
        <p:spPr>
          <a:xfrm>
            <a:off x="1187280" y="1844640"/>
            <a:ext cx="6624720" cy="360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2060"/>
                  </a:solidFill>
                  <a:miter/>
                </a:ln>
                <a:solidFill>
                  <a:srgbClr val="17365d"/>
                </a:solidFill>
                <a:latin typeface="Arial Black"/>
              </a:rPr>
              <a:t> </a:t>
            </a:r>
            <a:endParaRPr b="0" i="1" lang="en-US" sz="1800" spc="1" strike="noStrike">
              <a:ln w="9360">
                <a:solidFill>
                  <a:srgbClr val="002060"/>
                </a:solidFill>
                <a:miter/>
              </a:ln>
              <a:solidFill>
                <a:srgbClr val="17365d"/>
              </a:solidFill>
              <a:latin typeface="Arial Black"/>
              <a:ea typeface="Arial Black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611280" y="-3479760"/>
            <a:ext cx="8208720" cy="66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еализация програм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Этическая граммати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етьми дошкольного возраст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C:\Users\compag8\Desktop\DSC_1542.JPG"/>
          <p:cNvPicPr/>
          <p:nvPr/>
        </p:nvPicPr>
        <p:blipFill>
          <a:blip r:embed="rId2"/>
          <a:stretch/>
        </p:blipFill>
        <p:spPr>
          <a:xfrm>
            <a:off x="2286000" y="3286080"/>
            <a:ext cx="466740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:\!!! Документы и Р.С. - НЕ трогать!!!!\Desktop\fon 14\13-14.jpg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5"/>
          <p:cNvGrpSpPr/>
          <p:nvPr/>
        </p:nvGrpSpPr>
        <p:grpSpPr>
          <a:xfrm>
            <a:off x="1119240" y="301680"/>
            <a:ext cx="7555680" cy="6556320"/>
            <a:chOff x="1119240" y="301680"/>
            <a:chExt cx="7555680" cy="6556320"/>
          </a:xfrm>
        </p:grpSpPr>
        <p:sp>
          <p:nvSpPr>
            <p:cNvPr id="77" name="AutoShape 6"/>
            <p:cNvSpPr/>
            <p:nvPr/>
          </p:nvSpPr>
          <p:spPr>
            <a:xfrm>
              <a:off x="1119240" y="301680"/>
              <a:ext cx="6758280" cy="65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7"/>
            <p:cNvGrpSpPr/>
            <p:nvPr/>
          </p:nvGrpSpPr>
          <p:grpSpPr>
            <a:xfrm>
              <a:off x="1236600" y="487800"/>
              <a:ext cx="7438320" cy="6090120"/>
              <a:chOff x="1236600" y="487800"/>
              <a:chExt cx="7438320" cy="6090120"/>
            </a:xfrm>
          </p:grpSpPr>
          <p:sp>
            <p:nvSpPr>
              <p:cNvPr id="79" name="Rectangle 8"/>
              <p:cNvSpPr/>
              <p:nvPr/>
            </p:nvSpPr>
            <p:spPr>
              <a:xfrm>
                <a:off x="1358280" y="487800"/>
                <a:ext cx="6973200" cy="413640"/>
              </a:xfrm>
              <a:prstGeom prst="rect">
                <a:avLst/>
              </a:prstGeom>
              <a:solidFill>
                <a:srgbClr val="dbeef4"/>
              </a:solidFill>
              <a:ln w="2556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</a:rPr>
                  <a:t>Предметно-развивающая среда ДО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1236600" y="1529640"/>
                <a:ext cx="1785600" cy="3482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Times New Roman"/>
                  </a:rPr>
                  <a:t>- </a:t>
                </a: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центр краеведения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- комната быта «Русская изба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- экологическая троп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4844880" y="1529640"/>
                <a:ext cx="1933920" cy="3482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- сюжетно-ролевые игры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- дидактические игры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- строительно-конструктивные игры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- театрализованные игры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- подвижные игры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- традиции группы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6779160" y="1529640"/>
                <a:ext cx="1895760" cy="3482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- зона развития речи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- зона продуктивной деятельности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- музыкальный уголок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- зона познавательного развития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- полочка умных книг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- панорама добрых де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1763280" y="5659920"/>
                <a:ext cx="6289920" cy="413280"/>
              </a:xfrm>
              <a:prstGeom prst="rect">
                <a:avLst/>
              </a:prstGeom>
              <a:solidFill>
                <a:srgbClr val="93cddd"/>
              </a:solidFill>
              <a:ln w="2556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</a:rPr>
                  <a:t>Нравственно-этическая сред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1763280" y="6164280"/>
                <a:ext cx="6289920" cy="413640"/>
              </a:xfrm>
              <a:prstGeom prst="rect">
                <a:avLst/>
              </a:prstGeom>
              <a:solidFill>
                <a:srgbClr val="93cddd"/>
              </a:solidFill>
              <a:ln w="2556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</a:rPr>
                  <a:t>Окружающий социум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1358280" y="1029600"/>
                <a:ext cx="3327840" cy="412560"/>
              </a:xfrm>
              <a:prstGeom prst="rect">
                <a:avLst/>
              </a:prstGeom>
              <a:solidFill>
                <a:srgbClr val="dbeef4"/>
              </a:solidFill>
              <a:ln w="2556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</a:rPr>
                  <a:t>Макросреда ДО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4919400" y="1029600"/>
                <a:ext cx="3412440" cy="412560"/>
              </a:xfrm>
              <a:prstGeom prst="rect">
                <a:avLst/>
              </a:prstGeom>
              <a:solidFill>
                <a:srgbClr val="dbeef4"/>
              </a:solidFill>
              <a:ln w="2556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</a:rPr>
                  <a:t>Микросреда ДО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3022200" y="1529640"/>
                <a:ext cx="1762200" cy="3482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- музыкально-физкультурный за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- познавательная игротек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1259640" y="5157000"/>
                <a:ext cx="2384280" cy="41364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9360">
                <a:solidFill>
                  <a:srgbClr val="46aac5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</a:rPr>
                  <a:t>родители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3706920" y="5157000"/>
                <a:ext cx="2336760" cy="41364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9360">
                <a:solidFill>
                  <a:srgbClr val="46aac5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</a:rPr>
                  <a:t>дети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6153840" y="5157000"/>
                <a:ext cx="2374920" cy="41364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9360">
                <a:solidFill>
                  <a:srgbClr val="46aac5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</a:rPr>
                  <a:t>педагоги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D:\!!! Документы и Р.С. - НЕ трогать!!!!\Desktop\fon 14\13-14.jpg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"/>
          <p:cNvSpPr/>
          <p:nvPr/>
        </p:nvSpPr>
        <p:spPr>
          <a:xfrm>
            <a:off x="611280" y="739080"/>
            <a:ext cx="8064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Ожидаем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анная система методической работы по повышению профессиональной компетенции педагогов дошкольного учреждения по вопросам формирования ценностно-смысловой сферы личности детей на основе комплексно-тематического планир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ышение уровня развития детей  через систему работы по формированию ценностно-смысловой сферы личности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D:\!!! Документы и Р.С. - НЕ трогать!!!!\Desktop\fon 14\13-14.jpg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"/>
          <p:cNvSpPr/>
          <p:nvPr/>
        </p:nvSpPr>
        <p:spPr>
          <a:xfrm>
            <a:off x="571680" y="423360"/>
            <a:ext cx="828036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нравственное воспитание детей сводится к доброму примеру. Живите хорошо или хоть старайтесь жить хорошо, и вы по мере вашего успеха в хорошей жизни хорошо воспитаете де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 Николаевич 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ttp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//kolosok.my1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4" descr="DSC02398"/>
          <p:cNvPicPr/>
          <p:nvPr/>
        </p:nvPicPr>
        <p:blipFill>
          <a:blip r:embed="rId2"/>
          <a:stretch/>
        </p:blipFill>
        <p:spPr>
          <a:xfrm>
            <a:off x="1000080" y="3071880"/>
            <a:ext cx="435132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!!! Документы и Р.С. - НЕ трогать!!!!\Desktop\fon 14\13-14.jpg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"/>
          <p:cNvSpPr/>
          <p:nvPr/>
        </p:nvSpPr>
        <p:spPr>
          <a:xfrm>
            <a:off x="468360" y="1047240"/>
            <a:ext cx="8219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начинается с детства. Именно в детстве делается великий посев и добра, и зла. Этот, казалось бы, незаметный посев взойдет через годы, и от урожая будет зависеть, какой человек вступает в жизнь, становится членом нашего общества. В урожае разобраться не трудно. Куда труднее определить нужные семе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Михал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!!! Документы и Р.С. - НЕ трогать!!!!\Desktop\fon 14\13-14.jpg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"/>
          <p:cNvSpPr/>
          <p:nvPr/>
        </p:nvSpPr>
        <p:spPr>
          <a:xfrm>
            <a:off x="611280" y="1091520"/>
            <a:ext cx="7848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Структура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яснительная зап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и задачи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жидаемые результ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правления оценки результа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ое содержание нравственно-этиче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ания старших дошк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исок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!!! Документы и Р.С. - НЕ трогать!!!!\Desktop\fon 14\13-14.jpg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1332000" y="93312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Calibri"/>
              </a:rPr>
              <a:t>Цель: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ложить основы эмоционально-положительного настроя детей в отношениях друг к другу и с окружающ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468360" y="234612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думать методы и средства методической работы в дошкольной организации, способствующие доброжелательному укладу жизнедеятельности дете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сферу становления и развития  их нравственных отношений. Постоянно и последовательно повышать нравственные основы взаимодействия и общения с детьми у педагогов, определив для них его ключевую значим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ести мониторинг взаимодействия педагогов с детьми, корректируя выявленные непрофессиональные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!!! Документы и Р.С. - НЕ трогать!!!!\Desktop\fon 14\13-14.jpg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1214280" y="800640"/>
            <a:ext cx="727236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Calibri"/>
              </a:rPr>
              <a:t>Принципы нравственно-этического воспитания дошкольник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Гуманистическая направленность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зрастной под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DSC00697"/>
          <p:cNvPicPr/>
          <p:nvPr/>
        </p:nvPicPr>
        <p:blipFill>
          <a:blip r:embed="rId2"/>
          <a:stretch/>
        </p:blipFill>
        <p:spPr>
          <a:xfrm>
            <a:off x="4143240" y="2928960"/>
            <a:ext cx="423576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:\!!! Документы и Р.С. - НЕ трогать!!!!\Desktop\fon 14\13-14.jpg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"/>
          <p:cNvSpPr/>
          <p:nvPr/>
        </p:nvSpPr>
        <p:spPr>
          <a:xfrm>
            <a:off x="1619280" y="5493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направления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1"/>
          <p:cNvSpPr/>
          <p:nvPr/>
        </p:nvSpPr>
        <p:spPr>
          <a:xfrm>
            <a:off x="357120" y="1500120"/>
            <a:ext cx="54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равственно-образовательное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но-оздоровительное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ультурно-познавательное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равственно-трудовое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Documents and Settings\Admin\Рабочий стол\2010_10_24\IMG_0013.jpg"/>
          <p:cNvPicPr/>
          <p:nvPr/>
        </p:nvPicPr>
        <p:blipFill>
          <a:blip r:embed="rId2"/>
          <a:stretch/>
        </p:blipFill>
        <p:spPr>
          <a:xfrm>
            <a:off x="2489040" y="3714840"/>
            <a:ext cx="3868920" cy="2571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Documents and Settings\Admin\Рабочий стол\2010_10_24\IMG_0004.jpg"/>
          <p:cNvPicPr/>
          <p:nvPr/>
        </p:nvPicPr>
        <p:blipFill>
          <a:blip r:embed="rId3"/>
          <a:stretch/>
        </p:blipFill>
        <p:spPr>
          <a:xfrm>
            <a:off x="5000760" y="1143000"/>
            <a:ext cx="38178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D:\!!! Документы и Р.С. - НЕ трогать!!!!\Desktop\fon 14\13-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"/>
          <p:cNvSpPr/>
          <p:nvPr/>
        </p:nvSpPr>
        <p:spPr>
          <a:xfrm>
            <a:off x="611280" y="-177480"/>
            <a:ext cx="806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1116000" y="33336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Формы реализации Програм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250920" y="907920"/>
            <a:ext cx="871380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ческие занятия, беседы, игры нравственно-этического содержания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виды творческой художественной деятельности детей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совместных праздников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отр слайд - фильмов, использование аудиозаписей и технических средств обучени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ии, целевые прогулк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ие вечера эстетической направленности (живопись, музыка, поэзия)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выставок (совместная деятельность детей и родителей)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музыкальных сказок нравственно-этического содержани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е вечер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совместного проживания событий взрослыми и деть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D:\!!! Документы и Р.С. - НЕ трогать!!!!\Desktop\fon 14\13-14.jpg"/>
          <p:cNvPicPr/>
          <p:nvPr/>
        </p:nvPicPr>
        <p:blipFill>
          <a:blip r:embed="rId1"/>
          <a:stretch/>
        </p:blipFill>
        <p:spPr>
          <a:xfrm>
            <a:off x="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"/>
          <p:cNvSpPr/>
          <p:nvPr/>
        </p:nvSpPr>
        <p:spPr>
          <a:xfrm>
            <a:off x="3146400" y="796320"/>
            <a:ext cx="59976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содержание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этап – организацион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этап – основ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п – заключ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4" descr="F:\Новая папка (3)\Новая папка\фотографии\фото\фото\полякова\DSC00688.JPG"/>
          <p:cNvPicPr/>
          <p:nvPr/>
        </p:nvPicPr>
        <p:blipFill>
          <a:blip r:embed="rId2"/>
          <a:stretch/>
        </p:blipFill>
        <p:spPr>
          <a:xfrm>
            <a:off x="428760" y="571680"/>
            <a:ext cx="3429000" cy="26938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6" descr="H:\DSCF0693.JPG"/>
          <p:cNvPicPr/>
          <p:nvPr/>
        </p:nvPicPr>
        <p:blipFill>
          <a:blip r:embed="rId3"/>
          <a:stretch/>
        </p:blipFill>
        <p:spPr>
          <a:xfrm>
            <a:off x="5143680" y="4000680"/>
            <a:ext cx="3286080" cy="2422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открытый показ ОД"/>
          <p:cNvPicPr/>
          <p:nvPr/>
        </p:nvPicPr>
        <p:blipFill>
          <a:blip r:embed="rId4"/>
          <a:stretch/>
        </p:blipFill>
        <p:spPr>
          <a:xfrm>
            <a:off x="1143000" y="3429000"/>
            <a:ext cx="3643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D:\!!! Документы и Р.С. - НЕ трогать!!!!\Desktop\fon 14\13-14.jpg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"/>
          <p:cNvSpPr/>
          <p:nvPr/>
        </p:nvSpPr>
        <p:spPr>
          <a:xfrm>
            <a:off x="0" y="441720"/>
            <a:ext cx="8569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включает в себя 4 разд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. Этика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. Правила этик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. Этика общения с окружающ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4. Этика общения в коллекти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4" descr="C:\Documents and Settings\Admin\Мои документы\Мои рисунки\Изображение\2012 2013 год\Изображение 218.jpg"/>
          <p:cNvPicPr/>
          <p:nvPr/>
        </p:nvPicPr>
        <p:blipFill>
          <a:blip r:embed="rId2"/>
          <a:stretch/>
        </p:blipFill>
        <p:spPr>
          <a:xfrm>
            <a:off x="785880" y="2786040"/>
            <a:ext cx="3529080" cy="2452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DSC00871"/>
          <p:cNvPicPr/>
          <p:nvPr/>
        </p:nvPicPr>
        <p:blipFill>
          <a:blip r:embed="rId3"/>
          <a:stretch/>
        </p:blipFill>
        <p:spPr>
          <a:xfrm>
            <a:off x="6000840" y="857160"/>
            <a:ext cx="2838240" cy="2127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DSCN0592"/>
          <p:cNvPicPr/>
          <p:nvPr/>
        </p:nvPicPr>
        <p:blipFill>
          <a:blip r:embed="rId4"/>
          <a:stretch/>
        </p:blipFill>
        <p:spPr>
          <a:xfrm>
            <a:off x="4643280" y="3571920"/>
            <a:ext cx="32403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1:32:18Z</dcterms:created>
  <dc:creator>андрей</dc:creator>
  <dc:description/>
  <dc:language>en-US</dc:language>
  <cp:lastModifiedBy>compag8</cp:lastModifiedBy>
  <dcterms:modified xsi:type="dcterms:W3CDTF">2015-10-12T09:28:41Z</dcterms:modified>
  <cp:revision>55</cp:revision>
  <dc:subject/>
  <dc:title>Слайд 1</dc:title>
</cp:coreProperties>
</file>