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96C-3C57-4460-803D-8A840CA9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B90-7706-4FF4-9A16-A78F64B9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BFF-DDD6-4F4B-9293-CDD6A899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D1F-9664-48F7-B8B4-74B8DD37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8A2-527D-4781-BF36-ABACFEE0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86F-6C57-4064-942C-97FC1F8E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39C-B212-471B-9CAE-04816451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B8B-0EAB-47C9-95E6-67F8725C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4A4-1AD1-4FEC-85E9-1A868AE4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5F4-8533-4BEA-9AC0-4F447162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B09-A28A-40FC-AA9E-29925439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C14-FD2C-4141-B660-041416DD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80F8-7EC2-4495-8114-AA01CC8AE7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258920" y="193680"/>
            <a:ext cx="6842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дошкольное образовательное учреждение «Липицкий детский сад комбинированного вида «Колос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"/>
          <p:cNvSpPr txBox="1"/>
          <p:nvPr/>
        </p:nvSpPr>
        <p:spPr>
          <a:xfrm>
            <a:off x="1187280" y="1844640"/>
            <a:ext cx="6624720" cy="36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2060"/>
                  </a:solidFill>
                  <a:miter/>
                </a:ln>
                <a:solidFill>
                  <a:srgbClr val="17365d"/>
                </a:solidFill>
                <a:latin typeface="Arial Black"/>
              </a:rPr>
              <a:t> </a:t>
            </a:r>
            <a:endParaRPr b="0" i="1" lang="en-US" sz="1800" spc="1" strike="noStrike">
              <a:ln w="9360">
                <a:solidFill>
                  <a:srgbClr val="002060"/>
                </a:solidFill>
                <a:miter/>
              </a:ln>
              <a:solidFill>
                <a:srgbClr val="17365d"/>
              </a:solidFill>
              <a:latin typeface="Arial Black"/>
              <a:ea typeface="Arial Black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11280" y="-3479760"/>
            <a:ext cx="820872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ализация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ическая граммат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 дошкольного возрас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compag8\Desktop\DSC_1542.JPG"/>
          <p:cNvPicPr/>
          <p:nvPr/>
        </p:nvPicPr>
        <p:blipFill>
          <a:blip r:embed="rId2"/>
          <a:stretch/>
        </p:blipFill>
        <p:spPr>
          <a:xfrm>
            <a:off x="2286000" y="3286080"/>
            <a:ext cx="4667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5"/>
          <p:cNvGrpSpPr/>
          <p:nvPr/>
        </p:nvGrpSpPr>
        <p:grpSpPr>
          <a:xfrm>
            <a:off x="1119240" y="301680"/>
            <a:ext cx="7555680" cy="6556320"/>
            <a:chOff x="1119240" y="301680"/>
            <a:chExt cx="7555680" cy="6556320"/>
          </a:xfrm>
        </p:grpSpPr>
        <p:sp>
          <p:nvSpPr>
            <p:cNvPr id="77" name="AutoShape 6"/>
            <p:cNvSpPr/>
            <p:nvPr/>
          </p:nvSpPr>
          <p:spPr>
            <a:xfrm>
              <a:off x="1119240" y="301680"/>
              <a:ext cx="6758280" cy="65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7"/>
            <p:cNvGrpSpPr/>
            <p:nvPr/>
          </p:nvGrpSpPr>
          <p:grpSpPr>
            <a:xfrm>
              <a:off x="1236600" y="487800"/>
              <a:ext cx="7438320" cy="6090120"/>
              <a:chOff x="1236600" y="487800"/>
              <a:chExt cx="7438320" cy="6090120"/>
            </a:xfrm>
          </p:grpSpPr>
          <p:sp>
            <p:nvSpPr>
              <p:cNvPr id="79" name="Rectangle 8"/>
              <p:cNvSpPr/>
              <p:nvPr/>
            </p:nvSpPr>
            <p:spPr>
              <a:xfrm>
                <a:off x="1358280" y="487800"/>
                <a:ext cx="6973200" cy="413640"/>
              </a:xfrm>
              <a:prstGeom prst="rect">
                <a:avLst/>
              </a:prstGeom>
              <a:solidFill>
                <a:srgbClr val="dbeef4"/>
              </a:solidFill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Предметно-развивающая среда ДО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1236600" y="1529640"/>
                <a:ext cx="1785600" cy="3482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центр краеведения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комната быта «Русская изба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экологическая троп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4844880" y="1529640"/>
                <a:ext cx="1933920" cy="3482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сюжетно-ролевы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дидактически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строительно-конструктивны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театрализованны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подвижны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традиции групп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6779160" y="1529640"/>
                <a:ext cx="1895760" cy="3482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зона развития реч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зона продуктивной деятельност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музыкальный уголо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зона познавательного развит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полочка умных кни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панорама добрых де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1763280" y="5659920"/>
                <a:ext cx="6289920" cy="413280"/>
              </a:xfrm>
              <a:prstGeom prst="rect">
                <a:avLst/>
              </a:prstGeom>
              <a:solidFill>
                <a:srgbClr val="93cddd"/>
              </a:solidFill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Нравственно-этическая сре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1763280" y="6164280"/>
                <a:ext cx="6289920" cy="413640"/>
              </a:xfrm>
              <a:prstGeom prst="rect">
                <a:avLst/>
              </a:prstGeom>
              <a:solidFill>
                <a:srgbClr val="93cddd"/>
              </a:solidFill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кружающий социу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1358280" y="1029600"/>
                <a:ext cx="3327840" cy="412560"/>
              </a:xfrm>
              <a:prstGeom prst="rect">
                <a:avLst/>
              </a:prstGeom>
              <a:solidFill>
                <a:srgbClr val="dbeef4"/>
              </a:solidFill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среда ДО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4919400" y="1029600"/>
                <a:ext cx="3412440" cy="412560"/>
              </a:xfrm>
              <a:prstGeom prst="rect">
                <a:avLst/>
              </a:prstGeom>
              <a:solidFill>
                <a:srgbClr val="dbeef4"/>
              </a:solidFill>
              <a:ln w="2556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икросреда ДО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3022200" y="1529640"/>
                <a:ext cx="1762200" cy="3482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музыкально-физкультурный з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- познавательная игроте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1259640" y="5157000"/>
                <a:ext cx="2384280" cy="41364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родител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3706920" y="5157000"/>
                <a:ext cx="2336760" cy="41364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дет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6153840" y="5157000"/>
                <a:ext cx="2374920" cy="41364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педагог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611280" y="739080"/>
            <a:ext cx="806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жидаем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нная система методической работы по повышению профессиональной компетенции педагогов дошкольного учреждения по вопросам формирования ценностно-смысловой сферы личности детей на основе комплексно-тематического план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уровня развития детей  через систему работы по формированию ценностно-смысловой сферы личност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571680" y="423360"/>
            <a:ext cx="82803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равственное воспитание детей сводится к доброму примеру. Живите хорошо или хоть старайтесь жить хорошо, и вы по мере вашего успеха в хорошей жизни хорошо воспитаете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Николаевич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/kolosok.my1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DSC02398"/>
          <p:cNvPicPr/>
          <p:nvPr/>
        </p:nvPicPr>
        <p:blipFill>
          <a:blip r:embed="rId2"/>
          <a:stretch/>
        </p:blipFill>
        <p:spPr>
          <a:xfrm>
            <a:off x="1000080" y="3071880"/>
            <a:ext cx="43513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468360" y="1047240"/>
            <a:ext cx="8219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ачинается с детства. Именно в детстве делается великий посев и добра, и зла. Этот, казалось бы, незаметный посев взойдет через годы, и от урожая будет зависеть, какой человек вступает в жизнь, становится членом нашего общества. В урожае разобраться не трудно. Куда труднее определить нужные сем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Михал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611280" y="10915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руктура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и задачи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жидаем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авления оценки результ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е содержание нравственно-эт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я старших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332000" y="9331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Цель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ложить основы эмоционально-положительного настроя детей в отношениях друг к другу и с окруж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68360" y="234612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умать методы и средства методической работы в дошкольной организации, способствующие доброжелательному укладу жизнедеятельности дете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сферу становления и развития  их нравственных отношений. Постоянно и последовательно повышать нравственные основы взаимодействия и общения с детьми у педагогов, определив для них его ключевую значи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ести мониторинг взаимодействия педагогов с детьми, корректируя выявленные непрофессиональ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214280" y="800640"/>
            <a:ext cx="7272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Принципы нравственно-этического воспитания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уманистическая направленность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растно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SC00697"/>
          <p:cNvPicPr/>
          <p:nvPr/>
        </p:nvPicPr>
        <p:blipFill>
          <a:blip r:embed="rId2"/>
          <a:stretch/>
        </p:blipFill>
        <p:spPr>
          <a:xfrm>
            <a:off x="4143240" y="2928960"/>
            <a:ext cx="42357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619280" y="5493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направления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357120" y="150012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-образовательно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о-оздоровительное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ультурно-познавательное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равственно-трудово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Admin\Рабочий стол\2010_10_24\IMG_0013.jpg"/>
          <p:cNvPicPr/>
          <p:nvPr/>
        </p:nvPicPr>
        <p:blipFill>
          <a:blip r:embed="rId2"/>
          <a:stretch/>
        </p:blipFill>
        <p:spPr>
          <a:xfrm>
            <a:off x="2489040" y="3714840"/>
            <a:ext cx="386892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Admin\Рабочий стол\2010_10_24\IMG_0004.jpg"/>
          <p:cNvPicPr/>
          <p:nvPr/>
        </p:nvPicPr>
        <p:blipFill>
          <a:blip r:embed="rId3"/>
          <a:stretch/>
        </p:blipFill>
        <p:spPr>
          <a:xfrm>
            <a:off x="5000760" y="1143000"/>
            <a:ext cx="3817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611280" y="-1774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116000" y="333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Формы реализации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250920" y="907920"/>
            <a:ext cx="87138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ческие занятия, беседы, игры нравственно-этического содержани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иды творческой художественной деятельности дете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вместных праздник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слайд - фильмов, использование аудиозаписей и технических средств обуче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, целевые прогул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вечера эстетической направленности (живопись, музыка, поэзия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ыставок (совместная деятельность детей и родителей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музыкальных сказок нравственно-этического содерж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вечер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вместного проживания событий взрослыми и деть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3146400" y="796320"/>
            <a:ext cx="59976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содержан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– организацио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– основ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– заключ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F:\Новая папка (3)\Новая папка\фотографии\фото\фото\полякова\DSC00688.JPG"/>
          <p:cNvPicPr/>
          <p:nvPr/>
        </p:nvPicPr>
        <p:blipFill>
          <a:blip r:embed="rId2"/>
          <a:stretch/>
        </p:blipFill>
        <p:spPr>
          <a:xfrm>
            <a:off x="428760" y="571680"/>
            <a:ext cx="3429000" cy="2693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H:\DSCF0693.JPG"/>
          <p:cNvPicPr/>
          <p:nvPr/>
        </p:nvPicPr>
        <p:blipFill>
          <a:blip r:embed="rId3"/>
          <a:stretch/>
        </p:blipFill>
        <p:spPr>
          <a:xfrm>
            <a:off x="5143680" y="4000680"/>
            <a:ext cx="3286080" cy="24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открытый показ ОД"/>
          <p:cNvPicPr/>
          <p:nvPr/>
        </p:nvPicPr>
        <p:blipFill>
          <a:blip r:embed="rId4"/>
          <a:stretch/>
        </p:blipFill>
        <p:spPr>
          <a:xfrm>
            <a:off x="1143000" y="3429000"/>
            <a:ext cx="3643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!!! Документы и Р.С. - НЕ трогать!!!!\Desktop\fon 14\13-14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0" y="441720"/>
            <a:ext cx="856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включает в себя 4 раз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Этик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Правила эти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Этика общения с окружающ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Этика общения в коллек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C:\Documents and Settings\Admin\Мои документы\Мои рисунки\Изображение\2012 2013 год\Изображение 218.jpg"/>
          <p:cNvPicPr/>
          <p:nvPr/>
        </p:nvPicPr>
        <p:blipFill>
          <a:blip r:embed="rId2"/>
          <a:stretch/>
        </p:blipFill>
        <p:spPr>
          <a:xfrm>
            <a:off x="785880" y="2786040"/>
            <a:ext cx="3529080" cy="245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SC00871"/>
          <p:cNvPicPr/>
          <p:nvPr/>
        </p:nvPicPr>
        <p:blipFill>
          <a:blip r:embed="rId3"/>
          <a:stretch/>
        </p:blipFill>
        <p:spPr>
          <a:xfrm>
            <a:off x="6000840" y="857160"/>
            <a:ext cx="2838240" cy="212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DSCN0592"/>
          <p:cNvPicPr/>
          <p:nvPr/>
        </p:nvPicPr>
        <p:blipFill>
          <a:blip r:embed="rId4"/>
          <a:stretch/>
        </p:blipFill>
        <p:spPr>
          <a:xfrm>
            <a:off x="4643280" y="3571920"/>
            <a:ext cx="3240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1:32:18Z</dcterms:created>
  <dc:creator>андрей</dc:creator>
  <dc:description/>
  <dc:language>en-US</dc:language>
  <cp:lastModifiedBy>compag8</cp:lastModifiedBy>
  <dcterms:modified xsi:type="dcterms:W3CDTF">2015-10-12T09:28:41Z</dcterms:modified>
  <cp:revision>55</cp:revision>
  <dc:subject/>
  <dc:title>Слайд 1</dc:title>
</cp:coreProperties>
</file>