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1AF-8F71-496D-A7BE-F7389981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796-D4B5-4DDC-B329-1798FFF0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FAC-7DE3-465A-8D83-57239DD3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FAF-0383-4609-815E-C9682876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A99-D6FC-4514-B70A-473EAD94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F56-44AD-4B55-B5B0-773B1DF5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3FD-0538-423F-A8B2-A877974B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2E3-A011-439B-9961-BD948723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2CA-933D-4AC5-978F-FDB173FB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AE2-C5E1-494A-8A96-F11F9C16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CD8-5CEC-4988-90F8-D4B83467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0D9-F581-4593-B9FA-346E14B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AC28-50BE-4ECD-BB13-28A8350BE6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Спряжение латинских глагол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ряжение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onjugatio prim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59984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 несовершенного вида 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s infecti)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аголов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ряжения заканчивается н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–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tā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mā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borā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II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ряжение (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onjugatio secund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 несовершенного вида 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s infecti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аголов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ряжения заканчивается н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vē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lorē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dē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II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пряжение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onjugatio terti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00" y="159984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 несовершенного вида 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s infecti)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аголов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ряжения заканчивае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А) согласную</a:t>
            </a: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 (t, c, g, s ,d  etc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g-ĕ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esc-ĕ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B) </a:t>
            </a: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на –</a:t>
            </a: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atu-ĕ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V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пряжение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onjugatio quar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 несовершенного вида 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s infecti)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аголов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ряжения заканчивается на 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ī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dī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enī-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здели глаголы по типам спря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599840"/>
            <a:ext cx="91440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udēre , vincĕre, navigāre, florēre, habitāre, dormīre, servīre, tangĕre, traducĕre, parēre, petĕre, inducĕre,cavēre, munīre, tenēre, confirmāre, advenīre, levāre, consentīre, jubēre, accipĕre, vindicāre, tacēre, jacĕre, separāre, ignorāre, aperīre, debēre, mittĕ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400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                 2                 3                   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vigāre         studēre    vincĕre           dorm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itāre         florēre     tangĕre           serv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rmāre     parēre     traducĕre        mun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āre             cavēre      petĕre             adven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ndicāre        tenēre      inducĕre        consent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āre          jubēre      accipĕre         aperī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norāre          tacēre       jacĕ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bēre      mittĕ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51:08Z</dcterms:created>
  <dc:creator>Админ</dc:creator>
  <dc:description/>
  <dc:language>en-US</dc:language>
  <cp:lastModifiedBy>1</cp:lastModifiedBy>
  <dcterms:modified xsi:type="dcterms:W3CDTF">2013-09-27T05:38:06Z</dcterms:modified>
  <cp:revision>26</cp:revision>
  <dc:subject/>
  <dc:title>Спряжение латинских глаголов</dc:title>
</cp:coreProperties>
</file>