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42A-511B-4067-B6EF-F220842D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5D3-8F2C-4794-BCBE-26640217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618-914C-4389-BC05-0F2AAAAE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708-FC5D-4721-9A5D-6CFF468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F56-0F13-4B3C-AE84-014D133B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5F7-118D-41DD-B652-1D11080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828-B6C0-43C0-8F62-70C8EA7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5F6-CDF0-4C6E-8DC5-6D32BA3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903-3F9F-42AF-A2F1-928100F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867-5A0B-4C07-8F47-CBCEA76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135-02F5-4D55-9349-2D1263A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1CF-A041-4361-AF4B-10F0396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361-A45A-4E06-B76A-ED7DCC92C3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Спряжение латинских глагол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njugatio pri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m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or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ряжение (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jugatio secund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v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lor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d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II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onjugatio terti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А) согласную</a:t>
            </a: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 (t, c, g, s ,d  etc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g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sc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B) </a:t>
            </a: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на –</a:t>
            </a: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tu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V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onjugatio quar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 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ī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dī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enī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здели глаголы по типам спря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udēre , vincĕre, navigāre, florēre, habitāre, dormīre, servīre, tangĕre, traducĕre, parēre, petĕre, inducĕre,cavēre, munīre, tenēre, confirmāre, advenīre, levāre, consentīre, jubēre, accipĕre, vindicāre, tacēre, jacĕre, separāre, ignorāre, aperīre, debēre, mittĕ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                 2                 3                 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āre         studēre    vincĕre           dorm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āre         florēre     tangĕre           serv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āre     parēre     traducĕre        mun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āre             cavēre      petĕre             adven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ndicāre        tenēre      inducĕre        consent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āre          jubēre      accipĕre         aper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āre          tacēre       jacĕ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bēre      mittĕ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51:08Z</dcterms:created>
  <dc:creator>Админ</dc:creator>
  <dc:description/>
  <dc:language>en-US</dc:language>
  <cp:lastModifiedBy>1</cp:lastModifiedBy>
  <dcterms:modified xsi:type="dcterms:W3CDTF">2013-09-27T05:38:06Z</dcterms:modified>
  <cp:revision>26</cp:revision>
  <dc:subject/>
  <dc:title>Спряжение латинских глаголов</dc:title>
</cp:coreProperties>
</file>