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5C80-0F7E-4752-B1A4-FC3FB0DB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9548-72D7-4396-83E8-BD3BEC59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432A-F329-4365-9C68-B62C44D8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70A3-AB82-4F95-B8B8-B6130B16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2426-6D8A-442F-8BA9-C2236961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30F8-FB69-409D-80D8-E8F176DB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F591-73B3-49B8-A9E2-E2439A18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8EF7-9FA7-4B25-84BE-012BC99B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8271-92FB-4B99-9ABE-62D21E23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F1A4-A524-44D0-BFB0-9294DE71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2E6D-A0C9-4248-ADB2-428D74C7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0EF73-F8F5-42F7-AB90-B70C9F40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E82D-30BD-4014-BB12-9FFF6ED7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4AEE-3CEF-4758-95B2-982A269B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6FE1-8596-4A07-B9CF-15851502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BB52-026E-42E1-B880-C714FF46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D363-44FF-4E82-A9EE-C3B46FA1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A11F-7784-4D6D-A381-5DA1C529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E79E-AD33-4615-B35C-4E13622E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E285-6399-4C24-B4F0-13004BA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0BE2-B213-4973-8F77-9D48A0DC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5193-7957-4FAD-921A-6B1925AE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2500-A932-41BC-9D4C-2873B28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52DC-46BD-4597-96DA-DEDF6941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C870-6FF8-481E-BE4A-B93BD234A7D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71DE-1F9B-406C-94CE-1F497BEF9A9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86920" y="4724280"/>
            <a:ext cx="6697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ивым и павшим в боях защитникам Отечества посвящается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Рисунок 5" descr="http://www.edu-kruf.ru/images/70_pobeda_logo.jpg"/>
          <p:cNvPicPr/>
          <p:nvPr/>
        </p:nvPicPr>
        <p:blipFill>
          <a:blip r:embed="rId1"/>
          <a:stretch/>
        </p:blipFill>
        <p:spPr>
          <a:xfrm>
            <a:off x="2771640" y="549360"/>
            <a:ext cx="38070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1763640" y="189000"/>
            <a:ext cx="51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 будет помнить вся Россия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1125360"/>
          <a:ext cx="8569440" cy="5294520"/>
        </p:xfrm>
        <a:graphic>
          <a:graphicData uri="http://schemas.openxmlformats.org/drawingml/2006/table">
            <a:tbl>
              <a:tblPr/>
              <a:tblGrid>
                <a:gridCol w="3745080"/>
                <a:gridCol w="503280"/>
                <a:gridCol w="504720"/>
                <a:gridCol w="431640"/>
                <a:gridCol w="505080"/>
                <a:gridCol w="431640"/>
                <a:gridCol w="432000"/>
                <a:gridCol w="431640"/>
                <a:gridCol w="504720"/>
                <a:gridCol w="503280"/>
                <a:gridCol w="576360"/>
              </a:tblGrid>
              <a:tr h="87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 первого 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gridSpan="10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 вопр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Times New Roman"/>
                        </a:rPr>
                        <a:t>Основные события и даты В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87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Times New Roman"/>
                        </a:rPr>
                        <a:t>Герои В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Times New Roman"/>
                        </a:rPr>
                        <a:t>Города-геро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Times New Roman"/>
                        </a:rPr>
                        <a:t>Ученые и конструкторы военного вооружения. Военная техника и вооружение времен В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Times New Roman"/>
                        </a:rPr>
                        <a:t>Тува в годы ВОВ Советского Сою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pic>
        <p:nvPicPr>
          <p:cNvPr id="130" name="Рисунок 4" descr="Памятные юбилейные монеты, посвященные 70-летию Победы в Великой Отечественной войне 1941-1945 гг."/>
          <p:cNvPicPr/>
          <p:nvPr/>
        </p:nvPicPr>
        <p:blipFill>
          <a:blip r:embed="rId1"/>
          <a:stretch/>
        </p:blipFill>
        <p:spPr>
          <a:xfrm>
            <a:off x="7812000" y="0"/>
            <a:ext cx="10843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Работа с историческими картам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Рисунок 1" descr="http://upload.wikimedia.org/wikipedia/ru/f/f7/Ussr0437.jpg"/>
          <p:cNvPicPr/>
          <p:nvPr/>
        </p:nvPicPr>
        <p:blipFill>
          <a:blip r:embed="rId1"/>
          <a:stretch/>
        </p:blipFill>
        <p:spPr>
          <a:xfrm>
            <a:off x="1619280" y="1628640"/>
            <a:ext cx="1704960" cy="273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01"/>
          <p:cNvPicPr/>
          <p:nvPr/>
        </p:nvPicPr>
        <p:blipFill>
          <a:blip r:embed="rId2"/>
          <a:stretch/>
        </p:blipFill>
        <p:spPr>
          <a:xfrm>
            <a:off x="5580000" y="2637000"/>
            <a:ext cx="2038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image1"/>
          <p:cNvPicPr/>
          <p:nvPr/>
        </p:nvPicPr>
        <p:blipFill>
          <a:blip r:embed="rId1"/>
          <a:stretch/>
        </p:blipFill>
        <p:spPr>
          <a:xfrm>
            <a:off x="1116000" y="620640"/>
            <a:ext cx="5315040" cy="3475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-1393920" y="708120"/>
            <a:ext cx="1810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730600" y="340056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  <a:ea typeface="Arial"/>
              </a:rPr>
              <a:t>40» км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476360" y="180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Рассмотрите схему и выполните задания 1-4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Прямоугольник 9"/>
          <p:cNvSpPr/>
          <p:nvPr/>
        </p:nvSpPr>
        <p:spPr>
          <a:xfrm>
            <a:off x="468360" y="4149720"/>
            <a:ext cx="8120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29.Напишите название советского города, обозначенного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на схеме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цифрой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«1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30. Запишите словом пропущенный в фразе год; «События, изображён­ные на схеме, произошли в тысяча девятьсот сорок ________________ году?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31.Запишите название обозначенной на схеме цифрой «3» реки, на которой стоит город, обозначенный на схеме цифрой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«1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32.Какие суждения, относящиеся к событиям, обозначенным на схеме,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являются верными? Выберите три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суждения из шести предложенных.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 Запишите в таблицу цифры, которыми они обозначены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1.В сражении, изображённом на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схеме, большую роль сыграли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войска под командованием генерала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К.К.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Рокоссовского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2.Советская военная операция, события которой изображены на схеме, получила кодовое обозначение «Багратион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3.Войсками противника, обозначенными на схеме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цифрой «2»,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командовал генерал Гудериан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4.Одним из результатов битвы, изображённой на </a:t>
            </a:r>
            <a:r>
              <a:rPr b="0" lang="ru-RU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схеме, стало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пленение крупной группировки противник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5.Обозначенные на схеме события происходили летом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6.Менее чем через год после окончания изображённой на схеме битвы союзниками был открыт Второй фронт в Норманди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Century Schoolbook"/>
              </a:rPr>
              <a:t>Ответ: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Century Schoolboo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И будет помнить вся Россия…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836640"/>
          <a:ext cx="8569440" cy="4846680"/>
        </p:xfrm>
        <a:graphic>
          <a:graphicData uri="http://schemas.openxmlformats.org/drawingml/2006/table">
            <a:tbl>
              <a:tblPr/>
              <a:tblGrid>
                <a:gridCol w="3780000"/>
                <a:gridCol w="468000"/>
                <a:gridCol w="505080"/>
                <a:gridCol w="431640"/>
                <a:gridCol w="504720"/>
                <a:gridCol w="432000"/>
                <a:gridCol w="576360"/>
                <a:gridCol w="792000"/>
                <a:gridCol w="1079640"/>
              </a:tblGrid>
              <a:tr h="506520">
                <a:tc row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сни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gridSpan="8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 вопр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52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52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27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5" descr="01"/>
          <p:cNvPicPr/>
          <p:nvPr/>
        </p:nvPicPr>
        <p:blipFill>
          <a:blip r:embed="rId1"/>
          <a:stretch/>
        </p:blipFill>
        <p:spPr>
          <a:xfrm>
            <a:off x="611280" y="2924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5:14:33Z</dcterms:created>
  <dc:creator>Татьяна</dc:creator>
  <dc:description/>
  <dc:language>en-US</dc:language>
  <cp:lastModifiedBy>User</cp:lastModifiedBy>
  <dcterms:modified xsi:type="dcterms:W3CDTF">2015-10-19T07:18:51Z</dcterms:modified>
  <cp:revision>52</cp:revision>
  <dc:subject/>
  <dc:title>Фото войны</dc:title>
</cp:coreProperties>
</file>