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87DF-1BA2-4BAC-85BB-42514944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79EB-C302-40A8-8BBB-889CE3D4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476C-6910-4226-9A8A-FEE61E0C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2D6B-1EFE-4509-97C4-7706B3CC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A6DE-C206-4E00-B3F9-1014C9AA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C6A6-622A-4C36-9EEF-3AA5BFFA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D83D-D087-4E80-AF0C-AA8155F6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35BC-FA1C-40AE-8AEC-80293EE4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7763-04AA-4C77-9C98-DEF6BDE7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20EE-C037-4194-BF23-2C17F2D0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E650-AC3A-4FEA-8A44-3F53D960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E9D0-9B21-4054-A906-7CDBBDE4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31D0-4209-46F8-B619-94454800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F7B5-27C4-4BD5-ADDF-7669D5D8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F3F1-10A7-4FB6-B66D-DAF149CA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5DDB-7D60-4E6D-BB57-96DF2E21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D1D-8D81-4A4E-A18F-121A3B34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F775-0B7E-46D3-91E4-ED9A78CE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7BEC-8D03-4548-BE8B-A9F65E45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A72A-6F1B-4B95-A662-726BFED4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55E0-D627-4BA3-95F0-34151F1E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5943-A586-412C-9BCB-D628334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8DCE-1356-4FF9-B8BC-75798DA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A417-2726-4B76-9F95-87CB47C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81FF-AC24-4652-9AB4-B55D1094A94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6BC-EFC0-4FDD-BFED-9267DCC13FF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86920" y="4724280"/>
            <a:ext cx="6697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ивым и павшим в боях защитникам Отечества посвящается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Рисунок 5" descr="http://www.edu-kruf.ru/images/70_pobeda_logo.jpg"/>
          <p:cNvPicPr/>
          <p:nvPr/>
        </p:nvPicPr>
        <p:blipFill>
          <a:blip r:embed="rId1"/>
          <a:stretch/>
        </p:blipFill>
        <p:spPr>
          <a:xfrm>
            <a:off x="2771640" y="549360"/>
            <a:ext cx="3807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1763640" y="18900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 будет помнить вся Россия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1125360"/>
          <a:ext cx="8569440" cy="5294520"/>
        </p:xfrm>
        <a:graphic>
          <a:graphicData uri="http://schemas.openxmlformats.org/drawingml/2006/table">
            <a:tbl>
              <a:tblPr/>
              <a:tblGrid>
                <a:gridCol w="3745080"/>
                <a:gridCol w="503280"/>
                <a:gridCol w="504720"/>
                <a:gridCol w="431640"/>
                <a:gridCol w="505080"/>
                <a:gridCol w="431640"/>
                <a:gridCol w="432000"/>
                <a:gridCol w="431640"/>
                <a:gridCol w="504720"/>
                <a:gridCol w="503280"/>
                <a:gridCol w="576360"/>
              </a:tblGrid>
              <a:tr h="87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 первого 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gridSpan="10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 вопр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Основные события и даты В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87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Герои В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Города-геро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Ученые и конструкторы военного вооружения. Военная техника и вооружение времен В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Тува в годы ВОВ Советского Сою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130" name="Рисунок 4" descr="Памятные юбилейные монеты, посвященные 70-летию Победы в Великой Отечественной войне 1941-1945 гг."/>
          <p:cNvPicPr/>
          <p:nvPr/>
        </p:nvPicPr>
        <p:blipFill>
          <a:blip r:embed="rId1"/>
          <a:stretch/>
        </p:blipFill>
        <p:spPr>
          <a:xfrm>
            <a:off x="7812000" y="0"/>
            <a:ext cx="10843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Работа с историческими картам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Рисунок 1" descr="http://upload.wikimedia.org/wikipedia/ru/f/f7/Ussr0437.jpg"/>
          <p:cNvPicPr/>
          <p:nvPr/>
        </p:nvPicPr>
        <p:blipFill>
          <a:blip r:embed="rId1"/>
          <a:stretch/>
        </p:blipFill>
        <p:spPr>
          <a:xfrm>
            <a:off x="1619280" y="1628640"/>
            <a:ext cx="1704960" cy="273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01"/>
          <p:cNvPicPr/>
          <p:nvPr/>
        </p:nvPicPr>
        <p:blipFill>
          <a:blip r:embed="rId2"/>
          <a:stretch/>
        </p:blipFill>
        <p:spPr>
          <a:xfrm>
            <a:off x="5580000" y="2637000"/>
            <a:ext cx="2038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image1"/>
          <p:cNvPicPr/>
          <p:nvPr/>
        </p:nvPicPr>
        <p:blipFill>
          <a:blip r:embed="rId1"/>
          <a:stretch/>
        </p:blipFill>
        <p:spPr>
          <a:xfrm>
            <a:off x="1116000" y="620640"/>
            <a:ext cx="5315040" cy="3475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-1393920" y="708120"/>
            <a:ext cx="1810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730600" y="340056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  <a:ea typeface="Arial"/>
              </a:rPr>
              <a:t>40» км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476360" y="18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Рассмотрите схему и выполните задания 1-4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468360" y="4149720"/>
            <a:ext cx="8120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29.Напишите название советского города, обозначенного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на схеме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цифрой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«1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30. Запишите словом пропущенный в фразе год; «События, изображён­ные на схеме, произошли в тысяча девятьсот сорок ________________ году?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31.Запишите название обозначенной на схеме цифрой «3» реки, на которой стоит город, обозначенный на схеме цифрой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«1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32.Какие суждения, относящиеся к событиям, обозначенным на схеме,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являются верными? Выберите три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суждения из шести предложенных.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 Запишите в таблицу цифры, которыми они обозначены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1.В сражении, изображённом на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схеме, большую роль сыграли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войска под командованием генерала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К.К.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Рокоссовског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2.Советская военная операция, события которой изображены на схеме, получила кодовое обозначение «Багратион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3.Войсками противника, обозначенными на схеме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цифрой «2»,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командовал генерал Гудериан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4.Одним из результатов битвы, изображённой на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схеме, стало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пленение крупной группировки противник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5.Обозначенные на схеме события происходили летом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6.Менее чем через год после окончания изображённой на схеме битвы союзниками был открыт Второй фронт в Норманди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Ответ: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Century Schoolboo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И будет помнить вся Россия…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836640"/>
          <a:ext cx="8569440" cy="4846680"/>
        </p:xfrm>
        <a:graphic>
          <a:graphicData uri="http://schemas.openxmlformats.org/drawingml/2006/table">
            <a:tbl>
              <a:tblPr/>
              <a:tblGrid>
                <a:gridCol w="3780000"/>
                <a:gridCol w="468000"/>
                <a:gridCol w="505080"/>
                <a:gridCol w="431640"/>
                <a:gridCol w="504720"/>
                <a:gridCol w="432000"/>
                <a:gridCol w="576360"/>
                <a:gridCol w="792000"/>
                <a:gridCol w="1079640"/>
              </a:tblGrid>
              <a:tr h="506520"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сн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gridSpan="8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 вопр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27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5" descr="01"/>
          <p:cNvPicPr/>
          <p:nvPr/>
        </p:nvPicPr>
        <p:blipFill>
          <a:blip r:embed="rId1"/>
          <a:stretch/>
        </p:blipFill>
        <p:spPr>
          <a:xfrm>
            <a:off x="611280" y="2924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5:14:33Z</dcterms:created>
  <dc:creator>Татьяна</dc:creator>
  <dc:description/>
  <dc:language>en-US</dc:language>
  <cp:lastModifiedBy>User</cp:lastModifiedBy>
  <dcterms:modified xsi:type="dcterms:W3CDTF">2015-10-19T07:18:51Z</dcterms:modified>
  <cp:revision>52</cp:revision>
  <dc:subject/>
  <dc:title>Фото войны</dc:title>
</cp:coreProperties>
</file>