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CCBE-D88E-45E1-9032-463E343C8C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F2D1-5190-4262-8F96-98498B5D70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4380-7B29-4F6B-9C51-73CE83B0E0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6B33-CC3E-43FB-9874-977DEB79D0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5FB-5FBD-4F98-8A35-5F84026B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350-452B-4246-B591-08BD617B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336-E684-41B5-96CC-47B25CCF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4B9-59DB-4468-B33C-ADDCB7D9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788-5FE1-43C8-A0A2-6F5C6F23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628-D983-4458-BBB2-FD73BE9C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7EF-7E69-4E56-805A-64B752E3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B23-221C-44EC-AB5B-9F12F929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D46-FFB2-431F-B211-F60D088F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516-E843-4ED8-A91A-5DDFFA86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4AB-F685-4DCE-B51E-9310A51F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D98-34E4-4D5F-AE2D-2377DD63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896B-9A99-483C-8743-424A9F5CAD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оё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024000" cy="288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286080" cy="2881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266364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оё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024000" cy="288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286080" cy="2881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266364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5" name="Прямая со стрелкой 2"/>
          <p:cNvCxnSpPr/>
          <p:nvPr/>
        </p:nvCxnSpPr>
        <p:spPr>
          <a:xfrm>
            <a:off x="1828440" y="1447920"/>
            <a:ext cx="1080" cy="4969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146" name="Прямая со стрелкой 3"/>
          <p:cNvCxnSpPr/>
          <p:nvPr/>
        </p:nvCxnSpPr>
        <p:spPr>
          <a:xfrm>
            <a:off x="3622320" y="1447920"/>
            <a:ext cx="1080" cy="4969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147" name="Прямая со стрелкой 4"/>
          <p:cNvCxnSpPr/>
          <p:nvPr/>
        </p:nvCxnSpPr>
        <p:spPr>
          <a:xfrm>
            <a:off x="5409720" y="1523520"/>
            <a:ext cx="1080" cy="4969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148" name="Прямая соединительная линия 6"/>
          <p:cNvSpPr/>
          <p:nvPr/>
        </p:nvSpPr>
        <p:spPr>
          <a:xfrm>
            <a:off x="1482840" y="527220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9"/>
          <p:cNvSpPr/>
          <p:nvPr/>
        </p:nvSpPr>
        <p:spPr>
          <a:xfrm>
            <a:off x="3230640" y="3754440"/>
            <a:ext cx="784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4"/>
          <p:cNvSpPr/>
          <p:nvPr/>
        </p:nvSpPr>
        <p:spPr>
          <a:xfrm>
            <a:off x="4941720" y="2508120"/>
            <a:ext cx="936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Прямая со стрелкой 19"/>
          <p:cNvCxnSpPr/>
          <p:nvPr/>
        </p:nvCxnSpPr>
        <p:spPr>
          <a:xfrm>
            <a:off x="7238520" y="1523520"/>
            <a:ext cx="1080" cy="4969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152" name="Прямая соединительная линия 21"/>
          <p:cNvSpPr/>
          <p:nvPr/>
        </p:nvSpPr>
        <p:spPr>
          <a:xfrm>
            <a:off x="6642000" y="1474920"/>
            <a:ext cx="1193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Прямоугольник 1" descr=""/>
          <p:cNvPicPr/>
          <p:nvPr/>
        </p:nvPicPr>
        <p:blipFill>
          <a:blip r:embed="rId1"/>
          <a:stretch/>
        </p:blipFill>
        <p:spPr>
          <a:xfrm>
            <a:off x="1378080" y="244440"/>
            <a:ext cx="5997600" cy="1303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600200"/>
            <a:ext cx="30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528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485800"/>
            <a:ext cx="8229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по теме урока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Arial"/>
                <a:ea typeface="Times New Roman"/>
              </a:rPr>
              <a:t>Буквы Ф и ф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  <a:ea typeface="Times New Roman"/>
              </a:rPr>
              <a:t>2.Письмо слов и предложений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Arial"/>
                <a:ea typeface="Times New Roman"/>
              </a:rPr>
              <a:t>Составление новых слов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  <a:ea typeface="Times New Roman"/>
              </a:rPr>
              <a:t>3. Итог урока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1\Desktop\f901f4de6e55.gif"/>
          <p:cNvPicPr/>
          <p:nvPr/>
        </p:nvPicPr>
        <p:blipFill>
          <a:blip r:embed="rId1"/>
          <a:stretch/>
        </p:blipFill>
        <p:spPr>
          <a:xfrm>
            <a:off x="250920" y="0"/>
            <a:ext cx="45590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_20111129_19503904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35258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214200" y="2714760"/>
            <a:ext cx="64296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643040" y="2714760"/>
            <a:ext cx="64296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2357280" y="2714760"/>
            <a:ext cx="64296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3000240" y="2714760"/>
            <a:ext cx="6429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3714840" y="2714760"/>
            <a:ext cx="64296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5357880" y="2714760"/>
            <a:ext cx="64296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6000840" y="2714760"/>
            <a:ext cx="6429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9"/>
          <p:cNvSpPr/>
          <p:nvPr/>
        </p:nvSpPr>
        <p:spPr>
          <a:xfrm>
            <a:off x="6786720" y="2714760"/>
            <a:ext cx="64296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"/>
          <p:cNvSpPr/>
          <p:nvPr/>
        </p:nvSpPr>
        <p:spPr>
          <a:xfrm>
            <a:off x="7500960" y="2714760"/>
            <a:ext cx="6429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1"/>
          <p:cNvSpPr/>
          <p:nvPr/>
        </p:nvSpPr>
        <p:spPr>
          <a:xfrm>
            <a:off x="8143920" y="2714760"/>
            <a:ext cx="64296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2"/>
          <p:cNvSpPr/>
          <p:nvPr/>
        </p:nvSpPr>
        <p:spPr>
          <a:xfrm>
            <a:off x="928800" y="2714760"/>
            <a:ext cx="6429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042920" y="2133720"/>
            <a:ext cx="1657440" cy="1942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1258920" y="2349360"/>
            <a:ext cx="12254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2700360" y="2133360"/>
            <a:ext cx="1008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2700360" y="3068640"/>
            <a:ext cx="1008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708360" y="3357720"/>
            <a:ext cx="1657440" cy="1942920"/>
          </a:xfrm>
          <a:prstGeom prst="rect">
            <a:avLst/>
          </a:prstGeom>
          <a:solidFill>
            <a:srgbClr val="00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708360" y="549360"/>
            <a:ext cx="1657440" cy="1942920"/>
          </a:xfrm>
          <a:prstGeom prst="rect">
            <a:avLst/>
          </a:prstGeom>
          <a:solidFill>
            <a:srgbClr val="00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3924360" y="3573360"/>
            <a:ext cx="12254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" name="WordArt 9"/>
          <p:cNvSpPr txBox="1"/>
          <p:nvPr/>
        </p:nvSpPr>
        <p:spPr>
          <a:xfrm>
            <a:off x="3924360" y="692280"/>
            <a:ext cx="12254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_20111129_19514300.jpg"/>
          <p:cNvPicPr/>
          <p:nvPr/>
        </p:nvPicPr>
        <p:blipFill>
          <a:blip r:embed="rId1"/>
          <a:stretch/>
        </p:blipFill>
        <p:spPr>
          <a:xfrm>
            <a:off x="157176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2500200" y="2500200"/>
            <a:ext cx="9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428920" y="3643200"/>
            <a:ext cx="100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2428920" y="4714920"/>
            <a:ext cx="9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500200" y="5857920"/>
            <a:ext cx="9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714920" y="2571840"/>
            <a:ext cx="100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Arial"/>
              </a:rPr>
              <a:t>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4786200" y="3571920"/>
            <a:ext cx="9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Arial"/>
              </a:rPr>
              <a:t>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4786200" y="4714920"/>
            <a:ext cx="9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Arial"/>
              </a:rPr>
              <a:t>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4786200" y="5786280"/>
            <a:ext cx="9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Arial"/>
              </a:rPr>
              <a:t>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2195640" y="836640"/>
            <a:ext cx="39589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2195640" y="836640"/>
            <a:ext cx="39589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411280" y="765000"/>
            <a:ext cx="39592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в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124000" y="765000"/>
            <a:ext cx="39592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в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2124000" y="692280"/>
            <a:ext cx="39592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в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9" name="WordArt 7"/>
          <p:cNvSpPr txBox="1"/>
          <p:nvPr/>
        </p:nvSpPr>
        <p:spPr>
          <a:xfrm>
            <a:off x="2124000" y="692280"/>
            <a:ext cx="39592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2195640" y="765000"/>
            <a:ext cx="39589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1" name="WordArt 9"/>
          <p:cNvSpPr txBox="1"/>
          <p:nvPr/>
        </p:nvSpPr>
        <p:spPr>
          <a:xfrm>
            <a:off x="2484360" y="692280"/>
            <a:ext cx="39592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в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2" name="WordArt 10"/>
          <p:cNvSpPr txBox="1"/>
          <p:nvPr/>
        </p:nvSpPr>
        <p:spPr>
          <a:xfrm>
            <a:off x="2484360" y="765000"/>
            <a:ext cx="39592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в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2411280" y="765000"/>
            <a:ext cx="39592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4" name="WordArt 12"/>
          <p:cNvSpPr txBox="1"/>
          <p:nvPr/>
        </p:nvSpPr>
        <p:spPr>
          <a:xfrm>
            <a:off x="2411280" y="765000"/>
            <a:ext cx="39592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в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5" name="WordArt 13"/>
          <p:cNvSpPr txBox="1"/>
          <p:nvPr/>
        </p:nvSpPr>
        <p:spPr>
          <a:xfrm>
            <a:off x="2411280" y="1052640"/>
            <a:ext cx="39592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в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2340000" y="47628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7" name="WordArt 15"/>
          <p:cNvSpPr txBox="1"/>
          <p:nvPr/>
        </p:nvSpPr>
        <p:spPr>
          <a:xfrm>
            <a:off x="2124000" y="62064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8" name="WordArt 16"/>
          <p:cNvSpPr txBox="1"/>
          <p:nvPr/>
        </p:nvSpPr>
        <p:spPr>
          <a:xfrm>
            <a:off x="2195640" y="69228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ф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9" name="WordArt 17"/>
          <p:cNvSpPr txBox="1"/>
          <p:nvPr/>
        </p:nvSpPr>
        <p:spPr>
          <a:xfrm>
            <a:off x="1979640" y="54936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ф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00" name="WordArt 18"/>
          <p:cNvSpPr txBox="1"/>
          <p:nvPr/>
        </p:nvSpPr>
        <p:spPr>
          <a:xfrm>
            <a:off x="1619280" y="69228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ф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01" name="WordArt 19"/>
          <p:cNvSpPr txBox="1"/>
          <p:nvPr/>
        </p:nvSpPr>
        <p:spPr>
          <a:xfrm>
            <a:off x="2268360" y="549360"/>
            <a:ext cx="42469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2" name="WordArt 20"/>
          <p:cNvSpPr txBox="1"/>
          <p:nvPr/>
        </p:nvSpPr>
        <p:spPr>
          <a:xfrm>
            <a:off x="1835280" y="62064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ф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03" name="WordArt 21"/>
          <p:cNvSpPr txBox="1"/>
          <p:nvPr/>
        </p:nvSpPr>
        <p:spPr>
          <a:xfrm>
            <a:off x="1908000" y="69228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ф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04" name="WordArt 22"/>
          <p:cNvSpPr txBox="1"/>
          <p:nvPr/>
        </p:nvSpPr>
        <p:spPr>
          <a:xfrm>
            <a:off x="1692360" y="47628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ф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05" name="WordArt 23"/>
          <p:cNvSpPr txBox="1"/>
          <p:nvPr/>
        </p:nvSpPr>
        <p:spPr>
          <a:xfrm>
            <a:off x="1547640" y="62064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ф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1763640" y="47628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2050920" y="47628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_20111129_19531309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1354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1143000" y="2143080"/>
            <a:ext cx="357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    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5840" y="2928960"/>
            <a:ext cx="43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85840" y="3786120"/>
            <a:ext cx="43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85840" y="464328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6143760" y="1928880"/>
            <a:ext cx="27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6143760" y="2786040"/>
            <a:ext cx="257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143760" y="3643200"/>
            <a:ext cx="27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6143760" y="457200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6143760" y="5429160"/>
            <a:ext cx="257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116000" y="692280"/>
            <a:ext cx="63356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л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1332000" y="3573360"/>
            <a:ext cx="63356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пл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0" name="WordArt 6"/>
          <p:cNvSpPr txBox="1"/>
          <p:nvPr/>
        </p:nvSpPr>
        <p:spPr>
          <a:xfrm>
            <a:off x="1332000" y="907920"/>
            <a:ext cx="676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ор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1" name="WordArt 8"/>
          <p:cNvSpPr txBox="1"/>
          <p:nvPr/>
        </p:nvSpPr>
        <p:spPr>
          <a:xfrm>
            <a:off x="1116000" y="2205000"/>
            <a:ext cx="676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ер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1547640" y="1123920"/>
            <a:ext cx="6769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р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1332000" y="1341360"/>
            <a:ext cx="676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шар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826920" y="1557360"/>
            <a:ext cx="7921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шарф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755640" y="1773360"/>
            <a:ext cx="79218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игу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6" name="WordArt 13"/>
          <p:cNvSpPr txBox="1"/>
          <p:nvPr/>
        </p:nvSpPr>
        <p:spPr>
          <a:xfrm>
            <a:off x="468360" y="1844640"/>
            <a:ext cx="7921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и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1042920" y="1773360"/>
            <a:ext cx="7921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оку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8" name="WordArt 15"/>
          <p:cNvSpPr txBox="1"/>
          <p:nvPr/>
        </p:nvSpPr>
        <p:spPr>
          <a:xfrm>
            <a:off x="324000" y="1844640"/>
            <a:ext cx="7921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ини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9" name="WordArt 16"/>
          <p:cNvSpPr txBox="1"/>
          <p:nvPr/>
        </p:nvSpPr>
        <p:spPr>
          <a:xfrm>
            <a:off x="539640" y="1844640"/>
            <a:ext cx="7921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кеф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0" name="WordArt 17"/>
          <p:cNvSpPr txBox="1"/>
          <p:nvPr/>
        </p:nvSpPr>
        <p:spPr>
          <a:xfrm>
            <a:off x="179280" y="189000"/>
            <a:ext cx="7921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жира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1" name="WordArt 18"/>
          <p:cNvSpPr txBox="1"/>
          <p:nvPr/>
        </p:nvSpPr>
        <p:spPr>
          <a:xfrm>
            <a:off x="755640" y="1844640"/>
            <a:ext cx="7921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аз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2" name="WordArt 19"/>
          <p:cNvSpPr txBox="1"/>
          <p:nvPr/>
        </p:nvSpPr>
        <p:spPr>
          <a:xfrm>
            <a:off x="684360" y="2060640"/>
            <a:ext cx="7921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ин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3" name="WordArt 20"/>
          <p:cNvSpPr txBox="1"/>
          <p:nvPr/>
        </p:nvSpPr>
        <p:spPr>
          <a:xfrm>
            <a:off x="826920" y="1989000"/>
            <a:ext cx="792180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зеф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4" name="WordArt 21"/>
          <p:cNvSpPr txBox="1"/>
          <p:nvPr/>
        </p:nvSpPr>
        <p:spPr>
          <a:xfrm>
            <a:off x="395280" y="2060640"/>
            <a:ext cx="7921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ас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5" name="WordArt 22"/>
          <p:cNvSpPr txBox="1"/>
          <p:nvPr/>
        </p:nvSpPr>
        <p:spPr>
          <a:xfrm>
            <a:off x="250920" y="2492280"/>
            <a:ext cx="792144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ара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6" name="WordArt 23"/>
          <p:cNvSpPr txBox="1"/>
          <p:nvPr/>
        </p:nvSpPr>
        <p:spPr>
          <a:xfrm>
            <a:off x="0" y="260280"/>
            <a:ext cx="84596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рафин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7" name="WordArt 24"/>
          <p:cNvSpPr txBox="1"/>
          <p:nvPr/>
        </p:nvSpPr>
        <p:spPr>
          <a:xfrm>
            <a:off x="0" y="2060640"/>
            <a:ext cx="8893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итилё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8" name="WordArt 25"/>
          <p:cNvSpPr txBox="1"/>
          <p:nvPr/>
        </p:nvSpPr>
        <p:spPr>
          <a:xfrm>
            <a:off x="684360" y="2781360"/>
            <a:ext cx="7921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иа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9" name="WordArt 26"/>
          <p:cNvSpPr txBox="1"/>
          <p:nvPr/>
        </p:nvSpPr>
        <p:spPr>
          <a:xfrm>
            <a:off x="611280" y="2060640"/>
            <a:ext cx="7921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риф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6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1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огороде Фёкла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Ахала и охала: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 Уродилась свёкла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е на грядке, около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Жалко Фёкле свёклу,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Жалко свёкле Фёклу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Жаловалась Фёкла: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 Заблудилась свёкл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1:58:33Z</dcterms:created>
  <dc:creator>Эксперт</dc:creator>
  <dc:description/>
  <dc:language>en-US</dc:language>
  <cp:lastModifiedBy>Мама</cp:lastModifiedBy>
  <dcterms:modified xsi:type="dcterms:W3CDTF">2012-12-02T13:53:31Z</dcterms:modified>
  <cp:revision>4</cp:revision>
  <dc:subject/>
  <dc:title>Слайд 1</dc:title>
</cp:coreProperties>
</file>