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AFC-F061-4CAF-A631-C5F0E4740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5932-E441-480D-9993-949065093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14AF-4094-4BE3-AA75-5A781657F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6F1-E503-47C0-80F4-529C8DD45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7F0-5F47-417E-8858-C2DFDFA0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0E0-516B-47F8-A988-B0644C7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DAC-1F9A-45E9-A9B7-9E2FDB31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D20-0CDD-4F8D-BFC2-A20BB8A2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65B-B131-4718-BDEA-DCAFC458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88F-9890-469F-95E8-E275837C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074-0840-4B81-9631-C679DE62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FE5-F661-418E-AF8C-A44FAC2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B24-662C-4DE7-AE86-F8CE009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38D-9B50-4AD0-B2A7-64DB33A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A4F-2359-4F56-80F6-BC03D1E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431-36DD-40BE-8A4A-36B037E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FCE0-8066-4530-A4DD-E2F5BC6DC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663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663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5" name="Прямая со стрелкой 2"/>
          <p:cNvCxnSpPr/>
          <p:nvPr/>
        </p:nvCxnSpPr>
        <p:spPr>
          <a:xfrm>
            <a:off x="1828440" y="144792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146" name="Прямая со стрелкой 3"/>
          <p:cNvCxnSpPr/>
          <p:nvPr/>
        </p:nvCxnSpPr>
        <p:spPr>
          <a:xfrm>
            <a:off x="3622320" y="1447920"/>
            <a:ext cx="1080" cy="4969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147" name="Прямая со стрелкой 4"/>
          <p:cNvCxnSpPr/>
          <p:nvPr/>
        </p:nvCxnSpPr>
        <p:spPr>
          <a:xfrm>
            <a:off x="5409720" y="15235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48" name="Прямая соединительная линия 6"/>
          <p:cNvSpPr/>
          <p:nvPr/>
        </p:nvSpPr>
        <p:spPr>
          <a:xfrm>
            <a:off x="1482840" y="52722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3230640" y="3754440"/>
            <a:ext cx="784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>
            <a:off x="4941720" y="250812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19"/>
          <p:cNvCxnSpPr/>
          <p:nvPr/>
        </p:nvCxnSpPr>
        <p:spPr>
          <a:xfrm>
            <a:off x="7238520" y="1523520"/>
            <a:ext cx="1080" cy="4969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52" name="Прямая соединительная линия 21"/>
          <p:cNvSpPr/>
          <p:nvPr/>
        </p:nvSpPr>
        <p:spPr>
          <a:xfrm>
            <a:off x="6642000" y="1474920"/>
            <a:ext cx="1193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244440"/>
            <a:ext cx="5997600" cy="1303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6002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528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85800"/>
            <a:ext cx="8229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по теме уро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  <a:ea typeface="Times New Roman"/>
              </a:rPr>
              <a:t>Буквы Ф и ф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2.Письмо слов и предложений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  <a:ea typeface="Times New Roman"/>
              </a:rPr>
              <a:t>Составление новых сло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3. Итог уро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\Desktop\f901f4de6e55.gif"/>
          <p:cNvPicPr/>
          <p:nvPr/>
        </p:nvPicPr>
        <p:blipFill>
          <a:blip r:embed="rId1"/>
          <a:stretch/>
        </p:blipFill>
        <p:spPr>
          <a:xfrm>
            <a:off x="250920" y="0"/>
            <a:ext cx="45590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_20111129_1950390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3525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1420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4304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35728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00024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371484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5357880" y="2714760"/>
            <a:ext cx="6429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600084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6786720" y="2714760"/>
            <a:ext cx="6429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750096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8143920" y="2714760"/>
            <a:ext cx="6429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928800" y="2714760"/>
            <a:ext cx="6429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042920" y="2133720"/>
            <a:ext cx="1657440" cy="194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1258920" y="2349360"/>
            <a:ext cx="122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700360" y="213336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700360" y="3068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08360" y="3357720"/>
            <a:ext cx="1657440" cy="194292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708360" y="549360"/>
            <a:ext cx="1657440" cy="194292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3924360" y="3573360"/>
            <a:ext cx="122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3924360" y="692280"/>
            <a:ext cx="12254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_20111129_19514300.jpg"/>
          <p:cNvPicPr/>
          <p:nvPr/>
        </p:nvPicPr>
        <p:blipFill>
          <a:blip r:embed="rId1"/>
          <a:stretch/>
        </p:blipFill>
        <p:spPr>
          <a:xfrm>
            <a:off x="157176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500200" y="250020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428920" y="364320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4714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500200" y="5857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714920" y="257184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4786200" y="3571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4786200" y="471492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786200" y="578628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Arial"/>
              </a:rPr>
              <a:t>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195640" y="836640"/>
            <a:ext cx="39589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195640" y="836640"/>
            <a:ext cx="3958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41128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12400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124000" y="69228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2124000" y="69228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195640" y="765000"/>
            <a:ext cx="3958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2484360" y="69228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248436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241128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2411280" y="765000"/>
            <a:ext cx="39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2411280" y="1052640"/>
            <a:ext cx="3959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в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234000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2124000" y="62064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195640" y="692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1979640" y="54936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1619280" y="692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1" name="WordArt 19"/>
          <p:cNvSpPr txBox="1"/>
          <p:nvPr/>
        </p:nvSpPr>
        <p:spPr>
          <a:xfrm>
            <a:off x="2268360" y="549360"/>
            <a:ext cx="4246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20"/>
          <p:cNvSpPr txBox="1"/>
          <p:nvPr/>
        </p:nvSpPr>
        <p:spPr>
          <a:xfrm>
            <a:off x="1835280" y="62064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3" name="WordArt 21"/>
          <p:cNvSpPr txBox="1"/>
          <p:nvPr/>
        </p:nvSpPr>
        <p:spPr>
          <a:xfrm>
            <a:off x="1908000" y="692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4" name="WordArt 22"/>
          <p:cNvSpPr txBox="1"/>
          <p:nvPr/>
        </p:nvSpPr>
        <p:spPr>
          <a:xfrm>
            <a:off x="169236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5" name="WordArt 23"/>
          <p:cNvSpPr txBox="1"/>
          <p:nvPr/>
        </p:nvSpPr>
        <p:spPr>
          <a:xfrm>
            <a:off x="1547640" y="62064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ф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176364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2050920" y="476280"/>
            <a:ext cx="42465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_20111129_19531309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143000" y="21430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   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5840" y="292896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85840" y="378612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85840" y="46432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6143760" y="192888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143760" y="278604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143760" y="364320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6143760" y="45720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6143760" y="542916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116000" y="692280"/>
            <a:ext cx="63356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л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1332000" y="3573360"/>
            <a:ext cx="6335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л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1332000" y="907920"/>
            <a:ext cx="676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ор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1116000" y="2205000"/>
            <a:ext cx="676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ер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547640" y="1123920"/>
            <a:ext cx="6769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р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1332000" y="1341360"/>
            <a:ext cx="676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ша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826920" y="155736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шар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755640" y="1773360"/>
            <a:ext cx="7921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г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468360" y="1844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1042920" y="177336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ок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8" name="WordArt 15"/>
          <p:cNvSpPr txBox="1"/>
          <p:nvPr/>
        </p:nvSpPr>
        <p:spPr>
          <a:xfrm>
            <a:off x="324000" y="1844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ни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539640" y="184464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кеф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179280" y="18900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жир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755640" y="184464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аз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684360" y="2060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826920" y="1989000"/>
            <a:ext cx="79218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зеф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4" name="WordArt 21"/>
          <p:cNvSpPr txBox="1"/>
          <p:nvPr/>
        </p:nvSpPr>
        <p:spPr>
          <a:xfrm>
            <a:off x="395280" y="2060640"/>
            <a:ext cx="7921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ас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250920" y="2492280"/>
            <a:ext cx="79214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ара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0" y="260280"/>
            <a:ext cx="8459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афи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7" name="WordArt 24"/>
          <p:cNvSpPr txBox="1"/>
          <p:nvPr/>
        </p:nvSpPr>
        <p:spPr>
          <a:xfrm>
            <a:off x="0" y="2060640"/>
            <a:ext cx="889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тилё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684360" y="278136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фиа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611280" y="206064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иф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огороде Фёкл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хала и охала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Уродилась свёкл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на грядке, около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алко Фёкле свёклу,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алко свёкле Фёклу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аловалась Фёкла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Заблудилась свёк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1:58:33Z</dcterms:created>
  <dc:creator>Эксперт</dc:creator>
  <dc:description/>
  <dc:language>en-US</dc:language>
  <cp:lastModifiedBy>Мама</cp:lastModifiedBy>
  <dcterms:modified xsi:type="dcterms:W3CDTF">2012-12-02T13:53:31Z</dcterms:modified>
  <cp:revision>4</cp:revision>
  <dc:subject/>
  <dc:title>Слайд 1</dc:title>
</cp:coreProperties>
</file>