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BC6-F832-4316-AC5D-871F0C3D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CBF-109D-4BA9-B184-6E59D93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650-1C99-4541-985D-62F6AF45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CC5-1D28-45D5-97FE-5E7173C3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5942-AB58-44CC-ACF6-328F8CE9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C96B-AD21-4D9D-9C27-BE6860C9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9C04-5767-4E64-A787-BCA97C2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5CC2-BEE0-4500-A43B-6C7E9F99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B080-A433-4749-9B6D-86AD071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CDF-2339-4ECA-A454-47DB97A5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841A-32A9-4C41-9DC5-B5F9D6B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4BE-7553-4277-9BFA-1FEF541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AFE-481E-4C42-BD7B-FB0E1B4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B135-3478-48CC-A3A6-9C2651F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DE4-D7AE-4808-8118-A5974D83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2D7-9875-4653-8F37-5D1FDC28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B69A-314A-45D6-9BDC-06F473D6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8111-C9CD-487F-AB4B-3AC0A8BC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6851-F434-46ED-83A6-775C0FC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98BC-8548-48B8-82E5-8EB8FAE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0B37-5567-4B5E-A513-D160D5B2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DF5A-6174-42EE-B8D9-6963BA9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912-6874-4E1D-969D-5E19EC2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0DDA-1CD0-45B7-9C99-A908AE9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0630-987B-4E6E-8E1E-59CF0E5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8C08-C11F-442E-80C4-76B635A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E952-FA27-4192-A002-E8C20FA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2C91-DA71-45F0-8BEA-8F5C8DD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883D-B2AC-47FC-9FC8-F16D3156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6C7A-A41C-4FB0-A1BE-92ECFB29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B508-4878-4ABC-95FB-D3577BFF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4F2B-859D-48DF-8916-DA1D71B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5648-AEB4-4071-A7B3-5306E3D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FF0-63CB-468A-A059-F95498CE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CFEE-FD58-4812-8CCE-2179D78C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AB24-8F61-486C-AD50-C9CCCEFE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2DBE-B068-430A-B38A-B60BC56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81FF-B3C3-4270-ADE1-353FBCC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7F3B-C685-4E91-ACAD-3B38BDC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34CB-8FB0-47BD-A798-E44BDEB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16C2-82CD-4A7B-A19B-BD4C583D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741A-7F58-430A-B4DD-6CE4AFA7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3AD4-2A1D-431B-93F9-4D3D822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87E1-CA61-4741-89B2-1E82152F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F9E-7A1C-4DB9-BCB5-8993D28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1C87-346A-4B97-B242-A792A4E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48EC-9F47-45BC-93D1-36F8103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7E1F-0C56-42E8-B710-EC47CA6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203C-A35B-4E11-A761-160E7F27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E45E-FE2C-43BE-A8E3-ADD4BCA5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3431-F6CF-490A-945C-4A7021F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82C6-FF6C-4922-9ADA-75849DB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4223-6C39-402D-8789-EA05DE1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0087-32A2-4805-A629-8913F11C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108B-AF44-44CC-BF85-0BAFC48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03F-2F8F-4669-9469-B91B240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6D2F-783A-43DB-9410-B1AE4D34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DD0B-8E94-455C-9AB8-6EB02EFC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09A8-73AF-4C4B-88FC-A595C75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809A-F70B-4096-A524-19202D2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8BE24-1042-456B-8B64-FDA65F2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0E4B1-E81B-4FFA-B7F2-53F1F1F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3C13-19F1-45C3-AACA-0B8891F5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5F47-C264-4C0C-9B06-769D3C3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093A-2765-4F06-A2C5-BF6C1E9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444D-69C4-4404-9508-5B4A27E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3EC-0198-4E7D-AABA-7C77F23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4CEEE-9B69-4135-8E5C-AB5E9C4D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8403-44E7-4491-B33E-01BBC1B5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2334-153B-4833-9298-9237B8D2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485F-ACFF-469B-98FE-461111A7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01D60-D8D7-41EA-864C-2C63CEB9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7DE2-2BF4-4899-AAF8-46A6883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0AEE-F580-4B64-BD8F-50AD10C3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AFF7-C2C4-4165-A528-0D4232E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CEE2F-7E20-4A4F-9736-2A106FA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C033-3583-43C2-9D7A-F37ABD9F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BB3-FE36-4712-A180-EE35E00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8F79-68E0-4E99-9AC8-33E1CC3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F465-AB33-4686-8A7A-1F6564B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B57C-BEEC-4B8A-B389-019C9E4F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D167-21AC-414A-9A0C-E138BF1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2B13-CDBE-4D3A-AC05-A9573AD2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D40-B472-460D-AE23-BB689D0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E72-04CA-4E98-B572-F38587A13F87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113C-1A22-4F54-8E04-AC089BC0FFA6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415e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415e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415e4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CE2-EBD3-4CA2-AE59-FBB13F5A26CA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AF2-CEA0-462F-A6FA-A57F973C75BB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415e4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5854-209C-4755-92FC-A6BA584EAF6C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FDB-2F55-450B-AB6C-EEEC838B1369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6DF4-B9C7-46E6-9EC2-D166BE514E44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07920" y="3230640"/>
            <a:ext cx="7785360" cy="3097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642840" y="571320"/>
            <a:ext cx="5200920" cy="12142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«Знание – самое прекрасное из владений. Все стремятся к нему, само же оно не приходит»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ff"/>
                </a:solidFill>
                <a:latin typeface="Consolas"/>
              </a:rPr>
              <a:t>Требования безопасности во время работы: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85520" y="1071720"/>
            <a:ext cx="79009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быть предельно осторожными при работе с техникой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е подключать кабели, разъемы и другую аппаратуру к компьютеру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облюдать правила последовательности включения и выключения компьютера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 появлении изменений в функционировании аппаратуры, самопроизвольного ее отключения необходимо немедленно прекратить работу и сообщить об этом учителю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нтролировать расстояние до экрана и правильную осанку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работать на компьютере больше отведённого времени с учётом возраст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пользоваться неисправной технико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самостоятельно устранять неисправност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D:\Мои документы\откр урок.files\image3341.gif"/>
          <p:cNvPicPr/>
          <p:nvPr/>
        </p:nvPicPr>
        <p:blipFill>
          <a:blip r:embed="rId1"/>
          <a:stretch/>
        </p:blipFill>
        <p:spPr>
          <a:xfrm>
            <a:off x="1071720" y="1428840"/>
            <a:ext cx="7164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D:\Мои документы\откр урок.files\image3331.gif"/>
          <p:cNvPicPr/>
          <p:nvPr/>
        </p:nvPicPr>
        <p:blipFill>
          <a:blip r:embed="rId1"/>
          <a:stretch/>
        </p:blipFill>
        <p:spPr>
          <a:xfrm>
            <a:off x="1728720" y="2637000"/>
            <a:ext cx="6143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ff"/>
                </a:solidFill>
                <a:latin typeface="Georgia"/>
              </a:rPr>
              <a:t>Ключ к мини-тесту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14400" y="1784520"/>
          <a:ext cx="7729560" cy="4505040"/>
        </p:xfrm>
        <a:graphic>
          <a:graphicData uri="http://schemas.openxmlformats.org/drawingml/2006/table">
            <a:tbl>
              <a:tblPr/>
              <a:tblGrid>
                <a:gridCol w="1289160"/>
                <a:gridCol w="1287360"/>
                <a:gridCol w="1289160"/>
                <a:gridCol w="1287360"/>
                <a:gridCol w="1289160"/>
                <a:gridCol w="1287360"/>
              </a:tblGrid>
              <a:tr h="75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</a:tr>
              <a:tr h="75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Georgia"/>
              </a:rPr>
              <a:t>Ответы на вопросы кроссворда</a:t>
            </a:r>
            <a:endParaRPr b="0" lang="en-US" sz="3200" spc="-1" strike="noStrike">
              <a:solidFill>
                <a:srgbClr val="ccffff"/>
              </a:solidFill>
              <a:latin typeface="Consolas"/>
            </a:endParaRPr>
          </a:p>
        </p:txBody>
      </p:sp>
      <p:pic>
        <p:nvPicPr>
          <p:cNvPr id="377" name="Picture 4" descr="D:\Мои документы\откр урок.files\image3341.gif"/>
          <p:cNvPicPr/>
          <p:nvPr/>
        </p:nvPicPr>
        <p:blipFill>
          <a:blip r:embed="rId1"/>
          <a:stretch/>
        </p:blipFill>
        <p:spPr>
          <a:xfrm>
            <a:off x="1214280" y="1857240"/>
            <a:ext cx="72057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907920" y="3230640"/>
            <a:ext cx="7785360" cy="309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642840" y="571320"/>
            <a:ext cx="5200920" cy="12142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«Знание – самое прекрасное из владений. Все стремятся к нему, само же оно не приходит»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8:41:53Z</dcterms:created>
  <dc:creator>Андрей</dc:creator>
  <dc:description/>
  <dc:language>en-US</dc:language>
  <cp:lastModifiedBy>Андрей</cp:lastModifiedBy>
  <dcterms:modified xsi:type="dcterms:W3CDTF">2015-10-19T20:30:03Z</dcterms:modified>
  <cp:revision>23</cp:revision>
  <dc:subject/>
  <dc:title>Прикладная среда табличного процессора excel</dc:title>
</cp:coreProperties>
</file>