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938-0822-411C-A51E-B956FC94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54E-659F-40A0-9946-C0F065B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607-2D5C-4E53-A691-6A89CB68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180-C06A-4A6D-8A77-4C008060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DA8C-9B87-41F5-A9CF-87DEC9B4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22E9-00AE-415D-A894-C8FC362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722-367B-4F4E-8738-09A0415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5BAF-BCC9-4D91-B772-7E76923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AEC-9E35-4F58-87E4-57091DFA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207A-E196-488B-9575-FAAA1164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D6E-4E15-45B8-A9A3-9C5CFF7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E6C-2D5C-4B6E-8873-010EC7C4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A98-2678-4B2A-A6A7-065A9721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6449-C34C-48FE-BEA7-3106E18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8815-6625-4305-8C5E-104D9153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089B-EB83-4F54-8639-FC42538B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0F2B-409E-42CA-934B-982A8A2B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14FF-FF9D-4BE6-9358-C64A2E25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C782-3390-4937-A0C3-B668EAF6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6768-0575-4B50-B4BD-A674135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4CF0-4CCA-4DD7-9F96-CA8178B8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1859-F99F-4203-B495-0877FFA7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D7B-E182-4A4E-8C15-49E1DC8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87A9-43D0-41E5-AA07-E5E0C14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9B5C-E397-43C9-BC16-6FB9E40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1067-4C5A-4C60-A296-89539F8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AA1B-B080-405D-97BA-79F8D5E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8347-CE79-46CB-9FB9-DFEF759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6DAA-09DC-4E09-8F96-43DA1A23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6292-7B9E-4877-843B-4350894D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84DF-3D73-4D56-9C74-89934FF7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3962-27C7-4726-BEB1-5CD5E30A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F3F2-112F-4D26-BAA9-3FD357D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A86-5D0C-488E-B22D-7B9A5BE0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25FF-2F71-48F1-BF31-2779B71D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F58D-2777-4213-9A78-D7DA9E6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AA1D-C604-4094-B804-C1972A1F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55FF-CE0B-4DAB-9341-95142186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3D8B-B6A5-4698-B1F2-A07E615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4783-1E25-4BBF-9861-2FE3334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A341-22FB-41A6-A790-04F8C969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0F12-58AE-4DFD-9BA3-F8A8194E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318B-C05A-4639-9C73-F9C39972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FCA5-48BF-4077-A251-21C45370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3BE-FD75-45DA-A3C2-F5E64F1B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843A-0DED-4A18-8EA5-9554885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254E-357B-41D6-9FE0-DA6B2C5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0FB0-42A7-4646-8E88-5CD2E262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ECB6B-BD53-4C68-98E5-CE0AE6B6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505A-BE5D-4588-A3CE-21BE848D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E525-AB50-4988-840C-728BD9E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725F-D862-4FF7-BC43-A9996F2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F465-8A91-48B0-B398-FFCD5B4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CD6F-5283-4860-9405-2619D6FF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89D4-DDE0-4449-B08E-B60A4E5F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B53-FF58-40E0-9FDB-0CA12F5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3366-EFD2-4B26-A22A-11281690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F420-5D7E-4473-A438-622CB654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01AA5-B065-40CC-8B41-A4FA3DF7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5228-1008-4A6B-94B7-B7C518D2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A5AD-37E6-4E4A-A4EC-F3AD8D8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B272-39AB-49C4-BF95-071D89A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57695-C917-497D-B08A-90557D15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F7E2-0B74-4D41-ABF9-F470AF2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47AA-D20C-4C65-9243-8B0738B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4343-A9AD-451E-9847-A4350F7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143-C2B9-47F4-A292-1B50990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1D466-B3C2-4F2F-92F3-C759328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B076-6EB5-4DDA-B872-08F8DE1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7353-A081-4CE9-968F-75626997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910F7-5938-4E7C-B3E1-C578305F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B7B77-2E13-4EB7-9F1A-8E2B55BD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8F33-AD5F-45E3-A91D-12A43B01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0D05-B4BE-4040-8C8E-E6FFA6D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FC65-E201-4A2B-9861-908B577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EA68-0C3B-47AC-9E74-BE48ED78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CCE16-9E4D-4ECD-8511-C5BDF85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726-CFF4-4268-A18E-F890226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63D5-2779-484F-B8A5-2AD922F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A392-5796-4234-9DA4-BF5DDC3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45AD1-B033-4A0F-B192-4F35A1B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98466-8C5E-4C8B-A7EB-3F0FB3AC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B1E2-931E-4FFC-BE03-DA3ECFA7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87F-3871-4A2C-9ECA-25DD203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270-A188-4256-B616-E557284B91B7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B02-8A53-49E3-AE0C-8A49B9716A74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415e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4060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415e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415e4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1FF-D673-463E-A89E-29A36830AE3B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A5BE-AC0D-429B-8E15-59F736943767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415e4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8A24-8CD2-491C-BE85-87A6394F580F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238-EB0C-421E-BD4F-8077D7ECE7D9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78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213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9C1-8DBD-4B02-86D4-CB855DBFB533}" type="slidenum">
              <a:rPr b="0" lang="ru-RU" sz="1200" spc="-1" strike="noStrike">
                <a:solidFill>
                  <a:srgbClr val="dbf5f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907920" y="3230640"/>
            <a:ext cx="7785360" cy="3097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642840" y="571320"/>
            <a:ext cx="5200920" cy="12142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«Знание – самое прекрасное из владений. Все стремятся к нему, само же оно не приходит»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ff"/>
                </a:solidFill>
                <a:latin typeface="Consolas"/>
              </a:rPr>
              <a:t>Требования безопасности во время работы: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85520" y="1071720"/>
            <a:ext cx="79009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быть предельно осторожными при работе с техникой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е подключать кабели, разъемы и другую аппаратуру к компьютеру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облюдать правила последовательности включения и выключения компьютера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 появлении изменений в функционировании аппаратуры, самопроизвольного ее отключения необходимо немедленно прекратить работу и сообщить об этом учителю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нтролировать расстояние до экрана и правильную осанку;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работать на компьютере больше отведённого времени с учётом возраст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пользоваться неисправной техникой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прещено самостоятельно устранять неисправност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D:\Мои документы\откр урок.files\image3341.gif"/>
          <p:cNvPicPr/>
          <p:nvPr/>
        </p:nvPicPr>
        <p:blipFill>
          <a:blip r:embed="rId1"/>
          <a:stretch/>
        </p:blipFill>
        <p:spPr>
          <a:xfrm>
            <a:off x="1071720" y="1428840"/>
            <a:ext cx="7164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D:\Мои документы\откр урок.files\image3331.gif"/>
          <p:cNvPicPr/>
          <p:nvPr/>
        </p:nvPicPr>
        <p:blipFill>
          <a:blip r:embed="rId1"/>
          <a:stretch/>
        </p:blipFill>
        <p:spPr>
          <a:xfrm>
            <a:off x="1728720" y="2637000"/>
            <a:ext cx="6143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ff"/>
                </a:solidFill>
                <a:latin typeface="Georgia"/>
              </a:rPr>
              <a:t>Ключ к мини-тесту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14400" y="1784520"/>
          <a:ext cx="7729560" cy="4505040"/>
        </p:xfrm>
        <a:graphic>
          <a:graphicData uri="http://schemas.openxmlformats.org/drawingml/2006/table">
            <a:tbl>
              <a:tblPr/>
              <a:tblGrid>
                <a:gridCol w="1289160"/>
                <a:gridCol w="1287360"/>
                <a:gridCol w="1289160"/>
                <a:gridCol w="1287360"/>
                <a:gridCol w="1289160"/>
                <a:gridCol w="1287360"/>
              </a:tblGrid>
              <a:tr h="75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-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8"/>
                    </a:solidFill>
                  </a:tcPr>
                </a:tc>
              </a:tr>
              <a:tr h="75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632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Georgia"/>
              </a:rPr>
              <a:t>Ответы на вопросы кроссворда</a:t>
            </a:r>
            <a:endParaRPr b="0" lang="en-US" sz="3200" spc="-1" strike="noStrike">
              <a:solidFill>
                <a:srgbClr val="ccffff"/>
              </a:solidFill>
              <a:latin typeface="Consolas"/>
            </a:endParaRPr>
          </a:p>
        </p:txBody>
      </p:sp>
      <p:pic>
        <p:nvPicPr>
          <p:cNvPr id="377" name="Picture 4" descr="D:\Мои документы\откр урок.files\image3341.gif"/>
          <p:cNvPicPr/>
          <p:nvPr/>
        </p:nvPicPr>
        <p:blipFill>
          <a:blip r:embed="rId1"/>
          <a:stretch/>
        </p:blipFill>
        <p:spPr>
          <a:xfrm>
            <a:off x="1214280" y="1857240"/>
            <a:ext cx="72057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907920" y="3230640"/>
            <a:ext cx="7785360" cy="309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642840" y="571320"/>
            <a:ext cx="5200920" cy="12142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«Знание – самое прекрасное из владений. Все стремятся к нему, само же оно не приходит»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8:41:53Z</dcterms:created>
  <dc:creator>Андрей</dc:creator>
  <dc:description/>
  <dc:language>en-US</dc:language>
  <cp:lastModifiedBy>Андрей</cp:lastModifiedBy>
  <dcterms:modified xsi:type="dcterms:W3CDTF">2015-10-19T20:30:03Z</dcterms:modified>
  <cp:revision>23</cp:revision>
  <dc:subject/>
  <dc:title>Прикладная среда табличного процессора excel</dc:title>
</cp:coreProperties>
</file>