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A90-1294-4C60-9175-C952CC2F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EB5-3FFC-41BE-8A7B-25E79011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2E6-4932-4387-8F34-FFE271B1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793-58DE-4360-BB5B-4AD5DC02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0AE1-A03C-4F24-8199-784E5F9A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589F-DF44-47F0-8547-35A95423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60EA-A4FA-4D56-8ADF-622C0582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D474-ECCB-4F4E-9E62-C432E068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7BFE-B897-47C0-AF7A-FE9999E7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D4B3-7CE0-43F2-B581-FD2C114E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917C-20EE-47F7-92CA-AE69252E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A5D-9F96-4484-AF6F-C93D3DB1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82DD-3ED7-4D3D-847E-082EAE3B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B1F6-85F4-4637-9B51-CD2F923D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0F68-39E8-43A2-B0CF-4197CCFD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BE71-6744-4145-9521-CF76BD88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8211-7E11-42B5-8DB7-1D18520D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92C-2221-46DF-ADD8-0EE913A1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A51-71BA-465D-A7DC-AB69B824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A03-D834-4685-87CD-3D5474E2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738-3D70-417E-9856-A01079BF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30D-1D60-43BE-B29C-EAAE75FB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06D-7695-484F-B759-3798596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36E-7258-4C9E-9256-4CB9151D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0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7"/>
          <p:cNvSpPr/>
          <p:nvPr/>
        </p:nvSpPr>
        <p:spPr>
          <a:xfrm>
            <a:off x="0" y="-85680"/>
            <a:ext cx="9174240" cy="704880"/>
          </a:xfrm>
          <a:custGeom>
            <a:avLst/>
            <a:gdLst/>
            <a:ahLst/>
            <a:rect l="l" t="t" r="r" b="b"/>
            <a:pathLst>
              <a:path w="5779" h="480">
                <a:moveTo>
                  <a:pt x="0" y="472"/>
                </a:moveTo>
                <a:lnTo>
                  <a:pt x="3261" y="473"/>
                </a:lnTo>
                <a:cubicBezTo>
                  <a:pt x="3402" y="473"/>
                  <a:pt x="3356" y="480"/>
                  <a:pt x="3437" y="465"/>
                </a:cubicBezTo>
                <a:lnTo>
                  <a:pt x="3763" y="314"/>
                </a:lnTo>
                <a:lnTo>
                  <a:pt x="5779" y="314"/>
                </a:lnTo>
                <a:lnTo>
                  <a:pt x="5777" y="0"/>
                </a:lnTo>
                <a:lnTo>
                  <a:pt x="0" y="1"/>
                </a:lnTo>
                <a:lnTo>
                  <a:pt x="0" y="47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46"/>
          <p:cNvSpPr/>
          <p:nvPr/>
        </p:nvSpPr>
        <p:spPr>
          <a:xfrm>
            <a:off x="-1440" y="1108080"/>
            <a:ext cx="9175680" cy="5749920"/>
          </a:xfrm>
          <a:custGeom>
            <a:avLst/>
            <a:gdLst/>
            <a:ahLst/>
            <a:rect l="l" t="t" r="r" b="b"/>
            <a:pathLst>
              <a:path w="5780" h="3622">
                <a:moveTo>
                  <a:pt x="7" y="3616"/>
                </a:moveTo>
                <a:lnTo>
                  <a:pt x="5780" y="3622"/>
                </a:lnTo>
                <a:lnTo>
                  <a:pt x="5760" y="0"/>
                </a:lnTo>
                <a:lnTo>
                  <a:pt x="0" y="0"/>
                </a:lnTo>
                <a:lnTo>
                  <a:pt x="7" y="361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F0E5-D49C-4F52-B0C5-76C53B4182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3"/>
          <p:cNvSpPr/>
          <p:nvPr/>
        </p:nvSpPr>
        <p:spPr>
          <a:xfrm>
            <a:off x="3240" y="685800"/>
            <a:ext cx="9131400" cy="685800"/>
          </a:xfrm>
          <a:custGeom>
            <a:avLst/>
            <a:gdLst/>
            <a:ahLst/>
            <a:rect l="l" t="t" r="r" b="b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17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grpSp>
        <p:nvGrpSpPr>
          <p:cNvPr id="8" name="Group 74"/>
          <p:cNvGrpSpPr/>
          <p:nvPr/>
        </p:nvGrpSpPr>
        <p:grpSpPr>
          <a:xfrm>
            <a:off x="6910560" y="457200"/>
            <a:ext cx="1922400" cy="576360"/>
            <a:chOff x="6910560" y="457200"/>
            <a:chExt cx="1922400" cy="576360"/>
          </a:xfrm>
        </p:grpSpPr>
        <p:sp>
          <p:nvSpPr>
            <p:cNvPr id="9" name="AutoShape 75"/>
            <p:cNvSpPr/>
            <p:nvPr/>
          </p:nvSpPr>
          <p:spPr>
            <a:xfrm>
              <a:off x="6910560" y="457200"/>
              <a:ext cx="575280" cy="576360"/>
            </a:xfrm>
            <a:custGeom>
              <a:avLst/>
              <a:gdLst>
                <a:gd name="textAreaLeft" fmla="*/ 16920 w 575280"/>
                <a:gd name="textAreaRight" fmla="*/ 558360 w 57528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41">
                  <a:moveTo>
                    <a:pt x="2177" y="0"/>
                  </a:moveTo>
                  <a:arcTo wR="2177" hR="2177" stAng="16200000" swAng="-5400000"/>
                  <a:lnTo>
                    <a:pt x="0" y="19464"/>
                  </a:lnTo>
                  <a:arcTo wR="2177" hR="2177" stAng="10800000" swAng="-5400000"/>
                  <a:lnTo>
                    <a:pt x="19423" y="21641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76"/>
            <p:cNvSpPr/>
            <p:nvPr/>
          </p:nvSpPr>
          <p:spPr>
            <a:xfrm>
              <a:off x="7581600" y="457200"/>
              <a:ext cx="575280" cy="576360"/>
            </a:xfrm>
            <a:custGeom>
              <a:avLst/>
              <a:gdLst>
                <a:gd name="textAreaLeft" fmla="*/ 16920 w 575280"/>
                <a:gd name="textAreaRight" fmla="*/ 558360 w 57528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41">
                  <a:moveTo>
                    <a:pt x="2177" y="0"/>
                  </a:moveTo>
                  <a:arcTo wR="2177" hR="2177" stAng="16200000" swAng="-5400000"/>
                  <a:lnTo>
                    <a:pt x="0" y="19464"/>
                  </a:lnTo>
                  <a:arcTo wR="2177" hR="2177" stAng="10800000" swAng="-5400000"/>
                  <a:lnTo>
                    <a:pt x="19423" y="21641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77"/>
            <p:cNvSpPr/>
            <p:nvPr/>
          </p:nvSpPr>
          <p:spPr>
            <a:xfrm>
              <a:off x="8257320" y="457200"/>
              <a:ext cx="575640" cy="576360"/>
            </a:xfrm>
            <a:custGeom>
              <a:avLst/>
              <a:gdLst>
                <a:gd name="textAreaLeft" fmla="*/ 16920 w 575640"/>
                <a:gd name="textAreaRight" fmla="*/ 558720 w 575640"/>
                <a:gd name="textAreaTop" fmla="*/ 16920 h 576360"/>
                <a:gd name="textAreaBottom" fmla="*/ 559440 h 576360"/>
              </a:gdLst>
              <a:ahLst/>
              <a:rect l="textAreaLeft" t="textAreaTop" r="textAreaRight" b="textAreaBottom"/>
              <a:pathLst>
                <a:path w="21600" h="21627">
                  <a:moveTo>
                    <a:pt x="2177" y="0"/>
                  </a:moveTo>
                  <a:arcTo wR="2177" hR="2177" stAng="16200000" swAng="-5400000"/>
                  <a:lnTo>
                    <a:pt x="0" y="19450"/>
                  </a:lnTo>
                  <a:arcTo wR="2177" hR="2177" stAng="10800000" swAng="-5400000"/>
                  <a:lnTo>
                    <a:pt x="19423" y="21627"/>
                  </a:lnTo>
                  <a:arcTo wR="2177" hR="2177" stAng="5400000" swAng="-5400000"/>
                  <a:lnTo>
                    <a:pt x="21600" y="2177"/>
                  </a:lnTo>
                  <a:arcTo wR="2177" hR="2177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d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/>
            <a:ahLst/>
            <a:rect l="l" t="t" r="r" b="b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9"/>
          <p:cNvSpPr/>
          <p:nvPr/>
        </p:nvSpPr>
        <p:spPr>
          <a:xfrm>
            <a:off x="-1440" y="-1440"/>
            <a:ext cx="9154800" cy="4940280"/>
          </a:xfrm>
          <a:custGeom>
            <a:avLst/>
            <a:gdLst/>
            <a:ahLst/>
            <a:rect l="l" t="t" r="r" b="b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c92b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d0dd">
                  <a:alpha val="9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/>
            <a:ahLst/>
            <a:rect l="l" t="t" r="r" b="b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gradFill rotWithShape="0">
            <a:gsLst>
              <a:gs pos="0">
                <a:srgbClr val="c1d0dd"/>
              </a:gs>
              <a:gs pos="100000">
                <a:srgbClr val="7c92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7"/>
          <p:cNvSpPr/>
          <p:nvPr/>
        </p:nvSpPr>
        <p:spPr>
          <a:xfrm>
            <a:off x="0" y="-9360"/>
            <a:ext cx="9171000" cy="1361880"/>
          </a:xfrm>
          <a:custGeom>
            <a:avLst/>
            <a:gdLst/>
            <a:ahLst/>
            <a:rect l="l" t="t" r="r" b="b"/>
            <a:pathLst>
              <a:path w="5777" h="858">
                <a:moveTo>
                  <a:pt x="0" y="858"/>
                </a:moveTo>
                <a:lnTo>
                  <a:pt x="1926" y="857"/>
                </a:lnTo>
                <a:cubicBezTo>
                  <a:pt x="2067" y="857"/>
                  <a:pt x="2068" y="850"/>
                  <a:pt x="2157" y="793"/>
                </a:cubicBezTo>
                <a:lnTo>
                  <a:pt x="2509" y="473"/>
                </a:lnTo>
                <a:cubicBezTo>
                  <a:pt x="2644" y="406"/>
                  <a:pt x="2477" y="396"/>
                  <a:pt x="2970" y="390"/>
                </a:cubicBezTo>
                <a:lnTo>
                  <a:pt x="5773" y="388"/>
                </a:lnTo>
                <a:lnTo>
                  <a:pt x="5777" y="0"/>
                </a:lnTo>
                <a:lnTo>
                  <a:pt x="0" y="2"/>
                </a:lnTo>
                <a:lnTo>
                  <a:pt x="0" y="8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6"/>
          <p:cNvSpPr/>
          <p:nvPr/>
        </p:nvSpPr>
        <p:spPr>
          <a:xfrm>
            <a:off x="739152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175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/>
            <a:ahLst/>
            <a:rect l="l" t="t" r="r" b="b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1" descr="1"/>
          <p:cNvPicPr/>
          <p:nvPr/>
        </p:nvPicPr>
        <p:blipFill>
          <a:blip r:embed="rId3"/>
          <a:srcRect l="0" t="0" r="0" b="28615"/>
          <a:stretch/>
        </p:blipFill>
        <p:spPr>
          <a:xfrm>
            <a:off x="4638600" y="1844640"/>
            <a:ext cx="4481640" cy="5013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3"/>
          <p:cNvSpPr/>
          <p:nvPr/>
        </p:nvSpPr>
        <p:spPr>
          <a:xfrm>
            <a:off x="39996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4"/>
          <p:cNvSpPr/>
          <p:nvPr/>
        </p:nvSpPr>
        <p:spPr>
          <a:xfrm>
            <a:off x="1616040" y="4495680"/>
            <a:ext cx="1042920" cy="1043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1043280"/>
              <a:gd name="textAreaBottom" fmla="*/ 1012680 h 1043280"/>
            </a:gdLst>
            <a:ahLst/>
            <a:rect l="textAreaLeft" t="textAreaTop" r="textAreaRight" b="textAreaBottom"/>
            <a:pathLst>
              <a:path w="21600" h="21607">
                <a:moveTo>
                  <a:pt x="2177" y="0"/>
                </a:moveTo>
                <a:arcTo wR="2177" hR="2177" stAng="16200000" swAng="-5400000"/>
                <a:lnTo>
                  <a:pt x="0" y="19430"/>
                </a:lnTo>
                <a:arcTo wR="2177" hR="2177" stAng="10800000" swAng="-5400000"/>
                <a:lnTo>
                  <a:pt x="19423" y="21607"/>
                </a:lnTo>
                <a:arcTo wR="2177" hR="2177" stAng="5400000" swAng="-5400000"/>
                <a:lnTo>
                  <a:pt x="21600" y="2177"/>
                </a:lnTo>
                <a:arcTo wR="2177" hR="2177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2841480" y="4495680"/>
            <a:ext cx="1043280" cy="1043280"/>
          </a:xfrm>
          <a:prstGeom prst="roundRect">
            <a:avLst>
              <a:gd name="adj" fmla="val 10079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17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621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7760" y="6477120"/>
            <a:ext cx="327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304920" y="6477120"/>
            <a:ext cx="380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A389-AEED-4384-8EA4-BF84EA6BBC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untitledку4ц"/>
          <p:cNvPicPr/>
          <p:nvPr/>
        </p:nvPicPr>
        <p:blipFill>
          <a:blip r:embed="rId1"/>
          <a:srcRect l="20861" t="0" r="0" b="-4611"/>
          <a:stretch/>
        </p:blipFill>
        <p:spPr>
          <a:xfrm>
            <a:off x="1619280" y="45086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1" name="Picture 8" descr="linza1"/>
          <p:cNvPicPr/>
          <p:nvPr/>
        </p:nvPicPr>
        <p:blipFill>
          <a:blip r:embed="rId2"/>
          <a:stretch/>
        </p:blipFill>
        <p:spPr>
          <a:xfrm>
            <a:off x="2843280" y="4508640"/>
            <a:ext cx="1081080" cy="106200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02" name="Picture 9" descr="porsche_002"/>
          <p:cNvPicPr/>
          <p:nvPr/>
        </p:nvPicPr>
        <p:blipFill>
          <a:blip r:embed="rId3"/>
          <a:srcRect l="12649" t="0" r="6071" b="0"/>
          <a:stretch/>
        </p:blipFill>
        <p:spPr>
          <a:xfrm>
            <a:off x="324000" y="4508640"/>
            <a:ext cx="1152360" cy="106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3" name="Rectangle 12"/>
          <p:cNvSpPr/>
          <p:nvPr/>
        </p:nvSpPr>
        <p:spPr>
          <a:xfrm>
            <a:off x="7524720" y="836640"/>
            <a:ext cx="1295280" cy="360360"/>
          </a:xfrm>
          <a:prstGeom prst="rect">
            <a:avLst/>
          </a:prstGeom>
          <a:solidFill>
            <a:srgbClr val="c1d0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8000" y="1341360"/>
            <a:ext cx="82090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«Всемирный День Зр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66"/>
          <p:cNvGrpSpPr/>
          <p:nvPr/>
        </p:nvGrpSpPr>
        <p:grpSpPr>
          <a:xfrm>
            <a:off x="179280" y="1484280"/>
            <a:ext cx="8766720" cy="1612080"/>
            <a:chOff x="179280" y="1484280"/>
            <a:chExt cx="8766720" cy="1612080"/>
          </a:xfrm>
        </p:grpSpPr>
        <p:sp>
          <p:nvSpPr>
            <p:cNvPr id="106" name="Freeform 67"/>
            <p:cNvSpPr/>
            <p:nvPr/>
          </p:nvSpPr>
          <p:spPr>
            <a:xfrm>
              <a:off x="696960" y="2412720"/>
              <a:ext cx="7732440" cy="6836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8"/>
            <p:cNvSpPr/>
            <p:nvPr/>
          </p:nvSpPr>
          <p:spPr>
            <a:xfrm>
              <a:off x="179280" y="1484280"/>
              <a:ext cx="8766720" cy="1413720"/>
            </a:xfrm>
            <a:prstGeom prst="rect">
              <a:avLst/>
            </a:prstGeom>
            <a:gradFill rotWithShape="0">
              <a:gsLst>
                <a:gs pos="0">
                  <a:srgbClr val="e9d3ac"/>
                </a:gs>
                <a:gs pos="100000">
                  <a:srgbClr val="cf9f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93d5"/>
                </a:solidFill>
                <a:latin typeface="Arial"/>
              </a:rPr>
              <a:t>Статистика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pic>
        <p:nvPicPr>
          <p:cNvPr id="109" name="Picture 50" descr="untitledку4ц"/>
          <p:cNvPicPr/>
          <p:nvPr/>
        </p:nvPicPr>
        <p:blipFill>
          <a:blip r:embed="rId1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0" name="Picture 51" descr="linza1"/>
          <p:cNvPicPr/>
          <p:nvPr/>
        </p:nvPicPr>
        <p:blipFill>
          <a:blip r:embed="rId2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11" name="Picture 52" descr="porsche_002"/>
          <p:cNvPicPr/>
          <p:nvPr/>
        </p:nvPicPr>
        <p:blipFill>
          <a:blip r:embed="rId3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Rectangle 3"/>
          <p:cNvSpPr/>
          <p:nvPr/>
        </p:nvSpPr>
        <p:spPr>
          <a:xfrm>
            <a:off x="250920" y="148428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 всем мире около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31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иллионов человек страдают нарушениями зрения,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4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иллионов из них поражены слепотой.  Нарушениями зрения чаще страдают люди старшего возраста. Повсюду в мире большему риску подвержены женщины всех возрастов. Около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87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лиц, страдающих нарушениями зрения, живут в развивающихся страна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9"/>
          <p:cNvGrpSpPr/>
          <p:nvPr/>
        </p:nvGrpSpPr>
        <p:grpSpPr>
          <a:xfrm>
            <a:off x="179280" y="3141720"/>
            <a:ext cx="8811360" cy="1499400"/>
            <a:chOff x="179280" y="3141720"/>
            <a:chExt cx="8811360" cy="1499400"/>
          </a:xfrm>
        </p:grpSpPr>
        <p:sp>
          <p:nvSpPr>
            <p:cNvPr id="114" name="Freeform 60"/>
            <p:cNvSpPr/>
            <p:nvPr/>
          </p:nvSpPr>
          <p:spPr>
            <a:xfrm>
              <a:off x="699480" y="4005360"/>
              <a:ext cx="7772040" cy="6357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1"/>
            <p:cNvSpPr/>
            <p:nvPr/>
          </p:nvSpPr>
          <p:spPr>
            <a:xfrm>
              <a:off x="179280" y="3141720"/>
              <a:ext cx="8811360" cy="1315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250920" y="3141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исло людей, потерявших зрение в результате инфекционной болезни, значительно уменьшилось, однако распространенность нарушений зрения, обусловленных возрастом, растет. Во всем мире катаракта остается основной причиной слепоты, за исключением наиболее развитых стр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63"/>
          <p:cNvGrpSpPr/>
          <p:nvPr/>
        </p:nvGrpSpPr>
        <p:grpSpPr>
          <a:xfrm>
            <a:off x="179280" y="4724280"/>
            <a:ext cx="8784360" cy="1225080"/>
            <a:chOff x="179280" y="4724280"/>
            <a:chExt cx="8784360" cy="1225080"/>
          </a:xfrm>
        </p:grpSpPr>
        <p:sp>
          <p:nvSpPr>
            <p:cNvPr id="118" name="Freeform 64"/>
            <p:cNvSpPr/>
            <p:nvPr/>
          </p:nvSpPr>
          <p:spPr>
            <a:xfrm>
              <a:off x="698040" y="5429880"/>
              <a:ext cx="7747920" cy="519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65"/>
            <p:cNvSpPr/>
            <p:nvPr/>
          </p:nvSpPr>
          <p:spPr>
            <a:xfrm>
              <a:off x="179280" y="4724280"/>
              <a:ext cx="8784360" cy="1074600"/>
            </a:xfrm>
            <a:prstGeom prst="rect">
              <a:avLst/>
            </a:prstGeom>
            <a:solidFill>
              <a:srgbClr val="99ccf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5" descr="1"/>
          <p:cNvPicPr/>
          <p:nvPr/>
        </p:nvPicPr>
        <p:blipFill>
          <a:blip r:embed="rId4"/>
          <a:srcRect l="0" t="0" r="0" b="28617"/>
          <a:stretch/>
        </p:blipFill>
        <p:spPr>
          <a:xfrm>
            <a:off x="7472520" y="5013360"/>
            <a:ext cx="1647720" cy="1844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9"/>
          <p:cNvSpPr/>
          <p:nvPr/>
        </p:nvSpPr>
        <p:spPr>
          <a:xfrm>
            <a:off x="250920" y="4724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ррекция рефракционных аномалий может вернуть нормальное зрение более 12 миллионам детей (в возрасте 5-15 лет). Во всем мире около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85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лучаев нарушения зрения предупреждаем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1197000"/>
            <a:ext cx="84009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5175"/>
                </a:solidFill>
                <a:latin typeface="Arial"/>
              </a:rPr>
              <a:t>Имеется 4 уровня остроты зрения: </a:t>
            </a:r>
            <a:endParaRPr b="1" lang="en-US" sz="3600" spc="-1" strike="noStrike">
              <a:solidFill>
                <a:srgbClr val="335175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619280" y="2133720"/>
            <a:ext cx="6479280" cy="470880"/>
            <a:chOff x="1619280" y="2133720"/>
            <a:chExt cx="6479280" cy="470880"/>
          </a:xfrm>
        </p:grpSpPr>
        <p:grpSp>
          <p:nvGrpSpPr>
            <p:cNvPr id="124" name="Group 5"/>
            <p:cNvGrpSpPr/>
            <p:nvPr/>
          </p:nvGrpSpPr>
          <p:grpSpPr>
            <a:xfrm>
              <a:off x="1619280" y="2146320"/>
              <a:ext cx="6479280" cy="457200"/>
              <a:chOff x="1619280" y="2146320"/>
              <a:chExt cx="6479280" cy="45720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619280" y="2146320"/>
                <a:ext cx="647928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30571a"/>
                  </a:gs>
                  <a:gs pos="100000">
                    <a:srgbClr val="65b737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7"/>
              <p:cNvSpPr/>
              <p:nvPr/>
            </p:nvSpPr>
            <p:spPr>
              <a:xfrm>
                <a:off x="1619280" y="2146320"/>
                <a:ext cx="647928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65b737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8"/>
            <p:cNvSpPr/>
            <p:nvPr/>
          </p:nvSpPr>
          <p:spPr>
            <a:xfrm>
              <a:off x="2523240" y="2144880"/>
              <a:ext cx="501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ормальное зрение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9"/>
            <p:cNvGrpSpPr/>
            <p:nvPr/>
          </p:nvGrpSpPr>
          <p:grpSpPr>
            <a:xfrm>
              <a:off x="1893960" y="2149560"/>
              <a:ext cx="522720" cy="428760"/>
              <a:chOff x="1893960" y="2149560"/>
              <a:chExt cx="522720" cy="428760"/>
            </a:xfrm>
          </p:grpSpPr>
          <p:sp>
            <p:nvSpPr>
              <p:cNvPr id="129" name="Oval 10"/>
              <p:cNvSpPr/>
              <p:nvPr/>
            </p:nvSpPr>
            <p:spPr>
              <a:xfrm>
                <a:off x="1893960" y="2149560"/>
                <a:ext cx="52272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1"/>
              <p:cNvSpPr/>
              <p:nvPr/>
            </p:nvSpPr>
            <p:spPr>
              <a:xfrm>
                <a:off x="1900440" y="2151720"/>
                <a:ext cx="5104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2"/>
              <p:cNvSpPr/>
              <p:nvPr/>
            </p:nvSpPr>
            <p:spPr>
              <a:xfrm>
                <a:off x="1905840" y="2156040"/>
                <a:ext cx="48528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3"/>
              <p:cNvSpPr/>
              <p:nvPr/>
            </p:nvSpPr>
            <p:spPr>
              <a:xfrm>
                <a:off x="1934280" y="2166840"/>
                <a:ext cx="4312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14"/>
            <p:cNvSpPr/>
            <p:nvPr/>
          </p:nvSpPr>
          <p:spPr>
            <a:xfrm>
              <a:off x="1911600" y="2133720"/>
              <a:ext cx="4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5"/>
          <p:cNvGrpSpPr/>
          <p:nvPr/>
        </p:nvGrpSpPr>
        <p:grpSpPr>
          <a:xfrm>
            <a:off x="1619280" y="2924280"/>
            <a:ext cx="6479280" cy="470880"/>
            <a:chOff x="1619280" y="2924280"/>
            <a:chExt cx="6479280" cy="470880"/>
          </a:xfrm>
        </p:grpSpPr>
        <p:grpSp>
          <p:nvGrpSpPr>
            <p:cNvPr id="135" name="Group 16"/>
            <p:cNvGrpSpPr/>
            <p:nvPr/>
          </p:nvGrpSpPr>
          <p:grpSpPr>
            <a:xfrm>
              <a:off x="1619280" y="2936880"/>
              <a:ext cx="6479280" cy="457200"/>
              <a:chOff x="1619280" y="2936880"/>
              <a:chExt cx="6479280" cy="457200"/>
            </a:xfrm>
          </p:grpSpPr>
          <p:sp>
            <p:nvSpPr>
              <p:cNvPr id="136" name="AutoShape 17"/>
              <p:cNvSpPr/>
              <p:nvPr/>
            </p:nvSpPr>
            <p:spPr>
              <a:xfrm>
                <a:off x="1619280" y="2936880"/>
                <a:ext cx="647928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21415e"/>
                  </a:gs>
                  <a:gs pos="100000">
                    <a:srgbClr val="4b93d5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8"/>
              <p:cNvSpPr/>
              <p:nvPr/>
            </p:nvSpPr>
            <p:spPr>
              <a:xfrm>
                <a:off x="1619280" y="2936880"/>
                <a:ext cx="647928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4b93d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19"/>
            <p:cNvSpPr/>
            <p:nvPr/>
          </p:nvSpPr>
          <p:spPr>
            <a:xfrm>
              <a:off x="2496600" y="2935440"/>
              <a:ext cx="49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умеренное нарушение зр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20"/>
            <p:cNvGrpSpPr/>
            <p:nvPr/>
          </p:nvGrpSpPr>
          <p:grpSpPr>
            <a:xfrm>
              <a:off x="1867320" y="2940120"/>
              <a:ext cx="522360" cy="428760"/>
              <a:chOff x="1867320" y="2940120"/>
              <a:chExt cx="522360" cy="428760"/>
            </a:xfrm>
          </p:grpSpPr>
          <p:sp>
            <p:nvSpPr>
              <p:cNvPr id="140" name="Oval 21"/>
              <p:cNvSpPr/>
              <p:nvPr/>
            </p:nvSpPr>
            <p:spPr>
              <a:xfrm>
                <a:off x="1867320" y="2940120"/>
                <a:ext cx="5223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22"/>
              <p:cNvSpPr/>
              <p:nvPr/>
            </p:nvSpPr>
            <p:spPr>
              <a:xfrm>
                <a:off x="1873800" y="2942280"/>
                <a:ext cx="5101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23"/>
              <p:cNvSpPr/>
              <p:nvPr/>
            </p:nvSpPr>
            <p:spPr>
              <a:xfrm>
                <a:off x="1879200" y="2946600"/>
                <a:ext cx="48492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907640" y="2957400"/>
                <a:ext cx="4309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25"/>
            <p:cNvSpPr/>
            <p:nvPr/>
          </p:nvSpPr>
          <p:spPr>
            <a:xfrm>
              <a:off x="1884960" y="2924280"/>
              <a:ext cx="4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6"/>
          <p:cNvGrpSpPr/>
          <p:nvPr/>
        </p:nvGrpSpPr>
        <p:grpSpPr>
          <a:xfrm>
            <a:off x="1619280" y="3755880"/>
            <a:ext cx="6479280" cy="459720"/>
            <a:chOff x="1619280" y="3755880"/>
            <a:chExt cx="6479280" cy="459720"/>
          </a:xfrm>
        </p:grpSpPr>
        <p:grpSp>
          <p:nvGrpSpPr>
            <p:cNvPr id="146" name="Group 27"/>
            <p:cNvGrpSpPr/>
            <p:nvPr/>
          </p:nvGrpSpPr>
          <p:grpSpPr>
            <a:xfrm>
              <a:off x="1619280" y="3757320"/>
              <a:ext cx="6479280" cy="457200"/>
              <a:chOff x="1619280" y="3757320"/>
              <a:chExt cx="6479280" cy="457200"/>
            </a:xfrm>
          </p:grpSpPr>
          <p:sp>
            <p:nvSpPr>
              <p:cNvPr id="147" name="AutoShape 28"/>
              <p:cNvSpPr/>
              <p:nvPr/>
            </p:nvSpPr>
            <p:spPr>
              <a:xfrm>
                <a:off x="1619280" y="3757320"/>
                <a:ext cx="647928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563a5c"/>
                  </a:gs>
                  <a:gs pos="100000">
                    <a:srgbClr val="c382d0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29"/>
              <p:cNvSpPr/>
              <p:nvPr/>
            </p:nvSpPr>
            <p:spPr>
              <a:xfrm>
                <a:off x="1619280" y="3757320"/>
                <a:ext cx="647928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c382d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30"/>
            <p:cNvSpPr/>
            <p:nvPr/>
          </p:nvSpPr>
          <p:spPr>
            <a:xfrm>
              <a:off x="2496600" y="3755880"/>
              <a:ext cx="502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яжелое нарушение зр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866960" y="3771720"/>
              <a:ext cx="522720" cy="428760"/>
              <a:chOff x="1866960" y="3771720"/>
              <a:chExt cx="522720" cy="428760"/>
            </a:xfrm>
          </p:grpSpPr>
          <p:sp>
            <p:nvSpPr>
              <p:cNvPr id="151" name="Oval 32"/>
              <p:cNvSpPr/>
              <p:nvPr/>
            </p:nvSpPr>
            <p:spPr>
              <a:xfrm>
                <a:off x="1866960" y="3771720"/>
                <a:ext cx="52272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33"/>
              <p:cNvSpPr/>
              <p:nvPr/>
            </p:nvSpPr>
            <p:spPr>
              <a:xfrm>
                <a:off x="1873440" y="3773880"/>
                <a:ext cx="5104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34"/>
              <p:cNvSpPr/>
              <p:nvPr/>
            </p:nvSpPr>
            <p:spPr>
              <a:xfrm>
                <a:off x="1878840" y="3778200"/>
                <a:ext cx="48528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35"/>
              <p:cNvSpPr/>
              <p:nvPr/>
            </p:nvSpPr>
            <p:spPr>
              <a:xfrm>
                <a:off x="1907280" y="3789000"/>
                <a:ext cx="4312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36"/>
            <p:cNvSpPr/>
            <p:nvPr/>
          </p:nvSpPr>
          <p:spPr>
            <a:xfrm>
              <a:off x="1884240" y="3755880"/>
              <a:ext cx="4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7"/>
          <p:cNvGrpSpPr/>
          <p:nvPr/>
        </p:nvGrpSpPr>
        <p:grpSpPr>
          <a:xfrm>
            <a:off x="1619280" y="4535640"/>
            <a:ext cx="6479280" cy="469800"/>
            <a:chOff x="1619280" y="4535640"/>
            <a:chExt cx="6479280" cy="469800"/>
          </a:xfrm>
        </p:grpSpPr>
        <p:grpSp>
          <p:nvGrpSpPr>
            <p:cNvPr id="157" name="Group 38"/>
            <p:cNvGrpSpPr/>
            <p:nvPr/>
          </p:nvGrpSpPr>
          <p:grpSpPr>
            <a:xfrm>
              <a:off x="1619280" y="4548240"/>
              <a:ext cx="6479280" cy="457200"/>
              <a:chOff x="1619280" y="4548240"/>
              <a:chExt cx="6479280" cy="457200"/>
            </a:xfrm>
          </p:grpSpPr>
          <p:sp>
            <p:nvSpPr>
              <p:cNvPr id="158" name="AutoShape 39"/>
              <p:cNvSpPr/>
              <p:nvPr/>
            </p:nvSpPr>
            <p:spPr>
              <a:xfrm>
                <a:off x="1619280" y="4548240"/>
                <a:ext cx="647928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6a5125"/>
                  </a:gs>
                  <a:gs pos="100000">
                    <a:srgbClr val="cf9f49"/>
                  </a:gs>
                </a:gsLst>
                <a:lin ang="5400000"/>
              </a:gradFill>
              <a:ln w="9360">
                <a:solidFill>
                  <a:srgbClr val="ffffff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40"/>
              <p:cNvSpPr/>
              <p:nvPr/>
            </p:nvSpPr>
            <p:spPr>
              <a:xfrm>
                <a:off x="1619280" y="4548240"/>
                <a:ext cx="647928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cf9f49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41"/>
            <p:cNvSpPr/>
            <p:nvPr/>
          </p:nvSpPr>
          <p:spPr>
            <a:xfrm>
              <a:off x="2496600" y="4535640"/>
              <a:ext cx="48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леп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42"/>
            <p:cNvGrpSpPr/>
            <p:nvPr/>
          </p:nvGrpSpPr>
          <p:grpSpPr>
            <a:xfrm>
              <a:off x="1867320" y="4551480"/>
              <a:ext cx="522360" cy="428760"/>
              <a:chOff x="1867320" y="4551480"/>
              <a:chExt cx="522360" cy="428760"/>
            </a:xfrm>
          </p:grpSpPr>
          <p:sp>
            <p:nvSpPr>
              <p:cNvPr id="162" name="Oval 43"/>
              <p:cNvSpPr/>
              <p:nvPr/>
            </p:nvSpPr>
            <p:spPr>
              <a:xfrm>
                <a:off x="1867320" y="4551480"/>
                <a:ext cx="5223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44"/>
              <p:cNvSpPr/>
              <p:nvPr/>
            </p:nvSpPr>
            <p:spPr>
              <a:xfrm>
                <a:off x="1873800" y="4553640"/>
                <a:ext cx="5101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45"/>
              <p:cNvSpPr/>
              <p:nvPr/>
            </p:nvSpPr>
            <p:spPr>
              <a:xfrm>
                <a:off x="1879200" y="4557960"/>
                <a:ext cx="48492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46"/>
              <p:cNvSpPr/>
              <p:nvPr/>
            </p:nvSpPr>
            <p:spPr>
              <a:xfrm>
                <a:off x="1907640" y="4568760"/>
                <a:ext cx="4309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47"/>
            <p:cNvSpPr/>
            <p:nvPr/>
          </p:nvSpPr>
          <p:spPr>
            <a:xfrm>
              <a:off x="1884240" y="4535640"/>
              <a:ext cx="4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48" descr="untitledку4ц"/>
          <p:cNvPicPr/>
          <p:nvPr/>
        </p:nvPicPr>
        <p:blipFill>
          <a:blip r:embed="rId1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8" name="Picture 49" descr="linza1"/>
          <p:cNvPicPr/>
          <p:nvPr/>
        </p:nvPicPr>
        <p:blipFill>
          <a:blip r:embed="rId2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69" name="Picture 50" descr="porsche_002"/>
          <p:cNvPicPr/>
          <p:nvPr/>
        </p:nvPicPr>
        <p:blipFill>
          <a:blip r:embed="rId3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1"/>
          <p:cNvSpPr/>
          <p:nvPr/>
        </p:nvSpPr>
        <p:spPr>
          <a:xfrm>
            <a:off x="108000" y="1413000"/>
            <a:ext cx="8496360" cy="216036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7c92b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175"/>
                </a:solidFill>
                <a:latin typeface="Arial"/>
              </a:rPr>
              <a:t>Глобальные тенденции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Times New Roman"/>
              </a:rPr>
              <a:t>С начала 90-х годов в глобальных тенденциях проявляется снижение числа нарушения зрения во всем мире, а также изменение причин. Число случаев нарушения зрения и слепоты, вызываемых инфекционными заболеваниями, значительно сократилось (что указывает на успех международных медико-санитарных мероприятий), однако отмечается видимый прирост числа людей, страдающих слепотой или нарушениями зрения в связи с ростом продолжительност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1"/>
          <p:cNvPicPr/>
          <p:nvPr/>
        </p:nvPicPr>
        <p:blipFill>
          <a:blip r:embed="rId1"/>
          <a:srcRect l="0" t="0" r="0" b="28622"/>
          <a:stretch/>
        </p:blipFill>
        <p:spPr>
          <a:xfrm>
            <a:off x="7418520" y="4952880"/>
            <a:ext cx="170172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untitledку4ц"/>
          <p:cNvPicPr/>
          <p:nvPr/>
        </p:nvPicPr>
        <p:blipFill>
          <a:blip r:embed="rId2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Picture 9" descr="linza1"/>
          <p:cNvPicPr/>
          <p:nvPr/>
        </p:nvPicPr>
        <p:blipFill>
          <a:blip r:embed="rId3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76" name="Picture 10" descr="porsche_002"/>
          <p:cNvPicPr/>
          <p:nvPr/>
        </p:nvPicPr>
        <p:blipFill>
          <a:blip r:embed="rId4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7" name="AutoShape 12"/>
          <p:cNvSpPr/>
          <p:nvPr/>
        </p:nvSpPr>
        <p:spPr>
          <a:xfrm>
            <a:off x="179280" y="4797360"/>
            <a:ext cx="7201080" cy="194328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7c92b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250920" y="4941720"/>
            <a:ext cx="6985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Дальнозоркость - неспособность читать или выполнять работу вблизи, проявляющаяся с возрастом, является нарушением зрения. Это нарушение исправляется путем соответствующей коррекции. Масштабы распространенности этого нарушения неизвестны, однако предварительные исследования указывают на то, что проблема огромна, особенно в развивающихся странах.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4009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175"/>
                </a:solidFill>
                <a:latin typeface="Arial"/>
              </a:rPr>
              <a:t>Кто подвергается риску? 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 rot="5400000">
            <a:off x="3657240" y="3243240"/>
            <a:ext cx="1752840" cy="685800"/>
          </a:xfrm>
          <a:prstGeom prst="triangle">
            <a:avLst>
              <a:gd name="adj" fmla="val 50000"/>
            </a:avLst>
          </a:prstGeom>
          <a:solidFill>
            <a:srgbClr val="33517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698400" y="2436840"/>
            <a:ext cx="3416400" cy="689040"/>
            <a:chOff x="698400" y="2436840"/>
            <a:chExt cx="3416400" cy="689040"/>
          </a:xfrm>
        </p:grpSpPr>
        <p:sp>
          <p:nvSpPr>
            <p:cNvPr id="182" name="AutoShape 5"/>
            <p:cNvSpPr/>
            <p:nvPr/>
          </p:nvSpPr>
          <p:spPr>
            <a:xfrm>
              <a:off x="698400" y="24368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5b737"/>
                </a:gs>
                <a:gs pos="50000">
                  <a:srgbClr val="5da933"/>
                </a:gs>
                <a:gs pos="100000">
                  <a:srgbClr val="65b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706680" y="2458080"/>
              <a:ext cx="3403800" cy="636840"/>
              <a:chOff x="706680" y="2458080"/>
              <a:chExt cx="3403800" cy="636840"/>
            </a:xfrm>
          </p:grpSpPr>
          <p:sp>
            <p:nvSpPr>
              <p:cNvPr id="184" name="AutoShape 7"/>
              <p:cNvSpPr/>
              <p:nvPr/>
            </p:nvSpPr>
            <p:spPr>
              <a:xfrm>
                <a:off x="706680" y="29300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5b737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>
                <a:off x="706680" y="245808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7f4e0"/>
                  </a:gs>
                  <a:gs pos="100000">
                    <a:srgbClr val="65b73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9"/>
          <p:cNvGrpSpPr/>
          <p:nvPr/>
        </p:nvGrpSpPr>
        <p:grpSpPr>
          <a:xfrm>
            <a:off x="698400" y="3225960"/>
            <a:ext cx="3416400" cy="688680"/>
            <a:chOff x="698400" y="3225960"/>
            <a:chExt cx="3416400" cy="688680"/>
          </a:xfrm>
        </p:grpSpPr>
        <p:sp>
          <p:nvSpPr>
            <p:cNvPr id="187" name="AutoShape 10"/>
            <p:cNvSpPr/>
            <p:nvPr/>
          </p:nvSpPr>
          <p:spPr>
            <a:xfrm>
              <a:off x="698400" y="3225960"/>
              <a:ext cx="34164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f9f49"/>
                </a:gs>
                <a:gs pos="50000">
                  <a:srgbClr val="bf9343"/>
                </a:gs>
                <a:gs pos="100000">
                  <a:srgbClr val="cf9f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1"/>
            <p:cNvGrpSpPr/>
            <p:nvPr/>
          </p:nvGrpSpPr>
          <p:grpSpPr>
            <a:xfrm>
              <a:off x="706680" y="3247200"/>
              <a:ext cx="3403800" cy="636840"/>
              <a:chOff x="706680" y="3247200"/>
              <a:chExt cx="3403800" cy="636840"/>
            </a:xfrm>
          </p:grpSpPr>
          <p:sp>
            <p:nvSpPr>
              <p:cNvPr id="189" name="AutoShape 12"/>
              <p:cNvSpPr/>
              <p:nvPr/>
            </p:nvSpPr>
            <p:spPr>
              <a:xfrm>
                <a:off x="706680" y="371916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f9f4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>
                <a:off x="706680" y="32472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3e7d1"/>
                  </a:gs>
                  <a:gs pos="100000">
                    <a:srgbClr val="cf9f4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14"/>
          <p:cNvGrpSpPr/>
          <p:nvPr/>
        </p:nvGrpSpPr>
        <p:grpSpPr>
          <a:xfrm>
            <a:off x="698400" y="4006800"/>
            <a:ext cx="3416400" cy="689040"/>
            <a:chOff x="698400" y="4006800"/>
            <a:chExt cx="3416400" cy="689040"/>
          </a:xfrm>
        </p:grpSpPr>
        <p:sp>
          <p:nvSpPr>
            <p:cNvPr id="192" name="AutoShape 15"/>
            <p:cNvSpPr/>
            <p:nvPr/>
          </p:nvSpPr>
          <p:spPr>
            <a:xfrm>
              <a:off x="698400" y="400680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b93d5"/>
                </a:gs>
                <a:gs pos="50000">
                  <a:srgbClr val="4587c4"/>
                </a:gs>
                <a:gs pos="100000">
                  <a:srgbClr val="4b93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6"/>
            <p:cNvGrpSpPr/>
            <p:nvPr/>
          </p:nvGrpSpPr>
          <p:grpSpPr>
            <a:xfrm>
              <a:off x="706680" y="4028040"/>
              <a:ext cx="3403800" cy="636840"/>
              <a:chOff x="706680" y="4028040"/>
              <a:chExt cx="3403800" cy="636840"/>
            </a:xfrm>
          </p:grpSpPr>
          <p:sp>
            <p:nvSpPr>
              <p:cNvPr id="194" name="AutoShape 17"/>
              <p:cNvSpPr/>
              <p:nvPr/>
            </p:nvSpPr>
            <p:spPr>
              <a:xfrm>
                <a:off x="706680" y="45000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382d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>
                <a:off x="706680" y="402804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7f6"/>
                  </a:gs>
                  <a:gs pos="100000">
                    <a:srgbClr val="4b93d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19"/>
          <p:cNvSpPr/>
          <p:nvPr/>
        </p:nvSpPr>
        <p:spPr>
          <a:xfrm>
            <a:off x="1187280" y="25858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растной ф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5003640" y="2205000"/>
            <a:ext cx="3395880" cy="238464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7c92b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076720" y="2349360"/>
            <a:ext cx="323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сем мире около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31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иллионов человек страдают нарушениями зрения,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4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иллионов из них поражены слепото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685800" y="24922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684360" y="3213000"/>
            <a:ext cx="537840" cy="690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685800" y="407196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8" descr="untitledку4ц"/>
          <p:cNvPicPr/>
          <p:nvPr/>
        </p:nvPicPr>
        <p:blipFill>
          <a:blip r:embed="rId4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3" name="Picture 29" descr="linza1"/>
          <p:cNvPicPr/>
          <p:nvPr/>
        </p:nvPicPr>
        <p:blipFill>
          <a:blip r:embed="rId5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204" name="Picture 30" descr="porsche_002"/>
          <p:cNvPicPr/>
          <p:nvPr/>
        </p:nvPicPr>
        <p:blipFill>
          <a:blip r:embed="rId6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Text Box 31"/>
          <p:cNvSpPr/>
          <p:nvPr/>
        </p:nvSpPr>
        <p:spPr>
          <a:xfrm>
            <a:off x="1187280" y="328464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ндерный ф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1187280" y="4149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графический ф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3"/>
          <p:cNvGrpSpPr/>
          <p:nvPr/>
        </p:nvGrpSpPr>
        <p:grpSpPr>
          <a:xfrm>
            <a:off x="179280" y="4797360"/>
            <a:ext cx="8811360" cy="1944000"/>
            <a:chOff x="179280" y="4797360"/>
            <a:chExt cx="8811360" cy="1944000"/>
          </a:xfrm>
        </p:grpSpPr>
        <p:sp>
          <p:nvSpPr>
            <p:cNvPr id="208" name="Freeform 34"/>
            <p:cNvSpPr/>
            <p:nvPr/>
          </p:nvSpPr>
          <p:spPr>
            <a:xfrm>
              <a:off x="699480" y="5916960"/>
              <a:ext cx="7772040" cy="82440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5"/>
            <p:cNvSpPr/>
            <p:nvPr/>
          </p:nvSpPr>
          <p:spPr>
            <a:xfrm>
              <a:off x="179280" y="4797360"/>
              <a:ext cx="8811360" cy="1704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36"/>
          <p:cNvSpPr/>
          <p:nvPr/>
        </p:nvSpPr>
        <p:spPr>
          <a:xfrm>
            <a:off x="179280" y="4797360"/>
            <a:ext cx="87138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ной фактор: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Около 82% страдающих нарушениями зрения - это лица в возрасте 50 лет и старше (хотя они составляют лишь 19% населения планеты). 1,4 миллиона детей в возрасте до 15 лет будут страдать слепотой в течение многих лет. Помимо этого, более 12 миллионов детей в возрасте до 15 лет страдают нарушениями зрения по причине отсутствия коррекции рефракционных аномалий (близорукости, дальнозоркости или астигматизм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ндерный фактор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настойчиво указывают на то, что во всех регионах мира и по всем возрастным категориям женщины подвержены более значительному риску нарушений зрения, чем мужчи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ографический фактор: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Нарушения зрения не распределяются равномерно по всему миру. Приблизительно 87% лиц, страдающих нарушениями зрения, живет в развивающихся странах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175"/>
                </a:solidFill>
                <a:latin typeface="Arial"/>
              </a:rPr>
              <a:t>Причины слепоты 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 flipH="1">
            <a:off x="75492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346795"/>
              </a:gs>
              <a:gs pos="100000">
                <a:srgbClr val="4b93d5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4"/>
          <p:cNvSpPr/>
          <p:nvPr/>
        </p:nvSpPr>
        <p:spPr>
          <a:xfrm>
            <a:off x="304164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51922c"/>
              </a:gs>
              <a:gs pos="100000">
                <a:srgbClr val="65b737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5"/>
          <p:cNvSpPr/>
          <p:nvPr/>
        </p:nvSpPr>
        <p:spPr>
          <a:xfrm>
            <a:off x="75564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c382d0"/>
              </a:gs>
              <a:gs pos="100000">
                <a:srgbClr val="94639e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 flipH="1">
            <a:off x="304092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cf9f49"/>
              </a:gs>
              <a:gs pos="100000">
                <a:srgbClr val="896930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882800" y="279864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900000" y="2133720"/>
            <a:ext cx="1871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атаракта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помутнение хрусталика, препятствующее прохождению света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2167200" y="318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202200" y="318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2125800" y="4005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3205440" y="4005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8" descr="1"/>
          <p:cNvPicPr/>
          <p:nvPr/>
        </p:nvPicPr>
        <p:blipFill>
          <a:blip r:embed="rId1"/>
          <a:srcRect l="0" t="0" r="0" b="28615"/>
          <a:stretch/>
        </p:blipFill>
        <p:spPr>
          <a:xfrm>
            <a:off x="5413320" y="2708280"/>
            <a:ext cx="3706920" cy="4149720"/>
          </a:xfrm>
          <a:prstGeom prst="rect">
            <a:avLst/>
          </a:prstGeom>
          <a:ln w="0">
            <a:noFill/>
          </a:ln>
        </p:spPr>
      </p:pic>
      <p:sp>
        <p:nvSpPr>
          <p:cNvPr id="223" name="Oval 19"/>
          <p:cNvSpPr/>
          <p:nvPr/>
        </p:nvSpPr>
        <p:spPr>
          <a:xfrm>
            <a:off x="2627280" y="3573360"/>
            <a:ext cx="57636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0" descr="untitledку4ц"/>
          <p:cNvPicPr/>
          <p:nvPr/>
        </p:nvPicPr>
        <p:blipFill>
          <a:blip r:embed="rId2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25" name="Picture 21" descr="linza1"/>
          <p:cNvPicPr/>
          <p:nvPr/>
        </p:nvPicPr>
        <p:blipFill>
          <a:blip r:embed="rId3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226" name="Picture 22" descr="porsche_002"/>
          <p:cNvPicPr/>
          <p:nvPr/>
        </p:nvPicPr>
        <p:blipFill>
          <a:blip r:embed="rId4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7" name="Text Box 23"/>
          <p:cNvSpPr/>
          <p:nvPr/>
        </p:nvSpPr>
        <p:spPr>
          <a:xfrm>
            <a:off x="3132000" y="2205000"/>
            <a:ext cx="18716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лауко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группа заболеваний, приводящих к атрофии зрительного нерв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84360" y="4292640"/>
            <a:ext cx="2232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нескорректированные рефракционные аномал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близорукость, дальнозоркость или астигматизм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3419640" y="4076640"/>
            <a:ext cx="18716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егенерация желтого пятна, обусловленная возрас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зывающая утрату "центра зрения"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icture1"/>
          <p:cNvPicPr/>
          <p:nvPr/>
        </p:nvPicPr>
        <p:blipFill>
          <a:blip r:embed="rId1"/>
          <a:srcRect l="2378" t="19761" r="2509" b="9009"/>
          <a:stretch/>
        </p:blipFill>
        <p:spPr>
          <a:xfrm rot="5400000">
            <a:off x="19440" y="2038680"/>
            <a:ext cx="3465720" cy="3505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Picture1"/>
          <p:cNvPicPr/>
          <p:nvPr/>
        </p:nvPicPr>
        <p:blipFill>
          <a:blip r:embed="rId2"/>
          <a:srcRect l="2378" t="19761" r="2509" b="2674"/>
          <a:stretch/>
        </p:blipFill>
        <p:spPr>
          <a:xfrm rot="5400000">
            <a:off x="3036960" y="398160"/>
            <a:ext cx="5813280" cy="6400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175"/>
                </a:solidFill>
                <a:latin typeface="Arial"/>
              </a:rPr>
              <a:t>Профилактика</a:t>
            </a:r>
            <a:endParaRPr b="1" lang="en-US" sz="4000" spc="-1" strike="noStrike">
              <a:solidFill>
                <a:srgbClr val="335175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995640" y="1413000"/>
            <a:ext cx="51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382d0"/>
                </a:solidFill>
                <a:latin typeface="Times New Roman"/>
              </a:rPr>
              <a:t>В целом во всем мире 85% случаев нарушения зрения и 75% случаев слепоты поддаются профилактике или лечению благодар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Times New Roman"/>
              </a:rPr>
              <a:t>дальнейшему развитию офтальмологических служб, что способствовало более широкому доступу и экономической доступности обслужи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737"/>
                </a:solidFill>
                <a:latin typeface="Times New Roman"/>
              </a:rPr>
              <a:t>более решительным действиям руководителей стран, медицинских специалистов, частных и корпоративных партнеров в области профилактической и лечебной работы;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93d5"/>
                </a:solidFill>
                <a:latin typeface="Times New Roman"/>
              </a:rPr>
              <a:t>большей информированности пациентов и населения в целом и более частому обращению в офтальмологические службы;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93d5"/>
                </a:solidFill>
                <a:latin typeface="Times New Roman"/>
              </a:rPr>
              <a:t>осуществлению эффективных стратегий в области офтальмологии, направленных на ликвидацию инфекционных болезней, вызывающих утрат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4"/>
          <p:cNvGrpSpPr/>
          <p:nvPr/>
        </p:nvGrpSpPr>
        <p:grpSpPr>
          <a:xfrm>
            <a:off x="308160" y="1733040"/>
            <a:ext cx="3882240" cy="4178880"/>
            <a:chOff x="308160" y="1733040"/>
            <a:chExt cx="3882240" cy="4178880"/>
          </a:xfrm>
        </p:grpSpPr>
        <p:sp>
          <p:nvSpPr>
            <p:cNvPr id="235" name="AutoShape 15"/>
            <p:cNvSpPr/>
            <p:nvPr/>
          </p:nvSpPr>
          <p:spPr>
            <a:xfrm rot="279000">
              <a:off x="460440" y="187128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cf9f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6"/>
            <p:cNvSpPr/>
            <p:nvPr/>
          </p:nvSpPr>
          <p:spPr>
            <a:xfrm rot="15972600">
              <a:off x="298080" y="203364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65b73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7"/>
            <p:cNvSpPr/>
            <p:nvPr/>
          </p:nvSpPr>
          <p:spPr>
            <a:xfrm rot="10800000">
              <a:off x="460440" y="187164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4b93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8"/>
            <p:cNvSpPr/>
            <p:nvPr/>
          </p:nvSpPr>
          <p:spPr>
            <a:xfrm rot="5400000">
              <a:off x="298440" y="203328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c382d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19" descr="untitledку4ц"/>
          <p:cNvPicPr/>
          <p:nvPr/>
        </p:nvPicPr>
        <p:blipFill>
          <a:blip r:embed="rId3"/>
          <a:srcRect l="20880" t="0" r="0" b="-4579"/>
          <a:stretch/>
        </p:blipFill>
        <p:spPr>
          <a:xfrm>
            <a:off x="7524720" y="476280"/>
            <a:ext cx="608040" cy="608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40" name="Picture 20" descr="linza1"/>
          <p:cNvPicPr/>
          <p:nvPr/>
        </p:nvPicPr>
        <p:blipFill>
          <a:blip r:embed="rId4"/>
          <a:stretch/>
        </p:blipFill>
        <p:spPr>
          <a:xfrm>
            <a:off x="8213760" y="476280"/>
            <a:ext cx="608040" cy="5968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241" name="Picture 21" descr="porsche_002"/>
          <p:cNvPicPr/>
          <p:nvPr/>
        </p:nvPicPr>
        <p:blipFill>
          <a:blip r:embed="rId5"/>
          <a:srcRect l="12630" t="0" r="6089" b="0"/>
          <a:stretch/>
        </p:blipFill>
        <p:spPr>
          <a:xfrm>
            <a:off x="6804000" y="476280"/>
            <a:ext cx="649440" cy="59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9:00:46Z</dcterms:created>
  <dc:creator>user</dc:creator>
  <dc:description/>
  <dc:language>en-US</dc:language>
  <cp:lastModifiedBy>Tasha</cp:lastModifiedBy>
  <dcterms:modified xsi:type="dcterms:W3CDTF">2014-10-11T15:15:26Z</dcterms:modified>
  <cp:revision>6</cp:revision>
  <dc:subject/>
  <dc:title>10 октября 2010г.</dc:title>
</cp:coreProperties>
</file>