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275-6C78-4996-81E3-6E04EAAA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BA9-5A99-4572-B7BA-6934E35D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4DCA-E21D-49D9-84EB-05A4F86D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A994-0509-40D9-88E9-432550ED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6613-6E2B-4444-8691-CA47D500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A06-0828-4C47-81FB-6857BCA1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AC32-D9A1-4772-95DD-3BA7F006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7B8-C433-4250-A902-DDBD6842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A8F6-722A-4209-B4E2-AFFD54F0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8C24-BDC6-422B-A1FA-535FB6DF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EFB-8438-4F44-BA3A-C7300A4D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522-E52A-40D6-A56B-E6943723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A778-75A7-4DD6-B04B-C2A0BAAFD7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85840" y="500040"/>
            <a:ext cx="885816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ким должен бы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ОДИТЕЛЬ</a:t>
            </a: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lang="ru-RU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бы жить </a:t>
            </a:r>
            <a:r>
              <a:rPr b="0" lang="ru-RU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ЕПОСРЕДСТВЕННО </a:t>
            </a: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</a:t>
            </a:r>
            <a:r>
              <a:rPr b="0" lang="ru-RU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СПОКОЙН</a:t>
            </a:r>
            <a:r>
              <a:rPr b="0" lang="ru-RU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О</a:t>
            </a:r>
            <a:r>
              <a:rPr b="0" lang="ru-RU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 главное </a:t>
            </a:r>
            <a:r>
              <a:rPr b="0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ВОБОД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</a:t>
            </a:r>
            <a:r>
              <a:rPr b="0" lang="ru-RU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ЧАСТЛИВО</a:t>
            </a:r>
            <a:r>
              <a:rPr b="0" lang="ru-RU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Documents and Settings\Admin\Мои документы\Мои рисунки\психология_родители\rd01.jpg"/>
          <p:cNvPicPr/>
          <p:nvPr/>
        </p:nvPicPr>
        <p:blipFill>
          <a:blip r:embed="rId1"/>
          <a:stretch/>
        </p:blipFill>
        <p:spPr>
          <a:xfrm>
            <a:off x="5429160" y="4357800"/>
            <a:ext cx="364356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571680" y="5484960"/>
            <a:ext cx="8001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БАЛУЙТЕ МЕН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Admin\Мои документы\Мои рисунки\психология_родители\post-1953-1126694849_thumb.jpg"/>
          <p:cNvPicPr/>
          <p:nvPr/>
        </p:nvPicPr>
        <p:blipFill>
          <a:blip r:embed="rId1"/>
          <a:stretch/>
        </p:blipFill>
        <p:spPr>
          <a:xfrm>
            <a:off x="2597040" y="1042920"/>
            <a:ext cx="40528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571680" y="5143680"/>
            <a:ext cx="8001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БОЙТЕСЬ БЫТЬ ТВЁРДЫМИ СО МНО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:\Documents and Settings\Admin\Мои документы\Мои рисунки\психология_родители\090c64442748174609767f90c0705790.jpg"/>
          <p:cNvPicPr/>
          <p:nvPr/>
        </p:nvPicPr>
        <p:blipFill>
          <a:blip r:embed="rId1"/>
          <a:stretch/>
        </p:blipFill>
        <p:spPr>
          <a:xfrm>
            <a:off x="3500280" y="1214280"/>
            <a:ext cx="200052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571680" y="4857840"/>
            <a:ext cx="8001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 ПОЛАГАЙТЕ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ПРИМЕНЕНИЕ СИ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ОТНОШЕНИЯХ СО МН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:\Documents and Settings\Admin\Мои документы\Мои рисунки\психология_родители\777.jpg"/>
          <p:cNvPicPr/>
          <p:nvPr/>
        </p:nvPicPr>
        <p:blipFill>
          <a:blip r:embed="rId1"/>
          <a:stretch/>
        </p:blipFill>
        <p:spPr>
          <a:xfrm>
            <a:off x="2097000" y="1042920"/>
            <a:ext cx="488952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571680" y="4643280"/>
            <a:ext cx="8001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ДАВАЙТЕ  ОБЕЩАНИЙ, КОТОРЫЕ  НЕ  В  СИЛАХ ВЫПОЛНИ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Documents and Settings\Admin\Мои документы\Мои рисунки\психология_родители\ec48dabfea7b.jpg"/>
          <p:cNvPicPr/>
          <p:nvPr/>
        </p:nvPicPr>
        <p:blipFill>
          <a:blip r:embed="rId1"/>
          <a:stretch/>
        </p:blipFill>
        <p:spPr>
          <a:xfrm>
            <a:off x="2170080" y="1116000"/>
            <a:ext cx="49928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fec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57120" y="8571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 Будьте 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НГРУЭНТ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\Мои документы\Мои рисунки\психология_родители\emotions1.jpg"/>
          <p:cNvPicPr/>
          <p:nvPr/>
        </p:nvPicPr>
        <p:blipFill>
          <a:blip r:embed="rId1"/>
          <a:stretch/>
        </p:blipFill>
        <p:spPr>
          <a:xfrm>
            <a:off x="2500200" y="192888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fec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57120" y="857160"/>
            <a:ext cx="842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 Действуй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т  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СТОГО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к   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ОЖНО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\Мои документы\Мои рисунки\психология_родители\family01.jpg"/>
          <p:cNvPicPr/>
          <p:nvPr/>
        </p:nvPicPr>
        <p:blipFill>
          <a:blip r:embed="rId1"/>
          <a:stretch/>
        </p:blipFill>
        <p:spPr>
          <a:xfrm>
            <a:off x="1643040" y="257184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fec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357120" y="8571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3. НЕ «ВОСПИТЫВАЙТЕ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 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C:\Documents and Settings\Admin\Мои документы\Мои рисунки\психология_родители\1194443978_1194386937_ef5.jpg"/>
          <p:cNvPicPr/>
          <p:nvPr/>
        </p:nvPicPr>
        <p:blipFill>
          <a:blip r:embed="rId1"/>
          <a:stretch/>
        </p:blipFill>
        <p:spPr>
          <a:xfrm>
            <a:off x="2071800" y="2071800"/>
            <a:ext cx="428616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fec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357120" y="8571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4. ЛЮБИТЕ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ЕСТЕСТВЕН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\Мои документы\Мои рисунки\психология_родители\tumblr_l3c89yJzNi1qb6plo.jpg"/>
          <p:cNvPicPr/>
          <p:nvPr/>
        </p:nvPicPr>
        <p:blipFill>
          <a:blip r:embed="rId1"/>
          <a:stretch/>
        </p:blipFill>
        <p:spPr>
          <a:xfrm>
            <a:off x="1785960" y="1928880"/>
            <a:ext cx="57754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fec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57120" y="8571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5. НЕТ  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КАЗА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\Мои документы\Мои рисунки\психология_родители\6.jpg"/>
          <p:cNvPicPr/>
          <p:nvPr/>
        </p:nvPicPr>
        <p:blipFill>
          <a:blip r:embed="rId1"/>
          <a:stretch/>
        </p:blipFill>
        <p:spPr>
          <a:xfrm>
            <a:off x="2428920" y="1857240"/>
            <a:ext cx="378612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fec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357120" y="8571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6. НЕ ОТСТУПАЙ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C:\Documents and Settings\Admin\Мои документы\Мои рисунки\психология_родители\23-222.jpg"/>
          <p:cNvPicPr/>
          <p:nvPr/>
        </p:nvPicPr>
        <p:blipFill>
          <a:blip r:embed="rId1"/>
          <a:stretch/>
        </p:blipFill>
        <p:spPr>
          <a:xfrm>
            <a:off x="1428840" y="2214720"/>
            <a:ext cx="64720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fec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57120" y="8571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7. 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мечайте   сигн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Admin\Мои документы\Мои рисунки\психология_родители\mock.jpg"/>
          <p:cNvPicPr/>
          <p:nvPr/>
        </p:nvPicPr>
        <p:blipFill>
          <a:blip r:embed="rId1"/>
          <a:stretch/>
        </p:blipFill>
        <p:spPr>
          <a:xfrm>
            <a:off x="2143080" y="2228760"/>
            <a:ext cx="49291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fec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357120" y="8571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8. ПРОДАЖНАЯ ЛЮБОВ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Documents and Settings\Admin\Мои документы\Мои рисунки\психология_родители\764081.jpg"/>
          <p:cNvPicPr/>
          <p:nvPr/>
        </p:nvPicPr>
        <p:blipFill>
          <a:blip r:embed="rId1"/>
          <a:stretch/>
        </p:blipFill>
        <p:spPr>
          <a:xfrm>
            <a:off x="1714680" y="1928880"/>
            <a:ext cx="5181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5:47:01Z</dcterms:created>
  <dc:creator>Admin</dc:creator>
  <dc:description/>
  <dc:language>en-US</dc:language>
  <cp:lastModifiedBy>L314</cp:lastModifiedBy>
  <dcterms:modified xsi:type="dcterms:W3CDTF">2014-09-05T05:23:28Z</dcterms:modified>
  <cp:revision>16</cp:revision>
  <dc:subject/>
  <dc:title>Слайд 1</dc:title>
</cp:coreProperties>
</file>