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BEB-BB31-4F80-8FE8-6FCC3B75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5ED-F746-497B-B0AC-730BA152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86D-D0C3-40DA-80F9-11D76615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DFB-5FFC-4497-846F-91D3C9CC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3D6-059F-4AF4-AE2A-1EA782A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803-1753-4CB8-AB56-AF6BA647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45C-A87F-406D-A54A-711FFB3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408-6350-4D0F-A9C4-AC88A7EE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128-9EFD-4E40-99CF-52766533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82D-5E7E-4E72-B809-7B96274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B41-EE85-4A38-A860-C7A44F0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292-53FE-49C9-B500-18312243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917C-787F-49A7-A38E-D5DC204BB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500040"/>
            <a:ext cx="885816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им должен бы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ДИТЕЛЬ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жить </a:t>
            </a:r>
            <a:r>
              <a:rPr b="0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ПОСРЕДСТВЕННО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ПОКОЙН</a:t>
            </a:r>
            <a:r>
              <a:rPr b="0" lang="ru-RU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главное 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ОБОД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ЧАСТЛИВО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Documents and Settings\Admin\Мои документы\Мои рисунки\психология_родители\rd01.jpg"/>
          <p:cNvPicPr/>
          <p:nvPr/>
        </p:nvPicPr>
        <p:blipFill>
          <a:blip r:embed="rId1"/>
          <a:stretch/>
        </p:blipFill>
        <p:spPr>
          <a:xfrm>
            <a:off x="5429160" y="4357800"/>
            <a:ext cx="36435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71680" y="5484960"/>
            <a:ext cx="8001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АЛУЙТЕ МЕН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Admin\Мои документы\Мои рисунки\психология_родители\post-1953-1126694849_thumb.jpg"/>
          <p:cNvPicPr/>
          <p:nvPr/>
        </p:nvPicPr>
        <p:blipFill>
          <a:blip r:embed="rId1"/>
          <a:stretch/>
        </p:blipFill>
        <p:spPr>
          <a:xfrm>
            <a:off x="2597040" y="1042920"/>
            <a:ext cx="4052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71680" y="514368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БЫТЬ ТВЁРДЫМИ СО МН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Admin\Мои документы\Мои рисунки\психология_родители\090c64442748174609767f90c0705790.jpg"/>
          <p:cNvPicPr/>
          <p:nvPr/>
        </p:nvPicPr>
        <p:blipFill>
          <a:blip r:embed="rId1"/>
          <a:stretch/>
        </p:blipFill>
        <p:spPr>
          <a:xfrm>
            <a:off x="3500280" y="1214280"/>
            <a:ext cx="20005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571680" y="4857840"/>
            <a:ext cx="8001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ПОЛАГА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ИМЕНЕНИ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ТНОШЕНИЯХ СО МН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Documents and Settings\Admin\Мои документы\Мои рисунки\психология_родители\777.jpg"/>
          <p:cNvPicPr/>
          <p:nvPr/>
        </p:nvPicPr>
        <p:blipFill>
          <a:blip r:embed="rId1"/>
          <a:stretch/>
        </p:blipFill>
        <p:spPr>
          <a:xfrm>
            <a:off x="2097000" y="1042920"/>
            <a:ext cx="48895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71680" y="4643280"/>
            <a:ext cx="8001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АВАЙТЕ  ОБЕЩАНИЙ, КОТОРЫЕ  НЕ  В  СИЛАХ ВЫПОЛ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Admin\Мои документы\Мои рисунки\психология_родители\ec48dabfea7b.jpg"/>
          <p:cNvPicPr/>
          <p:nvPr/>
        </p:nvPicPr>
        <p:blipFill>
          <a:blip r:embed="rId1"/>
          <a:stretch/>
        </p:blipFill>
        <p:spPr>
          <a:xfrm>
            <a:off x="2170080" y="1116000"/>
            <a:ext cx="4992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Будьте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ГРУЭНТ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\Мои документы\Мои рисунки\психология_родители\emotions1.jpg"/>
          <p:cNvPicPr/>
          <p:nvPr/>
        </p:nvPicPr>
        <p:blipFill>
          <a:blip r:embed="rId1"/>
          <a:stretch/>
        </p:blipFill>
        <p:spPr>
          <a:xfrm>
            <a:off x="2500200" y="1928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7120" y="85716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Действу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ТОГО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к 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ОЖН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\Мои документы\Мои рисунки\психология_родители\family01.jpg"/>
          <p:cNvPicPr/>
          <p:nvPr/>
        </p:nvPicPr>
        <p:blipFill>
          <a:blip r:embed="rId1"/>
          <a:stretch/>
        </p:blipFill>
        <p:spPr>
          <a:xfrm>
            <a:off x="1643040" y="257184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НЕ «ВОСПИТЫВАЙТ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Admin\Мои документы\Мои рисунки\психология_родители\1194443978_1194386937_ef5.jpg"/>
          <p:cNvPicPr/>
          <p:nvPr/>
        </p:nvPicPr>
        <p:blipFill>
          <a:blip r:embed="rId1"/>
          <a:stretch/>
        </p:blipFill>
        <p:spPr>
          <a:xfrm>
            <a:off x="2071800" y="2071800"/>
            <a:ext cx="42861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ЛЮБИТЕ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ЕСТЕСТВЕ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Мои документы\Мои рисунки\психология_родители\tumblr_l3c89yJzNi1qb6plo.jpg"/>
          <p:cNvPicPr/>
          <p:nvPr/>
        </p:nvPicPr>
        <p:blipFill>
          <a:blip r:embed="rId1"/>
          <a:stretch/>
        </p:blipFill>
        <p:spPr>
          <a:xfrm>
            <a:off x="1785960" y="1928880"/>
            <a:ext cx="5775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НЕТ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КАЗ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Мои документы\Мои рисунки\психология_родители\6.jpg"/>
          <p:cNvPicPr/>
          <p:nvPr/>
        </p:nvPicPr>
        <p:blipFill>
          <a:blip r:embed="rId1"/>
          <a:stretch/>
        </p:blipFill>
        <p:spPr>
          <a:xfrm>
            <a:off x="2428920" y="1857240"/>
            <a:ext cx="37861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НЕ ОТСТУПАЙ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Documents and Settings\Admin\Мои документы\Мои рисунки\психология_родители\23-222.jpg"/>
          <p:cNvPicPr/>
          <p:nvPr/>
        </p:nvPicPr>
        <p:blipFill>
          <a:blip r:embed="rId1"/>
          <a:stretch/>
        </p:blipFill>
        <p:spPr>
          <a:xfrm>
            <a:off x="1428840" y="2214720"/>
            <a:ext cx="64720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чайте   сигн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Мои документы\Мои рисунки\психология_родители\mock.jpg"/>
          <p:cNvPicPr/>
          <p:nvPr/>
        </p:nvPicPr>
        <p:blipFill>
          <a:blip r:embed="rId1"/>
          <a:stretch/>
        </p:blipFill>
        <p:spPr>
          <a:xfrm>
            <a:off x="2143080" y="2228760"/>
            <a:ext cx="49291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8. ПРОДАЖНАЯ ЛЮБОВ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Admin\Мои документы\Мои рисунки\психология_родители\764081.jpg"/>
          <p:cNvPicPr/>
          <p:nvPr/>
        </p:nvPicPr>
        <p:blipFill>
          <a:blip r:embed="rId1"/>
          <a:stretch/>
        </p:blipFill>
        <p:spPr>
          <a:xfrm>
            <a:off x="1714680" y="1928880"/>
            <a:ext cx="5181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L314</cp:lastModifiedBy>
  <dcterms:modified xsi:type="dcterms:W3CDTF">2014-09-05T05:23:28Z</dcterms:modified>
  <cp:revision>16</cp:revision>
  <dc:subject/>
  <dc:title>Слайд 1</dc:title>
</cp:coreProperties>
</file>