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gif" ContentType="image/gif"/>
  <Override PartName="/ppt/media/image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262-E472-47E7-AE2C-9F3DAC504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E8D-602F-4630-A317-D93F2374B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FF4-3F7A-4621-B132-A74D2DD74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F902-5FB4-47EB-AF34-63F487525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0A5-9984-44AA-87C2-BA8FDCC41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0FB-0F89-435B-835F-D82A423D3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6133-4385-4BA5-9ADC-19F75ECF8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7669-2C53-4C1D-A6AF-8D4D99FB2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72A-DC20-4B80-A9EE-93F9E966B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DEF-FB13-4E69-8CBE-331EEF90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F18-36BA-45DA-B571-201E485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E1B-02F2-495E-9864-74658B39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16D-BC0F-44B4-B579-F99F382D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3653-D8A7-4373-940B-95D8F3F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6B9B-B18E-46D3-849F-BA57AECB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2385-3C4E-4363-813E-D53DE70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08FA-ACC3-425A-BDF7-DD082879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A4F3-BBEE-4D0F-8D8A-DA29FE9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1DE6-2781-41E4-A29D-25C8767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D303-14A3-444F-9E39-A4C2A3A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4A9-597B-4B1D-B692-DD6AC30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64BD-265B-4601-80B9-16560F99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F33F-C145-4F01-A608-8D4F38BA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736-8BC3-4AF4-BF70-E3948F4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A0D-5DF6-4518-89F5-D44D66FC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4793-B567-4E82-B33C-EC260BCA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746B-77C4-4936-A5F1-D56B530B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4A0F-C4DE-4EF1-8234-559145E1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5A09-83F2-4BFB-AA6E-04D89BE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4762-9FFD-427D-94F8-681F766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49F5-EAC5-40C8-B099-8DDE44D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014-C7CE-41B4-9B3D-66F91C5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DC97-E3ED-4783-9C6E-767ABC3E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E7DD-1EA9-4E07-8E9F-89390BA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780F-51CC-4544-B3A6-E9BFB12F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1FB0-27E4-4E5B-8550-5946C657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4959-9683-4A64-8DA3-F49463FA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0AD9-1D58-4816-881A-30B3AA5D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CFF4-2C48-4FD3-BB56-F2EE529C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6309-3AF4-4280-A61D-296CADD1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BAA2-82A0-4AA2-A3CB-518C758D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D5E8-8D10-4159-8884-AF8442CE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FCB-E90E-439A-8DA7-068CFEA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89A4-2F39-4457-ABB9-B094154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A5BA-0ADB-4A28-B1F3-BA15CF98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E718-6D8D-4C4E-97A7-F18538C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E1DC-7800-49B7-BDC7-0342C8C0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ED33-2CCB-4C87-9314-15F6BC90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986B-1275-4AB2-ABA4-F4F41850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AD5E-891D-43F9-90A1-13F849E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3301-DAF1-407B-8EFB-5E5555D2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DB8B-FB56-4BF2-A5AA-89311727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64E-ACB3-4261-BD3D-F74E184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8ED-1447-4B58-AD38-F3B8BD36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710-B6C4-4EAE-BDE8-D7E5C3F6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F2C-5551-4695-B1AC-74A4445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986-C4F2-40A5-A102-2E71D78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AA2-EFCF-4D6E-BDED-DA24B66AB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492-DE87-4C2E-93B3-AA4864900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B15-8708-49EF-B93E-5B07D39DB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319E-023A-4DBB-A72C-6AE480E91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9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9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1\Desktop\79129090_large_Princesas__21_.png"/>
          <p:cNvPicPr/>
          <p:nvPr/>
        </p:nvPicPr>
        <p:blipFill>
          <a:blip r:embed="rId1"/>
          <a:stretch/>
        </p:blipFill>
        <p:spPr>
          <a:xfrm>
            <a:off x="1819440" y="100080"/>
            <a:ext cx="5505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89"/>
          <p:cNvGrpSpPr/>
          <p:nvPr/>
        </p:nvGrpSpPr>
        <p:grpSpPr>
          <a:xfrm>
            <a:off x="5452200" y="3429000"/>
            <a:ext cx="1436760" cy="959760"/>
            <a:chOff x="5452200" y="3429000"/>
            <a:chExt cx="1436760" cy="959760"/>
          </a:xfrm>
        </p:grpSpPr>
        <p:sp>
          <p:nvSpPr>
            <p:cNvPr id="477" name="Oval 90"/>
            <p:cNvSpPr/>
            <p:nvPr/>
          </p:nvSpPr>
          <p:spPr>
            <a:xfrm>
              <a:off x="5638680" y="342900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1"/>
            <p:cNvSpPr/>
            <p:nvPr/>
          </p:nvSpPr>
          <p:spPr>
            <a:xfrm rot="493200">
              <a:off x="5486400" y="371772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480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3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31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5"/>
          <p:cNvSpPr/>
          <p:nvPr/>
        </p:nvSpPr>
        <p:spPr>
          <a:xfrm rot="493200">
            <a:off x="5508720" y="37893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2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 flipH="1">
            <a:off x="5003640" y="36450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2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515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518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521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74"/>
          <p:cNvGrpSpPr/>
          <p:nvPr/>
        </p:nvGrpSpPr>
        <p:grpSpPr>
          <a:xfrm>
            <a:off x="6516720" y="3645000"/>
            <a:ext cx="431280" cy="360000"/>
            <a:chOff x="6516720" y="3645000"/>
            <a:chExt cx="431280" cy="360000"/>
          </a:xfrm>
        </p:grpSpPr>
        <p:sp>
          <p:nvSpPr>
            <p:cNvPr id="524" name="Line 75"/>
            <p:cNvSpPr/>
            <p:nvPr/>
          </p:nvSpPr>
          <p:spPr>
            <a:xfrm>
              <a:off x="6516720" y="3645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6"/>
            <p:cNvSpPr/>
            <p:nvPr/>
          </p:nvSpPr>
          <p:spPr>
            <a:xfrm flipH="1">
              <a:off x="6516720" y="3645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78" descr="30"/>
          <p:cNvPicPr/>
          <p:nvPr/>
        </p:nvPicPr>
        <p:blipFill>
          <a:blip r:embed="rId1"/>
          <a:stretch/>
        </p:blipFill>
        <p:spPr>
          <a:xfrm>
            <a:off x="5796000" y="515772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9" descr="1-324"/>
          <p:cNvPicPr/>
          <p:nvPr/>
        </p:nvPicPr>
        <p:blipFill>
          <a:blip r:embed="rId2"/>
          <a:stretch/>
        </p:blipFill>
        <p:spPr>
          <a:xfrm>
            <a:off x="6443640" y="2997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81"/>
          <p:cNvSpPr/>
          <p:nvPr/>
        </p:nvSpPr>
        <p:spPr>
          <a:xfrm>
            <a:off x="6588000" y="3716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00" descr="img010"/>
          <p:cNvPicPr/>
          <p:nvPr/>
        </p:nvPicPr>
        <p:blipFill>
          <a:blip r:embed="rId3"/>
          <a:srcRect l="29771" t="9675" r="14421" b="44210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0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89"/>
          <p:cNvGrpSpPr/>
          <p:nvPr/>
        </p:nvGrpSpPr>
        <p:grpSpPr>
          <a:xfrm>
            <a:off x="5452200" y="3429000"/>
            <a:ext cx="1436760" cy="959760"/>
            <a:chOff x="5452200" y="3429000"/>
            <a:chExt cx="1436760" cy="959760"/>
          </a:xfrm>
        </p:grpSpPr>
        <p:sp>
          <p:nvSpPr>
            <p:cNvPr id="535" name="Oval 90"/>
            <p:cNvSpPr/>
            <p:nvPr/>
          </p:nvSpPr>
          <p:spPr>
            <a:xfrm>
              <a:off x="5638680" y="342900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1"/>
            <p:cNvSpPr/>
            <p:nvPr/>
          </p:nvSpPr>
          <p:spPr>
            <a:xfrm rot="493200">
              <a:off x="5486400" y="371772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538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31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5"/>
          <p:cNvSpPr/>
          <p:nvPr/>
        </p:nvSpPr>
        <p:spPr>
          <a:xfrm rot="493200">
            <a:off x="5508720" y="37893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2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 flipH="1">
            <a:off x="5003640" y="36450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5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6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2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573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576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579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74"/>
          <p:cNvGrpSpPr/>
          <p:nvPr/>
        </p:nvGrpSpPr>
        <p:grpSpPr>
          <a:xfrm>
            <a:off x="6516720" y="3645000"/>
            <a:ext cx="431280" cy="360000"/>
            <a:chOff x="6516720" y="3645000"/>
            <a:chExt cx="431280" cy="360000"/>
          </a:xfrm>
        </p:grpSpPr>
        <p:sp>
          <p:nvSpPr>
            <p:cNvPr id="582" name="Line 75"/>
            <p:cNvSpPr/>
            <p:nvPr/>
          </p:nvSpPr>
          <p:spPr>
            <a:xfrm>
              <a:off x="6516720" y="3645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76"/>
            <p:cNvSpPr/>
            <p:nvPr/>
          </p:nvSpPr>
          <p:spPr>
            <a:xfrm flipH="1">
              <a:off x="6516720" y="3645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78" descr="30"/>
          <p:cNvPicPr/>
          <p:nvPr/>
        </p:nvPicPr>
        <p:blipFill>
          <a:blip r:embed="rId1"/>
          <a:stretch/>
        </p:blipFill>
        <p:spPr>
          <a:xfrm>
            <a:off x="5796000" y="515772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9" descr="1-324"/>
          <p:cNvPicPr/>
          <p:nvPr/>
        </p:nvPicPr>
        <p:blipFill>
          <a:blip r:embed="rId2"/>
          <a:stretch/>
        </p:blipFill>
        <p:spPr>
          <a:xfrm>
            <a:off x="6443640" y="2997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81"/>
          <p:cNvSpPr/>
          <p:nvPr/>
        </p:nvSpPr>
        <p:spPr>
          <a:xfrm>
            <a:off x="6588000" y="3716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00" descr="img010"/>
          <p:cNvPicPr/>
          <p:nvPr/>
        </p:nvPicPr>
        <p:blipFill>
          <a:blip r:embed="rId3"/>
          <a:srcRect l="29771" t="9675" r="14421" b="44210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10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4" name="Прямая со стрелкой 10"/>
          <p:cNvCxnSpPr/>
          <p:nvPr/>
        </p:nvCxnSpPr>
        <p:spPr>
          <a:xfrm>
            <a:off x="1523520" y="116064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95" name="Прямая со стрелкой 11"/>
          <p:cNvCxnSpPr/>
          <p:nvPr/>
        </p:nvCxnSpPr>
        <p:spPr>
          <a:xfrm>
            <a:off x="3657240" y="12949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96" name="Прямая со стрелкой 12"/>
          <p:cNvCxnSpPr/>
          <p:nvPr/>
        </p:nvCxnSpPr>
        <p:spPr>
          <a:xfrm>
            <a:off x="5866920" y="131400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97" name="Прямая со стрелкой 13"/>
          <p:cNvCxnSpPr/>
          <p:nvPr/>
        </p:nvCxnSpPr>
        <p:spPr>
          <a:xfrm>
            <a:off x="8027640" y="130176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598" name="Прямая соединительная линия 14"/>
          <p:cNvSpPr/>
          <p:nvPr/>
        </p:nvSpPr>
        <p:spPr>
          <a:xfrm>
            <a:off x="1163520" y="4941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15"/>
          <p:cNvSpPr/>
          <p:nvPr/>
        </p:nvSpPr>
        <p:spPr>
          <a:xfrm>
            <a:off x="3297240" y="3645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16"/>
          <p:cNvSpPr/>
          <p:nvPr/>
        </p:nvSpPr>
        <p:spPr>
          <a:xfrm>
            <a:off x="5529240" y="24541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17"/>
          <p:cNvSpPr/>
          <p:nvPr/>
        </p:nvSpPr>
        <p:spPr>
          <a:xfrm>
            <a:off x="7667640" y="129528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4"/>
          <p:cNvSpPr txBox="1"/>
          <p:nvPr/>
        </p:nvSpPr>
        <p:spPr>
          <a:xfrm>
            <a:off x="793800" y="192240"/>
            <a:ext cx="8045280" cy="85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СВОИ ЗНАНИ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Горизонтальный свиток 4"/>
          <p:cNvSpPr/>
          <p:nvPr/>
        </p:nvSpPr>
        <p:spPr>
          <a:xfrm>
            <a:off x="395280" y="333360"/>
            <a:ext cx="8429760" cy="50720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а уроке я узнал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Самое трудное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4"/>
          <p:cNvSpPr txBox="1"/>
          <p:nvPr/>
        </p:nvSpPr>
        <p:spPr>
          <a:xfrm>
            <a:off x="1476360" y="260280"/>
            <a:ext cx="6599160" cy="858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 СЕБ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250920" y="1790640"/>
            <a:ext cx="6797520" cy="4525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</a:rPr>
              <a:t>ДОВОЛЬ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Calibri"/>
              </a:rPr>
              <a:t>НЕ СОВСЕМ ДОВОЛЬНЫ –</a:t>
            </a:r>
            <a:r>
              <a:rPr b="1" i="1" lang="ru-RU" sz="3600" spc="-1" strike="noStrike" u="sng">
                <a:solidFill>
                  <a:srgbClr val="0202f2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ЕДОВОЛЬНЫ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427640" y="1413000"/>
            <a:ext cx="1222200" cy="11509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020000" y="2884320"/>
            <a:ext cx="1222200" cy="1152720"/>
          </a:xfrm>
          <a:prstGeom prst="smileyFace">
            <a:avLst>
              <a:gd name="adj" fmla="val -27"/>
            </a:avLst>
          </a:prstGeom>
          <a:solidFill>
            <a:srgbClr val="ffff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4643280" y="4149720"/>
            <a:ext cx="1222560" cy="1224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2"/>
          <p:cNvSpPr/>
          <p:nvPr/>
        </p:nvSpPr>
        <p:spPr>
          <a:xfrm>
            <a:off x="5162400" y="382680"/>
            <a:ext cx="34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403200" y="341280"/>
            <a:ext cx="4559400" cy="2486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87360" y="2997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 букв, слогов и сл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2"/>
          <p:cNvGrpSpPr/>
          <p:nvPr/>
        </p:nvGrpSpPr>
        <p:grpSpPr>
          <a:xfrm>
            <a:off x="6062400" y="3406320"/>
            <a:ext cx="986040" cy="792360"/>
            <a:chOff x="6062400" y="3406320"/>
            <a:chExt cx="986040" cy="792360"/>
          </a:xfrm>
        </p:grpSpPr>
        <p:sp>
          <p:nvSpPr>
            <p:cNvPr id="181" name="Oval 30"/>
            <p:cNvSpPr/>
            <p:nvPr/>
          </p:nvSpPr>
          <p:spPr>
            <a:xfrm rot="21385800">
              <a:off x="6175800" y="3428640"/>
              <a:ext cx="74700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1"/>
            <p:cNvSpPr/>
            <p:nvPr/>
          </p:nvSpPr>
          <p:spPr>
            <a:xfrm rot="279000">
              <a:off x="6081480" y="3644640"/>
              <a:ext cx="94752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54000" y="5627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776160" y="4588560"/>
            <a:ext cx="1241640" cy="1105920"/>
            <a:chOff x="776160" y="4588560"/>
            <a:chExt cx="1241640" cy="1105920"/>
          </a:xfrm>
        </p:grpSpPr>
        <p:sp>
          <p:nvSpPr>
            <p:cNvPr id="190" name="Oval 10"/>
            <p:cNvSpPr/>
            <p:nvPr/>
          </p:nvSpPr>
          <p:spPr>
            <a:xfrm rot="1872000">
              <a:off x="884160" y="4856400"/>
              <a:ext cx="871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1471800">
              <a:off x="883800" y="4797360"/>
              <a:ext cx="109692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2"/>
          <p:cNvGrpSpPr/>
          <p:nvPr/>
        </p:nvGrpSpPr>
        <p:grpSpPr>
          <a:xfrm>
            <a:off x="2043000" y="836640"/>
            <a:ext cx="1015920" cy="1439640"/>
            <a:chOff x="2043000" y="836640"/>
            <a:chExt cx="1015920" cy="1439640"/>
          </a:xfrm>
        </p:grpSpPr>
        <p:sp>
          <p:nvSpPr>
            <p:cNvPr id="193" name="Oval 13"/>
            <p:cNvSpPr/>
            <p:nvPr/>
          </p:nvSpPr>
          <p:spPr>
            <a:xfrm>
              <a:off x="2043000" y="925560"/>
              <a:ext cx="93816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2432880" y="836640"/>
              <a:ext cx="62604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15"/>
          <p:cNvSpPr/>
          <p:nvPr/>
        </p:nvSpPr>
        <p:spPr>
          <a:xfrm flipH="1">
            <a:off x="1542600" y="1197000"/>
            <a:ext cx="18766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2266920" y="907920"/>
            <a:ext cx="27367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7"/>
          <p:cNvGrpSpPr/>
          <p:nvPr/>
        </p:nvGrpSpPr>
        <p:grpSpPr>
          <a:xfrm>
            <a:off x="3089160" y="1052640"/>
            <a:ext cx="545760" cy="358200"/>
            <a:chOff x="3089160" y="1052640"/>
            <a:chExt cx="545760" cy="358200"/>
          </a:xfrm>
        </p:grpSpPr>
        <p:sp>
          <p:nvSpPr>
            <p:cNvPr id="198" name="Line 18"/>
            <p:cNvSpPr/>
            <p:nvPr/>
          </p:nvSpPr>
          <p:spPr>
            <a:xfrm>
              <a:off x="3089160" y="1052640"/>
              <a:ext cx="54288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9"/>
            <p:cNvSpPr/>
            <p:nvPr/>
          </p:nvSpPr>
          <p:spPr>
            <a:xfrm flipH="1">
              <a:off x="3089160" y="1052640"/>
              <a:ext cx="54576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0"/>
          <p:cNvSpPr/>
          <p:nvPr/>
        </p:nvSpPr>
        <p:spPr>
          <a:xfrm>
            <a:off x="3257640" y="1125360"/>
            <a:ext cx="23472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1"/>
          <p:cNvGrpSpPr/>
          <p:nvPr/>
        </p:nvGrpSpPr>
        <p:grpSpPr>
          <a:xfrm>
            <a:off x="712800" y="4797360"/>
            <a:ext cx="545760" cy="358560"/>
            <a:chOff x="712800" y="4797360"/>
            <a:chExt cx="545760" cy="358560"/>
          </a:xfrm>
        </p:grpSpPr>
        <p:sp>
          <p:nvSpPr>
            <p:cNvPr id="202" name="Line 22"/>
            <p:cNvSpPr/>
            <p:nvPr/>
          </p:nvSpPr>
          <p:spPr>
            <a:xfrm>
              <a:off x="712800" y="4797360"/>
              <a:ext cx="5428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 flipH="1">
              <a:off x="712800" y="4797360"/>
              <a:ext cx="54576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Oval 24"/>
          <p:cNvSpPr/>
          <p:nvPr/>
        </p:nvSpPr>
        <p:spPr>
          <a:xfrm rot="1937400">
            <a:off x="6326280" y="4640040"/>
            <a:ext cx="6300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 flipV="1" rot="12019800">
            <a:off x="6070320" y="4564800"/>
            <a:ext cx="125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 flipH="1">
            <a:off x="6244920" y="3645000"/>
            <a:ext cx="70308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H="1">
            <a:off x="6638400" y="4437000"/>
            <a:ext cx="11732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3"/>
          <p:cNvSpPr/>
          <p:nvPr/>
        </p:nvSpPr>
        <p:spPr>
          <a:xfrm flipH="1">
            <a:off x="5668920" y="3500280"/>
            <a:ext cx="70344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4"/>
          <p:cNvSpPr/>
          <p:nvPr/>
        </p:nvSpPr>
        <p:spPr>
          <a:xfrm>
            <a:off x="2392200" y="2133720"/>
            <a:ext cx="23508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5560920" y="3933720"/>
            <a:ext cx="23508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2243160" y="2057400"/>
            <a:ext cx="545760" cy="360000"/>
            <a:chOff x="2243160" y="2057400"/>
            <a:chExt cx="545760" cy="360000"/>
          </a:xfrm>
        </p:grpSpPr>
        <p:sp>
          <p:nvSpPr>
            <p:cNvPr id="213" name="Line 37"/>
            <p:cNvSpPr/>
            <p:nvPr/>
          </p:nvSpPr>
          <p:spPr>
            <a:xfrm>
              <a:off x="2243160" y="205740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 flipH="1">
              <a:off x="2243160" y="205740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9"/>
          <p:cNvGrpSpPr/>
          <p:nvPr/>
        </p:nvGrpSpPr>
        <p:grpSpPr>
          <a:xfrm>
            <a:off x="5392800" y="3860640"/>
            <a:ext cx="545760" cy="360000"/>
            <a:chOff x="5392800" y="3860640"/>
            <a:chExt cx="545760" cy="360000"/>
          </a:xfrm>
        </p:grpSpPr>
        <p:sp>
          <p:nvSpPr>
            <p:cNvPr id="216" name="Line 40"/>
            <p:cNvSpPr/>
            <p:nvPr/>
          </p:nvSpPr>
          <p:spPr>
            <a:xfrm>
              <a:off x="5392800" y="386064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 flipH="1">
              <a:off x="5392800" y="386064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5"/>
          <p:cNvSpPr/>
          <p:nvPr/>
        </p:nvSpPr>
        <p:spPr>
          <a:xfrm>
            <a:off x="7819920" y="66294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248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252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259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271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80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282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285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288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292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296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299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305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322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325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328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332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336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345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347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352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355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358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373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376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379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384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388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395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402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407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412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414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420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424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72"/>
          <p:cNvGrpSpPr/>
          <p:nvPr/>
        </p:nvGrpSpPr>
        <p:grpSpPr>
          <a:xfrm>
            <a:off x="3093480" y="914400"/>
            <a:ext cx="2115360" cy="1008360"/>
            <a:chOff x="3093480" y="914400"/>
            <a:chExt cx="2115360" cy="1008360"/>
          </a:xfrm>
        </p:grpSpPr>
        <p:sp>
          <p:nvSpPr>
            <p:cNvPr id="432" name="Oval 73"/>
            <p:cNvSpPr/>
            <p:nvPr/>
          </p:nvSpPr>
          <p:spPr>
            <a:xfrm>
              <a:off x="3352680" y="914400"/>
              <a:ext cx="16207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74"/>
            <p:cNvSpPr/>
            <p:nvPr/>
          </p:nvSpPr>
          <p:spPr>
            <a:xfrm rot="493200">
              <a:off x="3124080" y="1202760"/>
              <a:ext cx="20541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2"/>
          <p:cNvSpPr/>
          <p:nvPr/>
        </p:nvSpPr>
        <p:spPr>
          <a:xfrm flipH="1">
            <a:off x="27428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0" descr="D:\Буквы\img025.jpg"/>
          <p:cNvPicPr/>
          <p:nvPr/>
        </p:nvPicPr>
        <p:blipFill>
          <a:blip r:embed="rId1"/>
          <a:srcRect l="33333" t="21590" r="27451" b="31366"/>
          <a:stretch/>
        </p:blipFill>
        <p:spPr>
          <a:xfrm>
            <a:off x="7315200" y="304920"/>
            <a:ext cx="1828800" cy="159516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52"/>
          <p:cNvGrpSpPr/>
          <p:nvPr/>
        </p:nvGrpSpPr>
        <p:grpSpPr>
          <a:xfrm>
            <a:off x="5417280" y="3446640"/>
            <a:ext cx="1436760" cy="959760"/>
            <a:chOff x="5417280" y="3446640"/>
            <a:chExt cx="1436760" cy="959760"/>
          </a:xfrm>
        </p:grpSpPr>
        <p:sp>
          <p:nvSpPr>
            <p:cNvPr id="443" name="Oval 53"/>
            <p:cNvSpPr/>
            <p:nvPr/>
          </p:nvSpPr>
          <p:spPr>
            <a:xfrm>
              <a:off x="5603760" y="344664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54"/>
            <p:cNvSpPr/>
            <p:nvPr/>
          </p:nvSpPr>
          <p:spPr>
            <a:xfrm rot="493200">
              <a:off x="5451480" y="373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56"/>
          <p:cNvSpPr/>
          <p:nvPr/>
        </p:nvSpPr>
        <p:spPr>
          <a:xfrm flipV="1" rot="12019800">
            <a:off x="482724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7"/>
          <p:cNvSpPr/>
          <p:nvPr/>
        </p:nvSpPr>
        <p:spPr>
          <a:xfrm rot="493200">
            <a:off x="5486400" y="380988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6"/>
          <p:cNvGrpSpPr/>
          <p:nvPr/>
        </p:nvGrpSpPr>
        <p:grpSpPr>
          <a:xfrm>
            <a:off x="5001120" y="4628520"/>
            <a:ext cx="1351440" cy="1057320"/>
            <a:chOff x="5001120" y="4628520"/>
            <a:chExt cx="1351440" cy="1057320"/>
          </a:xfrm>
        </p:grpSpPr>
        <p:sp>
          <p:nvSpPr>
            <p:cNvPr id="448" name="Oval 67"/>
            <p:cNvSpPr/>
            <p:nvPr/>
          </p:nvSpPr>
          <p:spPr>
            <a:xfrm rot="925200">
              <a:off x="508896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8"/>
            <p:cNvSpPr/>
            <p:nvPr/>
          </p:nvSpPr>
          <p:spPr>
            <a:xfrm rot="525600">
              <a:off x="502884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64"/>
          <p:cNvSpPr/>
          <p:nvPr/>
        </p:nvSpPr>
        <p:spPr>
          <a:xfrm flipH="1">
            <a:off x="5105520" y="3662280"/>
            <a:ext cx="583920" cy="1443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8"/>
          <p:cNvSpPr/>
          <p:nvPr/>
        </p:nvSpPr>
        <p:spPr>
          <a:xfrm flipV="1">
            <a:off x="6095880" y="3809520"/>
            <a:ext cx="609840" cy="1506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9"/>
          <p:cNvGrpSpPr/>
          <p:nvPr/>
        </p:nvGrpSpPr>
        <p:grpSpPr>
          <a:xfrm>
            <a:off x="4876560" y="4876920"/>
            <a:ext cx="456840" cy="360000"/>
            <a:chOff x="4876560" y="4876920"/>
            <a:chExt cx="456840" cy="360000"/>
          </a:xfrm>
        </p:grpSpPr>
        <p:sp>
          <p:nvSpPr>
            <p:cNvPr id="453" name="Line 60"/>
            <p:cNvSpPr/>
            <p:nvPr/>
          </p:nvSpPr>
          <p:spPr>
            <a:xfrm>
              <a:off x="4876920" y="4876920"/>
              <a:ext cx="4546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61"/>
            <p:cNvSpPr/>
            <p:nvPr/>
          </p:nvSpPr>
          <p:spPr>
            <a:xfrm flipH="1">
              <a:off x="4876560" y="4876920"/>
              <a:ext cx="456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8"/>
          <p:cNvSpPr/>
          <p:nvPr/>
        </p:nvSpPr>
        <p:spPr>
          <a:xfrm flipH="1">
            <a:off x="55627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9"/>
          <p:cNvGrpSpPr/>
          <p:nvPr/>
        </p:nvGrpSpPr>
        <p:grpSpPr>
          <a:xfrm>
            <a:off x="1721880" y="4424400"/>
            <a:ext cx="2042280" cy="1331640"/>
            <a:chOff x="1721880" y="4424400"/>
            <a:chExt cx="2042280" cy="1331640"/>
          </a:xfrm>
        </p:grpSpPr>
        <p:sp>
          <p:nvSpPr>
            <p:cNvPr id="457" name="Oval 70"/>
            <p:cNvSpPr/>
            <p:nvPr/>
          </p:nvSpPr>
          <p:spPr>
            <a:xfrm rot="925200">
              <a:off x="1844280" y="4685040"/>
              <a:ext cx="1573920" cy="877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1"/>
            <p:cNvSpPr/>
            <p:nvPr/>
          </p:nvSpPr>
          <p:spPr>
            <a:xfrm rot="525600">
              <a:off x="1752120" y="4572000"/>
              <a:ext cx="1981080" cy="55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Line 14"/>
          <p:cNvSpPr/>
          <p:nvPr/>
        </p:nvSpPr>
        <p:spPr>
          <a:xfrm flipH="1">
            <a:off x="1828440" y="3429000"/>
            <a:ext cx="685800" cy="160020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1"/>
          <p:cNvGrpSpPr/>
          <p:nvPr/>
        </p:nvGrpSpPr>
        <p:grpSpPr>
          <a:xfrm>
            <a:off x="1599840" y="4876920"/>
            <a:ext cx="502920" cy="360000"/>
            <a:chOff x="1599840" y="4876920"/>
            <a:chExt cx="502920" cy="360000"/>
          </a:xfrm>
        </p:grpSpPr>
        <p:sp>
          <p:nvSpPr>
            <p:cNvPr id="461" name="Line 32"/>
            <p:cNvSpPr/>
            <p:nvPr/>
          </p:nvSpPr>
          <p:spPr>
            <a:xfrm>
              <a:off x="160020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 flipH="1">
              <a:off x="159984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21"/>
          <p:cNvSpPr/>
          <p:nvPr/>
        </p:nvSpPr>
        <p:spPr>
          <a:xfrm flipV="1">
            <a:off x="3352680" y="1294920"/>
            <a:ext cx="1676520" cy="4038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5"/>
          <p:cNvSpPr/>
          <p:nvPr/>
        </p:nvSpPr>
        <p:spPr>
          <a:xfrm flipH="1">
            <a:off x="2590920" y="1066680"/>
            <a:ext cx="914400" cy="22100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2438280" y="3276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3"/>
          <p:cNvGrpSpPr/>
          <p:nvPr/>
        </p:nvGrpSpPr>
        <p:grpSpPr>
          <a:xfrm>
            <a:off x="3276360" y="914400"/>
            <a:ext cx="502920" cy="360000"/>
            <a:chOff x="3276360" y="914400"/>
            <a:chExt cx="502920" cy="360000"/>
          </a:xfrm>
        </p:grpSpPr>
        <p:sp>
          <p:nvSpPr>
            <p:cNvPr id="467" name="Line 24"/>
            <p:cNvSpPr/>
            <p:nvPr/>
          </p:nvSpPr>
          <p:spPr>
            <a:xfrm>
              <a:off x="327672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5"/>
            <p:cNvSpPr/>
            <p:nvPr/>
          </p:nvSpPr>
          <p:spPr>
            <a:xfrm flipH="1">
              <a:off x="327636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6"/>
          <p:cNvGrpSpPr/>
          <p:nvPr/>
        </p:nvGrpSpPr>
        <p:grpSpPr>
          <a:xfrm>
            <a:off x="4800240" y="1066680"/>
            <a:ext cx="502920" cy="360000"/>
            <a:chOff x="4800240" y="1066680"/>
            <a:chExt cx="502920" cy="360000"/>
          </a:xfrm>
        </p:grpSpPr>
        <p:sp>
          <p:nvSpPr>
            <p:cNvPr id="470" name="Line 27"/>
            <p:cNvSpPr/>
            <p:nvPr/>
          </p:nvSpPr>
          <p:spPr>
            <a:xfrm>
              <a:off x="4800600" y="10666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8"/>
            <p:cNvSpPr/>
            <p:nvPr/>
          </p:nvSpPr>
          <p:spPr>
            <a:xfrm flipH="1">
              <a:off x="4800240" y="10666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utoShape 63"/>
          <p:cNvSpPr/>
          <p:nvPr/>
        </p:nvSpPr>
        <p:spPr>
          <a:xfrm>
            <a:off x="5029200" y="4952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6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20:13Z</dcterms:created>
  <dc:creator>UserXP</dc:creator>
  <dc:description/>
  <dc:language>en-US</dc:language>
  <cp:lastModifiedBy>Мама</cp:lastModifiedBy>
  <dcterms:modified xsi:type="dcterms:W3CDTF">2015-10-07T12:21:52Z</dcterms:modified>
  <cp:revision>36</cp:revision>
  <dc:subject/>
  <dc:title>Слайд 1</dc:title>
</cp:coreProperties>
</file>