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3447-7F9A-46FF-967C-02FB2410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3FDE-75A1-454D-9BE0-9717C1DD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E87F-B318-48D7-83BE-41DFA6CE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1A6A-FC6D-4C68-A308-E38E82B6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BCA0-1348-4177-BB08-64F6C232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AB1A-ED06-40E8-8BE3-661B5810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28DF-68F9-4128-B4C8-FE255BE7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02CF-4D64-44DD-BFEA-34D3EFC4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44CA-A9D3-4515-96AD-B8F17025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9A6B-2367-4E8B-A22D-1E653DC7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B059-7CF9-4E6C-BF11-AFE81FB9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EA6B-D736-4ED9-83D2-C03EF3F7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3AAB-1EDE-4E12-AFE9-D8AD38FF93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Bookman Old Style"/>
              </a:rPr>
              <a:t>УЧЕБНАЯ ПРАКТИ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ookman Old Style"/>
              </a:rPr>
              <a:t>ПМ. 05 ПРИГОТОВЛЕНИЕ БЛЮД ИЗ  МЯСА  И  ДОМАШНЕЙ ПТИЦ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Bookman Old Style"/>
              </a:rPr>
              <a:t>Тема: Приготовление зраз отбив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Bookman Old Style"/>
              </a:rPr>
              <a:t>Мастер производственного обуч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Bookman Old Style"/>
              </a:rPr>
              <a:t>СПб ГБПОУ «Кронштадтский лицей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Bookman Old Style"/>
              </a:rPr>
              <a:t>Костюченко Елена Ивановна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368604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ffff"/>
                </a:solidFill>
                <a:latin typeface="Bookman Old Style"/>
              </a:rPr>
              <a:t>Формовка зраз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718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Свернуть мясо с начинкой колбаской и закрепить  шпажкой или перевязать  нит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4" descr="3175-zrazy-otbivnye-6"/>
          <p:cNvPicPr/>
          <p:nvPr/>
        </p:nvPicPr>
        <p:blipFill>
          <a:blip r:embed="rId1"/>
          <a:stretch/>
        </p:blipFill>
        <p:spPr>
          <a:xfrm>
            <a:off x="4356000" y="1143000"/>
            <a:ext cx="460872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571320"/>
            <a:ext cx="38289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Подготовленный  полуфабрикат поперчить, посоли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Разогреть на сковороде масло и  обжарить в нем зразы со всех сторо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4" descr="3175-zrazy-otbivnye-7"/>
          <p:cNvPicPr/>
          <p:nvPr/>
        </p:nvPicPr>
        <p:blipFill>
          <a:blip r:embed="rId1"/>
          <a:stretch/>
        </p:blipFill>
        <p:spPr>
          <a:xfrm>
            <a:off x="4067280" y="642960"/>
            <a:ext cx="48258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20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34671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Обжаренные  зразы выкладывают в  сотейн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Заливают водой или бульоном, добавляют пассированные  овощи: лук, морковь и томатное пю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Тушить  зразы  на  медленном  огне  в  течение ча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4" descr="sup_iz_govyadini_s_tminom-40319"/>
          <p:cNvPicPr/>
          <p:nvPr/>
        </p:nvPicPr>
        <p:blipFill>
          <a:blip r:embed="rId1"/>
          <a:stretch/>
        </p:blipFill>
        <p:spPr>
          <a:xfrm>
            <a:off x="4500720" y="1495440"/>
            <a:ext cx="418608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214200"/>
            <a:ext cx="404352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На  оставшемся после  тушения  бульоне, приготавливают  соус красный основ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Заливают им  зразы, добавляют душистый и черный  перец горошк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Тушить зразы при слабом кипении. 30-35 м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За 5-10 мин до готовности кладут лавровый ли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4" descr="1132815699-6717111"/>
          <p:cNvPicPr/>
          <p:nvPr/>
        </p:nvPicPr>
        <p:blipFill>
          <a:blip r:embed="rId1"/>
          <a:stretch/>
        </p:blipFill>
        <p:spPr>
          <a:xfrm>
            <a:off x="4714920" y="1282680"/>
            <a:ext cx="397188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00816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ffff"/>
                </a:solidFill>
                <a:latin typeface="Bookman Old Style"/>
              </a:rPr>
              <a:t>Подача блюд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28400" y="836640"/>
            <a:ext cx="425772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При отпуске на порционное блюдо или тарелку кладут гарнир рядом зразы по 2 штуки на 1 порцию, поливают соусом, в котором они тушились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На гарнир подают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каши рассыпчатые, рис отварной, пюре картофельно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Bookman Old Style"/>
              </a:rPr>
              <a:t>Приятного аппетита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5" descr="zrazi_otbivnie_-30673"/>
          <p:cNvPicPr/>
          <p:nvPr/>
        </p:nvPicPr>
        <p:blipFill>
          <a:blip r:embed="rId1"/>
          <a:stretch/>
        </p:blipFill>
        <p:spPr>
          <a:xfrm>
            <a:off x="4714920" y="0"/>
            <a:ext cx="4214880" cy="3357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Проверенный сыром ананасом и с вкусных отбивных "/>
          <p:cNvPicPr/>
          <p:nvPr/>
        </p:nvPicPr>
        <p:blipFill>
          <a:blip r:embed="rId2"/>
          <a:stretch/>
        </p:blipFill>
        <p:spPr>
          <a:xfrm>
            <a:off x="4714920" y="3643200"/>
            <a:ext cx="42148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ffff"/>
                </a:solidFill>
                <a:latin typeface="Bookman Old Style"/>
              </a:rPr>
              <a:t>Цель уро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Освоить технологию приготовления блюда из мяса, тушеного порционными кусками и оформление его для подач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ffff"/>
                </a:solidFill>
                <a:latin typeface="Bookman Old Style"/>
              </a:rPr>
              <a:t>Рецепт №288 зразы отбивные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57120" y="428760"/>
          <a:ext cx="8572680" cy="6564240"/>
        </p:xfrm>
        <a:graphic>
          <a:graphicData uri="http://schemas.openxmlformats.org/drawingml/2006/table">
            <a:tbl>
              <a:tblPr/>
              <a:tblGrid>
                <a:gridCol w="6681960"/>
                <a:gridCol w="995400"/>
                <a:gridCol w="89532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Продук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асса, г брутт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асса, 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нетт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7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Мясо: говядина (боковой и  наружный  куски тазобедренной части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Лук: репчат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пассерова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36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Жир животный топленый пищев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Яйц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или  грибы белые свеж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¼ 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36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Сухар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Петрушка ( зелень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Готовый фар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Готовый полуфабрика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Жир животный топленый пищев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Тушеные зраз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Томатное пюр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Мука пшенич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Лук репчат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Морков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Готовый соу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7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Вых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2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ffff"/>
                </a:solidFill>
                <a:latin typeface="Bookman Old Style"/>
              </a:rPr>
              <a:t>Оборудование и инвентарь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928440"/>
            <a:ext cx="82296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Плита электрическая 4 конфороч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Весы электро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Стол производствен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Ванна  моеч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Доски разделочные: СМ, СО, 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Сковорода чугу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Сотейни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Нож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Шпаж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Дуршлаг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Лотки для полуфабрикатов, специй, начин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Ми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Лож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2560" y="285840"/>
            <a:ext cx="31431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Нарезать из говяди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(бокового и наружного кусков тазобедренной части) или из свинины (лопаточной и шейной частей) порционные куски толщиной 1,5 с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4" descr="50a162"/>
          <p:cNvPicPr/>
          <p:nvPr/>
        </p:nvPicPr>
        <p:blipFill>
          <a:blip r:embed="rId1"/>
          <a:stretch/>
        </p:blipFill>
        <p:spPr>
          <a:xfrm>
            <a:off x="3963960" y="3429000"/>
            <a:ext cx="4751280" cy="272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835b26"/>
          <p:cNvPicPr/>
          <p:nvPr/>
        </p:nvPicPr>
        <p:blipFill>
          <a:blip r:embed="rId2"/>
          <a:stretch/>
        </p:blipFill>
        <p:spPr>
          <a:xfrm>
            <a:off x="3929040" y="285840"/>
            <a:ext cx="47862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Bookman Old Style"/>
              </a:rPr>
              <a:t>Отбить мясо до толщины 0,5-0,7 см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5" descr="354f94"/>
          <p:cNvPicPr/>
          <p:nvPr/>
        </p:nvPicPr>
        <p:blipFill>
          <a:blip r:embed="rId1"/>
          <a:stretch/>
        </p:blipFill>
        <p:spPr>
          <a:xfrm>
            <a:off x="4643280" y="2071800"/>
            <a:ext cx="4071960" cy="4000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shag31"/>
          <p:cNvPicPr/>
          <p:nvPr/>
        </p:nvPicPr>
        <p:blipFill>
          <a:blip r:embed="rId2"/>
          <a:stretch/>
        </p:blipFill>
        <p:spPr>
          <a:xfrm>
            <a:off x="500040" y="2071800"/>
            <a:ext cx="40006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54388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ffff"/>
                </a:solidFill>
                <a:latin typeface="Bookman Old Style"/>
              </a:rPr>
              <a:t>Требования к качеству полуфабрикат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4200" y="1071720"/>
            <a:ext cx="8715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Поверхность зраз должна быть незаветренная, цвет и запах -характерные для доброкачественного мяса. Не должно быть грубых сухожилий, хрящей, кровоподтеков, кос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Полуфабрикаты должны быть нарезаны поперек мышечных волокон. Поверхность мяса должна быть сухой и упруг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Размер готового полуфабриката зраз отбивных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длина не превышает 10 сантимет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ширина и высота не  превышают 6 сантимет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507204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ffff"/>
                </a:solidFill>
                <a:latin typeface="Bookman Old Style"/>
              </a:rPr>
              <a:t>   </a:t>
            </a:r>
            <a:r>
              <a:rPr b="1" i="1" lang="ru-RU" sz="2800" spc="-1" strike="noStrike">
                <a:solidFill>
                  <a:srgbClr val="e5ffff"/>
                </a:solidFill>
                <a:latin typeface="Bookman Old Style"/>
              </a:rPr>
              <a:t>Приготовление фарш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7120" y="928800"/>
            <a:ext cx="48578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Лук очистить и мелко нарезат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Грибы промыть и откинуть на   дуршла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Нарезать грибы небольшими куби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В разогретую со смесью сливочного и растительного масла сковороду выложить лук. Пассировать лук до готовности. Затем переложить в миск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В сковороду выложить грибы, посолить, поперчить и  обжарить до готовности 5 мину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Сварить яйца в крутую, охладить и поруби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Соединить вместе яйца, грибы и лу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Добавить измельченную зелень (петрушк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Добавить соль, перец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2" descr="2fffd0"/>
          <p:cNvPicPr/>
          <p:nvPr/>
        </p:nvPicPr>
        <p:blipFill>
          <a:blip r:embed="rId1"/>
          <a:stretch/>
        </p:blipFill>
        <p:spPr>
          <a:xfrm>
            <a:off x="5429160" y="0"/>
            <a:ext cx="3071880" cy="2357280"/>
          </a:xfrm>
          <a:prstGeom prst="rect">
            <a:avLst/>
          </a:prstGeom>
          <a:ln w="0">
            <a:noFill/>
          </a:ln>
        </p:spPr>
      </p:pic>
      <p:sp>
        <p:nvSpPr>
          <p:cNvPr id="64" name="Текст 10"/>
          <p:cNvSpPr/>
          <p:nvPr/>
        </p:nvSpPr>
        <p:spPr>
          <a:xfrm>
            <a:off x="214200" y="1587600"/>
            <a:ext cx="3403800" cy="46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Текст 10"/>
          <p:cNvSpPr/>
          <p:nvPr/>
        </p:nvSpPr>
        <p:spPr>
          <a:xfrm>
            <a:off x="762120" y="173988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3" descr="32134-3"/>
          <p:cNvPicPr/>
          <p:nvPr/>
        </p:nvPicPr>
        <p:blipFill>
          <a:blip r:embed="rId2"/>
          <a:stretch/>
        </p:blipFill>
        <p:spPr>
          <a:xfrm>
            <a:off x="5429160" y="2571840"/>
            <a:ext cx="3048120" cy="1928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32134-2"/>
          <p:cNvPicPr/>
          <p:nvPr/>
        </p:nvPicPr>
        <p:blipFill>
          <a:blip r:embed="rId3"/>
          <a:stretch/>
        </p:blipFill>
        <p:spPr>
          <a:xfrm>
            <a:off x="5429160" y="4699080"/>
            <a:ext cx="30718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757680" cy="79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ffff"/>
                </a:solidFill>
                <a:latin typeface="Bookman Old Style"/>
              </a:rPr>
              <a:t>Формовка зраз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1860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Выложить в центр куска мяса, 37 грамм фарш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4" descr="32134-4"/>
          <p:cNvPicPr/>
          <p:nvPr/>
        </p:nvPicPr>
        <p:blipFill>
          <a:blip r:embed="rId1"/>
          <a:stretch/>
        </p:blipFill>
        <p:spPr>
          <a:xfrm>
            <a:off x="4606920" y="285840"/>
            <a:ext cx="38941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20:57:54Z</dcterms:created>
  <dc:creator>User</dc:creator>
  <dc:description/>
  <dc:language>en-US</dc:language>
  <cp:lastModifiedBy>user1</cp:lastModifiedBy>
  <dcterms:modified xsi:type="dcterms:W3CDTF">2015-10-19T13:00:56Z</dcterms:modified>
  <cp:revision>15</cp:revision>
  <dc:subject/>
  <dc:title>Зразы отбивные</dc:title>
</cp:coreProperties>
</file>