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F1BF-A9CF-4AE1-B350-BDA6CD0D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A98C-58B2-41C8-A374-0BE7CB5F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92D2-8BDE-4E4E-A0FE-BA8C2A78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5366-6A2B-498F-96D0-0ED177F8E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A5D9-DA4D-4FC8-AE6F-DBCC60DF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DE74-B046-44DB-B200-F5C65E2C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FD9A-C98D-4AE3-849F-F452B1BA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0622-AB31-4269-AC4E-3C06DDE2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6DFF-E32D-423D-9EB7-4E6D7B93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A463-3524-4851-AEB8-F1A9F38A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191B-0272-4120-9D09-CF5ED86C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2215-5F97-45B2-B4F5-B7C4BA94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9B98-6CDB-42E7-A1E4-ABA455869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я создания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987640" y="3689280"/>
            <a:ext cx="28576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епенно Оле стал помогать его старший сын Годфрид – средний на фото. Сверху – Оле, а внизу – Кьел, третий в роду и текущий владелелец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рмы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1413000"/>
            <a:ext cx="808848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560" y="115560"/>
            <a:ext cx="87138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1946-м Оле купил на выставке формовочную машину для пластика… и постепенно начал делать пластиковые игрушки. Сначала маленьких мише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1528920"/>
            <a:ext cx="758052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40384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том и что-то покрупнее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4360" y="1301760"/>
            <a:ext cx="792000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епенно всё пришло к тому продукту, который мы знаем сейчас. Кстати, изначальная идея конструктора из кубиков Оле не принадлежала – он подсмотрел её на одной из выставок, однако постепенно они с сыном довели эту идею до ума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98560" y="1700280"/>
            <a:ext cx="756108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 детали конструкторов LEGO изготавливаются по определённому стандарту с высокой степенью точности (кубики, созданные в 2013 году, можно состыковать с кубиками, выпущенными в 1958),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97172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03280" y="765000"/>
            <a:ext cx="6602400" cy="5281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68360" y="33336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егоЛэнд в Д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235640" cy="5427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68360" y="33336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егоЛэнд в Д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6667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68360" y="33336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егоЛэнд в Д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68360" y="33336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егоЛэнд в Д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2120" y="73836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68360" y="33336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нструкторы Л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765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иони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68436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зе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оложен в том оригинальном доме, в Дании, где жил и работал основатель компании Оле Кристиансен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7080" y="1484280"/>
            <a:ext cx="756000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95440" y="260280"/>
            <a:ext cx="4407120" cy="6237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68360" y="33336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нструкторы Л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765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иони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жарная станц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56144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19280" y="620640"/>
            <a:ext cx="6049800" cy="6050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8360" y="33336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нструкторы Л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765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ех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8360" y="33336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нструкторы Л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765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ех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37064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50920" y="571680"/>
            <a:ext cx="6193080" cy="6192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68360" y="33336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нструкторы Л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765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ех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8360" y="33336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нструкторы Л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765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ех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49304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33336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нструкторы Л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765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ех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988320" cy="47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33336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нструкторы Л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765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ех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68360" y="33336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. первы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ботизированный набо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в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MINDSTORMS: The Robotics Invention System (RI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49520" y="1197000"/>
            <a:ext cx="399420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33336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массово выпускался до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самом деле, тот дом выглядел т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983640" cy="4670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9280" y="59414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начально у Оле была плотницкая мастерская. Однако, дела не всегда шли хорошо, и в 1932 году ему пришлось закрыть это де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20720" y="925560"/>
            <a:ext cx="5904000" cy="5888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68360" y="33336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006 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765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XT 2.0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осно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ны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одификации: сборка 8727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33336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нструкторы Л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765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XT 2.0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осно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ны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одификации: сборка 969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1665360"/>
            <a:ext cx="4380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8360" y="33336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нструкторы Л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765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XT 2.0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осно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ны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одификации: сборка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547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6345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ёртого января 2013 года LEGO представила третью версию популярного конструктора Mindstorms — EV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74680" y="1600200"/>
            <a:ext cx="6792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уть позже ему пришла идея попробовать себя в производстве игрушек. С такой деревянной утки всё и началось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2013120"/>
            <a:ext cx="688500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ичество игрушек постепенно росло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27000" y="1393920"/>
            <a:ext cx="724536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8000" y="-1324080"/>
            <a:ext cx="5440680" cy="813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1934-м родилось название компани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71640" y="1566720"/>
            <a:ext cx="720072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4000" y="-27000"/>
            <a:ext cx="4895640" cy="7316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92720" y="274320"/>
            <a:ext cx="374328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епенно уровень выручки рос, и Оле смог позволить купить деревообрабатывающийстанок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ичество игрушек продолжало расти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9640" y="1227240"/>
            <a:ext cx="813600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13:58:05Z</dcterms:created>
  <dc:creator>Admin</dc:creator>
  <dc:description/>
  <dc:language>en-US</dc:language>
  <cp:lastModifiedBy>Slava</cp:lastModifiedBy>
  <dcterms:modified xsi:type="dcterms:W3CDTF">2015-10-22T04:34:16Z</dcterms:modified>
  <cp:revision>26</cp:revision>
  <dc:subject/>
  <dc:title>Слайд 1</dc:title>
</cp:coreProperties>
</file>