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DD0-1B21-4C4E-A144-1482C1B6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67C-2B21-4A9B-BFB0-07204825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BBF-6496-48E6-840D-8248D1AF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2C5-FBD8-4456-8C3D-5ABAC2D2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789-1433-4783-9676-BBF11C7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1B3-EEC2-47F8-8CA1-7B83C58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C22-ADC3-4837-9C4C-76B67F31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264-22ED-4227-A209-8065223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002-AE51-4332-83E6-AC4B3B17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F59-BC80-48C7-8761-D20CF2C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C95-E589-44B4-A4DD-8E18E31E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63B-B3C4-4416-B067-BA87A405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64AC-81CC-4883-A088-9D7758B2C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создан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3689280"/>
            <a:ext cx="2857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 Оле стал помогать его старший сын Годфрид – средний на фото. Сверху – Оле, а внизу – Кьел, третий в роду и текущий владелеле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413000"/>
            <a:ext cx="80884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46-м Оле купил на выставке формовочную машину для пластика… и постепенно начал делать пластиковые игрушки. Сначала маленьких миш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528920"/>
            <a:ext cx="7580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ом и что-то покрупне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301760"/>
            <a:ext cx="7920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епенно всё пришло к тому продукту, который мы знаем сейчас. Кстати, изначальная идея конструктора из кубиков Оле не принадлежала – он подсмотрел её на одной из выставок, однако постепенно они с сыном довели эту идею до ум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8560" y="1700280"/>
            <a:ext cx="75610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детали конструкторов LEGO изготавливаются по определённому стандарту с высокой степенью точности (кубики, созданные в 2013 году, можно состыковать с кубиками, выпущенными в 1958),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9717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602400" cy="528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35640" cy="5427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66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гоЛэнд в 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738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он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843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 в том оригинальном доме, в Дании, где жил и работал основатель компании Оле Кристиансе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7080" y="1484280"/>
            <a:ext cx="756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95440" y="260280"/>
            <a:ext cx="4407120" cy="6237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он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жарная стан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14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49800" cy="605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3706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571680"/>
            <a:ext cx="6193080" cy="619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30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98832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 перв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ботизированный наб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INDSTORMS: The Robotics Invention System (R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49520" y="1197000"/>
            <a:ext cx="39942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ассово выпускался до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амом деле, тот дом выглядел 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983640" cy="467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59414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начально у Оле была плотницкая мастерская. Однако, дела не всегда шли хорошо, и в 1932 году ему пришлось закрыть это де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20720" y="925560"/>
            <a:ext cx="5904000" cy="588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6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XT 2.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н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ификации: сборка 8727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XT 2.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н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ификации: сборка 96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665360"/>
            <a:ext cx="438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33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трукторы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76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XT 2.0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н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ификации: сбор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54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6345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ёртого января 2013 года LEGO представила третью версию популярного конструктора Mindstorms — EV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ть позже ему пришла идея попробовать себя в производстве игрушек. С такой деревянной утки всё и началос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013120"/>
            <a:ext cx="6885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игрушек постепенно росло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27000" y="1393920"/>
            <a:ext cx="724536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-1324080"/>
            <a:ext cx="5440680" cy="813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934-м родилось название компан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1566720"/>
            <a:ext cx="7200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-27000"/>
            <a:ext cx="4895640" cy="7316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7432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уровень выручки рос, и Оле смог позволить купить деревообрабатывающийстано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игрушек продолжало раст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227240"/>
            <a:ext cx="8136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3:58:05Z</dcterms:created>
  <dc:creator>Admin</dc:creator>
  <dc:description/>
  <dc:language>en-US</dc:language>
  <cp:lastModifiedBy>Slava</cp:lastModifiedBy>
  <dcterms:modified xsi:type="dcterms:W3CDTF">2015-10-22T04:34:16Z</dcterms:modified>
  <cp:revision>26</cp:revision>
  <dc:subject/>
  <dc:title>Слайд 1</dc:title>
</cp:coreProperties>
</file>