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61B1-48DB-46CB-833C-DF06C654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70A-853D-4203-9C28-0BD989E8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ED7-0F20-4218-877E-250D37BE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475-B0EF-46A3-8DFA-058FC17F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6E75-5724-4564-8E71-1968E7E6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421B-A746-4B68-A79B-59BF9C05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8ED9-2B8C-48D1-96D4-031F1358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C624-CE27-4EDC-A249-3F435C15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1E3A-5B29-4E59-9A16-E4BF489A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DF51-91BF-43AE-A3E5-6D8BA7A2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2D67-D6D0-4289-A77A-6011C076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7B5-EAD7-4EDF-A8FB-8FF83646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52F8-7409-4822-9EF0-96CD30A3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8073-C538-45C9-816E-B514C28E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81A8-5967-40B3-B2CE-811EFA89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EAC8-4EA1-406A-B66F-B020A3C0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D81D-E8CE-4E78-A2CB-842FC67F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320C-74CF-44B7-99B7-491CCF4E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B20-6B8F-49D5-8B4E-18729E74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571-E92C-49BA-BF59-E1922C23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A585-A094-44D3-BA65-69FFC9E7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15C-703F-48F6-8D86-86A364DF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C70-4593-48DD-ADF6-D8ACC6DD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E2F6-CEE1-45BE-B81B-75DCD5CA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6D0E-5D91-437D-9FAF-E4177E1BFBB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E3E5-B1D8-4D7D-A11F-469B9A95888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250920" y="5013360"/>
            <a:ext cx="856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спитание альтруистичности у дошкольников</a:t>
            </a:r>
            <a:endParaRPr b="1" i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6600"/>
                </a:solidFill>
                <a:latin typeface="Monotype Corsiva"/>
              </a:rPr>
              <a:t>Пророк и длинные ложки</a:t>
            </a:r>
            <a:br>
              <a:rPr sz="5200"/>
            </a:br>
            <a:r>
              <a:rPr b="0" lang="en-US" sz="5200" spc="-1" strike="noStrike">
                <a:solidFill>
                  <a:srgbClr val="ff6600"/>
                </a:solidFill>
                <a:latin typeface="Monotype Corsiva"/>
              </a:rPr>
              <a:t>(восточная притча)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«Ад»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— это работа рядом друг с другом, но против друг друга; каждый только за себя самого и против других, 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«Рай»,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напротив, предполагает готовность вступать в позитивные отношения с другими. 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Обе группы — люди в раю и люди в аду — имеют одинаковые или похожие проблемы. Но где они живут — в раю или в аду, — зависит от того, как они  Эти проблемы пытаются решить.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Рай и ад — в нас самих. Мы имеем возможность выбирать.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Насколько велик этот шанс выбора, определяется большей частью нашим опытом, тем, как мы научились решать свои проблемы, и нашей готовностью использовать свой опыт.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468360" y="1125360"/>
            <a:ext cx="820728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6699"/>
                </a:solidFill>
                <a:latin typeface="Tahoma"/>
              </a:rPr>
              <a:t>	</a:t>
            </a:r>
            <a:r>
              <a:rPr b="1" i="1" lang="en-US" sz="3600" spc="-1" strike="noStrike">
                <a:solidFill>
                  <a:srgbClr val="006699"/>
                </a:solidFill>
                <a:latin typeface="Times New Roman"/>
              </a:rPr>
              <a:t>Всяк, кто желает иметь верных друзей, должен быть добрым и терпимым, проявляя внимание к чужим нуждам.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6699"/>
                </a:solidFill>
                <a:latin typeface="Times New Roman"/>
              </a:rPr>
              <a:t>Почет и уважение добываются не силой, а великодушием и готовностью поделиться с нуждающимся последним куском.</a:t>
            </a:r>
            <a:r>
              <a:rPr b="1" i="1" lang="en-US" sz="36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6699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99"/>
                </a:solidFill>
                <a:latin typeface="Times New Roman"/>
              </a:rPr>
              <a:t>Леонардо да Винчи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35280" cy="2727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00000" y="2277360"/>
            <a:ext cx="79218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006699"/>
                </a:solidFill>
                <a:latin typeface="Verdana"/>
              </a:rPr>
              <a:t>Альтруистичность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 — личностная черта, проявляющаяся в том, что ребенок совершает поступки, направленные на помощь другому человеку, не связанные сознательно с его собственными интересами, а обусловленные удовлетворением интересов другого человека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1927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cc"/>
                </a:solidFill>
                <a:uFillTx/>
                <a:latin typeface="Segoe Print"/>
              </a:rPr>
              <a:t>Источники развития альтруистичности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61466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1.Ситуационная эмпати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человеку (животному или другому объекту), попавшему в беду или затруднительное положение. 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3573360"/>
            <a:ext cx="579600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358080"/>
            <a:ext cx="6189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2.Сформированность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у человека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альтруистических чувств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, т.е. общей устойчивой эмоциональной ориентации на сопереживание, сочувствие другим людям.</a:t>
            </a:r>
            <a:r>
              <a:rPr b="0" lang="en-US" sz="2800" spc="-1" strike="noStrike">
                <a:solidFill>
                  <a:srgbClr val="006699"/>
                </a:solidFill>
                <a:latin typeface="Segoe Print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1927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cc"/>
                </a:solidFill>
                <a:uFillTx/>
                <a:latin typeface="Segoe Print"/>
              </a:rPr>
              <a:t>Источники развития альтруистичности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61466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оциальное научение. 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3348000" y="3573360"/>
            <a:ext cx="579600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2495880"/>
            <a:ext cx="618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Социальная   (нормативная) поддержка (оценка).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3716280"/>
            <a:ext cx="4219560" cy="2685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1927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cc"/>
                </a:solidFill>
                <a:uFillTx/>
                <a:latin typeface="Segoe Print"/>
              </a:rPr>
              <a:t>Этапы формирования альтруистичности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755280" y="1341360"/>
            <a:ext cx="74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cc"/>
                </a:solidFill>
                <a:uFillTx/>
                <a:latin typeface="Verdana"/>
              </a:rPr>
              <a:t>До 5 лет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– этап «Я сочувствую».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(этап эмпатии)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3564000" y="3429000"/>
            <a:ext cx="5796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3600360" cy="2401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9640" y="2421000"/>
            <a:ext cx="4464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2421000"/>
            <a:ext cx="4176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216432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Script MT Bold"/>
              </a:rPr>
              <a:t>Сочувствие и сопереживание животным, сказочным героям, людям, попавшим в затруднительную ситуацию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620800" cy="3095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1927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cc"/>
                </a:solidFill>
                <a:uFillTx/>
                <a:latin typeface="Segoe Print"/>
              </a:rPr>
              <a:t>Этапы формирования альтруистичности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755280" y="1341360"/>
            <a:ext cx="74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cc"/>
                </a:solidFill>
                <a:uFillTx/>
                <a:latin typeface="Verdana"/>
              </a:rPr>
              <a:t>5-6 лет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– этап «Я делюсь».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3429000"/>
            <a:ext cx="5796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2421000"/>
            <a:ext cx="4464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2421000"/>
            <a:ext cx="4176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2417760"/>
            <a:ext cx="460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Script MT Bold"/>
              </a:rPr>
              <a:t>У ребенка развивается готовность поделиться тем, что есть у ребенка в достаточном количестве, воспитание отзывчивости, не жадности, профилактика развития жадности.</a:t>
            </a:r>
            <a:r>
              <a:rPr b="0" lang="en-US" sz="1800" spc="-1" strike="noStrike">
                <a:solidFill>
                  <a:srgbClr val="006699"/>
                </a:solidFill>
                <a:latin typeface="Script MT Bold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95280" y="2471760"/>
            <a:ext cx="3600360" cy="2712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1927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cc"/>
                </a:solidFill>
                <a:uFillTx/>
                <a:latin typeface="Segoe Print"/>
              </a:rPr>
              <a:t>Этапы формирования альтруистичности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755280" y="1341360"/>
            <a:ext cx="74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cc"/>
                </a:solidFill>
                <a:uFillTx/>
                <a:latin typeface="Verdana"/>
              </a:rPr>
              <a:t>6-7 лет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– этап «Я помогаю».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3564000" y="3429000"/>
            <a:ext cx="5796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2421000"/>
            <a:ext cx="4464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2421000"/>
            <a:ext cx="4176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205344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Script MT Bold"/>
              </a:rPr>
              <a:t>Этап переживания, осознания и готовности к более сложным альтруистическим действиям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600360" cy="25700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3240000" cy="2619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02920" y="549360"/>
            <a:ext cx="6193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cc"/>
                </a:solidFill>
                <a:uFillTx/>
                <a:latin typeface="Segoe Print"/>
              </a:rPr>
              <a:t>Виды деятельности, способствующие развитию альтруистичности</a:t>
            </a:r>
            <a:endParaRPr b="1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755280" y="1341360"/>
            <a:ext cx="74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Сюжетно-ролевые игры;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Трудовая деятельность;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Работа над книгой;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Рассматривание картин;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Постановка кукольного театра;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3564000" y="3429000"/>
            <a:ext cx="5796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2421000"/>
            <a:ext cx="4464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2421000"/>
            <a:ext cx="4176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07:50:04Z</dcterms:created>
  <dc:creator>User</dc:creator>
  <dc:description/>
  <dc:language>en-US</dc:language>
  <cp:lastModifiedBy>User</cp:lastModifiedBy>
  <dcterms:modified xsi:type="dcterms:W3CDTF">2012-10-24T10:40:26Z</dcterms:modified>
  <cp:revision>16</cp:revision>
  <dc:subject/>
  <dc:title>Слайд 1</dc:title>
</cp:coreProperties>
</file>