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B33-8730-4F4C-8A66-E7418E0F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98E-14A9-4B58-A50E-66A3E64C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E08-6F37-4E06-84A1-A0FB8018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CCB-556A-4A1C-A2EE-164391B6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D8B2-F382-44CC-B0A7-D5E597A5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62A1-8516-4C01-8A9D-7F244F2A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084B-14A5-46AF-B904-BF4B6F86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DE1B-3D20-4FF3-8446-D6B1EE97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CFBE-60D2-4831-A323-925DB819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051E-0BDC-4201-A8BF-19CC10D6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A99E-35A0-4738-8B91-B21DD625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E3A-B1CF-4186-A0DA-ABCB249C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7A80-73F9-4E5D-95ED-A375C42B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5E01-F76F-4E03-9A9F-18060079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A52F-1FDB-4F5A-92BB-5C97C1F2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8CF2-0243-4CD3-9C5A-935F89CB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547C-6D39-40BB-84B1-FA62432D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C19-DB58-49BA-8B6D-1E123770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230-3E66-4D6B-8F7E-A4F98204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7C3-CB95-4462-9F44-BB0172AF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E25-7372-4456-8890-DFE46DB1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770-55C6-486B-940B-B8D7C757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F16-B71D-45D4-933E-19A5F9B2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013-D776-4061-9EDD-25D7A96A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BF22-3ED4-425D-ACEC-395852947EE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7324-6A6C-461B-B0AD-D7BF3CC5611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250920" y="5013360"/>
            <a:ext cx="85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спитание альтруистичности у дошкольников</a:t>
            </a:r>
            <a:endParaRPr b="1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6600"/>
                </a:solidFill>
                <a:latin typeface="Monotype Corsiva"/>
              </a:rPr>
              <a:t>Пророк и длинные ложки</a:t>
            </a:r>
            <a:br>
              <a:rPr sz="5200"/>
            </a:br>
            <a:r>
              <a:rPr b="0" lang="en-US" sz="5200" spc="-1" strike="noStrike">
                <a:solidFill>
                  <a:srgbClr val="ff6600"/>
                </a:solidFill>
                <a:latin typeface="Monotype Corsiva"/>
              </a:rPr>
              <a:t>(восточная притча)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«Ад»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— это работа рядом друг с другом, но против друг друга; каждый только за себя самого и против других, 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«Рай»,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напротив, предполагает готовность вступать в позитивные отношения с другими. 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Обе группы — люди в раю и люди в аду — имеют одинаковые или похожие проблемы. Но где они живут — в раю или в аду, — зависит от того, как они  Эти проблемы пытаются решить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Рай и ад — в нас самих. Мы имеем возможность выбирать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Насколько велик этот шанс выбора, определяется большей частью нашим опытом, тем, как мы научились решать свои проблемы, и нашей готовностью использовать свой опыт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468360" y="1125360"/>
            <a:ext cx="820728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6699"/>
                </a:solidFill>
                <a:latin typeface="Tahoma"/>
              </a:rPr>
              <a:t>	</a:t>
            </a: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Всяк, кто желает иметь верных друзей, должен быть добрым и терпимым, проявляя внимание к чужим нуждам.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Почет и уважение добываются не силой, а великодушием и готовностью поделиться с нуждающимся последним куском.</a:t>
            </a: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Леонардо да Винчи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35280" cy="2727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00000" y="2277360"/>
            <a:ext cx="79218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6699"/>
                </a:solidFill>
                <a:latin typeface="Verdana"/>
              </a:rPr>
              <a:t>Альтруистичность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 — личностная черта, проявляющаяся в том, что ребенок совершает поступки, направленные на помощь другому человеку, не связанные сознательно с его собственными интересами, а обусловленные удовлетворением интересов другого человека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1927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cc"/>
                </a:solidFill>
                <a:uFillTx/>
                <a:latin typeface="Segoe Print"/>
              </a:rPr>
              <a:t>Источники развития альтруистичности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61466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1.Ситуационная эмпат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человеку (животному или другому объекту), попавшему в беду или затруднительное положение.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3573360"/>
            <a:ext cx="57960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358080"/>
            <a:ext cx="6189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.Сформированность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у человека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альтруистических чувств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, т.е. общей устойчивой эмоциональной ориентации на сопереживание, сочувствие другим людям.</a:t>
            </a:r>
            <a:r>
              <a:rPr b="0" lang="en-US" sz="2800" spc="-1" strike="noStrike">
                <a:solidFill>
                  <a:srgbClr val="006699"/>
                </a:solidFill>
                <a:latin typeface="Segoe Print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1927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cc"/>
                </a:solidFill>
                <a:uFillTx/>
                <a:latin typeface="Segoe Print"/>
              </a:rPr>
              <a:t>Источники развития альтруистичности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61466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оциальное научение.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3573360"/>
            <a:ext cx="57960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2495880"/>
            <a:ext cx="618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Социальная   (нормативная) поддержка (оценка).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3716280"/>
            <a:ext cx="4219560" cy="2685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1927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cc"/>
                </a:solidFill>
                <a:uFillTx/>
                <a:latin typeface="Segoe Print"/>
              </a:rPr>
              <a:t>Этапы формирования альтруистичности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755280" y="1341360"/>
            <a:ext cx="74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cc"/>
                </a:solidFill>
                <a:uFillTx/>
                <a:latin typeface="Verdana"/>
              </a:rPr>
              <a:t>До 5 лет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– этап «Я сочувствую».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(этап эмпатии)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3564000" y="3429000"/>
            <a:ext cx="5796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3600360" cy="2401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9640" y="2421000"/>
            <a:ext cx="4464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2421000"/>
            <a:ext cx="417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216432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Script MT Bold"/>
              </a:rPr>
              <a:t>Сочувствие и сопереживание животным, сказочным героям, людям, попавшим в затруднительную ситуацию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20800" cy="3095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1927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cc"/>
                </a:solidFill>
                <a:uFillTx/>
                <a:latin typeface="Segoe Print"/>
              </a:rPr>
              <a:t>Этапы формирования альтруистичности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755280" y="1341360"/>
            <a:ext cx="74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cc"/>
                </a:solidFill>
                <a:uFillTx/>
                <a:latin typeface="Verdana"/>
              </a:rPr>
              <a:t>5-6 лет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– этап «Я делюсь».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3429000"/>
            <a:ext cx="5796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2421000"/>
            <a:ext cx="4464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2421000"/>
            <a:ext cx="417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2417760"/>
            <a:ext cx="46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Script MT Bold"/>
              </a:rPr>
              <a:t>У ребенка развивается готовность поделиться тем, что есть у ребенка в достаточном количестве, воспитание отзывчивости, не жадности, профилактика развития жадности.</a:t>
            </a:r>
            <a:r>
              <a:rPr b="0" lang="en-US" sz="1800" spc="-1" strike="noStrike">
                <a:solidFill>
                  <a:srgbClr val="006699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95280" y="2471760"/>
            <a:ext cx="3600360" cy="2712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1927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cc"/>
                </a:solidFill>
                <a:uFillTx/>
                <a:latin typeface="Segoe Print"/>
              </a:rPr>
              <a:t>Этапы формирования альтруистичности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755280" y="1341360"/>
            <a:ext cx="74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cc"/>
                </a:solidFill>
                <a:uFillTx/>
                <a:latin typeface="Verdana"/>
              </a:rPr>
              <a:t>6-7 лет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– этап «Я помогаю».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3564000" y="3429000"/>
            <a:ext cx="5796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2421000"/>
            <a:ext cx="4464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2421000"/>
            <a:ext cx="417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20534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Script MT Bold"/>
              </a:rPr>
              <a:t>Этап переживания, осознания и готовности к более сложным альтруистическим действиям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600360" cy="25700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3240000" cy="2619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6193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cc"/>
                </a:solidFill>
                <a:uFillTx/>
                <a:latin typeface="Segoe Print"/>
              </a:rPr>
              <a:t>Виды деятельности, способствующие развитию альтруистичности</a:t>
            </a:r>
            <a:endParaRPr b="1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755280" y="1341360"/>
            <a:ext cx="74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Сюжетно-ролевые игры;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Трудовая деятельность;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Работа над книгой;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Рассматривание картин;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Постановка кукольного театра;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3564000" y="3429000"/>
            <a:ext cx="5796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2421000"/>
            <a:ext cx="4464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2421000"/>
            <a:ext cx="417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07:50:04Z</dcterms:created>
  <dc:creator>User</dc:creator>
  <dc:description/>
  <dc:language>en-US</dc:language>
  <cp:lastModifiedBy>User</cp:lastModifiedBy>
  <dcterms:modified xsi:type="dcterms:W3CDTF">2012-10-24T10:40:26Z</dcterms:modified>
  <cp:revision>16</cp:revision>
  <dc:subject/>
  <dc:title>Слайд 1</dc:title>
</cp:coreProperties>
</file>