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5.gif" ContentType="image/gif"/>
  <Override PartName="/ppt/media/image53.gif" ContentType="image/gif"/>
  <Override PartName="/ppt/media/image40.jpeg" ContentType="image/jpeg"/>
  <Override PartName="/ppt/media/image50.gif" ContentType="image/gif"/>
  <Override PartName="/ppt/media/image48.gif" ContentType="image/gif"/>
  <Override PartName="/ppt/media/image47.jpeg" ContentType="image/jpeg"/>
  <Override PartName="/ppt/media/image68.png" ContentType="image/png"/>
  <Override PartName="/ppt/media/image45.jpeg" ContentType="image/jpeg"/>
  <Override PartName="/ppt/media/image52.gif" ContentType="image/gif"/>
  <Override PartName="/ppt/media/image20.jpeg" ContentType="image/jpeg"/>
  <Override PartName="/ppt/media/image44.jpeg" ContentType="image/jpeg"/>
  <Override PartName="/ppt/media/image43.jpeg" ContentType="image/jpeg"/>
  <Override PartName="/ppt/media/image93.png" ContentType="image/png"/>
  <Override PartName="/ppt/media/image42.jpeg" ContentType="image/jpeg"/>
  <Override PartName="/ppt/media/image15.gif" ContentType="image/gif"/>
  <Override PartName="/ppt/media/image3.gif" ContentType="image/gif"/>
  <Override PartName="/ppt/media/image83.png" ContentType="image/png"/>
  <Override PartName="/ppt/media/image51.gif" ContentType="image/gif"/>
  <Override PartName="/ppt/media/image37.jpeg" ContentType="image/jpeg"/>
  <Override PartName="/ppt/media/image34.png" ContentType="image/png"/>
  <Override PartName="/ppt/media/image33.jpeg" ContentType="image/jpeg"/>
  <Override PartName="/ppt/media/image32.jpeg" ContentType="image/jpeg"/>
  <Override PartName="/ppt/media/image30.jpeg" ContentType="image/jpeg"/>
  <Override PartName="/ppt/media/image49.gif" ContentType="image/gif"/>
  <Override PartName="/ppt/media/image12.gif" ContentType="image/gif"/>
  <Override PartName="/ppt/media/image80.png" ContentType="image/png"/>
  <Override PartName="/ppt/media/image59.png" ContentType="image/png"/>
  <Override PartName="/ppt/media/image56.gif" ContentType="image/gif"/>
  <Override PartName="/ppt/media/image24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8.png" ContentType="image/png"/>
  <Override PartName="/ppt/media/image16.gif" ContentType="image/gif"/>
  <Override PartName="/ppt/media/image84.png" ContentType="image/png"/>
  <Override PartName="/ppt/media/image21.jpeg" ContentType="image/jpeg"/>
  <Override PartName="/ppt/media/image65.png" ContentType="image/png"/>
  <Override PartName="/ppt/media/image66.png" ContentType="image/png"/>
  <Override PartName="/ppt/media/image41.jpeg" ContentType="image/jpeg"/>
  <Override PartName="/ppt/media/image19.gif" ContentType="image/gif"/>
  <Override PartName="/ppt/media/image87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31.jpeg" ContentType="image/jpeg"/>
  <Override PartName="/ppt/media/image86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7.png" ContentType="image/png"/>
  <Override PartName="/ppt/media/image92.png" ContentType="image/png"/>
  <Override PartName="/ppt/media/image69.png" ContentType="image/png"/>
  <Override PartName="/ppt/media/image25.jpeg" ContentType="image/jpeg"/>
  <Override PartName="/ppt/media/image79.png" ContentType="image/png"/>
  <Override PartName="/ppt/media/image26.jpeg" ContentType="image/jpeg"/>
  <Override PartName="/ppt/media/image89.png" ContentType="image/png"/>
  <Override PartName="/ppt/media/image77.png" ContentType="image/png"/>
  <Override PartName="/ppt/media/image4.jpeg" ContentType="image/jpeg"/>
  <Override PartName="/ppt/media/image90.png" ContentType="image/png"/>
  <Override PartName="/ppt/media/image76.png" ContentType="image/png"/>
  <Override PartName="/ppt/media/image74.png" ContentType="image/png"/>
  <Override PartName="/ppt/media/image78.png" ContentType="image/png"/>
  <Override PartName="/ppt/media/image18.jpeg" ContentType="image/jpeg"/>
  <Override PartName="/ppt/media/image73.png" ContentType="image/png"/>
  <Override PartName="/ppt/media/image70.png" ContentType="image/png"/>
  <Override PartName="/ppt/media/image75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7.jpeg" ContentType="image/jpeg"/>
  <Override PartName="/ppt/media/image81.png" ContentType="image/png"/>
  <Override PartName="/ppt/media/image13.gif" ContentType="image/gif"/>
  <Override PartName="/ppt/media/image17.gif" ContentType="image/gif"/>
  <Override PartName="/ppt/media/image85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54.gif" ContentType="image/gif"/>
  <Override PartName="/ppt/media/image57.png" ContentType="image/png"/>
  <Override PartName="/ppt/media/image5.jpeg" ContentType="image/jpeg"/>
  <Override PartName="/ppt/media/image61.png" ContentType="image/png"/>
  <Override PartName="/ppt/media/image38.jpeg" ContentType="image/jpeg"/>
  <Override PartName="/ppt/media/image72.png" ContentType="image/png"/>
  <Override PartName="/ppt/media/image29.jpeg" ContentType="image/jpeg"/>
  <Override PartName="/ppt/media/image27.jpeg" ContentType="image/jpeg"/>
  <Override PartName="/ppt/media/image10.jpeg" ContentType="image/jpeg"/>
  <Override PartName="/ppt/media/image91.png" ContentType="image/png"/>
  <Override PartName="/ppt/media/image8.jpeg" ContentType="image/jpeg"/>
  <Override PartName="/ppt/media/image14.gif" ContentType="image/gif"/>
  <Override PartName="/ppt/media/image39.jpeg" ContentType="image/jpeg"/>
  <Override PartName="/ppt/media/image8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4FB7-2345-497A-B994-B3B4284CB1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A624-A7E4-403F-A336-9806A14AA8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D60A-3B65-4F3D-90AC-22ECDD68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3DE-A970-46C2-94EB-F37E1BC2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9ED-1EEB-4CF7-A6AB-C7A7520B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590B-AD1D-476A-B5B0-C89BF5A8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32C0-D0E2-43BA-A823-1AFFB514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B82D-80B1-45EC-ADA7-1DB8AC06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77DE-BC65-4D99-92FF-A2B1888F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6897-B9D6-4833-A0BC-AFAD526B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C8A0-32AB-4906-8884-71BABDD9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34F9-AEEC-498A-9E41-A105AE01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A7C4-EE34-410F-AF16-E9738574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EFC-74D7-4D85-9907-787AF9F6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92D3-1C9D-4BCE-8FBD-994026D6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318C-478F-4818-994D-B929BEF2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FF62-7406-4EF2-B6FB-A3572ACE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4946-67E1-4033-BE97-5B3C3782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7A43-4877-47B8-A224-4BD3249A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8A5-3600-4183-9CA2-BD69CAE2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41A-38A1-478D-BBF0-9A10BBD2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D07-84D3-4E28-B71A-2F074406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ED0-14A3-40F9-8BE5-0ADD7EF9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AA2-EE83-4EEC-8727-7D03AF96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18F-F427-4B2C-B07C-FBC1C65B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F08-7713-4A1A-8945-1BC2338B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41DD-6316-467E-BCE4-8FAEC2593F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4ACA-C75E-4185-92D4-AA9443116B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53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7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АВТОМОБИЛЬ. ДОРОГА. ПЕШЕХОД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H:\Documents and Settings\Гость\Рабочий стол\ZCB2FCAJ1FV8ICAUWQGJACAASE4CECA4YGHJCCAN8QIVICA239LW0CAKAO8MGCASY14YPCAR3OK39CAEQTS2TCAZ54D9MCACSFY70CA4GVUMICADXKHC6CA3M24GQCAZ8UTLXCAVTQQF6CA4HSS1CCAXRSBON.jpg"/>
          <p:cNvPicPr/>
          <p:nvPr/>
        </p:nvPicPr>
        <p:blipFill>
          <a:blip r:embed="rId1"/>
          <a:stretch/>
        </p:blipFill>
        <p:spPr>
          <a:xfrm>
            <a:off x="6000840" y="2214720"/>
            <a:ext cx="2928960" cy="340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:\Documents and Settings\Гость\Рабочий стол\transport031.gif"/>
          <p:cNvPicPr/>
          <p:nvPr/>
        </p:nvPicPr>
        <p:blipFill>
          <a:blip r:embed="rId2"/>
          <a:stretch/>
        </p:blipFill>
        <p:spPr>
          <a:xfrm>
            <a:off x="0" y="142920"/>
            <a:ext cx="1357200" cy="26431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9"/>
          <p:cNvSpPr/>
          <p:nvPr/>
        </p:nvSpPr>
        <p:spPr>
          <a:xfrm>
            <a:off x="214200" y="2828880"/>
            <a:ext cx="5357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исциплина на улицах, дорогах и в транспорте  - залог безопас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земный железнодорож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H:\Documents and Settings\Гость\Рабочий стол\GAGAECAF6Y2TPCAXAMZNHCA8G761ECAQF3KI5CAO8SWPJCAVO3T0FCAHDH43XCACEAWRFCA2PVSXKCAP9MYB6CAT2FKFZCA9IJS3BCAUEBNB2CAU1RL1HCA2QWO08CAPMAVL7CA1RUR7JCA1TIT0KCA14U03W.jpg"/>
          <p:cNvPicPr/>
          <p:nvPr/>
        </p:nvPicPr>
        <p:blipFill>
          <a:blip r:embed="rId1"/>
          <a:stretch/>
        </p:blipFill>
        <p:spPr>
          <a:xfrm>
            <a:off x="5572080" y="1643040"/>
            <a:ext cx="2786040" cy="235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H:\Documents and Settings\Гость\Рабочий стол\CRXBRCAJY72V3CAOGM4GZCACB22NUCAFASB6GCAC25JZFCAPNAJ55CAU5F5S4CA6AAYSLCAMVTE1XCAUAK90ICASFS4KNCA56M97DCAXSLQAZCA4VLN2NCASKSO4TCA4GU96JCANO89WTCAZVRZ1RCA0JTAQC.jpg"/>
          <p:cNvPicPr/>
          <p:nvPr/>
        </p:nvPicPr>
        <p:blipFill>
          <a:blip r:embed="rId2"/>
          <a:stretch/>
        </p:blipFill>
        <p:spPr>
          <a:xfrm>
            <a:off x="214200" y="1643040"/>
            <a:ext cx="2071800" cy="235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:\Documents and Settings\Гость\Рабочий стол\CO8YRCA8JNSNFCAJBXJA4CAHGP4INCAT85QX1CA3PT69LCANH6QBNCA4KIPZZCAUCUC0XCA3PT905CAHMXA71CAVGIP11CARVZCBLCA0H9VWZCAPBZX5QCA2OIDXICA2W1VRRCAH2BUGLCARKV68PCAPK4O31.jpg"/>
          <p:cNvPicPr/>
          <p:nvPr/>
        </p:nvPicPr>
        <p:blipFill>
          <a:blip r:embed="rId3"/>
          <a:stretch/>
        </p:blipFill>
        <p:spPr>
          <a:xfrm>
            <a:off x="214200" y="4214880"/>
            <a:ext cx="2071800" cy="221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:\Documents and Settings\Гость\Рабочий стол\YLU1TCAJEVT4ACAT4Q22HCAGCH67RCA5K48NVCABMOIH8CAJUHI89CAMWM2E4CAWSXLLTCA7AQJERCA7TIWXECA6MX0BYCAQBYSRPCAFCSF9UCAGYST0ICA4TAGOZCA5JSXDPCAT9XTM5CAAPFFENCA3AS67K.jpg"/>
          <p:cNvPicPr/>
          <p:nvPr/>
        </p:nvPicPr>
        <p:blipFill>
          <a:blip r:embed="rId4"/>
          <a:stretch/>
        </p:blipFill>
        <p:spPr>
          <a:xfrm>
            <a:off x="2714760" y="4286160"/>
            <a:ext cx="2643120" cy="209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:\Documents and Settings\Гость\Рабочий стол\ASDGECAQINI75CAE1ZZUVCAOENLWUCAKPDO1BCA7CEC9BCAL3H5LZCABHTZ96CAI9W16KCAN6TT2RCAA0KR7ACA9AM07KCA9U4KGLCAB6RN3SCAFBYNMCCA7AE91RCA0JCJNMCAJ3BDRTCAUQJZFYCA4U146V.jpg"/>
          <p:cNvPicPr/>
          <p:nvPr/>
        </p:nvPicPr>
        <p:blipFill>
          <a:blip r:embed="rId5"/>
          <a:stretch/>
        </p:blipFill>
        <p:spPr>
          <a:xfrm>
            <a:off x="5643720" y="4214880"/>
            <a:ext cx="2786040" cy="221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:\Documents and Settings\Гость\Рабочий стол\134b.jpg"/>
          <p:cNvPicPr/>
          <p:nvPr/>
        </p:nvPicPr>
        <p:blipFill>
          <a:blip r:embed="rId6"/>
          <a:stretch/>
        </p:blipFill>
        <p:spPr>
          <a:xfrm>
            <a:off x="2357280" y="1643040"/>
            <a:ext cx="30387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4"/>
          <p:cNvSpPr/>
          <p:nvPr/>
        </p:nvSpPr>
        <p:spPr>
          <a:xfrm>
            <a:off x="179280" y="2357280"/>
            <a:ext cx="5178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Рядом с тобою много машин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7" descr=""/>
          <p:cNvPicPr/>
          <p:nvPr/>
        </p:nvPicPr>
        <p:blipFill>
          <a:blip r:embed="rId1"/>
          <a:stretch/>
        </p:blipFill>
        <p:spPr>
          <a:xfrm>
            <a:off x="8604360" y="2276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9"/>
          <p:cNvSpPr/>
          <p:nvPr/>
        </p:nvSpPr>
        <p:spPr>
          <a:xfrm>
            <a:off x="250920" y="33336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На улице</a:t>
            </a: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250920" y="128592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ты не один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shop.avanta.ru/covers/covers_big4/ast620194.jpg?1"/>
          <p:cNvPicPr/>
          <p:nvPr/>
        </p:nvPicPr>
        <p:blipFill>
          <a:blip r:embed="rId2"/>
          <a:stretch/>
        </p:blipFill>
        <p:spPr>
          <a:xfrm>
            <a:off x="5357880" y="428760"/>
            <a:ext cx="3143160" cy="55004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357120" y="3929040"/>
            <a:ext cx="492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ЗАДАНИЕ. Какой транспорт можно встретить на улиц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8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90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ники дорожного движ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H:\Documents and Settings\Гость\Рабочий стол\T9N4HCAXVG4VFCA9S05PICA4QFEVHCAA2K1CACAT8G227CAVXTF35CAW1CFXSCA91GYOJCA1U3A4MCAV5LLN6CA9HJ5JZCACI35SPCA9JM4RSCABTDYKOCAD73MG2CA0GBTSECACGRQVXCAFKC15TCANV2NO4.jpg"/>
          <p:cNvPicPr/>
          <p:nvPr/>
        </p:nvPicPr>
        <p:blipFill>
          <a:blip r:embed="rId1"/>
          <a:stretch/>
        </p:blipFill>
        <p:spPr>
          <a:xfrm>
            <a:off x="357120" y="1928880"/>
            <a:ext cx="3643560" cy="392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:\Documents and Settings\Гость\Рабочий стол\FRCXRCA9IY80FCABV9KHJCA5EAD4WCA1795RLCA8RW7OFCAZ6PO4OCA1WNCTBCA7IZ1Q0CACW36DDCAGFWUOWCA6AJTN0CAD2KH26CAN2D9WDCA6W9A73CASESU7GCARZTYGPCAH7Q2Q0CA89BMJGCAYD1X2I.jpg"/>
          <p:cNvPicPr/>
          <p:nvPr/>
        </p:nvPicPr>
        <p:blipFill>
          <a:blip r:embed="rId2"/>
          <a:stretch/>
        </p:blipFill>
        <p:spPr>
          <a:xfrm>
            <a:off x="4857840" y="2000160"/>
            <a:ext cx="3786120" cy="37861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0"/>
          <p:cNvSpPr/>
          <p:nvPr/>
        </p:nvSpPr>
        <p:spPr>
          <a:xfrm flipH="1">
            <a:off x="1499400" y="60721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шеходу -  тротуа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4786200" y="6072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дителю — дорог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:\Documents and Settings\Гость\Рабочий стол\i.jpg"/>
          <p:cNvPicPr/>
          <p:nvPr/>
        </p:nvPicPr>
        <p:blipFill>
          <a:blip r:embed="rId1"/>
          <a:stretch/>
        </p:blipFill>
        <p:spPr>
          <a:xfrm>
            <a:off x="14292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:\Documents and Settings\Гость\Рабочий стол\2.jpg"/>
          <p:cNvPicPr/>
          <p:nvPr/>
        </p:nvPicPr>
        <p:blipFill>
          <a:blip r:embed="rId2"/>
          <a:stretch/>
        </p:blipFill>
        <p:spPr>
          <a:xfrm>
            <a:off x="4214880" y="92880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H:\Documents and Settings\Гость\Рабочий стол\5.jpg"/>
          <p:cNvPicPr/>
          <p:nvPr/>
        </p:nvPicPr>
        <p:blipFill>
          <a:blip r:embed="rId3"/>
          <a:stretch/>
        </p:blipFill>
        <p:spPr>
          <a:xfrm>
            <a:off x="285840" y="3714840"/>
            <a:ext cx="2000160" cy="2428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:\Documents and Settings\Гость\Рабочий стол\NDQNMCAG1EUGUCA0WNXFJCA7ILNM1CAEZQSFICAMUG0SICAJQ8WKMCAEK45LICA1IGMVQCAB6J8U8CAYIJ96ICATMRKJCCA3S8H59CAZSP4T8CADZZBY5CAOZSTDUCAU4245BCAVO7806CA48EH79CAC9M3QB.jpg"/>
          <p:cNvPicPr/>
          <p:nvPr/>
        </p:nvPicPr>
        <p:blipFill>
          <a:blip r:embed="rId4"/>
          <a:stretch/>
        </p:blipFill>
        <p:spPr>
          <a:xfrm>
            <a:off x="242892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H:\Documents and Settings\Гость\Рабочий стол\LAGEDCAT366AYCABJEIQHCA3BNY75CAS6XNJ2CA4G9FRLCAQU3J0TCAMO2ASYCAVU3OBMCAV4KTKLCA0B77P1CATF5QB9CAL523M1CAQHGJXPCA9EXU7JCAKO3WXPCAVYVI0UCAY3EGRUCA7WGC6ECA4786CX.jpg"/>
          <p:cNvPicPr/>
          <p:nvPr/>
        </p:nvPicPr>
        <p:blipFill>
          <a:blip r:embed="rId5"/>
          <a:stretch/>
        </p:blipFill>
        <p:spPr>
          <a:xfrm>
            <a:off x="457200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:\Documents and Settings\Гость\Рабочий стол\SELI5CAZXHRY6CAXEQ6UMCA52B0E8CACW79J4CA49FMKGCA0LLBO0CAUT54O1CAL2U901CADEARQSCA6PSPVLCA2FKPUWCA0ZTQW4CAA2MDZ9CAFSWXOTCA504DUPCALAU39PCARA2I7ECAWLB24MCAIHOJEM.jpg"/>
          <p:cNvPicPr/>
          <p:nvPr/>
        </p:nvPicPr>
        <p:blipFill>
          <a:blip r:embed="rId6"/>
          <a:stretch/>
        </p:blipFill>
        <p:spPr>
          <a:xfrm>
            <a:off x="214308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H:\Documents and Settings\Гость\Рабочий стол\1AHVNCA5COHJRCA6871DYCAFRXMV3CAHEZ978CA5YDO05CADQ5AFBCAT31DO3CABM24ONCAD18PDZCAVTRND0CAU0Q9L4CAOGF6OKCAG3P00OCAST9DE8CA3J2GPRCAS89O38CA1QHJL5CA2S6SHRCAQ1B1UU.jpg"/>
          <p:cNvPicPr/>
          <p:nvPr/>
        </p:nvPicPr>
        <p:blipFill>
          <a:blip r:embed="rId7"/>
          <a:stretch/>
        </p:blipFill>
        <p:spPr>
          <a:xfrm>
            <a:off x="6429240" y="100008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H:\Documents and Settings\Гость\Рабочий стол\0TKHECAQNH80MCAL222HQCA9ZN9SDCAGQXXS7CALDUWVECAKLF9K1CA1BCBKECAIYJ89JCATWHR68CA2N7FINCAX89LCQCAZK55ECCAXNOM94CACPGXU8CATW87IUCAH4C6H9CAS65R1HCAS9POH3CASWWX7S.jpg"/>
          <p:cNvPicPr/>
          <p:nvPr/>
        </p:nvPicPr>
        <p:blipFill>
          <a:blip r:embed="rId8"/>
          <a:stretch/>
        </p:blipFill>
        <p:spPr>
          <a:xfrm>
            <a:off x="6786720" y="3714840"/>
            <a:ext cx="2143080" cy="242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3"/>
          <p:cNvSpPr/>
          <p:nvPr/>
        </p:nvSpPr>
        <p:spPr>
          <a:xfrm>
            <a:off x="428760" y="2858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. Найди ошибки в поведении пешеходов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ассажир! Веди себя достой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H:\Documents and Settings\Гость\Рабочий стол\5FB4NCA3L0W1JCAN20YSVCACWT8T7CAY4UP0OCAA4FJVJCA2DEYKICAURMFJ6CAEUYCLKCAONUZJACAF1UUJMCAC0PPEKCAD7XJPMCA1TRS4RCANJFRL3CA1W7P6YCAHYMEUFCAVISBFXCA7NVRYMCALPWKK2.jpg"/>
          <p:cNvPicPr/>
          <p:nvPr/>
        </p:nvPicPr>
        <p:blipFill>
          <a:blip r:embed="rId1"/>
          <a:stretch/>
        </p:blipFill>
        <p:spPr>
          <a:xfrm>
            <a:off x="7169040" y="3786120"/>
            <a:ext cx="1974960" cy="2786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:\Documents and Settings\Гость\Рабочий стол\1991ZCAYCZS2TCAHU8BD4CA0QO5BCCAPO22NPCAYYBDITCAAAJ3JNCA0F546NCAU3GHD9CAGXDXVPCA2PXSXXCAER5UUSCAN7HPF3CADFCQ81CAGKC77JCAZX0OZRCAARXZTXCAYW9CJTCALJK5AXCAX9E23A.jpg"/>
          <p:cNvPicPr/>
          <p:nvPr/>
        </p:nvPicPr>
        <p:blipFill>
          <a:blip r:embed="rId2"/>
          <a:stretch/>
        </p:blipFill>
        <p:spPr>
          <a:xfrm>
            <a:off x="6786720" y="571680"/>
            <a:ext cx="2171520" cy="28159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2520" y="110160"/>
            <a:ext cx="21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.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500200" y="714240"/>
            <a:ext cx="3857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95040"/>
            <a:ext cx="7427520" cy="72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язанности пассажи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Ожидать общественный транспорт только на остановках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. Входить в задние двери, а выходить из передних двер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3. Прежде чем зайти, выпусти тех, кто выходит из 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4. При нерегулируемом переходе улицы трамвай  обход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спереди, а автобус и троллейбус сзади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5. В транспорте веди себя достой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шуметь и не толкаться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уступать места пожилым людям и инвалидам, женщин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 тяжёлыми сумкам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держаться во время движения транспорта за поручн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забывать оплатить свой проезд или предъя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здной документ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икогда не стремиться сесть в транспорт на х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можно соскользнуть со ступенек и попасть под колё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втобуса)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входить в переполненный автобус, троллейбус, трамвай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острые и неудобные для других пассажиров предметы хорош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паковывать и аккуратно ставить, чтобы никому не мешал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40616"/>
                </a:solidFill>
                <a:latin typeface="Times New Roman"/>
              </a:rPr>
              <a:t>На проезжей части дороги </a:t>
            </a:r>
            <a:r>
              <a:rPr b="1" i="1" lang="ru-RU" sz="4000" spc="-1" strike="noStrike">
                <a:solidFill>
                  <a:srgbClr val="e40616"/>
                </a:solidFill>
                <a:latin typeface="Times New Roman"/>
              </a:rPr>
              <a:t>нельзя</a:t>
            </a:r>
            <a:r>
              <a:rPr b="0" i="1" lang="ru-RU" sz="4000" spc="-1" strike="noStrike">
                <a:solidFill>
                  <a:srgbClr val="e40616"/>
                </a:solidFill>
                <a:latin typeface="Times New Roman"/>
              </a:rPr>
              <a:t> 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LUCY1"/>
          <p:cNvPicPr/>
          <p:nvPr/>
        </p:nvPicPr>
        <p:blipFill>
          <a:blip r:embed="rId1"/>
          <a:stretch/>
        </p:blipFill>
        <p:spPr>
          <a:xfrm>
            <a:off x="250920" y="3429000"/>
            <a:ext cx="1296720" cy="172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baby52"/>
          <p:cNvPicPr/>
          <p:nvPr/>
        </p:nvPicPr>
        <p:blipFill>
          <a:blip r:embed="rId2"/>
          <a:stretch/>
        </p:blipFill>
        <p:spPr>
          <a:xfrm>
            <a:off x="324000" y="1844640"/>
            <a:ext cx="1008000" cy="1333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spo-badminton"/>
          <p:cNvPicPr/>
          <p:nvPr/>
        </p:nvPicPr>
        <p:blipFill>
          <a:blip r:embed="rId3"/>
          <a:stretch/>
        </p:blipFill>
        <p:spPr>
          <a:xfrm>
            <a:off x="3059280" y="3284640"/>
            <a:ext cx="1657080" cy="9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22m5"/>
          <p:cNvPicPr/>
          <p:nvPr/>
        </p:nvPicPr>
        <p:blipFill>
          <a:blip r:embed="rId4"/>
          <a:stretch/>
        </p:blipFill>
        <p:spPr>
          <a:xfrm>
            <a:off x="7308720" y="5084640"/>
            <a:ext cx="1297080" cy="1584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j0283651"/>
          <p:cNvPicPr/>
          <p:nvPr/>
        </p:nvPicPr>
        <p:blipFill>
          <a:blip r:embed="rId5"/>
          <a:stretch/>
        </p:blipFill>
        <p:spPr>
          <a:xfrm>
            <a:off x="6588000" y="2637000"/>
            <a:ext cx="14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j0283653"/>
          <p:cNvPicPr/>
          <p:nvPr/>
        </p:nvPicPr>
        <p:blipFill>
          <a:blip r:embed="rId6"/>
          <a:stretch/>
        </p:blipFill>
        <p:spPr>
          <a:xfrm>
            <a:off x="1476360" y="3357720"/>
            <a:ext cx="1593720" cy="17064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8"/>
          <p:cNvSpPr/>
          <p:nvPr/>
        </p:nvSpPr>
        <p:spPr>
          <a:xfrm>
            <a:off x="1332000" y="1628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Кататься на велосипедах и самокат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2771640" y="2276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в иг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3492360" y="4508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.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с мяч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755640" y="55897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Перебегать через дорог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2124000" y="59500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7559640" cy="1800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Какие  могут  быть  </a:t>
            </a:r>
            <a:br>
              <a:rPr sz="4800"/>
            </a:b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последствия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j0283638"/>
          <p:cNvPicPr/>
          <p:nvPr/>
        </p:nvPicPr>
        <p:blipFill>
          <a:blip r:embed="rId1"/>
          <a:stretch/>
        </p:blipFill>
        <p:spPr>
          <a:xfrm>
            <a:off x="142920" y="328608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j0283654"/>
          <p:cNvPicPr/>
          <p:nvPr/>
        </p:nvPicPr>
        <p:blipFill>
          <a:blip r:embed="rId2"/>
          <a:stretch/>
        </p:blipFill>
        <p:spPr>
          <a:xfrm>
            <a:off x="6429240" y="3286080"/>
            <a:ext cx="201636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3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1571760" y="3571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3643200" y="3000240"/>
            <a:ext cx="1857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3929040" y="32148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429000" y="2800080"/>
            <a:ext cx="2714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Ежедневно на дорогах России погибает около 1,5 тысяч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тысячи получают 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95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45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553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44704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Если на дороге случилась беда -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 rot="20623200">
            <a:off x="2546640" y="2284200"/>
            <a:ext cx="49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Срочно</a:t>
            </a:r>
            <a:r>
              <a:rPr b="0" lang="ru-RU" sz="4400" spc="-1" strike="noStrike">
                <a:solidFill>
                  <a:srgbClr val="e1dc06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звони 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43280" y="4005360"/>
            <a:ext cx="28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0" spc="-1" strike="noStrike">
                <a:solidFill>
                  <a:srgbClr val="e40616"/>
                </a:solidFill>
                <a:latin typeface="Times New Roman"/>
              </a:rPr>
              <a:t>02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300720" y="220500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</a:rPr>
              <a:t>03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9" descr="H:\Documents and Settings\Гость\Рабочий стол\i1576.gif"/>
          <p:cNvPicPr/>
          <p:nvPr/>
        </p:nvPicPr>
        <p:blipFill>
          <a:blip r:embed="rId2"/>
          <a:stretch/>
        </p:blipFill>
        <p:spPr>
          <a:xfrm>
            <a:off x="571680" y="4000680"/>
            <a:ext cx="3071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8" descr="C:\WINDOWS\Рабочий стол\Korvi\для през\sn3_1.gif"/>
          <p:cNvPicPr/>
          <p:nvPr/>
        </p:nvPicPr>
        <p:blipFill>
          <a:blip r:embed="rId1"/>
          <a:stretch/>
        </p:blipFill>
        <p:spPr>
          <a:xfrm>
            <a:off x="142920" y="1071720"/>
            <a:ext cx="2224080" cy="2174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142800"/>
            <a:ext cx="3214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cc"/>
                </a:solidFill>
                <a:latin typeface="Times New Roman"/>
              </a:rPr>
              <a:t>ВЪЕЗД ЗАПРЕЩЕ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WINDOWS\Рабочий стол\Korvi\для през\знаки\SVETOFOR_RU - Библиотека - ПДД - Дорожные Знаки - Запрещающие Знаки.files\sn3_10.gif"/>
          <p:cNvPicPr/>
          <p:nvPr/>
        </p:nvPicPr>
        <p:blipFill>
          <a:blip r:embed="rId3"/>
          <a:stretch/>
        </p:blipFill>
        <p:spPr>
          <a:xfrm>
            <a:off x="3000240" y="1000080"/>
            <a:ext cx="2386080" cy="21956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9"/>
          <p:cNvSpPr/>
          <p:nvPr/>
        </p:nvSpPr>
        <p:spPr>
          <a:xfrm>
            <a:off x="2643120" y="3214800"/>
            <a:ext cx="31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пешеходов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C:\WINDOWS\Рабочий стол\Korvi\для през\знаки\SVETOFOR_RU - Библиотека - ПДД - Дорожные Знаки - Запрещающие Знаки.files\sn3_4.gif"/>
          <p:cNvPicPr/>
          <p:nvPr/>
        </p:nvPicPr>
        <p:blipFill>
          <a:blip r:embed="rId4"/>
          <a:stretch/>
        </p:blipFill>
        <p:spPr>
          <a:xfrm>
            <a:off x="6500880" y="92880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1"/>
          <p:cNvSpPr/>
          <p:nvPr/>
        </p:nvSpPr>
        <p:spPr>
          <a:xfrm>
            <a:off x="6215040" y="314316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грузовых автомоби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C:\WINDOWS\Рабочий стол\Korvi\для през\знаки\SVETOFOR_RU - Библиотека - ПДД - Дорожные Знаки - Запрещающие Знаки.files\sn3_5.gif"/>
          <p:cNvPicPr/>
          <p:nvPr/>
        </p:nvPicPr>
        <p:blipFill>
          <a:blip r:embed="rId5"/>
          <a:stretch/>
        </p:blipFill>
        <p:spPr>
          <a:xfrm>
            <a:off x="0" y="385776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4"/>
          <p:cNvSpPr/>
          <p:nvPr/>
        </p:nvSpPr>
        <p:spPr>
          <a:xfrm>
            <a:off x="0" y="6149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мотоцикл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6" descr="C:\WINDOWS\Рабочий стол\Korvi\для през\знаки\SVETOFOR_RU - Библиотека - ПДД - Дорожные Знаки - Запрещающие Знаки.files\sn3_9.gif"/>
          <p:cNvPicPr/>
          <p:nvPr/>
        </p:nvPicPr>
        <p:blipFill>
          <a:blip r:embed="rId6"/>
          <a:stretch/>
        </p:blipFill>
        <p:spPr>
          <a:xfrm>
            <a:off x="2857680" y="3786120"/>
            <a:ext cx="2500200" cy="22860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16"/>
          <p:cNvSpPr/>
          <p:nvPr/>
        </p:nvSpPr>
        <p:spPr>
          <a:xfrm>
            <a:off x="2571840" y="6149880"/>
            <a:ext cx="36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на велосипед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0" descr="C:\WINDOWS\Рабочий стол\Korvi\для през\знаки\SVETOFOR_RU - Библиотека - ПДД - Дорожные Знаки - Запрещающие Знаки.files\sn3_20.gif"/>
          <p:cNvPicPr/>
          <p:nvPr/>
        </p:nvPicPr>
        <p:blipFill>
          <a:blip r:embed="rId7"/>
          <a:stretch/>
        </p:blipFill>
        <p:spPr>
          <a:xfrm>
            <a:off x="6429240" y="3786120"/>
            <a:ext cx="2524320" cy="22860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18"/>
          <p:cNvSpPr/>
          <p:nvPr/>
        </p:nvSpPr>
        <p:spPr>
          <a:xfrm>
            <a:off x="6786720" y="6215040"/>
            <a:ext cx="17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бгон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428840" y="0"/>
            <a:ext cx="620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878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7878de"/>
                </a:solidFill>
                <a:uFillTx/>
                <a:latin typeface="Times New Roman"/>
              </a:rPr>
              <a:t>З А П Р Е Щ А Ю Щ И 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развития транспор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23572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ре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3" descr="H:\Documents and Settings\Гость\Рабочий стол\enc_0399.jpg"/>
          <p:cNvPicPr/>
          <p:nvPr/>
        </p:nvPicPr>
        <p:blipFill>
          <a:blip r:embed="rId1"/>
          <a:stretch/>
        </p:blipFill>
        <p:spPr>
          <a:xfrm>
            <a:off x="571680" y="128592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:\Documents and Settings\Гость\Рабочий стол\D5YL9CA2JMW8DCA2T5C2BCAIHO6Z2CADRBV99CAYMLKWHCA4BCSUHCAMEPCM8CA6N1UGKCAH5ZC1MCAP452OBCAZZSAXPCATXSZ9DCAJ9BDRHCA4J8AA3CAX5W6OYCAOBWSG1CAPH60OCCAE75V4NCA26GASM.jpg"/>
          <p:cNvPicPr/>
          <p:nvPr/>
        </p:nvPicPr>
        <p:blipFill>
          <a:blip r:embed="rId2"/>
          <a:stretch/>
        </p:blipFill>
        <p:spPr>
          <a:xfrm>
            <a:off x="3286080" y="1285920"/>
            <a:ext cx="1976400" cy="1857240"/>
          </a:xfrm>
          <a:prstGeom prst="rect">
            <a:avLst/>
          </a:prstGeom>
          <a:ln w="0">
            <a:noFill/>
          </a:ln>
        </p:spPr>
      </p:pic>
      <p:sp>
        <p:nvSpPr>
          <p:cNvPr id="97" name="Подзаголовок 2"/>
          <p:cNvSpPr/>
          <p:nvPr/>
        </p:nvSpPr>
        <p:spPr>
          <a:xfrm>
            <a:off x="642960" y="3143160"/>
            <a:ext cx="85010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ая  повоз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H:\Documents and Settings\Гость\Рабочий стол\parmobile2.jpg"/>
          <p:cNvPicPr/>
          <p:nvPr/>
        </p:nvPicPr>
        <p:blipFill>
          <a:blip r:embed="rId3"/>
          <a:stretch/>
        </p:blipFill>
        <p:spPr>
          <a:xfrm>
            <a:off x="3286080" y="3786120"/>
            <a:ext cx="207180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:\Documents and Settings\Гость\Рабочий стол\B5U80CAUQ9561CAWG0CXOCAMQIDWUCAGLEB9WCADLD6YBCAXYUV6SCAR8CT09CAKYGJZ6CAUQH1QYCAADF3A4CA7JEVQHCAAHKTNUCA7B93H0CAFROSNACA11Z7XUCAAYBCCTCA8JZ306CA0KHBCVCAPT6G3Q.jpg"/>
          <p:cNvPicPr/>
          <p:nvPr/>
        </p:nvPicPr>
        <p:blipFill>
          <a:blip r:embed="rId4"/>
          <a:stretch/>
        </p:blipFill>
        <p:spPr>
          <a:xfrm>
            <a:off x="6286680" y="1214280"/>
            <a:ext cx="2286000" cy="1857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7"/>
          <p:cNvSpPr/>
          <p:nvPr/>
        </p:nvSpPr>
        <p:spPr>
          <a:xfrm>
            <a:off x="6286680" y="314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18" descr="карета"/>
          <p:cNvPicPr/>
          <p:nvPr/>
        </p:nvPicPr>
        <p:blipFill>
          <a:blip r:embed="rId5"/>
          <a:stretch/>
        </p:blipFill>
        <p:spPr>
          <a:xfrm>
            <a:off x="571680" y="3786120"/>
            <a:ext cx="2143080" cy="1785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1"/>
          <p:cNvSpPr/>
          <p:nvPr/>
        </p:nvSpPr>
        <p:spPr>
          <a:xfrm>
            <a:off x="3286080" y="57862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428760" y="57862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H:\Documents and Settings\Гость\Рабочий стол\TkyUUhAEKN.jpg"/>
          <p:cNvPicPr/>
          <p:nvPr/>
        </p:nvPicPr>
        <p:blipFill>
          <a:blip r:embed="rId6"/>
          <a:stretch/>
        </p:blipFill>
        <p:spPr>
          <a:xfrm>
            <a:off x="5715000" y="3857760"/>
            <a:ext cx="3119400" cy="16430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5"/>
          <p:cNvSpPr/>
          <p:nvPr/>
        </p:nvSpPr>
        <p:spPr>
          <a:xfrm>
            <a:off x="5572080" y="57150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авт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C:\WINDOWS\Рабочий стол\Korvi\для през\знаки\SVETOFOR_RU - Библиотека - ПДД - Дорожные Знаки - Запрещающие Знаки.files\sn3_18_1.gif"/>
          <p:cNvPicPr/>
          <p:nvPr/>
        </p:nvPicPr>
        <p:blipFill>
          <a:blip r:embed="rId1"/>
          <a:stretch/>
        </p:blipFill>
        <p:spPr>
          <a:xfrm>
            <a:off x="357120" y="285840"/>
            <a:ext cx="2357640" cy="221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7"/>
          <p:cNvSpPr/>
          <p:nvPr/>
        </p:nvSpPr>
        <p:spPr>
          <a:xfrm>
            <a:off x="500040" y="264312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право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6" descr="C:\WINDOWS\Рабочий стол\Korvi\для през\знаки\SVETOFOR_RU - Библиотека - ПДД - Дорожные Знаки - Запрещающие Знаки.files\sn3_18_2.gif"/>
          <p:cNvPicPr/>
          <p:nvPr/>
        </p:nvPicPr>
        <p:blipFill>
          <a:blip r:embed="rId3"/>
          <a:stretch/>
        </p:blipFill>
        <p:spPr>
          <a:xfrm>
            <a:off x="3357720" y="285840"/>
            <a:ext cx="2199960" cy="22143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9"/>
          <p:cNvSpPr/>
          <p:nvPr/>
        </p:nvSpPr>
        <p:spPr>
          <a:xfrm>
            <a:off x="3244680" y="2643120"/>
            <a:ext cx="26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лево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6" descr="C:\WINDOWS\Рабочий стол\Korvi\для през\знаки\SVETOFOR_RU - Библиотека - ПДД - Дорожные Знаки - Запрещающие Знаки.files\sn3_19.gif"/>
          <p:cNvPicPr/>
          <p:nvPr/>
        </p:nvPicPr>
        <p:blipFill>
          <a:blip r:embed="rId4"/>
          <a:stretch/>
        </p:blipFill>
        <p:spPr>
          <a:xfrm>
            <a:off x="6524640" y="2858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1"/>
          <p:cNvSpPr/>
          <p:nvPr/>
        </p:nvSpPr>
        <p:spPr>
          <a:xfrm>
            <a:off x="6695640" y="26431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Разворот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9" descr="C:\WINDOWS\Рабочий стол\Korvi\для през\знаки\SVETOFOR_RU - Библиотека - ПДД - Дорожные Знаки - Запрещающие Знаки.files\sn3_24.gif"/>
          <p:cNvPicPr/>
          <p:nvPr/>
        </p:nvPicPr>
        <p:blipFill>
          <a:blip r:embed="rId5"/>
          <a:stretch/>
        </p:blipFill>
        <p:spPr>
          <a:xfrm>
            <a:off x="357120" y="32148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3"/>
          <p:cNvSpPr/>
          <p:nvPr/>
        </p:nvSpPr>
        <p:spPr>
          <a:xfrm>
            <a:off x="302760" y="578628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грани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максимальной скор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6" descr="C:\WINDOWS\Рабочий стол\Korvi\для през\знаки\SVETOFOR_RU - Библиотека - ПДД - Дорожные Знаки - Запрещающие Знаки.files\sn3_27.gif"/>
          <p:cNvPicPr/>
          <p:nvPr/>
        </p:nvPicPr>
        <p:blipFill>
          <a:blip r:embed="rId6"/>
          <a:stretch/>
        </p:blipFill>
        <p:spPr>
          <a:xfrm>
            <a:off x="3357720" y="321480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15"/>
          <p:cNvSpPr/>
          <p:nvPr/>
        </p:nvSpPr>
        <p:spPr>
          <a:xfrm>
            <a:off x="3427560" y="57862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становка запрещена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C:\WINDOWS\Рабочий стол\Korvi\для през\знаки\SVETOFOR_RU - Библиотека - ПДД - Дорожные Знаки - Запрещающие Знаки.files\sn3_28.gif"/>
          <p:cNvPicPr/>
          <p:nvPr/>
        </p:nvPicPr>
        <p:blipFill>
          <a:blip r:embed="rId7"/>
          <a:stretch/>
        </p:blipFill>
        <p:spPr>
          <a:xfrm>
            <a:off x="6500880" y="32860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7"/>
          <p:cNvSpPr/>
          <p:nvPr/>
        </p:nvSpPr>
        <p:spPr>
          <a:xfrm>
            <a:off x="6696720" y="57150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Стоянка запрещ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85e0"/>
                </a:solidFill>
                <a:latin typeface="Times New Roman"/>
              </a:rPr>
              <a:t>Предупреждающие Зна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7" descr="C:\WINDOWS\Рабочий стол\Korvi\для през\знаки\SVETOFOR_RU - Библиотека - ПДД - Дорожные Знаки - Предупреждающие Знаки.files\crossbuck.gif"/>
          <p:cNvPicPr/>
          <p:nvPr/>
        </p:nvPicPr>
        <p:blipFill>
          <a:blip r:embed="rId1"/>
          <a:stretch/>
        </p:blipFill>
        <p:spPr>
          <a:xfrm>
            <a:off x="214200" y="714240"/>
            <a:ext cx="2500560" cy="21672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285840" y="2857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Железнодорож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ереез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о шлагбаум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6" descr="C:\WINDOWS\Рабочий стол\Korvi\для през\знаки\SVETOFOR_RU - Библиотека - ПДД - Дорожные Знаки - Предупреждающие Знаки.files\sn1_6.gif"/>
          <p:cNvPicPr/>
          <p:nvPr/>
        </p:nvPicPr>
        <p:blipFill>
          <a:blip r:embed="rId2"/>
          <a:stretch/>
        </p:blipFill>
        <p:spPr>
          <a:xfrm>
            <a:off x="3071880" y="571680"/>
            <a:ext cx="2711520" cy="23572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8"/>
          <p:cNvSpPr/>
          <p:nvPr/>
        </p:nvSpPr>
        <p:spPr>
          <a:xfrm>
            <a:off x="2286000" y="301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ре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авнозначных доро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6" descr="C:\WINDOWS\Рабочий стол\Korvi\для през\знаки\SVETOFOR_RU - Библиотека - ПДД - Дорожные Знаки - Предупреждающие Знаки.files\sn1_8.gif"/>
          <p:cNvPicPr/>
          <p:nvPr/>
        </p:nvPicPr>
        <p:blipFill>
          <a:blip r:embed="rId3"/>
          <a:stretch/>
        </p:blipFill>
        <p:spPr>
          <a:xfrm>
            <a:off x="6286680" y="642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0"/>
          <p:cNvSpPr/>
          <p:nvPr/>
        </p:nvSpPr>
        <p:spPr>
          <a:xfrm>
            <a:off x="6500880" y="3000240"/>
            <a:ext cx="198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ветофорное регул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6" descr="C:\WINDOWS\Рабочий стол\Korvi\для през\знаки\SVETOFOR_RU - Библиотека - ПДД - Дорожные Знаки - Предупреждающие Знаки.files\sn1_11_1.gif"/>
          <p:cNvPicPr/>
          <p:nvPr/>
        </p:nvPicPr>
        <p:blipFill>
          <a:blip r:embed="rId4"/>
          <a:stretch/>
        </p:blipFill>
        <p:spPr>
          <a:xfrm>
            <a:off x="285840" y="3857760"/>
            <a:ext cx="2307960" cy="2000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WINDOWS\Рабочий стол\Korvi\для през\знаки\SVETOFOR_RU - Библиотека - ПДД - Дорожные Знаки - Предупреждающие Знаки.files\sn1_12_1.gif"/>
          <p:cNvPicPr/>
          <p:nvPr/>
        </p:nvPicPr>
        <p:blipFill>
          <a:blip r:embed="rId5"/>
          <a:stretch/>
        </p:blipFill>
        <p:spPr>
          <a:xfrm>
            <a:off x="3429000" y="3929040"/>
            <a:ext cx="2225520" cy="192888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4"/>
          <p:cNvSpPr/>
          <p:nvPr/>
        </p:nvSpPr>
        <p:spPr>
          <a:xfrm>
            <a:off x="285840" y="5929200"/>
            <a:ext cx="57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пасные поворо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C:\WINDOWS\Рабочий стол\Korvi\для през\знаки\SVETOFOR_RU - Библиотека - ПДД - Дорожные Знаки - Предупреждающие Знаки.files\sn1_18_1.gif"/>
          <p:cNvPicPr/>
          <p:nvPr/>
        </p:nvPicPr>
        <p:blipFill>
          <a:blip r:embed="rId6"/>
          <a:stretch/>
        </p:blipFill>
        <p:spPr>
          <a:xfrm>
            <a:off x="6451560" y="4000680"/>
            <a:ext cx="2135160" cy="185724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16"/>
          <p:cNvSpPr/>
          <p:nvPr/>
        </p:nvSpPr>
        <p:spPr>
          <a:xfrm>
            <a:off x="6572160" y="58579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ужение дорог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C:\WINDOWS\Рабочий стол\Korvi\для през\знаки\SVETOFOR_RU - Библиотека - ПДД - Дорожные Знаки - Предупреждающие Знаки.files\sn1_19.gif"/>
          <p:cNvPicPr/>
          <p:nvPr/>
        </p:nvPicPr>
        <p:blipFill>
          <a:blip r:embed="rId1"/>
          <a:stretch/>
        </p:blipFill>
        <p:spPr>
          <a:xfrm>
            <a:off x="46044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5"/>
          <p:cNvSpPr/>
          <p:nvPr/>
        </p:nvSpPr>
        <p:spPr>
          <a:xfrm>
            <a:off x="-142920" y="242892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вустороннее дви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6" descr="C:\WINDOWS\Рабочий стол\Korvi\для през\знаки\SVETOFOR_RU - Библиотека - ПДД - Дорожные Знаки - Предупреждающие Знаки.files\sn1_20.gif"/>
          <p:cNvPicPr/>
          <p:nvPr/>
        </p:nvPicPr>
        <p:blipFill>
          <a:blip r:embed="rId2"/>
          <a:stretch/>
        </p:blipFill>
        <p:spPr>
          <a:xfrm>
            <a:off x="333540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7"/>
          <p:cNvSpPr/>
          <p:nvPr/>
        </p:nvSpPr>
        <p:spPr>
          <a:xfrm>
            <a:off x="3357720" y="2428920"/>
            <a:ext cx="28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шеходный пере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6" descr="C:\WINDOWS\Рабочий стол\Korvi\для през\знаки\SVETOFOR_RU - Библиотека - ПДД - Дорожные Знаки - Предупреждающие Знаки.files\sn1_21.gif"/>
          <p:cNvPicPr/>
          <p:nvPr/>
        </p:nvPicPr>
        <p:blipFill>
          <a:blip r:embed="rId3"/>
          <a:stretch/>
        </p:blipFill>
        <p:spPr>
          <a:xfrm>
            <a:off x="6215040" y="214200"/>
            <a:ext cx="2500200" cy="217512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9"/>
          <p:cNvSpPr/>
          <p:nvPr/>
        </p:nvSpPr>
        <p:spPr>
          <a:xfrm>
            <a:off x="7078320" y="24289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е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6" descr="C:\WINDOWS\Рабочий стол\Korvi\для през\знаки\SVETOFOR_RU - Библиотека - ПДД - Дорожные Знаки - Предупреждающие Знаки.files\sn1_25.gif"/>
          <p:cNvPicPr/>
          <p:nvPr/>
        </p:nvPicPr>
        <p:blipFill>
          <a:blip r:embed="rId4"/>
          <a:stretch/>
        </p:blipFill>
        <p:spPr>
          <a:xfrm>
            <a:off x="428760" y="2857680"/>
            <a:ext cx="2595600" cy="22572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1"/>
          <p:cNvSpPr/>
          <p:nvPr/>
        </p:nvSpPr>
        <p:spPr>
          <a:xfrm>
            <a:off x="357120" y="52149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икие живот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C:\WINDOWS\Рабочий стол\Korvi\для през\знаки\SVETOFOR_RU - Библиотека - ПДД - Дорожные Знаки - Предупреждающие Знаки.files\sn1_30.gif"/>
          <p:cNvPicPr/>
          <p:nvPr/>
        </p:nvPicPr>
        <p:blipFill>
          <a:blip r:embed="rId5"/>
          <a:stretch/>
        </p:blipFill>
        <p:spPr>
          <a:xfrm>
            <a:off x="6286680" y="2928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3"/>
          <p:cNvSpPr/>
          <p:nvPr/>
        </p:nvSpPr>
        <p:spPr>
          <a:xfrm>
            <a:off x="6000840" y="53578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рочие опас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6" descr="C:\WINDOWS\Рабочий стол\Korvi\для през\знаки\SVETOFOR_RU - Библиотека - ПДД - Дорожные Знаки - Предупреждающие Знаки.files\sn1_31_3.gif"/>
          <p:cNvPicPr/>
          <p:nvPr/>
        </p:nvPicPr>
        <p:blipFill>
          <a:blip r:embed="rId6"/>
          <a:stretch/>
        </p:blipFill>
        <p:spPr>
          <a:xfrm>
            <a:off x="3143160" y="3786120"/>
            <a:ext cx="3167280" cy="6494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15"/>
          <p:cNvSpPr/>
          <p:nvPr/>
        </p:nvSpPr>
        <p:spPr>
          <a:xfrm>
            <a:off x="3143160" y="450072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Направление повор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редписывающ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C:\WINDOWS\Рабочий стол\Korvi\для през\знаки\SVETOFOR_RU - Библиотека - ПДД - Дорожные Знаки - Предписывающие Знаки.files\sn4_1_1.gif"/>
          <p:cNvPicPr/>
          <p:nvPr/>
        </p:nvPicPr>
        <p:blipFill>
          <a:blip r:embed="rId1"/>
          <a:stretch/>
        </p:blipFill>
        <p:spPr>
          <a:xfrm>
            <a:off x="285840" y="7142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6"/>
          <p:cNvSpPr/>
          <p:nvPr/>
        </p:nvSpPr>
        <p:spPr>
          <a:xfrm>
            <a:off x="148320" y="321480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6" descr="C:\WINDOWS\Рабочий стол\Korvi\для през\знаки\SVETOFOR_RU - Библиотека - ПДД - Дорожные Знаки - Предписывающие Знаки.files\sn4_1_2.gif"/>
          <p:cNvPicPr/>
          <p:nvPr/>
        </p:nvPicPr>
        <p:blipFill>
          <a:blip r:embed="rId2"/>
          <a:stretch/>
        </p:blipFill>
        <p:spPr>
          <a:xfrm>
            <a:off x="3286080" y="785880"/>
            <a:ext cx="2390760" cy="239076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8"/>
          <p:cNvSpPr/>
          <p:nvPr/>
        </p:nvSpPr>
        <p:spPr>
          <a:xfrm>
            <a:off x="228600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6" descr="C:\WINDOWS\Рабочий стол\Korvi\для през\знаки\SVETOFOR_RU - Библиотека - ПДД - Дорожные Знаки - Предписывающие Знаки.files\sn4_1_3.gif"/>
          <p:cNvPicPr/>
          <p:nvPr/>
        </p:nvPicPr>
        <p:blipFill>
          <a:blip r:embed="rId3"/>
          <a:stretch/>
        </p:blipFill>
        <p:spPr>
          <a:xfrm>
            <a:off x="6215040" y="785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0"/>
          <p:cNvSpPr/>
          <p:nvPr/>
        </p:nvSpPr>
        <p:spPr>
          <a:xfrm>
            <a:off x="500076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6" descr="C:\WINDOWS\Рабочий стол\Korvi\для през\знаки\SVETOFOR_RU - Библиотека - ПДД - Дорожные Знаки - Предписывающие Знаки.files\sn4_1_6.gif"/>
          <p:cNvPicPr/>
          <p:nvPr/>
        </p:nvPicPr>
        <p:blipFill>
          <a:blip r:embed="rId4"/>
          <a:stretch/>
        </p:blipFill>
        <p:spPr>
          <a:xfrm>
            <a:off x="6500880" y="35002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2"/>
          <p:cNvSpPr/>
          <p:nvPr/>
        </p:nvSpPr>
        <p:spPr>
          <a:xfrm>
            <a:off x="6433560" y="6149880"/>
            <a:ext cx="236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C:\WINDOWS\Рабочий стол\Korvi\для през\знаки\SVETOFOR_RU - Библиотека - ПДД - Дорожные Знаки - Предписывающие Знаки.files\sn4_1_4.gif"/>
          <p:cNvPicPr/>
          <p:nvPr/>
        </p:nvPicPr>
        <p:blipFill>
          <a:blip r:embed="rId5"/>
          <a:stretch/>
        </p:blipFill>
        <p:spPr>
          <a:xfrm>
            <a:off x="380880" y="35002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14"/>
          <p:cNvSpPr/>
          <p:nvPr/>
        </p:nvSpPr>
        <p:spPr>
          <a:xfrm>
            <a:off x="219960" y="614376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пра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6" descr="C:\WINDOWS\Рабочий стол\Korvi\для през\знаки\SVETOFOR_RU - Библиотека - ПДД - Дорожные Знаки - Предписывающие Знаки.files\sn4_1_5.gif"/>
          <p:cNvPicPr/>
          <p:nvPr/>
        </p:nvPicPr>
        <p:blipFill>
          <a:blip r:embed="rId6"/>
          <a:stretch/>
        </p:blipFill>
        <p:spPr>
          <a:xfrm>
            <a:off x="3357720" y="350028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6"/>
          <p:cNvSpPr/>
          <p:nvPr/>
        </p:nvSpPr>
        <p:spPr>
          <a:xfrm>
            <a:off x="2857680" y="6215040"/>
            <a:ext cx="29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C:\WINDOWS\Рабочий стол\Korvi\для през\знаки\SVETOFOR_RU - Библиотека - ПДД - Дорожные Знаки - Предписывающие Знаки.files\sn4_7.gif"/>
          <p:cNvPicPr/>
          <p:nvPr/>
        </p:nvPicPr>
        <p:blipFill>
          <a:blip r:embed="rId1"/>
          <a:stretch/>
        </p:blipFill>
        <p:spPr>
          <a:xfrm>
            <a:off x="642960" y="28584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5"/>
          <p:cNvSpPr/>
          <p:nvPr/>
        </p:nvSpPr>
        <p:spPr>
          <a:xfrm>
            <a:off x="0" y="2643120"/>
            <a:ext cx="328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граничение минима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кор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6" descr="C:\WINDOWS\Рабочий стол\Korvi\для през\знаки\SVETOFOR_RU - Библиотека - ПДД - Дорожные Знаки - Предписывающие Знаки.files\sn4_6.gif"/>
          <p:cNvPicPr/>
          <p:nvPr/>
        </p:nvPicPr>
        <p:blipFill>
          <a:blip r:embed="rId2"/>
          <a:stretch/>
        </p:blipFill>
        <p:spPr>
          <a:xfrm>
            <a:off x="3429000" y="214200"/>
            <a:ext cx="2452680" cy="24526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7"/>
          <p:cNvSpPr/>
          <p:nvPr/>
        </p:nvSpPr>
        <p:spPr>
          <a:xfrm>
            <a:off x="3214800" y="2857680"/>
            <a:ext cx="27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ешеходная дорож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6" descr="C:\WINDOWS\Рабочий стол\Korvi\для през\знаки\SVETOFOR_RU - Библиотека - ПДД - Дорожные Знаки - Предписывающие Знаки.files\sn4_4.gif"/>
          <p:cNvPicPr/>
          <p:nvPr/>
        </p:nvPicPr>
        <p:blipFill>
          <a:blip r:embed="rId3"/>
          <a:stretch/>
        </p:blipFill>
        <p:spPr>
          <a:xfrm>
            <a:off x="6143760" y="14292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9"/>
          <p:cNvSpPr/>
          <p:nvPr/>
        </p:nvSpPr>
        <p:spPr>
          <a:xfrm>
            <a:off x="6357960" y="278604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легковых автомоби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" descr="C:\WINDOWS\Рабочий стол\Korvi\для през\знаки\SVETOFOR_RU - Библиотека - ПДД - Дорожные Знаки - Предписывающие Знаки.files\sn4_5.gif"/>
          <p:cNvPicPr/>
          <p:nvPr/>
        </p:nvPicPr>
        <p:blipFill>
          <a:blip r:embed="rId4"/>
          <a:stretch/>
        </p:blipFill>
        <p:spPr>
          <a:xfrm>
            <a:off x="785880" y="3714840"/>
            <a:ext cx="2238480" cy="22381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11"/>
          <p:cNvSpPr/>
          <p:nvPr/>
        </p:nvSpPr>
        <p:spPr>
          <a:xfrm>
            <a:off x="0" y="59292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елосипедная дорожк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6" descr="C:\WINDOWS\Рабочий стол\Korvi\для през\знаки\SVETOFOR_RU - Библиотека - ПДД - Дорожные Знаки - Предписывающие Знаки.files\sn4_2_3.gif"/>
          <p:cNvPicPr/>
          <p:nvPr/>
        </p:nvPicPr>
        <p:blipFill>
          <a:blip r:embed="rId5"/>
          <a:stretch/>
        </p:blipFill>
        <p:spPr>
          <a:xfrm>
            <a:off x="3571920" y="3714840"/>
            <a:ext cx="2214360" cy="22143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13"/>
          <p:cNvSpPr/>
          <p:nvPr/>
        </p:nvSpPr>
        <p:spPr>
          <a:xfrm>
            <a:off x="2714760" y="592920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бъезд препят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права или слев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6" descr="C:\WINDOWS\Рабочий стол\Korvi\для през\знаки\SVETOFOR_RU - Библиотека - ПДД - Дорожные Знаки - Предписывающие Знаки.files\sn4_3.gif"/>
          <p:cNvPicPr/>
          <p:nvPr/>
        </p:nvPicPr>
        <p:blipFill>
          <a:blip r:embed="rId6"/>
          <a:stretch/>
        </p:blipFill>
        <p:spPr>
          <a:xfrm>
            <a:off x="6357960" y="3714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5"/>
          <p:cNvSpPr/>
          <p:nvPr/>
        </p:nvSpPr>
        <p:spPr>
          <a:xfrm>
            <a:off x="5786280" y="607212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уговое движ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00040" y="28548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Правильное поведение на дорогах -  показатель культуры челове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Желаю всем безопасных дор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Будьте воспита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До новых встреч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0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2" dur="2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4" dur="2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6" dur="2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3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6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9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кузова"/>
          <p:cNvPicPr/>
          <p:nvPr/>
        </p:nvPicPr>
        <p:blipFill>
          <a:blip r:embed="rId1"/>
          <a:stretch/>
        </p:blipFill>
        <p:spPr>
          <a:xfrm>
            <a:off x="1643040" y="785880"/>
            <a:ext cx="5643720" cy="55864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и и их сходство с первыми автомобил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99972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сколоход, паровая тележка, одноместный экипаж, велосипед, самодвижущийся экипаж, телега ветер, трехколесный экипаж, самодвигающаяся коляска, карета, паровая машина, самокатка, педальний велосипед, электроцикл, бензиновый автомобиль, автомобили с дизельным топливом , современные автомоби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.Перечислите средства передвижения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 виды транспорта  ещё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H:\Documents and Settings\Гость\Рабочий стол\1228488962_2008_11_01_091754_1.jpg"/>
          <p:cNvPicPr/>
          <p:nvPr/>
        </p:nvPicPr>
        <p:blipFill>
          <a:blip r:embed="rId1"/>
          <a:stretch/>
        </p:blipFill>
        <p:spPr>
          <a:xfrm>
            <a:off x="1071720" y="1857240"/>
            <a:ext cx="70722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транспортных средств, их классификац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785600" y="2214720"/>
            <a:ext cx="52722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зависимости от места передвижения весь транспорт делится на 5 больших групп: воздушный, наземный, подземный, водный, железнодорож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H:\Documents and Settings\Гость\Рабочий стол\transport033.gif"/>
          <p:cNvPicPr/>
          <p:nvPr/>
        </p:nvPicPr>
        <p:blipFill>
          <a:blip r:embed="rId1"/>
          <a:stretch/>
        </p:blipFill>
        <p:spPr>
          <a:xfrm>
            <a:off x="6643800" y="4357800"/>
            <a:ext cx="2143080" cy="221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H:\Documents and Settings\Гость\Рабочий стол\fly27.gif"/>
          <p:cNvPicPr/>
          <p:nvPr/>
        </p:nvPicPr>
        <p:blipFill>
          <a:blip r:embed="rId2"/>
          <a:stretch/>
        </p:blipFill>
        <p:spPr>
          <a:xfrm>
            <a:off x="7143840" y="928800"/>
            <a:ext cx="1023840" cy="2357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:\Documents and Settings\Гость\Рабочий стол\transport029.gif"/>
          <p:cNvPicPr/>
          <p:nvPr/>
        </p:nvPicPr>
        <p:blipFill>
          <a:blip r:embed="rId3"/>
          <a:stretch/>
        </p:blipFill>
        <p:spPr>
          <a:xfrm>
            <a:off x="3714840" y="13572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:\Documents and Settings\Гость\Рабочий стол\transport020.gif"/>
          <p:cNvPicPr/>
          <p:nvPr/>
        </p:nvPicPr>
        <p:blipFill>
          <a:blip r:embed="rId4"/>
          <a:stretch/>
        </p:blipFill>
        <p:spPr>
          <a:xfrm>
            <a:off x="214200" y="1500120"/>
            <a:ext cx="2000520" cy="235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:\Documents and Settings\Гость\Рабочий стол\transport028.gif"/>
          <p:cNvPicPr/>
          <p:nvPr/>
        </p:nvPicPr>
        <p:blipFill>
          <a:blip r:embed="rId5"/>
          <a:stretch/>
        </p:blipFill>
        <p:spPr>
          <a:xfrm>
            <a:off x="357120" y="4572000"/>
            <a:ext cx="1500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H:\Documents and Settings\Гость\Рабочий стол\transport007.gif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душ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H:\Documents and Settings\Гость\Рабочий стол\34a88698bca1.jpg"/>
          <p:cNvPicPr/>
          <p:nvPr/>
        </p:nvPicPr>
        <p:blipFill>
          <a:blip r:embed="rId2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:\Documents and Settings\Гость\Рабочий стол\0231.gif"/>
          <p:cNvPicPr/>
          <p:nvPr/>
        </p:nvPicPr>
        <p:blipFill>
          <a:blip r:embed="rId3"/>
          <a:stretch/>
        </p:blipFill>
        <p:spPr>
          <a:xfrm>
            <a:off x="214200" y="857160"/>
            <a:ext cx="2714760" cy="128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:\Documents and Settings\Гость\Рабочий стол\0231.gif"/>
          <p:cNvPicPr/>
          <p:nvPr/>
        </p:nvPicPr>
        <p:blipFill>
          <a:blip r:embed="rId4"/>
          <a:stretch/>
        </p:blipFill>
        <p:spPr>
          <a:xfrm>
            <a:off x="-285840" y="0"/>
            <a:ext cx="2714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71760" y="214200"/>
            <a:ext cx="3071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земный транспорт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H:\Documents and Settings\Гость\Рабочий стол\7PQBGCAX568NLCAIUVZEYCACYR4XWCA6DP6XYCAQ8DWXSCA2OICFUCA48B2VICAYYEWQ2CATLP6F3CA2NI8AZCA9AY3S9CAVY263MCA4LZF2DCALYSOZTCA5MB2QMCAH7MR7HCAS1CIF8CAQ34YOSCA9ZNYJA.jpg"/>
          <p:cNvPicPr/>
          <p:nvPr/>
        </p:nvPicPr>
        <p:blipFill>
          <a:blip r:embed="rId1"/>
          <a:stretch/>
        </p:blipFill>
        <p:spPr>
          <a:xfrm>
            <a:off x="357120" y="0"/>
            <a:ext cx="2428920" cy="3286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:\Documents and Settings\Гость\Рабочий стол\TFHVSCAU2D4L3CA66CX97CADVKZ6BCATG5DA7CAZBPMJ8CAR6LBCGCAFSG8TQCAXG712TCA0MDL95CABDQDKTCAX1T9XCCAP43AYECAHJDT8KCARAOZWFCAT2VP9OCA348MTACAXHY4TKCA25QO1TCA9P6IQ1.jpg"/>
          <p:cNvPicPr/>
          <p:nvPr/>
        </p:nvPicPr>
        <p:blipFill>
          <a:blip r:embed="rId2"/>
          <a:stretch/>
        </p:blipFill>
        <p:spPr>
          <a:xfrm>
            <a:off x="3357720" y="214200"/>
            <a:ext cx="2571480" cy="264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:\Documents and Settings\Гость\Рабочий стол\ZXY5RCA04O79ICAHMY3EDCAWNNZ84CAIX15KFCAQCAE2OCA4PRSHICABSOHFFCALWFLANCASBJ23ZCAW93K60CAZH0K59CALCW58QCARPCBPSCACXLUVICANH0ETPCAB3HS0ZCA4SKYNDCA5D8E4MCASZX4KV.jpg"/>
          <p:cNvPicPr/>
          <p:nvPr/>
        </p:nvPicPr>
        <p:blipFill>
          <a:blip r:embed="rId3"/>
          <a:stretch/>
        </p:blipFill>
        <p:spPr>
          <a:xfrm>
            <a:off x="6429240" y="1785960"/>
            <a:ext cx="2428920" cy="3000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428760" y="3286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з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643200" y="29289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64380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й транспор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H:\Documents and Settings\Гость\Рабочий стол\AR3F9CAX4C6Q0CA23OARQCAN5BLOMCAKS6WL1CARAQZFVCAZFHR1RCACE6CFOCAFRWC8OCAK64LXZCAAN3WDQCA9TKXX8CAUT1GCBCAWI2XY3CAPQ95NVCASX3PD9CAYMECEVCAVSHF7WCASTY6QFCAUULMW9.jpg"/>
          <p:cNvPicPr/>
          <p:nvPr/>
        </p:nvPicPr>
        <p:blipFill>
          <a:blip r:embed="rId4"/>
          <a:stretch/>
        </p:blipFill>
        <p:spPr>
          <a:xfrm>
            <a:off x="357120" y="385776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642960" y="59292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й 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:\Documents and Settings\Гость\Рабочий стол\files.jpg"/>
          <p:cNvPicPr/>
          <p:nvPr/>
        </p:nvPicPr>
        <p:blipFill>
          <a:blip r:embed="rId5"/>
          <a:stretch/>
        </p:blipFill>
        <p:spPr>
          <a:xfrm>
            <a:off x="3429000" y="3429000"/>
            <a:ext cx="2500200" cy="235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1"/>
          <p:cNvSpPr/>
          <p:nvPr/>
        </p:nvSpPr>
        <p:spPr>
          <a:xfrm>
            <a:off x="3429000" y="585792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емный ви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ьсового транс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д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:\Documents and Settings\Гость\Рабочий стол\7K3G6CA999LHUCANH00UNCACEBABICA1AUF1PCADEK4LBCA5B344YCAJP7P3JCA7ZUSBMCAU5J2HZCAG5NGBRCA66LXA3CA4O8WA7CAFU9LQ5CA6F693ECAPLWVDTCAZNR37WCAM41WF5CAVM1R88CA16UY8L.jpg"/>
          <p:cNvPicPr/>
          <p:nvPr/>
        </p:nvPicPr>
        <p:blipFill>
          <a:blip r:embed="rId1"/>
          <a:stretch/>
        </p:blipFill>
        <p:spPr>
          <a:xfrm>
            <a:off x="285840" y="2143080"/>
            <a:ext cx="2428920" cy="32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H:\Documents and Settings\Гость\Рабочий стол\M52ONCAMD4TV9CA22H2K3CADP6YF2CAR41PE6CAJKF2NKCA1V610DCA51OC10CAQ90S1MCAJ0HT8NCAHEMZEZCAYLWNTHCA3KPU4GCALDKKAQCAROIIZHCAPMLCHYCAYU7C8CCA9A0FAVCAWF56IVCAQPN41U.jpg"/>
          <p:cNvPicPr/>
          <p:nvPr/>
        </p:nvPicPr>
        <p:blipFill>
          <a:blip r:embed="rId2"/>
          <a:stretch/>
        </p:blipFill>
        <p:spPr>
          <a:xfrm>
            <a:off x="3214800" y="2143080"/>
            <a:ext cx="2028600" cy="314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:\Documents and Settings\Гость\Рабочий стол\ILTJNCAV13AMBCAPAOMOECAICI9COCA8Q7J0HCAOYRBKZCALRY207CA5Q26F6CACTQ365CAU4QVP9CAUMYVDTCAH3I5NXCATJ18UNCAA2G9D3CAJE84T5CAQPZMHQCATW64DCCA0RZK18CANHCT3RCAG1095E.jpg"/>
          <p:cNvPicPr/>
          <p:nvPr/>
        </p:nvPicPr>
        <p:blipFill>
          <a:blip r:embed="rId3"/>
          <a:stretch/>
        </p:blipFill>
        <p:spPr>
          <a:xfrm>
            <a:off x="5929200" y="2214720"/>
            <a:ext cx="29289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2:38:51Z</dcterms:created>
  <dc:creator>Korvina</dc:creator>
  <dc:description/>
  <dc:language>en-US</dc:language>
  <cp:lastModifiedBy>BUH</cp:lastModifiedBy>
  <dcterms:modified xsi:type="dcterms:W3CDTF">2009-09-10T06:02:05Z</dcterms:modified>
  <cp:revision>118</cp:revision>
  <dc:subject/>
  <dc:title>ДОРОЖНЫЕ ЗНАКИ</dc:title>
</cp:coreProperties>
</file>