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E6BD-3294-4526-A406-7DEB89B2F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5BF4-DB33-4E7B-A4D6-31D2351D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D00D4F-E3F4-4640-A556-4F4E895A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7F167C-6B9B-4BAB-A0E5-761848B1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D636A6-FE83-4DF1-94BF-D91CF1A8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C4F68F-54A5-4EDF-8768-A874C9A9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49EA33-2F5E-47A8-AEDA-DC1ABBAD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6E1970-2B25-4EAA-86A8-37A595D6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6D8289-9AB4-45F0-A2F9-4CCFCDD4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65249D-E511-48B5-9E6E-FBE3074B2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2659FD-07B5-4079-9D81-0D2A742DD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AC2129-8F36-42F5-BEAE-8585ECB30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B492-8473-4741-82F8-FE9E4F787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6E71C4-ACE9-4E93-8E30-D26A3256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74F832-317D-4AF3-BE02-B568FCD6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881D93-EF80-4ACF-BDFE-23967057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A01822-D7BC-4824-91ED-B5F6D126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794545-24FE-4C76-8FFC-03A7CE8D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96CD1A-2133-4D2A-874E-45EEA013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C8E957-6C81-49D7-A60E-4B08F9FE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E44B72-9555-4AF1-B46B-994DEE0F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0D14FB-8754-4372-A8C3-F4847600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5FD8DA-EDDC-44F2-974F-99F90EB48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4FA3-15E4-4E71-992D-4E8F2E9C7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1D197A-F8DE-4A92-AF36-3A0BCD92F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AC6DCCA-3D18-4A2C-9D54-432BEBAA5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C75952-3E36-4B21-9AB4-B0074AC3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D97BCA-3ADA-4244-A237-71EBC657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BAB8450-5A8F-48DA-9080-F3958CF4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CBBF31F-859A-4781-BEA7-0ECE09EE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B3B216F-8ADE-4680-8146-03C66656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962386C-D84E-463E-9D44-5564B3DC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4FBCF80-1573-4EB7-9507-036070A1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9AB823B-B0EE-4984-86A9-987994CA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22A6-4A80-4F67-9CAA-AA99F73DD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9F0C71-5F32-4D4C-913F-95C27FF5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BC03A68-0033-43F8-A656-ED1528FA9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A3E329D-1A8C-4152-A7BF-C15442EF6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1A63-6BC1-4552-A5A9-A6753016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5191-51E7-452A-884C-4491A29C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3D41-BF16-4293-8A30-8AA20C25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B0E7-3981-4900-B2FE-FEE7C447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639D-50E6-4A83-9A7B-4E4F3860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8969-2DB0-48AC-B0E6-4C5822B6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DFA2-0FD0-4878-A7C8-39F7D76B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E3F3-575E-4D69-80A3-8DA9C898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BDCF-78D8-4308-86D5-CD5278D5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6F9C-3AF9-4628-B7C7-A5EBBE49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DA70-92A4-47A9-9430-154D2AB89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EAC4-BD60-41DA-B8A9-7E9D5AC7B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44D40-BA99-4152-8995-8A22610F1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A082C-AB77-496E-8C65-55E44FAB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8181D-8798-4D11-8E65-F6A86ECE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D6F28-4834-4E56-974F-8212B6A2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DACD9-46E9-49DD-9BC6-CE039997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E7B3-ECE1-4F0A-88F3-DD9948FD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79E7D-3334-49E6-BADB-4915217A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1CE76-B919-4594-A4CB-569A4F5A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5F793-D6FC-46E3-A7AE-FA67245D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E9409-F82B-4970-B17A-91EA8C9F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1EAF6-EBA2-4176-AB53-6B8658C9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CEC65-5133-4FF5-8CDC-166451023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57210-47A7-4021-BCCE-8261086ED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AE858-A8F1-4219-B18A-F0D3FE962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79D67-6B2F-4586-B909-EF2C484A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D2EBE-5301-4687-AAFC-5AC1755A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DE64-B68C-4555-B168-4C2D8C0E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86FC4-3B72-42E4-A1A0-159BD200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908EE-572F-4B1D-870D-E7BFC8FE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19BB8-DC70-4EFE-8637-BB01F7A2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1C797-A163-49E1-A263-2791E6CD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ED86A-FA98-4692-A493-ABAB0BC9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6F113-06D0-4323-BA95-45F0C80A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0F061-E930-489E-ADB1-85ADAB88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D06AE-0B9A-41C5-899E-5D567AC4C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CC0ED-B9AD-45EF-9DB2-545D9C0B2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E9B9D-D639-4002-8F19-9BBEA2EED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6F3D-6F65-4839-8CE7-45059829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012CC-3A8B-4DB6-959B-9D64C46C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DD708-75D0-4AFC-A1A2-CEB101C9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B9030-79C2-4DE1-AB3F-01090073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E22D9-E95D-4BEE-A79A-D0CC02E7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C6A94-AF59-4A05-AB54-8E8B3F78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AB00D-35B7-4EDB-BEC9-58B01791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90D8E-8905-4A73-80E7-94D80CCE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BA49D-8D20-4A76-A308-BB566630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E9A34-9A78-4E6E-8AA8-4639FD87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B68CE-64F1-427F-B60B-F81C99BE8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07DF-03C3-4A5C-A1A5-C6439AF9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2CA2A-1D9E-443B-A854-07E25F0EC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A5616-69B8-43FB-AC36-D9F96A8C0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02807-A410-4CA1-A979-1AF5C880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99341-2089-4278-9410-6A7DAD99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D6490-1E91-489C-865B-06FD6327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7E51A-BD42-444D-A710-947EAE71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FE95A-587C-4B11-B169-B7EAD4E9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1CD13-B629-4B1C-973C-D52FD418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7D58E-37B4-4FBD-B77E-764C8140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9D35D-0DEE-4488-AF3F-1D3C98A5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EA9A-E32D-44FE-BEF8-DB746C46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5FBBF-6308-46BF-A5AC-2768651B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AD14E-C025-4936-88F3-A991C2C00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E9388-0D18-4827-88BC-D81E6473F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BF2EFA-4D07-46DD-8B7F-B46E5B0FD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D799BB-3A47-4008-A63C-A740AC11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08A511-0F2A-4327-A902-E8D21A28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C24AB1-5BCC-439C-A852-32E450B5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0C00A0-1838-4814-8F89-2580AA51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DE22DF-4F81-490F-BDA6-0C94BFBD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321FA2-1852-4650-998E-A7DAC0DB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5C8F-E9CD-42A1-A948-18168F54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E62406-3258-42CF-96EE-D82CCD32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61F0FB-3066-4A3C-A3F6-2E13C44C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792F45-38B3-42F0-BEB5-240288D9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7E0FDA-6C1A-4B93-AACD-249E87927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DC0C2C-B641-4684-8B2D-57DFD8A01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DD021B-0BC3-41B2-9F84-A0E62EACF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D88A1C-D855-4789-9A8F-CE691460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5F1B9A-A8E6-479C-B3F1-E8B037DF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05AC9E-65FC-4E05-9ABC-AB024A02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76EE20-F765-4B39-BF50-989B858A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63CC-B6D9-4D0D-9DDB-1BDFD4B0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40B85C-22D9-465A-88C2-1D562020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E5339E-CA41-4417-9B44-E57B4D4F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E06FB9-0FD0-4B2C-8E85-664AAD68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217D24-29A0-4CC8-981C-33D7FBF4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9F6241-B445-4072-9294-2FBCDB4A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4BCB67-BC0E-4067-870A-7003873FD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792287-39B9-448A-99A4-E9D9F56DB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A5FDA2-6D4A-4004-AB93-FBAEE10BB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F20ED6-A5D5-4AB8-A596-E173CAC9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94F4BB-6104-4A05-B1D9-A0AF0D46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EF8C-064B-4608-87A5-5B0B099F3A19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8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sldNum" idx="29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C9BE-9523-41B7-925C-41F7534A6D0F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ftr" idx="30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31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sldNum" idx="32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3354-8A1C-4717-8A87-948E1F58F84A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ftr" idx="33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C14A-F3C2-49BC-A001-BBD36ED94C61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86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88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C9D6-E524-4157-B6B9-E2CD8E5D80BF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3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4FFF-D41D-448A-8927-CE6AEB376985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D58D-80DB-4606-9D01-1FDB1B0E4152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18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E784-2CBA-4BF0-8109-CEED37A89E54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sldNum" idx="20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65D3-F539-42FB-8DB0-51BC66F01CB7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ftr" idx="21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sldNum" idx="23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1F79-64A5-4957-B162-186B2BC271BD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4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7162920" y="1550520"/>
            <a:ext cx="182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26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D5EE-07EC-4194-B6B4-391248522BD4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ftr" idx="27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s://ru.wikipedia.org/wiki/2007_&#1075;&#1086;&#1076;" TargetMode="External"/><Relationship Id="rId3" Type="http://schemas.openxmlformats.org/officeDocument/2006/relationships/hyperlink" Target="https://ru.wikipedia.org/wiki/&#1055;&#1088;&#1077;&#1079;&#1080;&#1076;&#1077;&#1085;&#1090;&#1089;&#1082;&#1080;&#1077;_&#1087;&#1088;&#1072;&#1081;&#1084;&#1077;&#1088;&#1080;&#1079;_&#1074;_&#1057;&#1064;&#1040;" TargetMode="External"/><Relationship Id="rId4" Type="http://schemas.openxmlformats.org/officeDocument/2006/relationships/hyperlink" Target="https://ru.wikipedia.org/wiki/&#1044;&#1077;&#1083;&#1072;&#1074;&#1101;&#1088;" TargetMode="External"/><Relationship Id="rId5" Type="http://schemas.openxmlformats.org/officeDocument/2006/relationships/hyperlink" Target="https://ru.wikipedia.org/wiki/&#1041;&#1072;&#1081;&#1076;&#1077;&#1085;,_&#1044;&#1078;&#1086;&#1079;&#1077;&#1092;" TargetMode="External"/><Relationship Id="rId6" Type="http://schemas.openxmlformats.org/officeDocument/2006/relationships/hyperlink" Target="https://ru.wikipedia.org/wiki/&#1041;&#1072;&#1081;&#1076;&#1077;&#1085;,_&#1044;&#1078;&#1086;&#1079;&#1077;&#1092;" TargetMode="External"/><Relationship Id="rId7" Type="http://schemas.openxmlformats.org/officeDocument/2006/relationships/hyperlink" Target="https://ru.wikipedia.org/wiki/&#1055;&#1088;&#1077;&#1079;&#1080;&#1076;&#1077;&#1085;&#1090;&#1089;&#1082;&#1080;&#1077;_&#1074;&#1099;&#1073;&#1086;&#1088;&#1099;_&#1074;_&#1057;&#1064;&#1040;_(2008)" TargetMode="External"/><Relationship Id="rId8" Type="http://schemas.openxmlformats.org/officeDocument/2006/relationships/hyperlink" Target="https://ru.wikipedia.org/wiki/&#1056;&#1077;&#1089;&#1087;&#1091;&#1073;&#1083;&#1080;&#1082;&#1072;&#1085;&#1089;&#1082;&#1072;&#1103;_&#1087;&#1072;&#1088;&#1090;&#1080;&#1103;_&#1057;&#1064;&#1040;" TargetMode="External"/><Relationship Id="rId9" Type="http://schemas.openxmlformats.org/officeDocument/2006/relationships/hyperlink" Target="https://ru.wikipedia.org/wiki/&#1044;&#1078;&#1086;&#1085;_&#1052;&#1072;&#1082;&#1082;&#1077;&#1081;&#1085;" TargetMode="External"/><Relationship Id="rId10" Type="http://schemas.openxmlformats.org/officeDocument/2006/relationships/hyperlink" Target="https://ru.wikipedia.org/wiki/&#1044;&#1078;&#1086;&#1085;_&#1052;&#1072;&#1082;&#1082;&#1077;&#1081;&#1085;" TargetMode="External"/><Relationship Id="rId11" Type="http://schemas.openxmlformats.org/officeDocument/2006/relationships/hyperlink" Target="https://ru.wikipedia.org/wiki/&#1050;&#1086;&#1083;&#1083;&#1077;&#1075;&#1080;&#1103;_&#1074;&#1099;&#1073;&#1086;&#1088;&#1097;&#1080;&#1082;&#1086;&#1074;_&#1057;&#1064;&#1040;" TargetMode="External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s://ru.wikipedia.org/wiki/9_&#1086;&#1082;&#1090;&#1103;&#1073;&#1088;&#1103;" TargetMode="External"/><Relationship Id="rId3" Type="http://schemas.openxmlformats.org/officeDocument/2006/relationships/hyperlink" Target="https://ru.wikipedia.org/wiki/2009_&#1075;&#1086;&#1076;" TargetMode="External"/><Relationship Id="rId4" Type="http://schemas.openxmlformats.org/officeDocument/2006/relationships/hyperlink" Target="https://ru.wikipedia.org/wiki/&#1053;&#1086;&#1073;&#1077;&#1083;&#1077;&#1074;&#1089;&#1082;&#1072;&#1103;_&#1087;&#1088;&#1077;&#1084;&#1080;&#1103;_&#1084;&#1080;&#1088;&#1072;" TargetMode="External"/><Relationship Id="rId5" Type="http://schemas.openxmlformats.org/officeDocument/2006/relationships/hyperlink" Target="https://ru.wikipedia.org/wiki/&#1055;&#1088;&#1077;&#1079;&#1080;&#1076;&#1077;&#1085;&#1090;&#1089;&#1082;&#1080;&#1077;_&#1074;&#1099;&#1073;&#1086;&#1088;&#1099;_&#1074;_&#1057;&#1064;&#1040;_(2012)" TargetMode="External"/><Relationship Id="rId6" Type="http://schemas.openxmlformats.org/officeDocument/2006/relationships/hyperlink" Target="https://ru.wikipedia.org/wiki/&#1052;&#1080;&#1090;&#1090;_&#1056;&#1086;&#1084;&#1085;&#1080;" TargetMode="External"/><Relationship Id="rId7" Type="http://schemas.openxmlformats.org/officeDocument/2006/relationships/hyperlink" Target="https://ru.wikipedia.org/wiki/&#1052;&#1080;&#1090;&#1090;_&#1056;&#1086;&#1084;&#1085;&#1080;" TargetMode="External"/><Relationship Id="rId8" Type="http://schemas.openxmlformats.org/officeDocument/2006/relationships/hyperlink" Target="https://ru.wikipedia.org/wiki/&#1052;&#1080;&#1090;&#1090;_&#1056;&#1086;&#1084;&#1085;&#1080;" TargetMode="External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s://ru.wikipedia.org/wiki/&#1040;&#1085;&#1075;&#1083;&#1080;&#1081;&#1089;&#1082;&#1080;&#1081;_&#1103;&#1079;&#1099;&#1082;" TargetMode="External"/><Relationship Id="rId3" Type="http://schemas.openxmlformats.org/officeDocument/2006/relationships/hyperlink" Target="https://ru.wikipedia.org/wiki/4_&#1072;&#1074;&#1075;&#1091;&#1089;&#1090;&#1072;" TargetMode="External"/><Relationship Id="rId4" Type="http://schemas.openxmlformats.org/officeDocument/2006/relationships/hyperlink" Target="https://ru.wikipedia.org/wiki/1961_&#1075;&#1086;&#1076;" TargetMode="External"/><Relationship Id="rId5" Type="http://schemas.openxmlformats.org/officeDocument/2006/relationships/hyperlink" Target="https://ru.wikipedia.org/wiki/&#1043;&#1086;&#1085;&#1086;&#1083;&#1091;&#1083;&#1091;" TargetMode="External"/><Relationship Id="rId6" Type="http://schemas.openxmlformats.org/officeDocument/2006/relationships/hyperlink" Target="https://ru.wikipedia.org/wiki/&#1043;&#1072;&#1074;&#1072;&#1081;&#1080;" TargetMode="External"/><Relationship Id="rId7" Type="http://schemas.openxmlformats.org/officeDocument/2006/relationships/hyperlink" Target="https://ru.wikipedia.org/wiki/&#1057;&#1064;&#1040;" TargetMode="External"/><Relationship Id="rId8" Type="http://schemas.openxmlformats.org/officeDocument/2006/relationships/hyperlink" Target="https://ru.wikipedia.org/wiki/20_&#1103;&#1085;&#1074;&#1072;&#1088;&#1103;" TargetMode="External"/><Relationship Id="rId9" Type="http://schemas.openxmlformats.org/officeDocument/2006/relationships/hyperlink" Target="https://ru.wikipedia.org/wiki/2009_&#1075;&#1086;&#1076;" TargetMode="External"/><Relationship Id="rId10" Type="http://schemas.openxmlformats.org/officeDocument/2006/relationships/hyperlink" Target="https://ru.wikipedia.org/wiki/&#1055;&#1088;&#1077;&#1079;&#1080;&#1076;&#1077;&#1085;&#1090;_&#1057;&#1064;&#1040;" TargetMode="External"/><Relationship Id="rId11" Type="http://schemas.openxmlformats.org/officeDocument/2006/relationships/hyperlink" Target="https://ru.wikipedia.org/wiki/&#1057;&#1086;&#1077;&#1076;&#1080;&#1085;&#1105;&#1085;&#1085;&#1099;&#1077;_&#1064;&#1090;&#1072;&#1090;&#1099;_&#1040;&#1084;&#1077;&#1088;&#1080;&#1082;&#1080;" TargetMode="External"/><Relationship Id="rId12" Type="http://schemas.openxmlformats.org/officeDocument/2006/relationships/hyperlink" Target="https://ru.wikipedia.org/wiki/&#1053;&#1086;&#1073;&#1077;&#1083;&#1077;&#1074;&#1089;&#1082;&#1072;&#1103;_&#1087;&#1088;&#1077;&#1084;&#1080;&#1103;_&#1084;&#1080;&#1088;&#1072;" TargetMode="External"/><Relationship Id="rId13" Type="http://schemas.openxmlformats.org/officeDocument/2006/relationships/hyperlink" Target="https://ru.wikipedia.org/wiki/2009_&#1075;&#1086;&#1076;" TargetMode="External"/><Relationship Id="rId14" Type="http://schemas.openxmlformats.org/officeDocument/2006/relationships/hyperlink" Target="https://ru.wikipedia.org/wiki/&#1057;&#1077;&#1085;&#1072;&#1090;_&#1057;&#1064;&#1040;" TargetMode="External"/><Relationship Id="rId15" Type="http://schemas.openxmlformats.org/officeDocument/2006/relationships/hyperlink" Target="https://ru.wikipedia.org/wiki/&#1048;&#1083;&#1083;&#1080;&#1085;&#1086;&#1081;&#1089;" TargetMode="External"/><Relationship Id="rId16" Type="http://schemas.openxmlformats.org/officeDocument/2006/relationships/hyperlink" Target="https://ru.wikipedia.org/wiki/2012_&#1075;&#1086;&#1076;" TargetMode="External"/><Relationship Id="rId17" Type="http://schemas.openxmlformats.org/officeDocument/2006/relationships/image" Target="../media/image7.jpeg"/><Relationship Id="rId1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s://ru.wikipedia.org/wiki/&#1040;&#1092;&#1088;&#1086;&#1072;&#1084;&#1077;&#1088;&#1080;&#1082;&#1072;&#1085;&#1094;&#1099;" TargetMode="External"/><Relationship Id="rId3" Type="http://schemas.openxmlformats.org/officeDocument/2006/relationships/hyperlink" Target="https://ru.wikipedia.org/wiki/&#1057;&#1087;&#1080;&#1089;&#1086;&#1082;_&#1087;&#1088;&#1077;&#1079;&#1080;&#1076;&#1077;&#1085;&#1090;&#1086;&#1074;_&#1057;&#1064;&#1040;" TargetMode="External"/><Relationship Id="rId4" Type="http://schemas.openxmlformats.org/officeDocument/2006/relationships/hyperlink" Target="https://ru.wikipedia.org/wiki/&#1052;&#1091;&#1083;&#1072;&#1090;" TargetMode="External"/><Relationship Id="rId5" Type="http://schemas.openxmlformats.org/officeDocument/2006/relationships/hyperlink" Target="https://ru.wikipedia.org/wiki/&#1056;&#1072;&#1073;&#1089;&#1090;&#1074;&#1086;_&#1074;_&#1057;&#1064;&#1040;" TargetMode="External"/><Relationship Id="rId6" Type="http://schemas.openxmlformats.org/officeDocument/2006/relationships/hyperlink" Target="https://ru.wikipedia.org/wiki/&#1050;&#1077;&#1085;&#1080;&#1103;" TargetMode="External"/><Relationship Id="rId7" Type="http://schemas.openxmlformats.org/officeDocument/2006/relationships/hyperlink" Target="https://ru.wikipedia.org/wiki/&#1057;&#1090;&#1101;&#1085;&#1083;&#1080;_&#1069;&#1085;&#1085;_&#1044;&#1072;&#1085;&#1093;&#1101;&#1084;" TargetMode="External"/><Relationship Id="rId8" Type="http://schemas.openxmlformats.org/officeDocument/2006/relationships/hyperlink" Target="https://ru.wikipedia.org/wiki/&#1057;&#1090;&#1101;&#1085;&#1083;&#1080;_&#1069;&#1085;&#1085;_&#1044;&#1072;&#1085;&#1093;&#1101;&#1084;" TargetMode="External"/><Relationship Id="rId9" Type="http://schemas.openxmlformats.org/officeDocument/2006/relationships/hyperlink" Target="https://ru.wikipedia.org/wiki/&#1057;&#1090;&#1101;&#1085;&#1083;&#1080;_&#1069;&#1085;&#1085;_&#1044;&#1072;&#1085;&#1093;&#1101;&#1084;" TargetMode="External"/><Relationship Id="rId10" Type="http://schemas.openxmlformats.org/officeDocument/2006/relationships/hyperlink" Target="https://ru.wikipedia.org/wiki/&#1057;&#1090;&#1101;&#1085;&#1083;&#1080;_&#1069;&#1085;&#1085;_&#1044;&#1072;&#1085;&#1093;&#1101;&#1084;" TargetMode="External"/><Relationship Id="rId11" Type="http://schemas.openxmlformats.org/officeDocument/2006/relationships/hyperlink" Target="https://ru.wikipedia.org/wiki/&#1057;&#1090;&#1101;&#1085;&#1083;&#1080;_&#1069;&#1085;&#1085;_&#1044;&#1072;&#1085;&#1093;&#1101;&#1084;" TargetMode="External"/><Relationship Id="rId12" Type="http://schemas.openxmlformats.org/officeDocument/2006/relationships/image" Target="../media/image8.jpeg"/><Relationship Id="rId1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s://ru.wikipedia.org/wiki/&#1043;&#1086;&#1085;&#1086;&#1083;&#1091;&#1083;&#1091;" TargetMode="External"/><Relationship Id="rId3" Type="http://schemas.openxmlformats.org/officeDocument/2006/relationships/hyperlink" Target="https://ru.wikipedia.org/wiki/&#1043;&#1072;&#1074;&#1072;&#1081;&#1080;" TargetMode="External"/><Relationship Id="rId4" Type="http://schemas.openxmlformats.org/officeDocument/2006/relationships/hyperlink" Target="https://ru.wikipedia.org/wiki/&#1059;&#1085;&#1080;&#1074;&#1077;&#1088;&#1089;&#1080;&#1090;&#1077;&#1090;_&#1043;&#1072;&#1074;&#1072;&#1081;&#1077;&#1074;_&#1074;_&#1052;&#1072;&#1085;&#1086;&#1072;" TargetMode="External"/><Relationship Id="rId5" Type="http://schemas.openxmlformats.org/officeDocument/2006/relationships/hyperlink" Target="https://ru.wikipedia.org/wiki/&#1059;&#1085;&#1080;&#1074;&#1077;&#1088;&#1089;&#1080;&#1090;&#1077;&#1090;_&#1043;&#1072;&#1074;&#1072;&#1081;&#1077;&#1074;_&#1074;_&#1052;&#1072;&#1085;&#1086;&#1072;" TargetMode="External"/><Relationship Id="rId6" Type="http://schemas.openxmlformats.org/officeDocument/2006/relationships/hyperlink" Target="https://ru.wikipedia.org/wiki/&#1040;&#1088;&#1080;&#1079;&#1086;&#1085;&#1072;" TargetMode="External"/><Relationship Id="rId7" Type="http://schemas.openxmlformats.org/officeDocument/2006/relationships/hyperlink" Target="https://ru.wikipedia.org/wiki/&#1064;&#1077;&#1088;&#1080;&#1092;" TargetMode="External"/><Relationship Id="rId8" Type="http://schemas.openxmlformats.org/officeDocument/2006/relationships/hyperlink" Target="https://ru.wikipedia.org/wiki/&#1040;&#1088;&#1087;&#1072;&#1081;&#1086;,_&#1044;&#1078;&#1086;&#1079;&#1077;&#1092;" TargetMode="External"/><Relationship Id="rId9" Type="http://schemas.openxmlformats.org/officeDocument/2006/relationships/hyperlink" Target="https://ru.wikipedia.org/wiki/&#1040;&#1088;&#1087;&#1072;&#1081;&#1086;,_&#1044;&#1078;&#1086;&#1079;&#1077;&#1092;" TargetMode="External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s://ru.wikipedia.org/wiki/&#1054;&#1073;&#1072;&#1084;&#1072;,_&#1041;&#1072;&#1088;&#1072;&#1082;_&#1061;&#1091;&#1089;&#1077;&#1081;&#1085;_(&#1089;&#1090;&#1072;&#1088;&#1096;&#1080;&#1081;)" TargetMode="External"/><Relationship Id="rId3" Type="http://schemas.openxmlformats.org/officeDocument/2006/relationships/hyperlink" Target="https://ru.wikipedia.org/wiki/&#1054;&#1073;&#1072;&#1084;&#1072;,_&#1041;&#1072;&#1088;&#1072;&#1082;_&#1061;&#1091;&#1089;&#1077;&#1081;&#1085;_(&#1089;&#1090;&#1072;&#1088;&#1096;&#1080;&#1081;)" TargetMode="External"/><Relationship Id="rId4" Type="http://schemas.openxmlformats.org/officeDocument/2006/relationships/hyperlink" Target="https://ru.wikipedia.org/wiki/&#1050;&#1077;&#1085;&#1080;&#1103;" TargetMode="External"/><Relationship Id="rId5" Type="http://schemas.openxmlformats.org/officeDocument/2006/relationships/hyperlink" Target="https://ru.wikipedia.org/wiki/&#1051;&#1091;&#1086;_(&#1085;&#1072;&#1088;&#1086;&#1076;)" TargetMode="External"/><Relationship Id="rId6" Type="http://schemas.openxmlformats.org/officeDocument/2006/relationships/hyperlink" Target="https://ru.wikipedia.org/wiki/&#1053;&#1072;&#1081;&#1088;&#1086;&#1073;&#1080;" TargetMode="External"/><Relationship Id="rId7" Type="http://schemas.openxmlformats.org/officeDocument/2006/relationships/hyperlink" Target="https://ru.wikipedia.org/w/index.php?title=&#1059;&#1085;&#1080;&#1074;&#1077;&#1088;&#1089;&#1080;&#1090;&#1077;&#1090;_&#1096;&#1090;&#1072;&#1090;&#1072;_&#1043;&#1072;&#1074;&#1072;&#1081;&#1080;&amp;action=edit&amp;redlink=1" TargetMode="External"/><Relationship Id="rId8" Type="http://schemas.openxmlformats.org/officeDocument/2006/relationships/hyperlink" Target="https://ru.wikipedia.org/wiki/&#1044;&#1072;&#1085;&#1093;&#1101;&#1084;,_&#1069;&#1085;&#1085;" TargetMode="External"/><Relationship Id="rId9" Type="http://schemas.openxmlformats.org/officeDocument/2006/relationships/hyperlink" Target="https://ru.wikipedia.org/wiki/&#1044;&#1072;&#1085;&#1093;&#1101;&#1084;,_&#1069;&#1085;&#1085;" TargetMode="External"/><Relationship Id="rId10" Type="http://schemas.openxmlformats.org/officeDocument/2006/relationships/hyperlink" Target="https://ru.wikipedia.org/wiki/&#1044;&#1072;&#1085;&#1093;&#1101;&#1084;,_&#1069;&#1085;&#1085;" TargetMode="External"/><Relationship Id="rId11" Type="http://schemas.openxmlformats.org/officeDocument/2006/relationships/hyperlink" Target="https://ru.wikipedia.org/wiki/&#1044;&#1072;&#1085;&#1093;&#1101;&#1084;,_&#1069;&#1085;&#1085;" TargetMode="External"/><Relationship Id="rId12" Type="http://schemas.openxmlformats.org/officeDocument/2006/relationships/hyperlink" Target="https://ru.wikipedia.org/wiki/&#1050;&#1072;&#1085;&#1079;&#1072;&#1089;" TargetMode="External"/><Relationship Id="rId13" Type="http://schemas.openxmlformats.org/officeDocument/2006/relationships/hyperlink" Target="https://ru.wikipedia.org/wiki/&#1061;&#1088;&#1080;&#1089;&#1090;&#1080;&#1072;&#1085;&#1089;&#1090;&#1074;&#1086;" TargetMode="External"/><Relationship Id="rId14" Type="http://schemas.openxmlformats.org/officeDocument/2006/relationships/hyperlink" Target="https://ru.wikipedia.org/wiki/&#1040;&#1075;&#1085;&#1086;&#1089;&#1090;&#1080;&#1082;" TargetMode="External"/><Relationship Id="rId15" Type="http://schemas.openxmlformats.org/officeDocument/2006/relationships/hyperlink" Target="https://ru.wikipedia.org/wiki/&#1063;&#1077;&#1088;&#1086;&#1082;&#1080;" TargetMode="External"/><Relationship Id="rId16" Type="http://schemas.openxmlformats.org/officeDocument/2006/relationships/image" Target="../media/image10.jpeg"/><Relationship Id="rId1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s://ru.wikipedia.org/wiki/&#1050;&#1086;&#1083;&#1091;&#1084;&#1073;&#1080;&#1081;&#1089;&#1082;&#1080;&#1081;_&#1091;&#1085;&#1080;&#1074;&#1077;&#1088;&#1089;&#1080;&#1090;&#1077;&#1090;" TargetMode="External"/><Relationship Id="rId3" Type="http://schemas.openxmlformats.org/officeDocument/2006/relationships/hyperlink" Target="https://ru.wikipedia.org/wiki/&#1043;&#1072;&#1088;&#1074;&#1072;&#1088;&#1076;&#1089;&#1082;&#1080;&#1081;_&#1091;&#1085;&#1080;&#1074;&#1077;&#1088;&#1089;&#1080;&#1090;&#1077;&#1090;" TargetMode="External"/><Relationship Id="rId4" Type="http://schemas.openxmlformats.org/officeDocument/2006/relationships/hyperlink" Target="https://ru.wikipedia.org/w/index.php?title=Harvard_Law_Review&amp;action=edit&amp;redlink=1" TargetMode="External"/><Relationship Id="rId5" Type="http://schemas.openxmlformats.org/officeDocument/2006/relationships/hyperlink" Target="https://ru.wikipedia.org/w/index.php?title=Harvard_Law_Review&amp;action=edit&amp;redlink=1" TargetMode="External"/><Relationship Id="rId6" Type="http://schemas.openxmlformats.org/officeDocument/2006/relationships/hyperlink" Target="https://ru.wikipedia.org/w/index.php?title=Harvard_Law_Review&amp;action=edit&amp;redlink=1" TargetMode="External"/><Relationship Id="rId7" Type="http://schemas.openxmlformats.org/officeDocument/2006/relationships/hyperlink" Target="https://ru.wikipedia.org/w/index.php?title=Harvard_Law_Review&amp;action=edit&amp;redlink=1" TargetMode="External"/><Relationship Id="rId8" Type="http://schemas.openxmlformats.org/officeDocument/2006/relationships/hyperlink" Target="https://ru.wikipedia.org/w/index.php?title=Harvard_Law_Review&amp;action=edit&amp;redlink=1" TargetMode="External"/><Relationship Id="rId9" Type="http://schemas.openxmlformats.org/officeDocument/2006/relationships/hyperlink" Target="https://ru.wikipedia.org/wiki/&#1050;&#1086;&#1085;&#1089;&#1090;&#1080;&#1090;&#1091;&#1094;&#1080;&#1086;&#1085;&#1085;&#1086;&#1077;_&#1087;&#1088;&#1072;&#1074;&#1086;" TargetMode="External"/><Relationship Id="rId10" Type="http://schemas.openxmlformats.org/officeDocument/2006/relationships/hyperlink" Target="https://ru.wikipedia.org/wiki/&#1063;&#1080;&#1082;&#1072;&#1075;&#1089;&#1082;&#1080;&#1081;_&#1091;&#1085;&#1080;&#1074;&#1077;&#1088;&#1089;&#1080;&#1090;&#1077;&#1090;" TargetMode="External"/><Relationship Id="rId11" Type="http://schemas.openxmlformats.org/officeDocument/2006/relationships/hyperlink" Target="https://ru.wikipedia.org/wiki/&#1048;&#1083;&#1083;&#1080;&#1085;&#1086;&#1081;&#1089;" TargetMode="External"/><Relationship Id="rId12" Type="http://schemas.openxmlformats.org/officeDocument/2006/relationships/hyperlink" Target="https://ru.wikipedia.org/wiki/2000_&#1075;&#1086;&#1076;" TargetMode="External"/><Relationship Id="rId13" Type="http://schemas.openxmlformats.org/officeDocument/2006/relationships/hyperlink" Target="https://ru.wikipedia.org/wiki/&#1055;&#1072;&#1083;&#1072;&#1090;&#1072;_&#1087;&#1088;&#1077;&#1076;&#1089;&#1090;&#1072;&#1074;&#1080;&#1090;&#1077;&#1083;&#1077;&#1081;_&#1057;&#1064;&#1040;" TargetMode="External"/><Relationship Id="rId14" Type="http://schemas.openxmlformats.org/officeDocument/2006/relationships/hyperlink" Target="https://ru.wikipedia.org/wiki/2003_&#1075;&#1086;&#1076;" TargetMode="External"/><Relationship Id="rId15" Type="http://schemas.openxmlformats.org/officeDocument/2006/relationships/hyperlink" Target="https://ru.wikipedia.org/wiki/&#1057;&#1077;&#1085;&#1072;&#1090;_&#1057;&#1064;&#1040;" TargetMode="External"/><Relationship Id="rId16" Type="http://schemas.openxmlformats.org/officeDocument/2006/relationships/hyperlink" Target="https://ru.wikipedia.org/wiki/&#1055;&#1088;&#1072;&#1081;&#1084;&#1077;&#1088;&#1080;&#1079;" TargetMode="External"/><Relationship Id="rId17" Type="http://schemas.openxmlformats.org/officeDocument/2006/relationships/hyperlink" Target="https://ru.wikipedia.org/wiki/&#1057;&#1077;&#1085;&#1072;&#1090;" TargetMode="External"/><Relationship Id="rId18" Type="http://schemas.openxmlformats.org/officeDocument/2006/relationships/image" Target="../media/image13.jpeg"/><Relationship Id="rId19" Type="http://schemas.openxmlformats.org/officeDocument/2006/relationships/image" Target="../media/image6.jpeg"/><Relationship Id="rId20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s://ru.wikipedia.org/wiki/&#1042;&#1086;&#1089;&#1090;&#1086;&#1095;&#1085;&#1072;&#1103;_&#1045;&#1074;&#1088;&#1086;&#1087;&#1072;" TargetMode="External"/><Relationship Id="rId3" Type="http://schemas.openxmlformats.org/officeDocument/2006/relationships/hyperlink" Target="https://ru.wikipedia.org/wiki/&#1056;&#1086;&#1089;&#1089;&#1080;&#1103;" TargetMode="External"/><Relationship Id="rId4" Type="http://schemas.openxmlformats.org/officeDocument/2006/relationships/hyperlink" Target="https://ru.wikipedia.org/wiki/&#1041;&#1083;&#1080;&#1078;&#1085;&#1080;&#1081;_&#1042;&#1086;&#1089;&#1090;&#1086;&#1082;" TargetMode="External"/><Relationship Id="rId5" Type="http://schemas.openxmlformats.org/officeDocument/2006/relationships/hyperlink" Target="https://ru.wikipedia.org/wiki/&#1040;&#1092;&#1088;&#1080;&#1082;&#1072;" TargetMode="External"/><Relationship Id="rId6" Type="http://schemas.openxmlformats.org/officeDocument/2006/relationships/hyperlink" Target="https://ru.wikipedia.org/wiki/&#1053;&#1072;&#1088;&#1091;&#1096;&#1077;&#1085;&#1080;&#1103;_&#1085;&#1072;_&#1074;&#1099;&#1073;&#1086;&#1088;&#1072;&#1093;" TargetMode="External"/><Relationship Id="rId7" Type="http://schemas.openxmlformats.org/officeDocument/2006/relationships/hyperlink" Target="https://ru.wikipedia.org/wiki/&#1051;&#1086;&#1073;&#1073;&#1080;&#1079;&#1084;" TargetMode="External"/><Relationship Id="rId8" Type="http://schemas.openxmlformats.org/officeDocument/2006/relationships/hyperlink" Target="https://ru.wikipedia.org/wiki/&#1043;&#1083;&#1086;&#1073;&#1072;&#1083;&#1100;&#1085;&#1086;&#1077;_&#1087;&#1086;&#1090;&#1077;&#1087;&#1083;&#1077;&#1085;&#1080;&#1077;" TargetMode="External"/><Relationship Id="rId9" Type="http://schemas.openxmlformats.org/officeDocument/2006/relationships/hyperlink" Target="https://ru.wikipedia.org/wiki/&#1058;&#1077;&#1088;&#1088;&#1086;&#1088;&#1080;&#1079;&#1084;" TargetMode="External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2" descr="C:\Users\Администратор\Desktop\250px-President_Barack_Obama.jpg"/>
          <p:cNvPicPr/>
          <p:nvPr/>
        </p:nvPicPr>
        <p:blipFill>
          <a:blip r:embed="rId2"/>
          <a:stretch/>
        </p:blipFill>
        <p:spPr>
          <a:xfrm>
            <a:off x="179280" y="1700280"/>
            <a:ext cx="2352960" cy="2936880"/>
          </a:xfrm>
          <a:prstGeom prst="rect">
            <a:avLst/>
          </a:prstGeom>
          <a:ln w="0">
            <a:noFill/>
          </a:ln>
        </p:spPr>
      </p:pic>
      <p:sp>
        <p:nvSpPr>
          <p:cNvPr id="467" name="TextBox 3"/>
          <p:cNvSpPr/>
          <p:nvPr/>
        </p:nvSpPr>
        <p:spPr>
          <a:xfrm>
            <a:off x="2843280" y="4292640"/>
            <a:ext cx="6443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Red October"/>
              </a:rPr>
              <a:t>Выполнил: ученик 9 класса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Red October"/>
              </a:rPr>
              <a:t>МБОУ «Вяткинская СОШ» Ильинский Илья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8" name="TextBox 4"/>
          <p:cNvSpPr/>
          <p:nvPr/>
        </p:nvSpPr>
        <p:spPr>
          <a:xfrm>
            <a:off x="2916360" y="2060640"/>
            <a:ext cx="4608360" cy="1922760"/>
          </a:xfrm>
          <a:prstGeom prst="rect">
            <a:avLst/>
          </a:prstGeom>
          <a:solidFill>
            <a:srgbClr val="ac66bb"/>
          </a:solidFill>
          <a:ln w="31680">
            <a:solidFill>
              <a:srgbClr val="ffffff"/>
            </a:solidFill>
            <a:miter/>
          </a:ln>
          <a:effectLst>
            <a:outerShdw dist="24840" dir="5400000" blurRad="0" rotWithShape="0">
              <a:srgbClr val="6b2b79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ed October"/>
              </a:rPr>
              <a:t>БАРАК ОБАМА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Box 3"/>
          <p:cNvSpPr/>
          <p:nvPr/>
        </p:nvSpPr>
        <p:spPr>
          <a:xfrm>
            <a:off x="287280" y="0"/>
            <a:ext cx="8605800" cy="48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Обама объявил о своём желании баллотироваться в президенты в феврале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2"/>
              </a:rPr>
              <a:t>2007 года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 и в 2008 году на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3"/>
              </a:rPr>
              <a:t>президентских праймериз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 на Демократическом национальном съезде был официально выдвинут от Демократической партии кандидатом в президенты вместе с кандидатом на пост вице-президента — сенатором от штата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4"/>
              </a:rPr>
              <a:t>Делавэр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5"/>
              </a:rPr>
              <a:t>Джозефом 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6"/>
              </a:rPr>
              <a:t>Байденом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. На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7"/>
              </a:rPr>
              <a:t>президентских выборах 2008 года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 Обама опередил кандидата от правившей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8"/>
              </a:rPr>
              <a:t>Республиканской партии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9"/>
              </a:rPr>
              <a:t>Джона 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10"/>
              </a:rPr>
              <a:t>Маккейна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, набрав 52,9 % голосов избирателей и 365 голосов в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11"/>
              </a:rPr>
              <a:t>коллегии выборщиков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 против 45,7 % и 173 у Маккейн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87" name="Picture 2" descr="C:\Users\Администратор\Desktop\barack-obama-66358730.jpg"/>
          <p:cNvPicPr/>
          <p:nvPr/>
        </p:nvPicPr>
        <p:blipFill>
          <a:blip r:embed="rId12"/>
          <a:stretch/>
        </p:blipFill>
        <p:spPr>
          <a:xfrm>
            <a:off x="1908000" y="3213000"/>
            <a:ext cx="540072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Box 3"/>
          <p:cNvSpPr/>
          <p:nvPr/>
        </p:nvSpPr>
        <p:spPr>
          <a:xfrm flipV="1" rot="10800000">
            <a:off x="-1440" y="-28080"/>
            <a:ext cx="914544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2"/>
              </a:rPr>
              <a:t>9 октября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3"/>
              </a:rPr>
              <a:t>2009 года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 получил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4"/>
              </a:rPr>
              <a:t>Нобелевскую премию мира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 с формулировкой «за экстраординарные усилия в укреплении международной дипломатии и сотрудничества между людьми»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На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5"/>
              </a:rPr>
              <a:t>президентских выборах 2012 года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 Обама опередил кандидата от Республиканской партии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6"/>
              </a:rPr>
              <a:t>Митта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7"/>
              </a:rPr>
              <a:t> 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8"/>
              </a:rPr>
              <a:t>Ромни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, набрав 51,1 % голосов избирателей и 332 голоса в коллегии выборщиков против 47,2 % и 206 у Ромн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89" name="Picture 2" descr="C:\Users\Администратор\Desktop\AA14D2C5-6068-4386-B451-8F42DCF6060B_cx0_cy5_cw0_mw1024_s_n_r1.jpg"/>
          <p:cNvPicPr/>
          <p:nvPr/>
        </p:nvPicPr>
        <p:blipFill>
          <a:blip r:embed="rId9"/>
          <a:stretch/>
        </p:blipFill>
        <p:spPr>
          <a:xfrm>
            <a:off x="684360" y="2205000"/>
            <a:ext cx="795636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69920" y="1553760"/>
            <a:ext cx="695808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Спасибо за внимание !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Box 3"/>
          <p:cNvSpPr/>
          <p:nvPr/>
        </p:nvSpPr>
        <p:spPr>
          <a:xfrm>
            <a:off x="179280" y="404640"/>
            <a:ext cx="8677440" cy="30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Red October"/>
              </a:rPr>
              <a:t>Бара́к Хуссе́йн Оба́ма-младший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 (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2"/>
              </a:rPr>
              <a:t>англ.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Red October"/>
              </a:rPr>
              <a:t>Barack Hussein Obama II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, род.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3"/>
              </a:rPr>
              <a:t>4 августа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4"/>
              </a:rPr>
              <a:t>1961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,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5"/>
              </a:rPr>
              <a:t>Гонолулу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,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6"/>
              </a:rPr>
              <a:t>Гавайи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,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7"/>
              </a:rPr>
              <a:t>США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) — действующий (с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8"/>
              </a:rPr>
              <a:t>20 января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9"/>
              </a:rPr>
              <a:t>2009 года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) 44-й 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10"/>
              </a:rPr>
              <a:t>президент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11"/>
              </a:rPr>
              <a:t>Соединённых Штатов Америки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. Лауреат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12"/>
              </a:rPr>
              <a:t>Нобелевской премии мира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13"/>
              </a:rPr>
              <a:t>2009 года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. До избрания президентом был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14"/>
              </a:rPr>
              <a:t>федеральным сенатором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 от штата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15"/>
              </a:rPr>
              <a:t>Иллинойс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. Был переизбран на второй срок в 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16"/>
              </a:rPr>
              <a:t>2012 году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70" name="Picture 2" descr="C:\Users\Администратор\Desktop\1428099476a40c0e88-330x186.jpg"/>
          <p:cNvPicPr/>
          <p:nvPr/>
        </p:nvPicPr>
        <p:blipFill>
          <a:blip r:embed="rId17"/>
          <a:stretch/>
        </p:blipFill>
        <p:spPr>
          <a:xfrm>
            <a:off x="1042920" y="2852640"/>
            <a:ext cx="669924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Box 3"/>
          <p:cNvSpPr/>
          <p:nvPr/>
        </p:nvSpPr>
        <p:spPr>
          <a:xfrm>
            <a:off x="611280" y="44280"/>
            <a:ext cx="82454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Первый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2"/>
              </a:rPr>
              <a:t>афроамериканец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, выдвинутый на пост президента США от одной из двух крупнейших партий, и первый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3"/>
              </a:rPr>
              <a:t>в национальной истории глав государства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 темнокожий президент, а также президент с фамилией африканского и средним именем арабского этимологического происхождения. Обама —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4"/>
              </a:rPr>
              <a:t>мулат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, но, в отличие от большинства чёрных американцев, не потомок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5"/>
              </a:rPr>
              <a:t>рабов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, а сын студента из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6"/>
              </a:rPr>
              <a:t>Кении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 и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7"/>
              </a:rPr>
              <a:t>белой американки (Стэнли 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8"/>
              </a:rPr>
              <a:t>Энн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9"/>
              </a:rPr>
              <a:t> 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10"/>
              </a:rPr>
              <a:t>Данхэм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11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72" name="Picture 2" descr="C:\Users\Администратор\Desktop\r745700_6138590.jpg"/>
          <p:cNvPicPr/>
          <p:nvPr/>
        </p:nvPicPr>
        <p:blipFill>
          <a:blip r:embed="rId12"/>
          <a:stretch/>
        </p:blipFill>
        <p:spPr>
          <a:xfrm>
            <a:off x="1459080" y="2890800"/>
            <a:ext cx="584964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Box 3"/>
          <p:cNvSpPr/>
          <p:nvPr/>
        </p:nvSpPr>
        <p:spPr>
          <a:xfrm>
            <a:off x="0" y="115920"/>
            <a:ext cx="914400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Родился в городе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2"/>
              </a:rPr>
              <a:t>Гонолулу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, штат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3"/>
              </a:rPr>
              <a:t>Гавайи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. Его родители познакомились в 1960 году во время учёбы в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4"/>
              </a:rPr>
              <a:t>Гавайском университете в 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5"/>
              </a:rPr>
              <a:t>Маноа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. Вместе с тем, в ходе предвыборной кампании в США циркулировали слухи о том, что Обама был рождён за пределами США, что лишало бы его права избираться на пост президента. 1 марта 2012 года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6"/>
              </a:rPr>
              <a:t>аризонский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7"/>
              </a:rPr>
              <a:t>шериф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8"/>
              </a:rPr>
              <a:t>Джозеф 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9"/>
              </a:rPr>
              <a:t>Арпайо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 объявил, что свидетельство о рождении Барака Обамы может являться подделкой, выполненной на компьютере; аналогичное заявление он сделал в отношении формы учёта военнообязанного, заполненной будущим президентом в 1980 год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74" name="Picture 2" descr="C:\Users\Администратор\Desktop\1306170240_1305904125_001.jpg"/>
          <p:cNvPicPr/>
          <p:nvPr/>
        </p:nvPicPr>
        <p:blipFill>
          <a:blip r:embed="rId10"/>
          <a:stretch/>
        </p:blipFill>
        <p:spPr>
          <a:xfrm>
            <a:off x="2987640" y="2924280"/>
            <a:ext cx="475308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Box 3"/>
          <p:cNvSpPr/>
          <p:nvPr/>
        </p:nvSpPr>
        <p:spPr>
          <a:xfrm>
            <a:off x="71280" y="6480"/>
            <a:ext cx="8964720" cy="78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Отец —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2"/>
              </a:rPr>
              <a:t>Барак Хусейн 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3"/>
              </a:rPr>
              <a:t>Обама-старший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 (1936—1982) —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4"/>
              </a:rPr>
              <a:t>кениец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, сын знахаря из народа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5"/>
              </a:rPr>
              <a:t>луо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. Миссионерская школа оплатила ему учёбу в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6"/>
              </a:rPr>
              <a:t>Найроби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 и отправила для изучения курса эконометрики в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7"/>
              </a:rPr>
              <a:t>Университет штата Гавайи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, где он организовал Ассоциацию иностранных студентов и стал лучшим в своём выпуске. Мать —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8"/>
              </a:rPr>
              <a:t>Стэнли 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9"/>
              </a:rPr>
              <a:t>Энн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10"/>
              </a:rPr>
              <a:t> 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11"/>
              </a:rPr>
              <a:t>Данхэм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 (1942—1995) — родилась на военной базе в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12"/>
              </a:rPr>
              <a:t>Канзасе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 в семье американцев-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13"/>
              </a:rPr>
              <a:t>христиан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, но позже стала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14"/>
              </a:rPr>
              <a:t>агностиком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. Она — в основном, английского, шотландского, ирландского и немецкого происхождения; по линии её матери, Мадлен Ли Пэйн, у Барака Обамы есть также предки-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15"/>
              </a:rPr>
              <a:t>чероки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. Сама фамилия Данэм принадлежит к американской аристократии и происходит от первопоселенца Ричарда Синглетери и его сына Джонатана (1639/40—1724), который по не вполне ясным причинам сменил фамилию на Данэм (семейная легенда возводит его к владельцам замка Дaнэм в Шотландии, которого якобы в младенчестве преступным путём лишили наследства родственники)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76" name="Picture 2" descr="C:\Users\Администратор\Desktop\Et-si-Barack-Obama-avait-ete-adopte_article_landscape_pm_v8.jpg"/>
          <p:cNvPicPr/>
          <p:nvPr/>
        </p:nvPicPr>
        <p:blipFill>
          <a:blip r:embed="rId16"/>
          <a:stretch/>
        </p:blipFill>
        <p:spPr>
          <a:xfrm>
            <a:off x="5148360" y="4797360"/>
            <a:ext cx="320508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Box 3"/>
          <p:cNvSpPr/>
          <p:nvPr/>
        </p:nvSpPr>
        <p:spPr>
          <a:xfrm>
            <a:off x="108000" y="189000"/>
            <a:ext cx="90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Мать вскоре после развода познакомилась с другим иностранным студентом — индонезийцем Лоло Суторо, вышла за него замуж и в 1967 году уехала с ним и с маленьким Бараком в Джакарту. От этого брака у Барака появилась единоутробная сестра Майя. Мать Барака умерла от рака в 1995 году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78" name="Picture 2" descr="C:\Users\Администратор\Desktop\i.jpg"/>
          <p:cNvPicPr/>
          <p:nvPr/>
        </p:nvPicPr>
        <p:blipFill>
          <a:blip r:embed="rId2"/>
          <a:stretch/>
        </p:blipFill>
        <p:spPr>
          <a:xfrm>
            <a:off x="1050840" y="2349360"/>
            <a:ext cx="676116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547640" y="2133720"/>
            <a:ext cx="6121440" cy="4174920"/>
          </a:xfrm>
          <a:prstGeom prst="rect">
            <a:avLst/>
          </a:prstGeom>
          <a:ln w="0">
            <a:noFill/>
          </a:ln>
        </p:spPr>
      </p:pic>
      <p:sp>
        <p:nvSpPr>
          <p:cNvPr id="480" name="TextBox 3"/>
          <p:cNvSpPr/>
          <p:nvPr/>
        </p:nvSpPr>
        <p:spPr>
          <a:xfrm>
            <a:off x="539640" y="404640"/>
            <a:ext cx="82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С 1992 года Барак Обама состоит в браке с Мишель Робинсон Обамой (род. 17 января 1964), практикующим юристом. У них две дочери – Малия Энн (род. в 1998), Наташа («Саша»; род. В 2001)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Box 3"/>
          <p:cNvSpPr/>
          <p:nvPr/>
        </p:nvSpPr>
        <p:spPr>
          <a:xfrm>
            <a:off x="324000" y="549360"/>
            <a:ext cx="4679640" cy="9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Red October"/>
              </a:rPr>
              <a:t>Выпускник </a:t>
            </a:r>
            <a:r>
              <a:rPr b="0" lang="ru-RU" sz="2000" spc="-1" strike="noStrike" u="sng">
                <a:solidFill>
                  <a:srgbClr val="0079a4"/>
                </a:solidFill>
                <a:uFillTx/>
                <a:latin typeface="Red October"/>
                <a:hlinkClick r:id="rId2"/>
              </a:rPr>
              <a:t>Колумбийского университета</a:t>
            </a:r>
            <a:r>
              <a:rPr b="0" lang="ru-RU" sz="2000" spc="-1" strike="noStrike">
                <a:solidFill>
                  <a:srgbClr val="000000"/>
                </a:solidFill>
                <a:latin typeface="Red October"/>
              </a:rPr>
              <a:t> и </a:t>
            </a:r>
            <a:r>
              <a:rPr b="0" lang="ru-RU" sz="2000" spc="-1" strike="noStrike" u="sng">
                <a:solidFill>
                  <a:srgbClr val="0079a4"/>
                </a:solidFill>
                <a:uFillTx/>
                <a:latin typeface="Red October"/>
                <a:hlinkClick r:id="rId3"/>
              </a:rPr>
              <a:t>Школы права Гарвардского университета</a:t>
            </a:r>
            <a:r>
              <a:rPr b="0" lang="ru-RU" sz="2000" spc="-1" strike="noStrike">
                <a:solidFill>
                  <a:srgbClr val="000000"/>
                </a:solidFill>
                <a:latin typeface="Red October"/>
              </a:rPr>
              <a:t>, где он также был первым за всю его историю афроамериканцем-редактором университетского издания «</a:t>
            </a:r>
            <a:r>
              <a:rPr b="0" lang="ru-RU" sz="2000" spc="-1" strike="noStrike" u="sng">
                <a:solidFill>
                  <a:srgbClr val="0079a4"/>
                </a:solidFill>
                <a:uFillTx/>
                <a:latin typeface="Red October"/>
                <a:hlinkClick r:id="rId4"/>
              </a:rPr>
              <a:t>Harvard</a:t>
            </a:r>
            <a:r>
              <a:rPr b="0" lang="ru-RU" sz="2000" spc="-1" strike="noStrike" u="sng">
                <a:solidFill>
                  <a:srgbClr val="0079a4"/>
                </a:solidFill>
                <a:uFillTx/>
                <a:latin typeface="Red October"/>
                <a:hlinkClick r:id="rId5"/>
              </a:rPr>
              <a:t> </a:t>
            </a:r>
            <a:r>
              <a:rPr b="0" lang="ru-RU" sz="2000" spc="-1" strike="noStrike" u="sng">
                <a:solidFill>
                  <a:srgbClr val="0079a4"/>
                </a:solidFill>
                <a:uFillTx/>
                <a:latin typeface="Red October"/>
                <a:hlinkClick r:id="rId6"/>
              </a:rPr>
              <a:t>Law</a:t>
            </a:r>
            <a:r>
              <a:rPr b="0" lang="ru-RU" sz="2000" spc="-1" strike="noStrike" u="sng">
                <a:solidFill>
                  <a:srgbClr val="0079a4"/>
                </a:solidFill>
                <a:uFillTx/>
                <a:latin typeface="Red October"/>
                <a:hlinkClick r:id="rId7"/>
              </a:rPr>
              <a:t> </a:t>
            </a:r>
            <a:r>
              <a:rPr b="0" lang="ru-RU" sz="2000" spc="-1" strike="noStrike" u="sng">
                <a:solidFill>
                  <a:srgbClr val="0079a4"/>
                </a:solidFill>
                <a:uFillTx/>
                <a:latin typeface="Red October"/>
                <a:hlinkClick r:id="rId8"/>
              </a:rPr>
              <a:t>Review</a:t>
            </a:r>
            <a:r>
              <a:rPr b="0" lang="ru-RU" sz="2000" spc="-1" strike="noStrike">
                <a:solidFill>
                  <a:srgbClr val="000000"/>
                </a:solidFill>
                <a:latin typeface="Red October"/>
              </a:rPr>
              <a:t>». Обама также работал общественным организатором и адвокатом в области гражданских прав. Преподавал </a:t>
            </a:r>
            <a:r>
              <a:rPr b="0" lang="ru-RU" sz="2000" spc="-1" strike="noStrike" u="sng">
                <a:solidFill>
                  <a:srgbClr val="0079a4"/>
                </a:solidFill>
                <a:uFillTx/>
                <a:latin typeface="Red October"/>
                <a:hlinkClick r:id="rId9"/>
              </a:rPr>
              <a:t>конституционное право</a:t>
            </a:r>
            <a:r>
              <a:rPr b="0" lang="ru-RU" sz="2000" spc="-1" strike="noStrike">
                <a:solidFill>
                  <a:srgbClr val="000000"/>
                </a:solidFill>
                <a:latin typeface="Red October"/>
              </a:rPr>
              <a:t> в </a:t>
            </a:r>
            <a:r>
              <a:rPr b="0" lang="ru-RU" sz="2000" spc="-1" strike="noStrike" u="sng">
                <a:solidFill>
                  <a:srgbClr val="0079a4"/>
                </a:solidFill>
                <a:uFillTx/>
                <a:latin typeface="Red October"/>
                <a:hlinkClick r:id="rId10"/>
              </a:rPr>
              <a:t>Чикагском институте юридических наук</a:t>
            </a:r>
            <a:r>
              <a:rPr b="0" lang="ru-RU" sz="2000" spc="-1" strike="noStrike">
                <a:solidFill>
                  <a:srgbClr val="000000"/>
                </a:solidFill>
                <a:latin typeface="Red October"/>
              </a:rPr>
              <a:t> с 1992 по 2004 год и одновременно трижды, в период с 1997 по 2004 год, избирался в сенат штата </a:t>
            </a:r>
            <a:r>
              <a:rPr b="0" lang="ru-RU" sz="2000" spc="-1" strike="noStrike" u="sng">
                <a:solidFill>
                  <a:srgbClr val="0079a4"/>
                </a:solidFill>
                <a:uFillTx/>
                <a:latin typeface="Red October"/>
                <a:hlinkClick r:id="rId11"/>
              </a:rPr>
              <a:t>Иллинойс</a:t>
            </a:r>
            <a:r>
              <a:rPr b="0" lang="ru-RU" sz="2000" spc="-1" strike="noStrike">
                <a:solidFill>
                  <a:srgbClr val="000000"/>
                </a:solidFill>
                <a:latin typeface="Red October"/>
              </a:rPr>
              <a:t>. После неудачной попытки баллотироваться в </a:t>
            </a:r>
            <a:r>
              <a:rPr b="0" lang="ru-RU" sz="2000" spc="-1" strike="noStrike" u="sng">
                <a:solidFill>
                  <a:srgbClr val="0079a4"/>
                </a:solidFill>
                <a:uFillTx/>
                <a:latin typeface="Red October"/>
                <a:hlinkClick r:id="rId12"/>
              </a:rPr>
              <a:t>2000 году</a:t>
            </a:r>
            <a:r>
              <a:rPr b="0" lang="ru-RU" sz="2000" spc="-1" strike="noStrike">
                <a:solidFill>
                  <a:srgbClr val="000000"/>
                </a:solidFill>
                <a:latin typeface="Red October"/>
              </a:rPr>
              <a:t> в </a:t>
            </a:r>
            <a:r>
              <a:rPr b="0" lang="ru-RU" sz="2000" spc="-1" strike="noStrike" u="sng">
                <a:solidFill>
                  <a:srgbClr val="0079a4"/>
                </a:solidFill>
                <a:uFillTx/>
                <a:latin typeface="Red October"/>
                <a:hlinkClick r:id="rId13"/>
              </a:rPr>
              <a:t>Палату представителей США</a:t>
            </a:r>
            <a:r>
              <a:rPr b="0" lang="ru-RU" sz="2000" spc="-1" strike="noStrike">
                <a:solidFill>
                  <a:srgbClr val="000000"/>
                </a:solidFill>
                <a:latin typeface="Red October"/>
              </a:rPr>
              <a:t> в январе </a:t>
            </a:r>
            <a:r>
              <a:rPr b="0" lang="ru-RU" sz="2000" spc="-1" strike="noStrike" u="sng">
                <a:solidFill>
                  <a:srgbClr val="0079a4"/>
                </a:solidFill>
                <a:uFillTx/>
                <a:latin typeface="Red October"/>
                <a:hlinkClick r:id="rId14"/>
              </a:rPr>
              <a:t>2003 года</a:t>
            </a:r>
            <a:r>
              <a:rPr b="0" lang="ru-RU" sz="2000" spc="-1" strike="noStrike">
                <a:solidFill>
                  <a:srgbClr val="000000"/>
                </a:solidFill>
                <a:latin typeface="Red October"/>
              </a:rPr>
              <a:t> баллотировался в </a:t>
            </a:r>
            <a:r>
              <a:rPr b="0" lang="ru-RU" sz="2000" spc="-1" strike="noStrike" u="sng">
                <a:solidFill>
                  <a:srgbClr val="0079a4"/>
                </a:solidFill>
                <a:uFillTx/>
                <a:latin typeface="Red October"/>
                <a:hlinkClick r:id="rId15"/>
              </a:rPr>
              <a:t>Сенат США</a:t>
            </a:r>
            <a:r>
              <a:rPr b="0" lang="ru-RU" sz="2000" spc="-1" strike="noStrike">
                <a:solidFill>
                  <a:srgbClr val="000000"/>
                </a:solidFill>
                <a:latin typeface="Red October"/>
              </a:rPr>
              <a:t>. После победы на </a:t>
            </a:r>
            <a:r>
              <a:rPr b="0" lang="ru-RU" sz="2000" spc="-1" strike="noStrike" u="sng">
                <a:solidFill>
                  <a:srgbClr val="0079a4"/>
                </a:solidFill>
                <a:uFillTx/>
                <a:latin typeface="Red October"/>
                <a:hlinkClick r:id="rId16"/>
              </a:rPr>
              <a:t>праймериз (первичных выборах)</a:t>
            </a:r>
            <a:r>
              <a:rPr b="0" lang="ru-RU" sz="2000" spc="-1" strike="noStrike">
                <a:solidFill>
                  <a:srgbClr val="000000"/>
                </a:solidFill>
                <a:latin typeface="Red October"/>
              </a:rPr>
              <a:t> в марте 2004 года Обама произнёс основную речь на Демократическом национальном съезде в июле 2004 года. Был избран в </a:t>
            </a:r>
            <a:r>
              <a:rPr b="0" lang="ru-RU" sz="2000" spc="-1" strike="noStrike" u="sng">
                <a:solidFill>
                  <a:srgbClr val="0079a4"/>
                </a:solidFill>
                <a:uFillTx/>
                <a:latin typeface="Red October"/>
                <a:hlinkClick r:id="rId17"/>
              </a:rPr>
              <a:t>Сенат</a:t>
            </a:r>
            <a:r>
              <a:rPr b="0" lang="ru-RU" sz="2000" spc="-1" strike="noStrike">
                <a:solidFill>
                  <a:srgbClr val="000000"/>
                </a:solidFill>
                <a:latin typeface="Red October"/>
              </a:rPr>
              <a:t> в ноябре 2004 года, набрав 70 % голосов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82" name="Picture 2" descr="C:\Users\Администратор\Desktop\obama9-10.jpg"/>
          <p:cNvPicPr/>
          <p:nvPr/>
        </p:nvPicPr>
        <p:blipFill>
          <a:blip r:embed="rId18"/>
          <a:stretch/>
        </p:blipFill>
        <p:spPr>
          <a:xfrm>
            <a:off x="5724360" y="76500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President Barack Obama.jpg"/>
          <p:cNvPicPr/>
          <p:nvPr/>
        </p:nvPicPr>
        <p:blipFill>
          <a:blip r:embed="rId19"/>
          <a:stretch/>
        </p:blipFill>
        <p:spPr>
          <a:xfrm>
            <a:off x="6012000" y="3213000"/>
            <a:ext cx="23810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Box 3"/>
          <p:cNvSpPr/>
          <p:nvPr/>
        </p:nvSpPr>
        <p:spPr>
          <a:xfrm>
            <a:off x="0" y="115920"/>
            <a:ext cx="9144000" cy="43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ed October"/>
              </a:rPr>
              <a:t>Как член Демократического меньшинства в Конгрессе 109-го созыва, он помог создать законы о регулировании обычных вооружений и увеличении прозрачности в использовании государственного бюджета. Он также совершил официальные поездки в </a:t>
            </a:r>
            <a:r>
              <a:rPr b="0" lang="en-US" sz="2400" spc="-1" strike="noStrike" u="sng">
                <a:solidFill>
                  <a:srgbClr val="0079a4"/>
                </a:solidFill>
                <a:uFillTx/>
                <a:latin typeface="Red October"/>
                <a:hlinkClick r:id="rId2"/>
              </a:rPr>
              <a:t>Восточную Европу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Red October"/>
              </a:rPr>
              <a:t> (в том числе в </a:t>
            </a:r>
            <a:r>
              <a:rPr b="0" lang="en-US" sz="2400" spc="-1" strike="noStrike" u="sng">
                <a:solidFill>
                  <a:srgbClr val="0079a4"/>
                </a:solidFill>
                <a:uFillTx/>
                <a:latin typeface="Red October"/>
                <a:hlinkClick r:id="rId3"/>
              </a:rPr>
              <a:t>Россию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Red October"/>
              </a:rPr>
              <a:t>), на </a:t>
            </a:r>
            <a:r>
              <a:rPr b="0" lang="en-US" sz="2400" spc="-1" strike="noStrike" u="sng">
                <a:solidFill>
                  <a:srgbClr val="0079a4"/>
                </a:solidFill>
                <a:uFillTx/>
                <a:latin typeface="Red October"/>
                <a:hlinkClick r:id="rId4"/>
              </a:rPr>
              <a:t>Ближний Восток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Red October"/>
              </a:rPr>
              <a:t> и в </a:t>
            </a:r>
            <a:r>
              <a:rPr b="0" lang="en-US" sz="2400" spc="-1" strike="noStrike" u="sng">
                <a:solidFill>
                  <a:srgbClr val="0079a4"/>
                </a:solidFill>
                <a:uFillTx/>
                <a:latin typeface="Red October"/>
                <a:hlinkClick r:id="rId5"/>
              </a:rPr>
              <a:t>Африку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Red October"/>
              </a:rPr>
              <a:t>. Во время работы в Конгрессе 110-го созыва участвовал в создании законов, касающихся </a:t>
            </a:r>
            <a:r>
              <a:rPr b="0" lang="en-US" sz="2400" spc="-1" strike="noStrike" u="sng">
                <a:solidFill>
                  <a:srgbClr val="0079a4"/>
                </a:solidFill>
                <a:uFillTx/>
                <a:latin typeface="Red October"/>
                <a:hlinkClick r:id="rId6"/>
              </a:rPr>
              <a:t>мошенничества на выборах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Red October"/>
              </a:rPr>
              <a:t>, </a:t>
            </a:r>
            <a:r>
              <a:rPr b="0" lang="en-US" sz="2400" spc="-1" strike="noStrike" u="sng">
                <a:solidFill>
                  <a:srgbClr val="0079a4"/>
                </a:solidFill>
                <a:uFillTx/>
                <a:latin typeface="Red October"/>
                <a:hlinkClick r:id="rId7"/>
              </a:rPr>
              <a:t>лоббизм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Red October"/>
              </a:rPr>
              <a:t>, </a:t>
            </a:r>
            <a:r>
              <a:rPr b="0" lang="en-US" sz="2400" spc="-1" strike="noStrike" u="sng">
                <a:solidFill>
                  <a:srgbClr val="0079a4"/>
                </a:solidFill>
                <a:uFillTx/>
                <a:latin typeface="Red October"/>
                <a:hlinkClick r:id="rId8"/>
              </a:rPr>
              <a:t>изменения климат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Red October"/>
              </a:rPr>
              <a:t>, ядерного </a:t>
            </a:r>
            <a:r>
              <a:rPr b="0" lang="en-US" sz="2400" spc="-1" strike="noStrike" u="sng">
                <a:solidFill>
                  <a:srgbClr val="0079a4"/>
                </a:solidFill>
                <a:uFillTx/>
                <a:latin typeface="Red October"/>
                <a:hlinkClick r:id="rId9"/>
              </a:rPr>
              <a:t>терроризм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Red October"/>
              </a:rPr>
              <a:t> и демобилизовавшихся американских военнослужащих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85" name="Picture 2" descr="C:\Users\Администратор\Desktop\barack-obama-45475_w1000.jpg"/>
          <p:cNvPicPr/>
          <p:nvPr/>
        </p:nvPicPr>
        <p:blipFill>
          <a:blip r:embed="rId10"/>
          <a:stretch/>
        </p:blipFill>
        <p:spPr>
          <a:xfrm>
            <a:off x="1979640" y="2852640"/>
            <a:ext cx="547200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9T14:31:59Z</dcterms:created>
  <dc:creator>Администратор</dc:creator>
  <dc:description/>
  <dc:language>en-US</dc:language>
  <cp:lastModifiedBy>DNS</cp:lastModifiedBy>
  <dcterms:modified xsi:type="dcterms:W3CDTF">2015-10-20T16:32:53Z</dcterms:modified>
  <cp:revision>4</cp:revision>
  <dc:subject/>
  <dc:title>Презентация PowerPoint</dc:title>
</cp:coreProperties>
</file>