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914-4676-408D-BDCA-9619639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277-A254-4E74-BE8C-0438781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95176-3BB0-4399-8FDB-C713D23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160C1-B954-425E-9490-9987736F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4F282-ED96-4DD5-8335-1BE50138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0291C-2588-476C-9274-8EBD4F8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1B79FC-E057-47EB-81EB-9FCFB43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1027E-666F-4B77-A8AA-0276B30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36EC9A-6E04-4957-BF38-2EEAA26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85DCA-961D-4A21-8720-782F378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513DC-A5AA-4B2E-8C79-C2816EAA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913CA-9BE5-4D03-A724-ABB440B9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FF8-4DE0-42C5-8948-DC176EB5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2261DF-65D6-46AE-B880-89932BA2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71919-B336-4DAF-9065-8BA9220C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32DCBF-6D37-491D-8C16-FFC08EF9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4D53A-6240-4187-B2E1-B5DBCB9E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7E4C4-7796-476C-BBE9-8E9E1449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75EE97-CD90-4AE8-82FA-0255326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A9D114-F2BE-4E59-AA37-7E2FC61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E95693-150B-464E-8A50-E8DA96B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F0F6C-E0AA-4F55-BE3D-64F768A6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F42319-7CED-40F5-A018-51F6E009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A33-541D-498F-A006-EB3EF942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EB9E4-A6FC-4E3A-B138-00A18A06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B9947C-6465-44A0-A9C8-9543BF8C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EF64D7-2DBA-41F8-83D4-2AE396A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D1D15A-DCCB-49B8-AF61-839EA65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65776D-04CB-4207-98FA-6C813DC8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0DDA49-83AC-417C-8DA1-0F273D1C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5E472D-4D37-4EC8-A026-BBC9931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5E78CC-F5CD-4F3A-8BD9-83E9BB8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B8CBDE-821E-4104-9D45-7994F77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AD049-F5EE-448E-BF2E-E81C182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32E0-A040-4FAA-81BC-599E62AF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46113F-6180-47BE-80E0-950E42B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292D38-A2F7-4416-9352-C121B900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FFD6EF-C746-4671-8281-0432DBDB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9DB8-E635-4056-B744-C9D8A3B4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3E7A-8764-48E4-9A8D-9B4C504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027-25C9-4AD6-A2D9-D701CD0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8FB-977A-457D-BB77-2C49AF9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97E-05EA-4913-BA5C-B0C8662C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8FC-C51B-4287-8260-FE0B10D7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E51-DE01-4EBE-91A3-AE15D31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61A-5F71-4B81-9E4A-0275836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8038-6835-4EF1-BF3C-71A2EFB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6969-0F22-4CD2-BD69-8539FEA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645-297D-481E-8E7D-35B33807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854-5987-42F9-9A79-C6D87244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EDD8-AD03-4B8B-B960-5A364CEF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AAE6-F19B-42E4-9C3C-5197B59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E224-FBA1-494E-B996-AEECA7F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4D56-DE61-4E72-8836-F136008A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BCCA-8000-4685-9CCB-D2938B0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20-4B9B-4885-A8A5-7C71813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9BA6-1E9E-4C73-A53E-1E64FAB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D889-9585-4B1D-B00E-A21DAF2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C403-D800-4F65-BCC2-63A34E3E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65DA-31D0-406E-903E-D1FB708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501B-E1E9-41E7-872D-4316361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628C-9EBE-491E-A086-74EEB1E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602F-B214-4099-9089-9D125BA9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BAB6-DD5C-48B7-A24C-5E065619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A936-3FDA-4A0E-A432-7D445A57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9FD6-DBCF-48CA-BBE7-7C5FBA3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A32-CC64-4A5D-AF8D-9F6BC2D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072C-C996-4947-A5D6-FA8577C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A4C6-7578-4CE3-865C-E1F9CE3A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8F0A-5E32-422E-B31B-1652BA4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7370-3E33-466D-8715-53A009A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9467-3608-431A-8DAC-ED11DDF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A70A-E1E1-4253-9CE9-6E66F79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2923-AE2E-455E-BC13-39F28CB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B1EE-4C8B-467F-A485-C17099CB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2C03-3198-45A3-AC99-0AFD1708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C2AF-326E-40E0-B4CB-243D72C2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4F5-8681-4CEA-A6DF-384DCE8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B0BF-30AB-417D-BE18-F59EE4F3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8732-439B-4138-A6B3-A81656C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DF1A-CADF-4296-8FF7-6E8A8BD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31CA-E893-46FB-991A-5C6CCC2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A0F5-CABE-4B1A-99B7-C35855E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9D43-FB20-43B7-876A-09F1A6B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FEEC-2B2B-47BC-A021-E6E9EFF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0D00-6DC1-4B8A-B2C2-D2C22B1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F3CB-171B-4B5C-A3E9-C1B0795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9C38B-8C33-445A-A913-2AC8660E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C39-73A9-4AD6-855A-FD931CC1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4D60-D583-4335-B1FE-19496D02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2089-4CC4-4ED5-BAB8-4394F505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C0D3-9E4A-44E0-A633-CE59A7C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CC5F-CF29-4D5B-98FD-595D8EE7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7FE4-AFFD-47F7-8298-7932E11A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FEDC-6F23-4BCC-96EB-94A47A5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C86E-CDDD-4B59-9FD3-FC25603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8CD57-9231-492B-9CEF-A609D9B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F42A-443B-4F4A-B7DD-C574202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3296-6B3A-41DD-BD67-917F3B3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31F-5917-403C-A661-06622BB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17294-270A-401A-8F44-B3F8C926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CA8D-B497-4CE7-A106-F01E90D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F6ED-1B16-41B5-90F9-7682719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BB11F-688B-4150-BCD7-A8D2C66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36A61-7103-4ABE-B691-456AD1A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3C2DF-C554-49A8-8E79-34241A4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9F0A1-7790-40A8-ADFC-1A73A80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97AD6-98B0-4E17-BE27-B8FD79E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EE2C4-B892-448F-BC83-3AE5DE96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D489F-3DB4-4BE0-AD99-ADD5020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498-E07B-476D-98A9-71BE660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672C3-5D65-42A5-B05B-B722C80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1B208-B097-4D12-80AF-49A6C70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639A0-B876-4162-A0F0-7ACF9FA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3D52A-FEAA-4CFE-888E-BEC0BCAD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222F9-2268-4F0D-9089-B4212E07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1BDD0-DFCE-45F7-89A3-E1F23317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01655-F16F-4321-BD7B-8463B2F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4D468-2B9D-45D7-87E0-62C6B936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C7AF3-BCCB-4905-ADC8-54BCCF7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36AFC-B01A-45B3-A8DF-C434764B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E8B-0C1A-485F-AE51-867EB11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719B4-4B77-47CE-B2EB-292E6D0D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A28CD-34C5-406D-BAEB-386D137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879D13-E4A0-4A18-9DC4-3C4019F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CEAE38-ED25-46E7-B210-44D579B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A1D979-5EF3-4B25-AC1D-FDEDCC1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B012E-AC6D-4391-ABBD-962254D3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FD4C0-A088-4DF4-ACAD-BEA3CD0C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858AB-27A3-47F2-A295-D2DC2726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07AF9-2D2B-4362-B1CD-D213573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A58A1-94F9-4451-AC3E-068A2AB3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7F4-5F40-470C-8ABB-F758372D531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9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4AA-7137-433A-9FFF-572DB9493292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0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32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2C4-712C-4F38-8A7B-37AC9C972E9D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33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DEF1-B5F6-4721-9A22-CF2E9BBE283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3B6-CCE1-4C3C-8914-01ABF556FF8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946F-A249-45E9-BA1E-5C6D379198E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2D9-C207-4266-A003-04924C69330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B7F-1D0B-4289-975A-6D353C7795E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0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D06-0684-42DD-BD9E-86680D223E33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21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6103-43A9-40A4-A946-1740EC6CFD7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4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134C-B913-4FFD-B23E-E6BDB16AB3D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7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2007_&#1075;&#1086;&#1076;" TargetMode="External"/><Relationship Id="rId3" Type="http://schemas.openxmlformats.org/officeDocument/2006/relationships/hyperlink" Target="https://ru.wikipedia.org/wiki/&#1055;&#1088;&#1077;&#1079;&#1080;&#1076;&#1077;&#1085;&#1090;&#1089;&#1082;&#1080;&#1077;_&#1087;&#1088;&#1072;&#1081;&#1084;&#1077;&#1088;&#1080;&#1079;_&#1074;_&#1057;&#1064;&#1040;" TargetMode="External"/><Relationship Id="rId4" Type="http://schemas.openxmlformats.org/officeDocument/2006/relationships/hyperlink" Target="https://ru.wikipedia.org/wiki/&#1044;&#1077;&#1083;&#1072;&#1074;&#1101;&#1088;" TargetMode="External"/><Relationship Id="rId5" Type="http://schemas.openxmlformats.org/officeDocument/2006/relationships/hyperlink" Target="https://ru.wikipedia.org/wiki/&#1041;&#1072;&#1081;&#1076;&#1077;&#1085;,_&#1044;&#1078;&#1086;&#1079;&#1077;&#1092;" TargetMode="External"/><Relationship Id="rId6" Type="http://schemas.openxmlformats.org/officeDocument/2006/relationships/hyperlink" Target="https://ru.wikipedia.org/wiki/&#1041;&#1072;&#1081;&#1076;&#1077;&#1085;,_&#1044;&#1078;&#1086;&#1079;&#1077;&#1092;" TargetMode="External"/><Relationship Id="rId7" Type="http://schemas.openxmlformats.org/officeDocument/2006/relationships/hyperlink" Target="https://ru.wikipedia.org/wiki/&#1055;&#1088;&#1077;&#1079;&#1080;&#1076;&#1077;&#1085;&#1090;&#1089;&#1082;&#1080;&#1077;_&#1074;&#1099;&#1073;&#1086;&#1088;&#1099;_&#1074;_&#1057;&#1064;&#1040;_(2008)" TargetMode="External"/><Relationship Id="rId8" Type="http://schemas.openxmlformats.org/officeDocument/2006/relationships/hyperlink" Target="https://ru.wikipedia.org/wiki/&#1056;&#1077;&#1089;&#1087;&#1091;&#1073;&#1083;&#1080;&#1082;&#1072;&#1085;&#1089;&#1082;&#1072;&#1103;_&#1087;&#1072;&#1088;&#1090;&#1080;&#1103;_&#1057;&#1064;&#1040;" TargetMode="External"/><Relationship Id="rId9" Type="http://schemas.openxmlformats.org/officeDocument/2006/relationships/hyperlink" Target="https://ru.wikipedia.org/wiki/&#1044;&#1078;&#1086;&#1085;_&#1052;&#1072;&#1082;&#1082;&#1077;&#1081;&#1085;" TargetMode="External"/><Relationship Id="rId10" Type="http://schemas.openxmlformats.org/officeDocument/2006/relationships/hyperlink" Target="https://ru.wikipedia.org/wiki/&#1044;&#1078;&#1086;&#1085;_&#1052;&#1072;&#1082;&#1082;&#1077;&#1081;&#1085;" TargetMode="External"/><Relationship Id="rId11" Type="http://schemas.openxmlformats.org/officeDocument/2006/relationships/hyperlink" Target="https://ru.wikipedia.org/wiki/&#1050;&#1086;&#1083;&#1083;&#1077;&#1075;&#1080;&#1103;_&#1074;&#1099;&#1073;&#1086;&#1088;&#1097;&#1080;&#1082;&#1086;&#1074;_&#1057;&#1064;&#1040;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9_&#1086;&#1082;&#1090;&#1103;&#1073;&#1088;&#1103;" TargetMode="External"/><Relationship Id="rId3" Type="http://schemas.openxmlformats.org/officeDocument/2006/relationships/hyperlink" Target="https://ru.wikipedia.org/wiki/2009_&#1075;&#1086;&#1076;" TargetMode="External"/><Relationship Id="rId4" Type="http://schemas.openxmlformats.org/officeDocument/2006/relationships/hyperlink" Target="https://ru.wikipedia.org/wiki/&#1053;&#1086;&#1073;&#1077;&#1083;&#1077;&#1074;&#1089;&#1082;&#1072;&#1103;_&#1087;&#1088;&#1077;&#1084;&#1080;&#1103;_&#1084;&#1080;&#1088;&#1072;" TargetMode="External"/><Relationship Id="rId5" Type="http://schemas.openxmlformats.org/officeDocument/2006/relationships/hyperlink" Target="https://ru.wikipedia.org/wiki/&#1055;&#1088;&#1077;&#1079;&#1080;&#1076;&#1077;&#1085;&#1090;&#1089;&#1082;&#1080;&#1077;_&#1074;&#1099;&#1073;&#1086;&#1088;&#1099;_&#1074;_&#1057;&#1064;&#1040;_(2012)" TargetMode="External"/><Relationship Id="rId6" Type="http://schemas.openxmlformats.org/officeDocument/2006/relationships/hyperlink" Target="https://ru.wikipedia.org/wiki/&#1052;&#1080;&#1090;&#1090;_&#1056;&#1086;&#1084;&#1085;&#1080;" TargetMode="External"/><Relationship Id="rId7" Type="http://schemas.openxmlformats.org/officeDocument/2006/relationships/hyperlink" Target="https://ru.wikipedia.org/wiki/&#1052;&#1080;&#1090;&#1090;_&#1056;&#1086;&#1084;&#1085;&#1080;" TargetMode="External"/><Relationship Id="rId8" Type="http://schemas.openxmlformats.org/officeDocument/2006/relationships/hyperlink" Target="https://ru.wikipedia.org/wiki/&#1052;&#1080;&#1090;&#1090;_&#1056;&#1086;&#1084;&#1085;&#1080;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4_&#1072;&#1074;&#1075;&#1091;&#1089;&#1090;&#1072;" TargetMode="External"/><Relationship Id="rId4" Type="http://schemas.openxmlformats.org/officeDocument/2006/relationships/hyperlink" Target="https://ru.wikipedia.org/wiki/1961_&#1075;&#1086;&#1076;" TargetMode="External"/><Relationship Id="rId5" Type="http://schemas.openxmlformats.org/officeDocument/2006/relationships/hyperlink" Target="https://ru.wikipedia.org/wiki/&#1043;&#1086;&#1085;&#1086;&#1083;&#1091;&#1083;&#1091;" TargetMode="External"/><Relationship Id="rId6" Type="http://schemas.openxmlformats.org/officeDocument/2006/relationships/hyperlink" Target="https://ru.wikipedia.org/wiki/&#1043;&#1072;&#1074;&#1072;&#1081;&#1080;" TargetMode="External"/><Relationship Id="rId7" Type="http://schemas.openxmlformats.org/officeDocument/2006/relationships/hyperlink" Target="https://ru.wikipedia.org/wiki/&#1057;&#1064;&#1040;" TargetMode="External"/><Relationship Id="rId8" Type="http://schemas.openxmlformats.org/officeDocument/2006/relationships/hyperlink" Target="https://ru.wikipedia.org/wiki/20_&#1103;&#1085;&#1074;&#1072;&#1088;&#1103;" TargetMode="External"/><Relationship Id="rId9" Type="http://schemas.openxmlformats.org/officeDocument/2006/relationships/hyperlink" Target="https://ru.wikipedia.org/wiki/2009_&#1075;&#1086;&#1076;" TargetMode="External"/><Relationship Id="rId10" Type="http://schemas.openxmlformats.org/officeDocument/2006/relationships/hyperlink" Target="https://ru.wikipedia.org/wiki/&#1055;&#1088;&#1077;&#1079;&#1080;&#1076;&#1077;&#1085;&#1090;_&#1057;&#1064;&#1040;" TargetMode="External"/><Relationship Id="rId11" Type="http://schemas.openxmlformats.org/officeDocument/2006/relationships/hyperlink" Target="https://ru.wikipedia.org/wiki/&#1057;&#1086;&#1077;&#1076;&#1080;&#1085;&#1105;&#1085;&#1085;&#1099;&#1077;_&#1064;&#1090;&#1072;&#1090;&#1099;_&#1040;&#1084;&#1077;&#1088;&#1080;&#1082;&#1080;" TargetMode="External"/><Relationship Id="rId12" Type="http://schemas.openxmlformats.org/officeDocument/2006/relationships/hyperlink" Target="https://ru.wikipedia.org/wiki/&#1053;&#1086;&#1073;&#1077;&#1083;&#1077;&#1074;&#1089;&#1082;&#1072;&#1103;_&#1087;&#1088;&#1077;&#1084;&#1080;&#1103;_&#1084;&#1080;&#1088;&#1072;" TargetMode="External"/><Relationship Id="rId13" Type="http://schemas.openxmlformats.org/officeDocument/2006/relationships/hyperlink" Target="https://ru.wikipedia.org/wiki/2009_&#1075;&#1086;&#1076;" TargetMode="External"/><Relationship Id="rId14" Type="http://schemas.openxmlformats.org/officeDocument/2006/relationships/hyperlink" Target="https://ru.wikipedia.org/wiki/&#1057;&#1077;&#1085;&#1072;&#1090;_&#1057;&#1064;&#1040;" TargetMode="External"/><Relationship Id="rId15" Type="http://schemas.openxmlformats.org/officeDocument/2006/relationships/hyperlink" Target="https://ru.wikipedia.org/wiki/&#1048;&#1083;&#1083;&#1080;&#1085;&#1086;&#1081;&#1089;" TargetMode="External"/><Relationship Id="rId16" Type="http://schemas.openxmlformats.org/officeDocument/2006/relationships/hyperlink" Target="https://ru.wikipedia.org/wiki/2012_&#1075;&#1086;&#1076;" TargetMode="External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0;&#1092;&#1088;&#1086;&#1072;&#1084;&#1077;&#1088;&#1080;&#1082;&#1072;&#1085;&#1094;&#1099;" TargetMode="External"/><Relationship Id="rId3" Type="http://schemas.openxmlformats.org/officeDocument/2006/relationships/hyperlink" Target="https://ru.wikipedia.org/wiki/&#1057;&#1087;&#1080;&#1089;&#1086;&#1082;_&#1087;&#1088;&#1077;&#1079;&#1080;&#1076;&#1077;&#1085;&#1090;&#1086;&#1074;_&#1057;&#1064;&#1040;" TargetMode="External"/><Relationship Id="rId4" Type="http://schemas.openxmlformats.org/officeDocument/2006/relationships/hyperlink" Target="https://ru.wikipedia.org/wiki/&#1052;&#1091;&#1083;&#1072;&#1090;" TargetMode="External"/><Relationship Id="rId5" Type="http://schemas.openxmlformats.org/officeDocument/2006/relationships/hyperlink" Target="https://ru.wikipedia.org/wiki/&#1056;&#1072;&#1073;&#1089;&#1090;&#1074;&#1086;_&#1074;_&#1057;&#1064;&#1040;" TargetMode="External"/><Relationship Id="rId6" Type="http://schemas.openxmlformats.org/officeDocument/2006/relationships/hyperlink" Target="https://ru.wikipedia.org/wiki/&#1050;&#1077;&#1085;&#1080;&#1103;" TargetMode="External"/><Relationship Id="rId7" Type="http://schemas.openxmlformats.org/officeDocument/2006/relationships/hyperlink" Target="https://ru.wikipedia.org/wiki/&#1057;&#1090;&#1101;&#1085;&#1083;&#1080;_&#1069;&#1085;&#1085;_&#1044;&#1072;&#1085;&#1093;&#1101;&#1084;" TargetMode="External"/><Relationship Id="rId8" Type="http://schemas.openxmlformats.org/officeDocument/2006/relationships/hyperlink" Target="https://ru.wikipedia.org/wiki/&#1057;&#1090;&#1101;&#1085;&#1083;&#1080;_&#1069;&#1085;&#1085;_&#1044;&#1072;&#1085;&#1093;&#1101;&#1084;" TargetMode="External"/><Relationship Id="rId9" Type="http://schemas.openxmlformats.org/officeDocument/2006/relationships/hyperlink" Target="https://ru.wikipedia.org/wiki/&#1057;&#1090;&#1101;&#1085;&#1083;&#1080;_&#1069;&#1085;&#1085;_&#1044;&#1072;&#1085;&#1093;&#1101;&#1084;" TargetMode="External"/><Relationship Id="rId10" Type="http://schemas.openxmlformats.org/officeDocument/2006/relationships/hyperlink" Target="https://ru.wikipedia.org/wiki/&#1057;&#1090;&#1101;&#1085;&#1083;&#1080;_&#1069;&#1085;&#1085;_&#1044;&#1072;&#1085;&#1093;&#1101;&#1084;" TargetMode="External"/><Relationship Id="rId11" Type="http://schemas.openxmlformats.org/officeDocument/2006/relationships/hyperlink" Target="https://ru.wikipedia.org/wiki/&#1057;&#1090;&#1101;&#1085;&#1083;&#1080;_&#1069;&#1085;&#1085;_&#1044;&#1072;&#1085;&#1093;&#1101;&#1084;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3;&#1086;&#1085;&#1086;&#1083;&#1091;&#1083;&#1091;" TargetMode="External"/><Relationship Id="rId3" Type="http://schemas.openxmlformats.org/officeDocument/2006/relationships/hyperlink" Target="https://ru.wikipedia.org/wiki/&#1043;&#1072;&#1074;&#1072;&#1081;&#1080;" TargetMode="External"/><Relationship Id="rId4" Type="http://schemas.openxmlformats.org/officeDocument/2006/relationships/hyperlink" Target="https://ru.wikipedia.org/wiki/&#1059;&#1085;&#1080;&#1074;&#1077;&#1088;&#1089;&#1080;&#1090;&#1077;&#1090;_&#1043;&#1072;&#1074;&#1072;&#1081;&#1077;&#1074;_&#1074;_&#1052;&#1072;&#1085;&#1086;&#1072;" TargetMode="External"/><Relationship Id="rId5" Type="http://schemas.openxmlformats.org/officeDocument/2006/relationships/hyperlink" Target="https://ru.wikipedia.org/wiki/&#1059;&#1085;&#1080;&#1074;&#1077;&#1088;&#1089;&#1080;&#1090;&#1077;&#1090;_&#1043;&#1072;&#1074;&#1072;&#1081;&#1077;&#1074;_&#1074;_&#1052;&#1072;&#1085;&#1086;&#1072;" TargetMode="External"/><Relationship Id="rId6" Type="http://schemas.openxmlformats.org/officeDocument/2006/relationships/hyperlink" Target="https://ru.wikipedia.org/wiki/&#1040;&#1088;&#1080;&#1079;&#1086;&#1085;&#1072;" TargetMode="External"/><Relationship Id="rId7" Type="http://schemas.openxmlformats.org/officeDocument/2006/relationships/hyperlink" Target="https://ru.wikipedia.org/wiki/&#1064;&#1077;&#1088;&#1080;&#1092;" TargetMode="External"/><Relationship Id="rId8" Type="http://schemas.openxmlformats.org/officeDocument/2006/relationships/hyperlink" Target="https://ru.wikipedia.org/wiki/&#1040;&#1088;&#1087;&#1072;&#1081;&#1086;,_&#1044;&#1078;&#1086;&#1079;&#1077;&#1092;" TargetMode="External"/><Relationship Id="rId9" Type="http://schemas.openxmlformats.org/officeDocument/2006/relationships/hyperlink" Target="https://ru.wikipedia.org/wiki/&#1040;&#1088;&#1087;&#1072;&#1081;&#1086;,_&#1044;&#1078;&#1086;&#1079;&#1077;&#1092;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4;&#1073;&#1072;&#1084;&#1072;,_&#1041;&#1072;&#1088;&#1072;&#1082;_&#1061;&#1091;&#1089;&#1077;&#1081;&#1085;_(&#1089;&#1090;&#1072;&#1088;&#1096;&#1080;&#1081;)" TargetMode="External"/><Relationship Id="rId3" Type="http://schemas.openxmlformats.org/officeDocument/2006/relationships/hyperlink" Target="https://ru.wikipedia.org/wiki/&#1054;&#1073;&#1072;&#1084;&#1072;,_&#1041;&#1072;&#1088;&#1072;&#1082;_&#1061;&#1091;&#1089;&#1077;&#1081;&#1085;_(&#1089;&#1090;&#1072;&#1088;&#1096;&#1080;&#1081;)" TargetMode="External"/><Relationship Id="rId4" Type="http://schemas.openxmlformats.org/officeDocument/2006/relationships/hyperlink" Target="https://ru.wikipedia.org/wiki/&#1050;&#1077;&#1085;&#1080;&#1103;" TargetMode="External"/><Relationship Id="rId5" Type="http://schemas.openxmlformats.org/officeDocument/2006/relationships/hyperlink" Target="https://ru.wikipedia.org/wiki/&#1051;&#1091;&#1086;_(&#1085;&#1072;&#1088;&#1086;&#1076;)" TargetMode="External"/><Relationship Id="rId6" Type="http://schemas.openxmlformats.org/officeDocument/2006/relationships/hyperlink" Target="https://ru.wikipedia.org/wiki/&#1053;&#1072;&#1081;&#1088;&#1086;&#1073;&#1080;" TargetMode="External"/><Relationship Id="rId7" Type="http://schemas.openxmlformats.org/officeDocument/2006/relationships/hyperlink" Target="https://ru.wikipedia.org/w/index.php?title=&#1059;&#1085;&#1080;&#1074;&#1077;&#1088;&#1089;&#1080;&#1090;&#1077;&#1090;_&#1096;&#1090;&#1072;&#1090;&#1072;_&#1043;&#1072;&#1074;&#1072;&#1081;&#1080;&amp;action=edit&amp;redlink=1" TargetMode="External"/><Relationship Id="rId8" Type="http://schemas.openxmlformats.org/officeDocument/2006/relationships/hyperlink" Target="https://ru.wikipedia.org/wiki/&#1044;&#1072;&#1085;&#1093;&#1101;&#1084;,_&#1069;&#1085;&#1085;" TargetMode="External"/><Relationship Id="rId9" Type="http://schemas.openxmlformats.org/officeDocument/2006/relationships/hyperlink" Target="https://ru.wikipedia.org/wiki/&#1044;&#1072;&#1085;&#1093;&#1101;&#1084;,_&#1069;&#1085;&#1085;" TargetMode="External"/><Relationship Id="rId10" Type="http://schemas.openxmlformats.org/officeDocument/2006/relationships/hyperlink" Target="https://ru.wikipedia.org/wiki/&#1044;&#1072;&#1085;&#1093;&#1101;&#1084;,_&#1069;&#1085;&#1085;" TargetMode="External"/><Relationship Id="rId11" Type="http://schemas.openxmlformats.org/officeDocument/2006/relationships/hyperlink" Target="https://ru.wikipedia.org/wiki/&#1044;&#1072;&#1085;&#1093;&#1101;&#1084;,_&#1069;&#1085;&#1085;" TargetMode="External"/><Relationship Id="rId12" Type="http://schemas.openxmlformats.org/officeDocument/2006/relationships/hyperlink" Target="https://ru.wikipedia.org/wiki/&#1050;&#1072;&#1085;&#1079;&#1072;&#1089;" TargetMode="External"/><Relationship Id="rId13" Type="http://schemas.openxmlformats.org/officeDocument/2006/relationships/hyperlink" Target="https://ru.wikipedia.org/wiki/&#1061;&#1088;&#1080;&#1089;&#1090;&#1080;&#1072;&#1085;&#1089;&#1090;&#1074;&#1086;" TargetMode="External"/><Relationship Id="rId14" Type="http://schemas.openxmlformats.org/officeDocument/2006/relationships/hyperlink" Target="https://ru.wikipedia.org/wiki/&#1040;&#1075;&#1085;&#1086;&#1089;&#1090;&#1080;&#1082;" TargetMode="External"/><Relationship Id="rId15" Type="http://schemas.openxmlformats.org/officeDocument/2006/relationships/hyperlink" Target="https://ru.wikipedia.org/wiki/&#1063;&#1077;&#1088;&#1086;&#1082;&#1080;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50;&#1086;&#1083;&#1091;&#1084;&#1073;&#1080;&#1081;&#1089;&#1082;&#1080;&#1081;_&#1091;&#1085;&#1080;&#1074;&#1077;&#1088;&#1089;&#1080;&#1090;&#1077;&#1090;" TargetMode="External"/><Relationship Id="rId3" Type="http://schemas.openxmlformats.org/officeDocument/2006/relationships/hyperlink" Target="https://ru.wikipedia.org/wiki/&#1043;&#1072;&#1088;&#1074;&#1072;&#1088;&#1076;&#1089;&#1082;&#1080;&#1081;_&#1091;&#1085;&#1080;&#1074;&#1077;&#1088;&#1089;&#1080;&#1090;&#1077;&#1090;" TargetMode="External"/><Relationship Id="rId4" Type="http://schemas.openxmlformats.org/officeDocument/2006/relationships/hyperlink" Target="https://ru.wikipedia.org/w/index.php?title=Harvard_Law_Review&amp;action=edit&amp;redlink=1" TargetMode="External"/><Relationship Id="rId5" Type="http://schemas.openxmlformats.org/officeDocument/2006/relationships/hyperlink" Target="https://ru.wikipedia.org/w/index.php?title=Harvard_Law_Review&amp;action=edit&amp;redlink=1" TargetMode="External"/><Relationship Id="rId6" Type="http://schemas.openxmlformats.org/officeDocument/2006/relationships/hyperlink" Target="https://ru.wikipedia.org/w/index.php?title=Harvard_Law_Review&amp;action=edit&amp;redlink=1" TargetMode="External"/><Relationship Id="rId7" Type="http://schemas.openxmlformats.org/officeDocument/2006/relationships/hyperlink" Target="https://ru.wikipedia.org/w/index.php?title=Harvard_Law_Review&amp;action=edit&amp;redlink=1" TargetMode="External"/><Relationship Id="rId8" Type="http://schemas.openxmlformats.org/officeDocument/2006/relationships/hyperlink" Target="https://ru.wikipedia.org/w/index.php?title=Harvard_Law_Review&amp;action=edit&amp;redlink=1" TargetMode="External"/><Relationship Id="rId9" Type="http://schemas.openxmlformats.org/officeDocument/2006/relationships/hyperlink" Target="https://ru.wikipedia.org/wiki/&#1050;&#1086;&#1085;&#1089;&#1090;&#1080;&#1090;&#1091;&#1094;&#1080;&#1086;&#1085;&#1085;&#1086;&#1077;_&#1087;&#1088;&#1072;&#1074;&#1086;" TargetMode="External"/><Relationship Id="rId10" Type="http://schemas.openxmlformats.org/officeDocument/2006/relationships/hyperlink" Target="https://ru.wikipedia.org/wiki/&#1063;&#1080;&#1082;&#1072;&#1075;&#1089;&#1082;&#1080;&#1081;_&#1091;&#1085;&#1080;&#1074;&#1077;&#1088;&#1089;&#1080;&#1090;&#1077;&#1090;" TargetMode="External"/><Relationship Id="rId11" Type="http://schemas.openxmlformats.org/officeDocument/2006/relationships/hyperlink" Target="https://ru.wikipedia.org/wiki/&#1048;&#1083;&#1083;&#1080;&#1085;&#1086;&#1081;&#1089;" TargetMode="External"/><Relationship Id="rId12" Type="http://schemas.openxmlformats.org/officeDocument/2006/relationships/hyperlink" Target="https://ru.wikipedia.org/wiki/2000_&#1075;&#1086;&#1076;" TargetMode="External"/><Relationship Id="rId13" Type="http://schemas.openxmlformats.org/officeDocument/2006/relationships/hyperlink" Target="https://ru.wikipedia.org/wiki/&#1055;&#1072;&#1083;&#1072;&#1090;&#1072;_&#1087;&#1088;&#1077;&#1076;&#1089;&#1090;&#1072;&#1074;&#1080;&#1090;&#1077;&#1083;&#1077;&#1081;_&#1057;&#1064;&#1040;" TargetMode="External"/><Relationship Id="rId14" Type="http://schemas.openxmlformats.org/officeDocument/2006/relationships/hyperlink" Target="https://ru.wikipedia.org/wiki/2003_&#1075;&#1086;&#1076;" TargetMode="External"/><Relationship Id="rId15" Type="http://schemas.openxmlformats.org/officeDocument/2006/relationships/hyperlink" Target="https://ru.wikipedia.org/wiki/&#1057;&#1077;&#1085;&#1072;&#1090;_&#1057;&#1064;&#1040;" TargetMode="External"/><Relationship Id="rId16" Type="http://schemas.openxmlformats.org/officeDocument/2006/relationships/hyperlink" Target="https://ru.wikipedia.org/wiki/&#1055;&#1088;&#1072;&#1081;&#1084;&#1077;&#1088;&#1080;&#1079;" TargetMode="External"/><Relationship Id="rId17" Type="http://schemas.openxmlformats.org/officeDocument/2006/relationships/hyperlink" Target="https://ru.wikipedia.org/wiki/&#1057;&#1077;&#1085;&#1072;&#1090;" TargetMode="External"/><Relationship Id="rId18" Type="http://schemas.openxmlformats.org/officeDocument/2006/relationships/image" Target="../media/image13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2;&#1086;&#1089;&#1090;&#1086;&#1095;&#1085;&#1072;&#1103;_&#1045;&#1074;&#1088;&#1086;&#1087;&#1072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&#1041;&#1083;&#1080;&#1078;&#1085;&#1080;&#1081;_&#1042;&#1086;&#1089;&#1090;&#1086;&#1082;" TargetMode="External"/><Relationship Id="rId5" Type="http://schemas.openxmlformats.org/officeDocument/2006/relationships/hyperlink" Target="https://ru.wikipedia.org/wiki/&#1040;&#1092;&#1088;&#1080;&#1082;&#1072;" TargetMode="External"/><Relationship Id="rId6" Type="http://schemas.openxmlformats.org/officeDocument/2006/relationships/hyperlink" Target="https://ru.wikipedia.org/wiki/&#1053;&#1072;&#1088;&#1091;&#1096;&#1077;&#1085;&#1080;&#1103;_&#1085;&#1072;_&#1074;&#1099;&#1073;&#1086;&#1088;&#1072;&#1093;" TargetMode="External"/><Relationship Id="rId7" Type="http://schemas.openxmlformats.org/officeDocument/2006/relationships/hyperlink" Target="https://ru.wikipedia.org/wiki/&#1051;&#1086;&#1073;&#1073;&#1080;&#1079;&#1084;" TargetMode="External"/><Relationship Id="rId8" Type="http://schemas.openxmlformats.org/officeDocument/2006/relationships/hyperlink" Target="https://ru.wikipedia.org/wiki/&#1043;&#1083;&#1086;&#1073;&#1072;&#1083;&#1100;&#1085;&#1086;&#1077;_&#1087;&#1086;&#1090;&#1077;&#1087;&#1083;&#1077;&#1085;&#1080;&#1077;" TargetMode="External"/><Relationship Id="rId9" Type="http://schemas.openxmlformats.org/officeDocument/2006/relationships/hyperlink" Target="https://ru.wikipedia.org/wiki/&#1058;&#1077;&#1088;&#1088;&#1086;&#1088;&#1080;&#1079;&#1084;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Администратор\Desktop\250px-President_Barack_Obama.jpg"/>
          <p:cNvPicPr/>
          <p:nvPr/>
        </p:nvPicPr>
        <p:blipFill>
          <a:blip r:embed="rId2"/>
          <a:stretch/>
        </p:blipFill>
        <p:spPr>
          <a:xfrm>
            <a:off x="179280" y="1700280"/>
            <a:ext cx="2352960" cy="29368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"/>
          <p:cNvSpPr/>
          <p:nvPr/>
        </p:nvSpPr>
        <p:spPr>
          <a:xfrm>
            <a:off x="2843280" y="4292640"/>
            <a:ext cx="644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Red October"/>
              </a:rPr>
              <a:t>Выполнил: ученик 9 класс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Red October"/>
              </a:rPr>
              <a:t>МБОУ «Вяткинская СОШ» Ильинский Иль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2916360" y="2060640"/>
            <a:ext cx="4608360" cy="1922760"/>
          </a:xfrm>
          <a:prstGeom prst="rect">
            <a:avLst/>
          </a:prstGeom>
          <a:solidFill>
            <a:srgbClr val="ac66bb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ed October"/>
              </a:rPr>
              <a:t>БАРАК ОБАМА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287280" y="0"/>
            <a:ext cx="86058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Обама объявил о своём желании баллотироваться в президенты в феврале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2007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и в 2008 году 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президентских праймериз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на Демократическом национальном съезде был официально выдвинут от Демократической партии кандидатом в президенты вместе с кандидатом на пост вице-президента — сенатором от штат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Делавэр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Джозефом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Байден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президентских выборах 2008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ама опередил кандидата от правивше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Республиканской парти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Джона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Маккейн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абрав 52,9 % голосов избирателей и 365 голосов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коллегии выборщиков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против 45,7 % и 173 у Маккей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7" name="Picture 2" descr="C:\Users\Администратор\Desktop\barack-obama-66358730.jpg"/>
          <p:cNvPicPr/>
          <p:nvPr/>
        </p:nvPicPr>
        <p:blipFill>
          <a:blip r:embed="rId12"/>
          <a:stretch/>
        </p:blipFill>
        <p:spPr>
          <a:xfrm>
            <a:off x="1908000" y="3213000"/>
            <a:ext cx="5400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3"/>
          <p:cNvSpPr/>
          <p:nvPr/>
        </p:nvSpPr>
        <p:spPr>
          <a:xfrm flipV="1" rot="10800000">
            <a:off x="-1440" y="-28080"/>
            <a:ext cx="9145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9 октября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получил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Нобелевскую премию мир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с формулировкой «за экстраординарные усилия в укреплении международной дипломатии и сотрудничества между людьми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Н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президентских выборах 2012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ама опередил кандидата от Республиканской партии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Митта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Ромн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абрав 51,1 % голосов избирателей и 332 голоса в коллегии выборщиков против 47,2 % и 206 у Ром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9" name="Picture 2" descr="C:\Users\Администратор\Desktop\AA14D2C5-6068-4386-B451-8F42DCF6060B_cx0_cy5_cw0_mw1024_s_n_r1.jpg"/>
          <p:cNvPicPr/>
          <p:nvPr/>
        </p:nvPicPr>
        <p:blipFill>
          <a:blip r:embed="rId9"/>
          <a:stretch/>
        </p:blipFill>
        <p:spPr>
          <a:xfrm>
            <a:off x="684360" y="2205000"/>
            <a:ext cx="7956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9920" y="1553760"/>
            <a:ext cx="695808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179280" y="404640"/>
            <a:ext cx="867744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Red October"/>
              </a:rPr>
              <a:t>Бара́к Хуссе́йн Оба́ма-младш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Red October"/>
              </a:rPr>
              <a:t>Barack Hussein Obama II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род.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4 август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1961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Гонолул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) — действующий (с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20 января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) 44-й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президент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Соединённых Штатов Америк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Лауреат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Нобелевской премии мир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2009 год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До избрания президентом был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федеральным сенатор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т штат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Иллинойс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Был переизбран на второй срок в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6"/>
              </a:rPr>
              <a:t>2012 год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0" name="Picture 2" descr="C:\Users\Администратор\Desktop\1428099476a40c0e88-330x186.jpg"/>
          <p:cNvPicPr/>
          <p:nvPr/>
        </p:nvPicPr>
        <p:blipFill>
          <a:blip r:embed="rId17"/>
          <a:stretch/>
        </p:blipFill>
        <p:spPr>
          <a:xfrm>
            <a:off x="1042920" y="2852640"/>
            <a:ext cx="66992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3"/>
          <p:cNvSpPr/>
          <p:nvPr/>
        </p:nvSpPr>
        <p:spPr>
          <a:xfrm>
            <a:off x="611280" y="44280"/>
            <a:ext cx="8245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Первы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афроамериканец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выдвинутый на пост президента США от одной из двух крупнейших партий, и первый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в национальной истории глав государств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темнокожий президент, а также президент с фамилией африканского и средним именем арабского этимологического происхождения. Обама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мулат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о, в отличие от большинства чёрных американцев, не потомок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рабов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а сын студента из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Кени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 и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белой американки (Стэнли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Энн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Данхэм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2" name="Picture 2" descr="C:\Users\Администратор\Desktop\r745700_6138590.jpg"/>
          <p:cNvPicPr/>
          <p:nvPr/>
        </p:nvPicPr>
        <p:blipFill>
          <a:blip r:embed="rId12"/>
          <a:stretch/>
        </p:blipFill>
        <p:spPr>
          <a:xfrm>
            <a:off x="1459080" y="2890800"/>
            <a:ext cx="58496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0" y="115920"/>
            <a:ext cx="9144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Родился в городе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Гонолулу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штат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Его родители познакомились в 1960 году во время учёбы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Гавайском университете в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Маноа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Вместе с тем, в ходе предвыборной кампании в США циркулировали слухи о том, что Обама был рождён за пределами США, что лишало бы его права избираться на пост президента. 1 марта 2012 год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аризонск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шериф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Джозеф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Арпайо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объявил, что свидетельство о рождении Барака Обамы может являться подделкой, выполненной на компьютере; аналогичное заявление он сделал в отношении формы учёта военнообязанного, заполненной будущим президентом в 1980 год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4" name="Picture 2" descr="C:\Users\Администратор\Desktop\1306170240_1305904125_001.jpg"/>
          <p:cNvPicPr/>
          <p:nvPr/>
        </p:nvPicPr>
        <p:blipFill>
          <a:blip r:embed="rId10"/>
          <a:stretch/>
        </p:blipFill>
        <p:spPr>
          <a:xfrm>
            <a:off x="2987640" y="2924280"/>
            <a:ext cx="47530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71280" y="6480"/>
            <a:ext cx="8964720" cy="78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Отец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Барак Хусейн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Обама-старший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1936—1982)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кениец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сын знахаря из народ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луо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Миссионерская школа оплатила ему учёбу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Найроб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и отправила для изучения курса эконометрики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Университет штата Гавай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где он организовал Ассоциацию иностранных студентов и стал лучшим в своём выпуске. Мать —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Стэнли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Энн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Данхэ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(1942—1995) — родилась на военной базе в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Канзасе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 в семье американцев-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христиан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, но позже стала 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агностиком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Она — в основном, английского, шотландского, ирландского и немецкого происхождения; по линии её матери, Мадлен Ли Пэйн, у Барака Обамы есть также предки-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чероки</a:t>
            </a: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. Сама фамилия Данэм принадлежит к американской аристократии и происходит от первопоселенца Ричарда Синглетери и его сына Джонатана (1639/40—1724), который по не вполне ясным причинам сменил фамилию на Данэм (семейная легенда возводит его к владельцам замка Дaнэм в Шотландии, которого якобы в младенчестве преступным путём лишили наследства родственник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Picture 2" descr="C:\Users\Администратор\Desktop\Et-si-Barack-Obama-avait-ete-adopte_article_landscape_pm_v8.jpg"/>
          <p:cNvPicPr/>
          <p:nvPr/>
        </p:nvPicPr>
        <p:blipFill>
          <a:blip r:embed="rId16"/>
          <a:stretch/>
        </p:blipFill>
        <p:spPr>
          <a:xfrm>
            <a:off x="5148360" y="4797360"/>
            <a:ext cx="32050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3"/>
          <p:cNvSpPr/>
          <p:nvPr/>
        </p:nvSpPr>
        <p:spPr>
          <a:xfrm>
            <a:off x="108000" y="18900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Мать вскоре после развода познакомилась с другим иностранным студентом — индонезийцем Лоло Суторо, вышла за него замуж и в 1967 году уехала с ним и с маленьким Бараком в Джакарту. От этого брака у Барака появилась единоутробная сестра Майя. Мать Барака умерла от рака в 1995 год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8" name="Picture 2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1050840" y="2349360"/>
            <a:ext cx="67611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121440" cy="41749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53964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ed October"/>
              </a:rPr>
              <a:t>С 1992 года Барак Обама состоит в браке с Мишель Робинсон Обамой (род. 17 января 1964), практикующим юристом. У них две дочери – Малия Энн (род. в 1998), Наташа («Саша»; род. В 2001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324000" y="549360"/>
            <a:ext cx="4679640" cy="9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Выпускник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Колумбийского университет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и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Школы права Гарвардского университет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, где он также был первым за всю его историю афроамериканцем-редактором университетского издания «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Harvard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Law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 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Review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». Обама также работал общественным организатором и адвокатом в области гражданских прав. Преподавал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конституционное право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0"/>
              </a:rPr>
              <a:t>Чикагском институте юрид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с 1992 по 2004 год и одновременно трижды, в период с 1997 по 2004 год, избирался в сенат штата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1"/>
              </a:rPr>
              <a:t>Иллинойс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. После неудачной попытки баллотироваться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2"/>
              </a:rPr>
              <a:t>2000 году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3"/>
              </a:rPr>
              <a:t>Палату представителей СШ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январе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4"/>
              </a:rPr>
              <a:t>2003 год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 баллотировался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5"/>
              </a:rPr>
              <a:t>Сенат США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. После победы на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6"/>
              </a:rPr>
              <a:t>праймериз (первичных выборах)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марте 2004 года Обама произнёс основную речь на Демократическом национальном съезде в июле 2004 года. Был избран в </a:t>
            </a:r>
            <a:r>
              <a:rPr b="0" lang="ru-RU" sz="2000" spc="-1" strike="noStrike" u="sng">
                <a:solidFill>
                  <a:srgbClr val="0079a4"/>
                </a:solidFill>
                <a:uFillTx/>
                <a:latin typeface="Red October"/>
                <a:hlinkClick r:id="rId17"/>
              </a:rPr>
              <a:t>Сенат</a:t>
            </a:r>
            <a:r>
              <a:rPr b="0" lang="ru-RU" sz="2000" spc="-1" strike="noStrike">
                <a:solidFill>
                  <a:srgbClr val="000000"/>
                </a:solidFill>
                <a:latin typeface="Red October"/>
              </a:rPr>
              <a:t> в ноябре 2004 года, набрав 70 % голос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2" name="Picture 2" descr="C:\Users\Администратор\Desktop\obama9-10.jpg"/>
          <p:cNvPicPr/>
          <p:nvPr/>
        </p:nvPicPr>
        <p:blipFill>
          <a:blip r:embed="rId18"/>
          <a:stretch/>
        </p:blipFill>
        <p:spPr>
          <a:xfrm>
            <a:off x="5724360" y="765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President Barack Obama.jpg"/>
          <p:cNvPicPr/>
          <p:nvPr/>
        </p:nvPicPr>
        <p:blipFill>
          <a:blip r:embed="rId19"/>
          <a:stretch/>
        </p:blipFill>
        <p:spPr>
          <a:xfrm>
            <a:off x="6012000" y="3213000"/>
            <a:ext cx="238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3"/>
          <p:cNvSpPr/>
          <p:nvPr/>
        </p:nvSpPr>
        <p:spPr>
          <a:xfrm>
            <a:off x="0" y="11592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ed October"/>
              </a:rPr>
              <a:t>Как член Демократического меньшинства в Конгрессе 109-го созыва, он помог создать законы о регулировании обычных вооружений и увеличении прозрачности в использовании государственного бюджета. Он также совершил официальные поездки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2"/>
              </a:rPr>
              <a:t>Восточную Европ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(в том числе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3"/>
              </a:rPr>
              <a:t>Росси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), на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4"/>
              </a:rPr>
              <a:t>Ближний Восто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и в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5"/>
              </a:rPr>
              <a:t>Афри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. Во время работы в Конгрессе 110-го созыва участвовал в создании законов, касающихся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6"/>
              </a:rPr>
              <a:t>мошенничества на выбора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7"/>
              </a:rPr>
              <a:t>лоббиз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8"/>
              </a:rPr>
              <a:t>изменения клима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, ядерного 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Red October"/>
                <a:hlinkClick r:id="rId9"/>
              </a:rPr>
              <a:t>террориз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ed October"/>
              </a:rPr>
              <a:t> и демобилизовавшихся американских военнослужащи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5" name="Picture 2" descr="C:\Users\Администратор\Desktop\barack-obama-45475_w1000.jpg"/>
          <p:cNvPicPr/>
          <p:nvPr/>
        </p:nvPicPr>
        <p:blipFill>
          <a:blip r:embed="rId10"/>
          <a:stretch/>
        </p:blipFill>
        <p:spPr>
          <a:xfrm>
            <a:off x="1979640" y="2852640"/>
            <a:ext cx="54720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9T14:31:59Z</dcterms:created>
  <dc:creator>Администратор</dc:creator>
  <dc:description/>
  <dc:language>en-US</dc:language>
  <cp:lastModifiedBy>DNS</cp:lastModifiedBy>
  <dcterms:modified xsi:type="dcterms:W3CDTF">2015-10-20T16:32:53Z</dcterms:modified>
  <cp:revision>4</cp:revision>
  <dc:subject/>
  <dc:title>Презентация PowerPoint</dc:title>
</cp:coreProperties>
</file>