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8B3043-67A9-485B-B0F8-B4E85F4999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9D2FEE-D6DA-4BEA-817A-35B653F698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D1D7B4-2B3E-48C7-B358-A076F39771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C5D5-9AC4-4C91-B730-E41223243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9852-E69D-4684-B55A-71CBBB3DD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8130-AA99-45A6-B6F5-0AD60F9C3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0BBD-EE1D-45E1-93AA-833180CAF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A91D-586E-46CF-BE4E-9C3A1DC90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4C28-60D7-40B9-8114-FC2E685D8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DC26-D0E1-40F3-86DD-EAD034C2C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EB99-BFF8-4DF8-B130-26A6169F6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8FB7-90C3-4F0C-B3B6-B68CFF4C3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9E06-7417-4D04-83DF-56AAAD5F7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9229-B87C-4559-B62B-DF7EF4E71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BF62-81BC-4EC0-BBBF-5E66A5FFD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886AA4-DF74-40B6-9FDF-E7B212C8651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&#1087;&#1082;/Desktop/&#1091;&#1088;&#1086;&#1082;/S-Dobrym-utrom-Penie-ptic(muzbaron.com).mp3" TargetMode="External"/><Relationship Id="rId2" Type="http://schemas.microsoft.com/office/2007/relationships/media" Target="file:///C:/Users/&#1087;&#1082;/Desktop/&#1091;&#1088;&#1086;&#1082;/S-Dobrym-utrom-Penie-ptic(muzbaron.com).mp3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119640"/>
            <a:ext cx="792000" cy="73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000" y="71280"/>
            <a:ext cx="9144000" cy="633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0"/>
            <a:ext cx="77724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вчие пт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836640"/>
            <a:ext cx="77724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ворон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ст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456000" cy="3457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87640" cy="424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35640" y="2060640"/>
            <a:ext cx="4140000" cy="4562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41920" y="990720"/>
            <a:ext cx="1430280" cy="510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12193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НЕШНЕЕ СТРО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РА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41480" y="3757320"/>
            <a:ext cx="2546640" cy="484200"/>
          </a:xfrm>
          <a:prstGeom prst="line">
            <a:avLst/>
          </a:prstGeom>
          <a:ln cap="sq"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8606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38320" y="3860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РЖ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724280" y="5562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ОВОЕ ПЕ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85920" y="1600200"/>
            <a:ext cx="154800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06800" y="2743200"/>
            <a:ext cx="103824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360" y="1600200"/>
            <a:ext cx="1109520" cy="396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3714840" y="-532440"/>
            <a:ext cx="2286000" cy="531720"/>
          </a:xfrm>
          <a:custGeom>
            <a:avLst/>
            <a:gdLst>
              <a:gd name="textAreaLeft" fmla="*/ 66240 w 2286000"/>
              <a:gd name="textAreaRight" fmla="*/ 2219760 w 2286000"/>
              <a:gd name="textAreaTop" fmla="*/ 66240 h 531720"/>
              <a:gd name="textAreaBottom" fmla="*/ 465480 h 531720"/>
            </a:gdLst>
            <a:ahLst/>
            <a:rect l="textAreaLeft" t="textAreaTop" r="textAreaRight" b="textAreaBottom"/>
            <a:pathLst>
              <a:path w="2286000" h="531813">
                <a:moveTo>
                  <a:pt x="0" y="0"/>
                </a:moveTo>
                <a:lnTo>
                  <a:pt x="2286000" y="0"/>
                </a:lnTo>
                <a:lnTo>
                  <a:pt x="2286000" y="531813"/>
                </a:lnTo>
                <a:lnTo>
                  <a:pt x="0" y="531813"/>
                </a:lnTo>
                <a:close/>
                <a:moveTo>
                  <a:pt x="66477" y="66477"/>
                </a:moveTo>
                <a:lnTo>
                  <a:pt x="66477" y="465336"/>
                </a:lnTo>
                <a:lnTo>
                  <a:pt x="2219523" y="465336"/>
                </a:lnTo>
                <a:lnTo>
                  <a:pt x="2219523" y="66477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0"/>
            <a:ext cx="813564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Название птиц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Перелетная или зимующа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 Разме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Окрас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.Где обита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.Чем питает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. Повадк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рмушки для птиц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744720" cy="2592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3816360" cy="282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56220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37492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8025" t="0" r="0" b="22269"/>
          <a:stretch/>
        </p:blipFill>
        <p:spPr>
          <a:xfrm>
            <a:off x="3132000" y="260280"/>
            <a:ext cx="2160720" cy="187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227016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12395" t="6622" r="23001" b="9720"/>
          <a:stretch/>
        </p:blipFill>
        <p:spPr>
          <a:xfrm>
            <a:off x="395280" y="206064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059280" y="2133720"/>
            <a:ext cx="2304720" cy="1938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796000" y="2276640"/>
            <a:ext cx="230508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276720" y="429264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rcRect l="21650" t="0" r="0" b="15354"/>
          <a:stretch/>
        </p:blipFill>
        <p:spPr>
          <a:xfrm>
            <a:off x="5796000" y="4292640"/>
            <a:ext cx="22320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-458640"/>
            <a:ext cx="77724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ищные пт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стреб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шун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16929" r="16075" b="0"/>
          <a:stretch/>
        </p:blipFill>
        <p:spPr>
          <a:xfrm>
            <a:off x="468360" y="1557360"/>
            <a:ext cx="2448000" cy="293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10689" t="5736" r="0" b="5736"/>
          <a:stretch/>
        </p:blipFill>
        <p:spPr>
          <a:xfrm>
            <a:off x="3276720" y="2349360"/>
            <a:ext cx="2590560" cy="288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15349" r="0" b="0"/>
          <a:stretch/>
        </p:blipFill>
        <p:spPr>
          <a:xfrm>
            <a:off x="6156360" y="3645000"/>
            <a:ext cx="267156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43:03Z</dcterms:created>
  <dc:creator>Людмила</dc:creator>
  <dc:description/>
  <dc:language>en-US</dc:language>
  <cp:lastModifiedBy>Людмила</cp:lastModifiedBy>
  <dcterms:modified xsi:type="dcterms:W3CDTF">2014-01-27T15:58:30Z</dcterms:modified>
  <cp:revision>52</cp:revision>
  <dc:subject/>
  <dc:title>Презентация PowerPoint</dc:title>
</cp:coreProperties>
</file>