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A1D17F-D757-48B4-893F-2F6BE73BA59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440A86-9CE2-4C99-98BC-66B85AE01E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26C476-F9BD-4416-8381-732C8B3146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5709-F808-4062-A517-68AF70B69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CB95-CE42-4B73-9A8E-483ED2139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942A0-9711-45B9-83F4-8E3C77412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28222-518D-4BCC-80CD-5FC8D9CC26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91EE9-6A52-48DF-AB06-247CFB0C9A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15926-24B9-483E-B555-62C0110C2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3985F-9913-4F4D-B5C8-86B2C797E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A692E-0F6A-400E-8288-2E21CF6CB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DC9D4-3F97-4587-A3B4-711771146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CED4-0BF8-45B8-A7B9-2202952F2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F00E-026F-4D01-A471-D78EDE7582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262E-9301-4CED-B7C4-EE4AB18C2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97B576-FE80-4B15-B059-4C6B59FC7639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C:/Users/&#1087;&#1082;/Desktop/&#1091;&#1088;&#1086;&#1082;/S-Dobrym-utrom-Penie-ptic(muzbaron.com).mp3" TargetMode="External"/><Relationship Id="rId2" Type="http://schemas.microsoft.com/office/2007/relationships/media" Target="file:///C:/Users/&#1087;&#1082;/Desktop/&#1091;&#1088;&#1086;&#1082;/S-Dobrym-utrom-Penie-ptic(muzbaron.com).mp3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6119640"/>
            <a:ext cx="792000" cy="738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4000" y="71280"/>
            <a:ext cx="9144000" cy="6338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0"/>
            <a:ext cx="77724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вчие птиц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836640"/>
            <a:ext cx="777240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аворон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сточ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600360" cy="3384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3456000" cy="3457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887640" cy="424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35640" y="2060640"/>
            <a:ext cx="4140000" cy="4562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41920" y="990720"/>
            <a:ext cx="1430280" cy="5105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38080" y="12193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НЕШНЕЕ СТРО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ЕРА ПТ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841480" y="3757320"/>
            <a:ext cx="2546640" cy="484200"/>
          </a:xfrm>
          <a:prstGeom prst="line">
            <a:avLst/>
          </a:prstGeom>
          <a:ln cap="sq"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724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5053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86064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38320" y="386064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ЕРЖ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724280" y="5562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ХОВОЕ ПЕР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6748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85920" y="1600200"/>
            <a:ext cx="1548000" cy="3124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906800" y="2743200"/>
            <a:ext cx="1038240" cy="2590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010280" y="39625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4360" y="1600200"/>
            <a:ext cx="1109520" cy="3962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3714840" y="-532440"/>
            <a:ext cx="2286000" cy="531720"/>
          </a:xfrm>
          <a:custGeom>
            <a:avLst/>
            <a:gdLst>
              <a:gd name="textAreaLeft" fmla="*/ 66240 w 2286000"/>
              <a:gd name="textAreaRight" fmla="*/ 2219760 w 2286000"/>
              <a:gd name="textAreaTop" fmla="*/ 66240 h 531720"/>
              <a:gd name="textAreaBottom" fmla="*/ 465480 h 531720"/>
            </a:gdLst>
            <a:ahLst/>
            <a:rect l="textAreaLeft" t="textAreaTop" r="textAreaRight" b="textAreaBottom"/>
            <a:pathLst>
              <a:path w="2286000" h="531813">
                <a:moveTo>
                  <a:pt x="0" y="0"/>
                </a:moveTo>
                <a:lnTo>
                  <a:pt x="2286000" y="0"/>
                </a:lnTo>
                <a:lnTo>
                  <a:pt x="2286000" y="531813"/>
                </a:lnTo>
                <a:lnTo>
                  <a:pt x="0" y="531813"/>
                </a:lnTo>
                <a:close/>
                <a:moveTo>
                  <a:pt x="66477" y="66477"/>
                </a:moveTo>
                <a:lnTo>
                  <a:pt x="66477" y="465336"/>
                </a:lnTo>
                <a:lnTo>
                  <a:pt x="2219523" y="465336"/>
                </a:lnTo>
                <a:lnTo>
                  <a:pt x="2219523" y="66477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4360" y="0"/>
            <a:ext cx="813564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лан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.Название птиц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.Перелетная или зимующа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. Разме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.Окраск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.Где обитае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6.Чем питаетс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7. Повадки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6028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рмушки для птиц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3744720" cy="2592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600360" cy="2519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3816360" cy="2828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932360" y="3716280"/>
            <a:ext cx="3562200" cy="2808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374920" cy="1800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28025" t="0" r="0" b="22269"/>
          <a:stretch/>
        </p:blipFill>
        <p:spPr>
          <a:xfrm>
            <a:off x="3132000" y="260280"/>
            <a:ext cx="2160720" cy="1873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796000" y="260280"/>
            <a:ext cx="2270160" cy="1944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rcRect l="12395" t="6622" r="23001" b="9720"/>
          <a:stretch/>
        </p:blipFill>
        <p:spPr>
          <a:xfrm>
            <a:off x="395280" y="2060640"/>
            <a:ext cx="2305080" cy="2016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059280" y="2133720"/>
            <a:ext cx="2304720" cy="1938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611280" y="4292640"/>
            <a:ext cx="2232000" cy="1944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5796000" y="2276640"/>
            <a:ext cx="2305080" cy="1657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3276720" y="4292640"/>
            <a:ext cx="2232000" cy="1944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rcRect l="21650" t="0" r="0" b="15354"/>
          <a:stretch/>
        </p:blipFill>
        <p:spPr>
          <a:xfrm>
            <a:off x="5796000" y="4292640"/>
            <a:ext cx="22320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-458640"/>
            <a:ext cx="77724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ищные птиц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стреб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ршун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16929" r="16075" b="0"/>
          <a:stretch/>
        </p:blipFill>
        <p:spPr>
          <a:xfrm>
            <a:off x="468360" y="1557360"/>
            <a:ext cx="2448000" cy="2933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10689" t="5736" r="0" b="5736"/>
          <a:stretch/>
        </p:blipFill>
        <p:spPr>
          <a:xfrm>
            <a:off x="3276720" y="2349360"/>
            <a:ext cx="2590560" cy="2880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rcRect l="0" t="15349" r="0" b="0"/>
          <a:stretch/>
        </p:blipFill>
        <p:spPr>
          <a:xfrm>
            <a:off x="6156360" y="3645000"/>
            <a:ext cx="2671560" cy="2925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43:03Z</dcterms:created>
  <dc:creator>Людмила</dc:creator>
  <dc:description/>
  <dc:language>en-US</dc:language>
  <cp:lastModifiedBy>Людмила</cp:lastModifiedBy>
  <dcterms:modified xsi:type="dcterms:W3CDTF">2014-01-27T15:58:30Z</dcterms:modified>
  <cp:revision>52</cp:revision>
  <dc:subject/>
  <dc:title>Презентация PowerPoint</dc:title>
</cp:coreProperties>
</file>