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B1B-77EE-481A-B70F-43DB3F46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B8B-3B4E-4E87-929E-D70F5271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52A-EB20-4144-93B7-D6CF2CAD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ED6-4775-4C03-BD47-4C00965A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275A-F7A4-47B9-B00C-AC99D425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FD64-C98D-4C98-8567-EC3D60AA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8754-6A34-4582-ADAD-864897F5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1931-7481-443A-A529-A8FD3F32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86CE-C09E-4A70-B179-4074BCA5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A903-023A-43AF-88C3-61737F09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87BE-8EC0-4681-B3AD-A091DD8D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9A3-86CD-40DE-9203-0725C425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2414-51F3-46C1-95F8-B0BD42A0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2356-B0E5-450B-8EBE-D9DC16D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713C-677E-4074-B3DE-E47CE558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2483-B42E-4F75-82DE-83E08833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4F77-0FDC-4BEA-9039-58EF1BF0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892-C2C8-4B1F-BDD0-9C796EA4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3AA-63A6-4C4B-B79C-96041638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28E-FEAF-47DA-8DBC-EB9A2382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C60-6F33-4DA9-8F1F-EADA20E6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BEA-E2DD-4F0F-84AF-858DA79F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710-031D-49A6-9968-23CDF6C6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4A7-63A8-4787-A3B6-52CE832A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1830-0568-4586-8BF9-DC79449531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72A5-C4AC-4B9B-BDFF-0C793BFE75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d.rsoc.ru/operators-registry/operators-list/" TargetMode="External"/><Relationship Id="rId3" Type="http://schemas.openxmlformats.org/officeDocument/2006/relationships/hyperlink" Target="http://pd.rsoc.ru/operators-registry/operators-list/?regn=09-0062296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8200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33cc"/>
                </a:solidFill>
                <a:latin typeface="Comic Sans MS"/>
              </a:rPr>
              <a:t>Единая образовательная сеть «Дневник.ру»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29080" y="-603360"/>
            <a:ext cx="3780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Оценки ученика за неделю"/>
          <p:cNvPicPr/>
          <p:nvPr/>
        </p:nvPicPr>
        <p:blipFill>
          <a:blip r:embed="rId1"/>
          <a:srcRect l="1806" t="27" r="2862" b="3250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4920" y="0"/>
            <a:ext cx="910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же ученикам доступны итоговые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Оценки ученика за четверть"/>
          <p:cNvPicPr/>
          <p:nvPr/>
        </p:nvPicPr>
        <p:blipFill>
          <a:blip r:embed="rId1"/>
          <a:srcRect l="3246" t="20778" r="3224" b="28041"/>
          <a:stretch/>
        </p:blipFill>
        <p:spPr>
          <a:xfrm>
            <a:off x="0" y="549360"/>
            <a:ext cx="9144000" cy="4464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4920" y="4941720"/>
            <a:ext cx="91440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Все оценки ученика доступны его родителям зарегистрированным на сайте «Дневник.ру»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054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Инструменты социального сетевого взаимодейств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сональные страницы (личный кабинет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струменты обмена файлами, личными сообщениям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ети, группы, событи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нкурс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867280" y="4724280"/>
            <a:ext cx="2114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1" descr="Описание: Объявления"/>
          <p:cNvPicPr/>
          <p:nvPr/>
        </p:nvPicPr>
        <p:blipFill>
          <a:blip r:embed="rId1"/>
          <a:stretch/>
        </p:blipFill>
        <p:spPr>
          <a:xfrm>
            <a:off x="179280" y="981000"/>
            <a:ext cx="3888000" cy="2355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00000" y="404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БЪ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Описание: Личная страница"/>
          <p:cNvPicPr/>
          <p:nvPr/>
        </p:nvPicPr>
        <p:blipFill>
          <a:blip r:embed="rId2"/>
          <a:stretch/>
        </p:blipFill>
        <p:spPr>
          <a:xfrm>
            <a:off x="4427640" y="907920"/>
            <a:ext cx="395928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4356000" y="404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ИЧНАЯ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9" descr="Описание: Группы и события"/>
          <p:cNvPicPr/>
          <p:nvPr/>
        </p:nvPicPr>
        <p:blipFill>
          <a:blip r:embed="rId3"/>
          <a:stretch/>
        </p:blipFill>
        <p:spPr>
          <a:xfrm>
            <a:off x="144360" y="4508640"/>
            <a:ext cx="3780000" cy="22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144360" y="400536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РУППЫ И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7" descr="Описание: Библиотека"/>
          <p:cNvPicPr/>
          <p:nvPr/>
        </p:nvPicPr>
        <p:blipFill>
          <a:blip r:embed="rId4"/>
          <a:stretch/>
        </p:blipFill>
        <p:spPr>
          <a:xfrm>
            <a:off x="4427640" y="4413240"/>
            <a:ext cx="395928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4788000" y="39085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ИБЛИ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2960" y="40104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ой календ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6" descr="Описание: Мой календарь"/>
          <p:cNvPicPr/>
          <p:nvPr/>
        </p:nvPicPr>
        <p:blipFill>
          <a:blip r:embed="rId1"/>
          <a:stretch/>
        </p:blipFill>
        <p:spPr>
          <a:xfrm>
            <a:off x="179280" y="907920"/>
            <a:ext cx="3816360" cy="23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Рисунок 5" descr="Описание: Сети"/>
          <p:cNvPicPr/>
          <p:nvPr/>
        </p:nvPicPr>
        <p:blipFill>
          <a:blip r:embed="rId2"/>
          <a:stretch/>
        </p:blipFill>
        <p:spPr>
          <a:xfrm>
            <a:off x="4356000" y="907920"/>
            <a:ext cx="3672000" cy="22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5527080" y="33264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" descr="Описание: Медиатека"/>
          <p:cNvPicPr/>
          <p:nvPr/>
        </p:nvPicPr>
        <p:blipFill>
          <a:blip r:embed="rId3"/>
          <a:stretch/>
        </p:blipFill>
        <p:spPr>
          <a:xfrm>
            <a:off x="106200" y="4292640"/>
            <a:ext cx="4105440" cy="24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0" y="429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" descr="Описание: Сообщения"/>
          <p:cNvPicPr/>
          <p:nvPr/>
        </p:nvPicPr>
        <p:blipFill>
          <a:blip r:embed="rId4"/>
          <a:stretch/>
        </p:blipFill>
        <p:spPr>
          <a:xfrm>
            <a:off x="4500720" y="4282920"/>
            <a:ext cx="4249440" cy="25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5435640" y="37155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О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9680" y="371556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ЕДИА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-387360"/>
            <a:ext cx="756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Для регистрации на сайте необходимо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08000" y="1268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Создать свой электронный почтовый адрес (если его нет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3044880" cy="2917800"/>
          </a:xfrm>
          <a:prstGeom prst="rect">
            <a:avLst/>
          </a:prstGeom>
          <a:ln w="9360">
            <a:solidFill>
              <a:srgbClr val="ffef66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3041640" cy="3168720"/>
          </a:xfrm>
          <a:prstGeom prst="rect">
            <a:avLst/>
          </a:prstGeom>
          <a:ln w="9360">
            <a:solidFill>
              <a:srgbClr val="ffef66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3"/>
          <a:srcRect l="5579" t="7058" r="4066" b="5764"/>
          <a:stretch/>
        </p:blipFill>
        <p:spPr>
          <a:xfrm>
            <a:off x="2340000" y="4487760"/>
            <a:ext cx="4248000" cy="2370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3957" t="35069" r="5500" b="9810"/>
          <a:stretch/>
        </p:blipFill>
        <p:spPr>
          <a:xfrm>
            <a:off x="0" y="2682720"/>
            <a:ext cx="9144000" cy="4175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114640" cy="1657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0920" y="0"/>
            <a:ext cx="7921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Зайдите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лавную страниц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невник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evnik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 желтую форму «Регистрация» введит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нажмите «Дальш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1413000"/>
            <a:ext cx="4464000" cy="453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64000" y="1413000"/>
            <a:ext cx="3384720" cy="48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484360" y="3754440"/>
            <a:ext cx="3960720" cy="31035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181440" y="692280"/>
            <a:ext cx="8137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На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странице приветств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описаны самые важные шаги, выполнив которые, Вы сможете оценить все преимущества работы в Единой образовательной  сети «Дневник.ру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4920" y="189000"/>
            <a:ext cx="80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айт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«Дневник.ру»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доставляет различные возможности для оптимизации учебного процесса и контроля за ним со стороны родителей; электронного хранения материалов, созданных учителями и учениками; организации общения между пользователями внутри школы и за ее предел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77080" y="5446800"/>
            <a:ext cx="18018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395280" y="0"/>
            <a:ext cx="8424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СОЕДИНЯЙТЕСЬ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0" r="0" b="19201"/>
          <a:stretch/>
        </p:blipFill>
        <p:spPr>
          <a:xfrm>
            <a:off x="2916360" y="4869000"/>
            <a:ext cx="3049560" cy="1931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640" y="43653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Дневник.ру - информационная система, которая предоставляет электронные средства поддержки и сопровождения образовательного процесса и инструменты социального сетевого взаимодейств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360" y="244080"/>
            <a:ext cx="828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Электронные средства поддержки и сопровождения образовательного процесс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845964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электронный дневник ученика;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электронный журнал учителя;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писание учителя;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писание ученика;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машнее задание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библиотека;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едиатека (сборник аудио, видео, текстовых материалов для всех пользователей)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372360" y="2349360"/>
            <a:ext cx="2114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Описание: http://www.alisa-home.ru/sc/persodata.jpg"/>
          <p:cNvPicPr/>
          <p:nvPr/>
        </p:nvPicPr>
        <p:blipFill>
          <a:blip r:embed="rId1"/>
          <a:stretch/>
        </p:blipFill>
        <p:spPr>
          <a:xfrm>
            <a:off x="7164360" y="4889520"/>
            <a:ext cx="1979640" cy="196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9280" y="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Персональная информация пользователей сайта школы хранится в соответствии со следующими требованиями безопас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73320"/>
            <a:ext cx="8748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вайдер проекта - компания «Дневник.ру» - зарегистрирована Федеральной службой по надзору в сфере связи, информационных технологий и массовых коммуникаций России в </a:t>
            </a: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реестре операторов персональных данны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 под регистрационным номером </a:t>
            </a: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09-0062296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 (требования Федерального закона №152 «О Персональных данных»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егистрация производится только по пригласительным кода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новых пользователей добавляет только администратор школы, поэтому гарантируется отсутствие посторонних: ученики, учителя и родители регистрируются на сайте после получения пригласительных кодов. Все коды хранятся у администрации школы и не подлежат разглашению. Для завершения регистрации пользователи не только вводят пригласительный код, но и подтверждают свои персональные данны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ействуют личные настройки приватност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аждый пользователь может сам выбрать кому и какую информацию о себе показывать, но внутри школы администратор всегда в курсе кто и что делает. Это позволяет 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контролироват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оведение детей в проекте и обезопасить их от 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нежелательно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нформаци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5600" y="-171720"/>
            <a:ext cx="7556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Главная страница школ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720" y="620280"/>
            <a:ext cx="9001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главной странице школы в Дневнике доступны краткая информация о школе, список руководства школы и администраторов Дневника, последние новости, форумы, загруженные файлы, интерактивные страниц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4996" r="3293" b="0"/>
          <a:stretch/>
        </p:blipFill>
        <p:spPr>
          <a:xfrm>
            <a:off x="1763640" y="1884240"/>
            <a:ext cx="67690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63360"/>
            <a:ext cx="6870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Расписание урок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Респисание класса"/>
          <p:cNvPicPr/>
          <p:nvPr/>
        </p:nvPicPr>
        <p:blipFill>
          <a:blip r:embed="rId1"/>
          <a:srcRect l="0" t="17942" r="9415" b="7880"/>
          <a:stretch/>
        </p:blipFill>
        <p:spPr>
          <a:xfrm>
            <a:off x="1692360" y="1898640"/>
            <a:ext cx="6048360" cy="4890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549360"/>
            <a:ext cx="85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списание уроков поддерживает следующие типы отчетных периодов: четверти, триместры, семестры и модули. Расписание выводится на весь отчетный период. Цветом выделяются замены, переносы и отмены уроков. По каждому уроку можно посмотреть более детальную информа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Электронный журнал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836640"/>
            <a:ext cx="849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ителя в Дневнике могут выставлять оценки в тех классах, в которых они преподают, а при наличии административных прав - в любом классе школы. Классный руководитель имеет право выставлять оценки в своём классе по всем предм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ступны различные ведомости и отчеты по успеваемости как всего класса, так и отдельных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ханизм выставления оценок сделан максимально наглядным и удоб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Электронный журнал в Дневника"/>
          <p:cNvPicPr/>
          <p:nvPr/>
        </p:nvPicPr>
        <p:blipFill>
          <a:blip r:embed="rId1"/>
          <a:srcRect l="4446" t="52521" r="3251" b="1429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268360" y="189000"/>
            <a:ext cx="43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ЖУР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1412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Электронный днев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1035000"/>
            <a:ext cx="81723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аждому ученику в Дневнике доступны все выставленные ему оценки по предметам и комментарии учителей, домашнее задание, файлы к нем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жно просмотреть оценки по предметам за определенный период (неделя, четверть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23:50:03Z</dcterms:created>
  <dc:creator>1</dc:creator>
  <dc:description/>
  <dc:language>en-US</dc:language>
  <cp:lastModifiedBy>1</cp:lastModifiedBy>
  <dcterms:modified xsi:type="dcterms:W3CDTF">2011-10-07T01:15:11Z</dcterms:modified>
  <cp:revision>10</cp:revision>
  <dc:subject/>
  <dc:title>Единая образовательная сеть «Дневник.ру»</dc:title>
</cp:coreProperties>
</file>