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238-B07F-4BC4-8353-EC3F311C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037-138D-4FB7-9C5C-100EA04A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05C-21D6-4979-A148-8C6CE1C8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FF3-5466-4F12-87AB-EE6632AC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D57-6DA2-464A-AF88-640C66A0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71A0-3A39-4B24-B886-25D857D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1E92-9A38-4DAF-8C42-1B4DB380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592-6DD6-47A4-A701-5E34F4D1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FBA-5B65-4DB4-AEF4-BAB6DFCD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580-78B1-441B-ABA8-E1DD9598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87D-C2F1-40F3-89F4-83B3F3CB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876-D1AF-4431-889F-B2111DAE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CA6F-F937-4E9A-8DBB-096AAB4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DAD0-E51A-4446-B23F-EE109FF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62F2-768C-44AC-BADB-8EC8EE9C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589A-EC3B-4B0C-B6E8-9D41891A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93CF-EE1F-4EBE-A3ED-DFF797E7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F14-F218-49F7-AE67-B81AC142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197-258A-46A9-B96B-5DF429AB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9AA-8F7F-4A6E-AA40-4F9853A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3AE-E759-49F1-85E4-FA99CD3F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C46-EEBD-46C8-924B-CA67496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2BE-799F-47B5-8D0D-98C3093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B1D-1088-459B-BF59-1AE98FA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BCE-1EBA-4AB3-AFE8-2AD48F900E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1A7F-49E4-453F-A036-A185BFC7AD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d.rsoc.ru/operators-registry/operators-list/" TargetMode="External"/><Relationship Id="rId3" Type="http://schemas.openxmlformats.org/officeDocument/2006/relationships/hyperlink" Target="http://pd.rsoc.ru/operators-registry/operators-list/?regn=09-0062296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8200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Comic Sans MS"/>
              </a:rPr>
              <a:t>Единая образовательная сеть «Дневник.ру»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29080" y="-603360"/>
            <a:ext cx="378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Оценки ученика за неделю"/>
          <p:cNvPicPr/>
          <p:nvPr/>
        </p:nvPicPr>
        <p:blipFill>
          <a:blip r:embed="rId1"/>
          <a:srcRect l="1806" t="27" r="2862" b="3250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920" y="0"/>
            <a:ext cx="910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же ученикам доступны итоговые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Оценки ученика за четверть"/>
          <p:cNvPicPr/>
          <p:nvPr/>
        </p:nvPicPr>
        <p:blipFill>
          <a:blip r:embed="rId1"/>
          <a:srcRect l="3246" t="20778" r="3224" b="28041"/>
          <a:stretch/>
        </p:blipFill>
        <p:spPr>
          <a:xfrm>
            <a:off x="0" y="54936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920" y="4941720"/>
            <a:ext cx="91440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се оценки ученика доступны его родителям зарегистрированным на сайте «Дневник.ру»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5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Инструменты социального сетевого взаимодейств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сональные страницы (личный кабинет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струменты обмена файлами, личными сообщениям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ети, группы, событ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курс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867280" y="4724280"/>
            <a:ext cx="2114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1" descr="Описание: Объявления"/>
          <p:cNvPicPr/>
          <p:nvPr/>
        </p:nvPicPr>
        <p:blipFill>
          <a:blip r:embed="rId1"/>
          <a:stretch/>
        </p:blipFill>
        <p:spPr>
          <a:xfrm>
            <a:off x="179280" y="981000"/>
            <a:ext cx="3888000" cy="2355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404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БЪ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Описание: Личная страница"/>
          <p:cNvPicPr/>
          <p:nvPr/>
        </p:nvPicPr>
        <p:blipFill>
          <a:blip r:embed="rId2"/>
          <a:stretch/>
        </p:blipFill>
        <p:spPr>
          <a:xfrm>
            <a:off x="4427640" y="907920"/>
            <a:ext cx="395928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356000" y="404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ИЧНАЯ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9" descr="Описание: Группы и события"/>
          <p:cNvPicPr/>
          <p:nvPr/>
        </p:nvPicPr>
        <p:blipFill>
          <a:blip r:embed="rId3"/>
          <a:stretch/>
        </p:blipFill>
        <p:spPr>
          <a:xfrm>
            <a:off x="144360" y="4508640"/>
            <a:ext cx="3780000" cy="22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144360" y="40053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РУППЫ И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7" descr="Описание: Библиотека"/>
          <p:cNvPicPr/>
          <p:nvPr/>
        </p:nvPicPr>
        <p:blipFill>
          <a:blip r:embed="rId4"/>
          <a:stretch/>
        </p:blipFill>
        <p:spPr>
          <a:xfrm>
            <a:off x="4427640" y="4413240"/>
            <a:ext cx="395928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4788000" y="39085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2960" y="40104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ой календ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6" descr="Описание: Мой календарь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23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Рисунок 5" descr="Описание: Сети"/>
          <p:cNvPicPr/>
          <p:nvPr/>
        </p:nvPicPr>
        <p:blipFill>
          <a:blip r:embed="rId2"/>
          <a:stretch/>
        </p:blipFill>
        <p:spPr>
          <a:xfrm>
            <a:off x="4356000" y="907920"/>
            <a:ext cx="3672000" cy="22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5527080" y="33264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Описание: Медиатека"/>
          <p:cNvPicPr/>
          <p:nvPr/>
        </p:nvPicPr>
        <p:blipFill>
          <a:blip r:embed="rId3"/>
          <a:stretch/>
        </p:blipFill>
        <p:spPr>
          <a:xfrm>
            <a:off x="106200" y="4292640"/>
            <a:ext cx="4105440" cy="24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0" y="429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Описание: Сообщения"/>
          <p:cNvPicPr/>
          <p:nvPr/>
        </p:nvPicPr>
        <p:blipFill>
          <a:blip r:embed="rId4"/>
          <a:stretch/>
        </p:blipFill>
        <p:spPr>
          <a:xfrm>
            <a:off x="4500720" y="4282920"/>
            <a:ext cx="4249440" cy="25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435640" y="37155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9680" y="371556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ДИА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-38736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Для регистрации на сайте необходим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12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Создать свой электронный почтовый адрес (если его не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3044880" cy="2917800"/>
          </a:xfrm>
          <a:prstGeom prst="rect">
            <a:avLst/>
          </a:prstGeom>
          <a:ln w="9360">
            <a:solidFill>
              <a:srgbClr val="ffef66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41640" cy="3168720"/>
          </a:xfrm>
          <a:prstGeom prst="rect">
            <a:avLst/>
          </a:prstGeom>
          <a:ln w="9360">
            <a:solidFill>
              <a:srgbClr val="ffef66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5579" t="7058" r="4066" b="5764"/>
          <a:stretch/>
        </p:blipFill>
        <p:spPr>
          <a:xfrm>
            <a:off x="2340000" y="4487760"/>
            <a:ext cx="4248000" cy="2370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3957" t="35069" r="5500" b="9810"/>
          <a:stretch/>
        </p:blipFill>
        <p:spPr>
          <a:xfrm>
            <a:off x="0" y="2682720"/>
            <a:ext cx="9144000" cy="4175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114640" cy="1657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0920" y="0"/>
            <a:ext cx="7921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Зайдите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лавную страниц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невни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evni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желтую форму «Регистрация» введит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нажмите «Дальш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1413000"/>
            <a:ext cx="4464000" cy="453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1413000"/>
            <a:ext cx="3384720" cy="48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84360" y="3754440"/>
            <a:ext cx="3960720" cy="3103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181440" y="692280"/>
            <a:ext cx="8137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Н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транице приветств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описаны самые важные шаги, выполнив которые, Вы сможете оценить все преимущества работы в Единой образовательной  сети «Дневник.ру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4920" y="189000"/>
            <a:ext cx="80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йт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Дневник.ру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доставляет различные возможности для оптимизации учебного процесса и контроля за ним со стороны родителей; электронного хранения материалов, созданных учителями и учениками; организации общения между пользователями внутри школы и за ее предел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77080" y="5446800"/>
            <a:ext cx="18018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395280" y="0"/>
            <a:ext cx="8424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СОЕДИНЯЙТЕСЬ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0" r="0" b="19201"/>
          <a:stretch/>
        </p:blipFill>
        <p:spPr>
          <a:xfrm>
            <a:off x="2916360" y="4869000"/>
            <a:ext cx="3049560" cy="1931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40" y="43653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невник.ру - информационная система, которая предоставляет электронные средства поддержки и сопровождения образовательного процесса и инструменты социального сетевого взаимодейств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360" y="244080"/>
            <a:ext cx="828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Электронные средства поддержки и сопровождения образовательного процесс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845964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лектронный дневник ученика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лектронный журнал учителя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писание учителя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писание ученика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машнее задание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библиотека;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едиатека (сборник аудио, видео, текстовых материалов для всех пользователей)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372360" y="2349360"/>
            <a:ext cx="2114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Описание: http://www.alisa-home.ru/sc/persodata.jpg"/>
          <p:cNvPicPr/>
          <p:nvPr/>
        </p:nvPicPr>
        <p:blipFill>
          <a:blip r:embed="rId1"/>
          <a:stretch/>
        </p:blipFill>
        <p:spPr>
          <a:xfrm>
            <a:off x="7164360" y="4889520"/>
            <a:ext cx="1979640" cy="196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9280" y="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Персональная информация пользователей сайта школы хранится в соответствии со следующими требованиями безопас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73320"/>
            <a:ext cx="87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вайдер проекта - компания «Дневник.ру» - зарегистрирована Федеральной службой по надзору в сфере связи, информационных технологий и массовых коммуникаций России в 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реестре операторов персональных данны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 под регистрационным номером 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09-00622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 (требования Федерального закона №152 «О Персональных данных»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гистрация производится только по пригласительным кода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новых пользователей добавляет только администратор школы, поэтому гарантируется отсутствие посторонних: ученики, учителя и родители регистрируются на сайте после получения пригласительных кодов. Все коды хранятся у администрации школы и не подлежат разглашению. Для завершения регистрации пользователи не только вводят пригласительный код, но и подтверждают свои персональные данны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ействуют личные настройки приватност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ждый пользователь может сам выбрать кому и какую информацию о себе показывать, но внутри школы администратор всегда в курсе кто и что делает. Это позволяет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контролирова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оведение детей в проекте и обезопасить их от 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нежелательно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нформаци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5600" y="-171720"/>
            <a:ext cx="7556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Главная страница школ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720" y="620280"/>
            <a:ext cx="9001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главной странице школы в Дневнике доступны краткая информация о школе, список руководства школы и администраторов Дневника, последние новости, форумы, загруженные файлы, интерактивные страниц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996" r="3293" b="0"/>
          <a:stretch/>
        </p:blipFill>
        <p:spPr>
          <a:xfrm>
            <a:off x="1763640" y="1884240"/>
            <a:ext cx="67690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6336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Расписание урок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Респисание класса"/>
          <p:cNvPicPr/>
          <p:nvPr/>
        </p:nvPicPr>
        <p:blipFill>
          <a:blip r:embed="rId1"/>
          <a:srcRect l="0" t="17942" r="9415" b="7880"/>
          <a:stretch/>
        </p:blipFill>
        <p:spPr>
          <a:xfrm>
            <a:off x="1692360" y="1898640"/>
            <a:ext cx="6048360" cy="489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549360"/>
            <a:ext cx="85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писание уроков поддерживает следующие типы отчетных периодов: четверти, триместры, семестры и модули. Расписание выводится на весь отчетный период. Цветом выделяются замены, переносы и отмены уроков. По каждому уроку можно посмотреть более детальную информ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Электронный журнал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836640"/>
            <a:ext cx="849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ителя в Дневнике могут выставлять оценки в тех классах, в которых они преподают, а при наличии административных прав - в любом классе школы. Классный руководитель имеет право выставлять оценки в своём классе по всем 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ступны различные ведомости и отчеты по успеваемости как всего класса, так и отдельных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ханизм выставления оценок сделан максимально наглядным и удоб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Электронный журнал в Дневника"/>
          <p:cNvPicPr/>
          <p:nvPr/>
        </p:nvPicPr>
        <p:blipFill>
          <a:blip r:embed="rId1"/>
          <a:srcRect l="4446" t="52521" r="3251" b="1429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68360" y="18900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ЖУР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1412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Электронный днев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035000"/>
            <a:ext cx="81723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ждому ученику в Дневнике доступны все выставленные ему оценки по предметам и комментарии учителей, домашнее задание, файлы к нем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жно просмотреть оценки по предметам за определенный период (неделя, четверть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23:50:03Z</dcterms:created>
  <dc:creator>1</dc:creator>
  <dc:description/>
  <dc:language>en-US</dc:language>
  <cp:lastModifiedBy>1</cp:lastModifiedBy>
  <dcterms:modified xsi:type="dcterms:W3CDTF">2011-10-07T01:15:11Z</dcterms:modified>
  <cp:revision>10</cp:revision>
  <dc:subject/>
  <dc:title>Единая образовательная сеть «Дневник.ру»</dc:title>
</cp:coreProperties>
</file>