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F95-73DC-4BB9-A312-3ACE3814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DCB-ADDA-4663-B5D8-F09A588E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0D5-6B85-4EA1-8B03-E3C93ADE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5BB-B2AE-4C30-BDAA-408D0A59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7791-8EAE-44D4-80C6-DBBA5F58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F4CA-2ED1-459E-B630-33FED42C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0F6E-3E19-422F-B869-F30F2CA1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0243-BA96-4D35-89DA-8FB5D220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E3A9-9C7A-424B-BD4C-A20C777E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81D5-FF87-450B-A247-FB35FDA6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1C9A-A8B2-4DD2-919A-4A7068F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F94-0536-41DB-9A5C-0334C38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83D4-FD35-48E1-BEAC-EEA8E8F1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2718-099E-45C5-B6AD-4F2A641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90EA-A40B-4222-9DD3-4ED73B8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02FC-0807-4AF6-9038-780B832D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514-11E8-4183-BAD4-D20CD0C5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C94-B513-4229-B0BE-557DF415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F97-A1FE-4FFA-AA7A-B1815A12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70B-23B0-478B-BC7B-640F4A59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5EE-F27F-42BE-9FB4-28CD94B3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555-F4A2-4D40-B812-045F3634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534-3C74-4FCF-828F-C3310E32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759-AEB1-4B59-9582-6342739E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6C93-2D94-4DD9-8939-B16E683742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15E8-0E55-4FA4-A350-CAA2409C5F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50920" y="189000"/>
            <a:ext cx="8280360" cy="71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ЙЛЫ 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ЙЛОВ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1042920" y="260280"/>
            <a:ext cx="53294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ДЫХАЙ-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60640" y="2347920"/>
            <a:ext cx="868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диске С: в папке «Работа» создать папку «Задание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этой же папке «Работа» создать текстовый файл «Проверка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местить файл «Проверка» в папку «Задание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пировать папку «Задание» ярлык «Мои документы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рыть папку «Задание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именовать папку «Задание» в папку «Обучение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900000" y="981000"/>
            <a:ext cx="727236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4"/>
          <p:cNvGrpSpPr/>
          <p:nvPr/>
        </p:nvGrpSpPr>
        <p:grpSpPr>
          <a:xfrm>
            <a:off x="0" y="2997360"/>
            <a:ext cx="8604360" cy="1028520"/>
            <a:chOff x="0" y="2997360"/>
            <a:chExt cx="8604360" cy="1028520"/>
          </a:xfrm>
        </p:grpSpPr>
        <p:sp>
          <p:nvSpPr>
            <p:cNvPr id="111" name="AutoShape 5"/>
            <p:cNvSpPr/>
            <p:nvPr/>
          </p:nvSpPr>
          <p:spPr>
            <a:xfrm>
              <a:off x="0" y="2997360"/>
              <a:ext cx="860436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0" y="3079800"/>
              <a:ext cx="86043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C:\Рисунки\Природа\Небо.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mp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C:\Рисунки\Природа\Снег.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mp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C:\Рисунки\Компьютер\Монитор.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mp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C:\Мои документы\Доклад.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WordArt 7"/>
          <p:cNvSpPr txBox="1"/>
          <p:nvPr/>
        </p:nvSpPr>
        <p:spPr>
          <a:xfrm>
            <a:off x="395280" y="836640"/>
            <a:ext cx="80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УДОЖ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файловая-сис2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4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427680" y="1409760"/>
            <a:ext cx="86158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В пап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ga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ходятся фай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ex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b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a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game.wa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в котором может быть записана инструкция к игр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в котором может храниться заставка к иг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который нужно открыть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запустить игр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в котором может быть записа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онный ролик к иг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файл, в котором может быть записан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льное сопровождение к иг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684360" y="0"/>
            <a:ext cx="806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ОБРАЖАЙ-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535320" y="304920"/>
            <a:ext cx="8006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Отдели имена файлов от имен папок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авильные имена пропуска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.txt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*2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doc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.jpg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.do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756360" y="905760"/>
            <a:ext cx="7905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–) – радостное лиц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;–) – подмигивающая улыбк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0) – клоун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: –) – маленькая девоч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1800" y="726480"/>
            <a:ext cx="937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– ) – те, кто считает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хорошо понял тему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работал на уроке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– ? – те, кто считает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недостаточно хорошо понял тему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аботал на уроке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– ( – те, кто считает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ему еще много нужн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над данной темой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9280" y="212904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аких частей состоит имя файл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расширение файл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расширение обычно имеют текстовые файл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пк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талог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действия можно выполнять с файлами и папкам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придумывает собственное имя файла? Какие ограниче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ает расширение файлу? На что указывает расширени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служат пап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258920" y="0"/>
            <a:ext cx="720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179280" y="1848240"/>
            <a:ext cx="896472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действие с файлами и папками (8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йствие с файлами и папками (8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ействие с файлами и папками (11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йствие с файлами и папками (11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ействие с файлами и папками (8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атрибут папки и файла (3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трибут файла (3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афическое представление объекта (6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указатель на объект (5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именная область на диске (4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есто на диске для хранения файлов и папок (5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900000" y="0"/>
            <a:ext cx="741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ОЛОВОЛОМ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826920" y="549360"/>
          <a:ext cx="7848720" cy="5832360"/>
        </p:xfrm>
        <a:graphic>
          <a:graphicData uri="http://schemas.openxmlformats.org/drawingml/2006/table">
            <a:tbl>
              <a:tblPr/>
              <a:tblGrid>
                <a:gridCol w="712800"/>
                <a:gridCol w="714600"/>
                <a:gridCol w="712800"/>
                <a:gridCol w="714240"/>
                <a:gridCol w="712800"/>
                <a:gridCol w="714240"/>
                <a:gridCol w="712800"/>
                <a:gridCol w="714600"/>
                <a:gridCol w="712800"/>
                <a:gridCol w="714240"/>
                <a:gridCol w="712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42920" y="335880"/>
            <a:ext cx="7850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ткры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и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начо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ап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258920" y="1628640"/>
          <a:ext cx="7128000" cy="4869000"/>
        </p:xfrm>
        <a:graphic>
          <a:graphicData uri="http://schemas.openxmlformats.org/drawingml/2006/table">
            <a:tbl>
              <a:tblPr/>
              <a:tblGrid>
                <a:gridCol w="3565440"/>
                <a:gridCol w="35625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емые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-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(текст) программы на языках программ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, gif, jpg, png, p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  <p:sp>
        <p:nvSpPr>
          <p:cNvPr id="93" name="WordArt 103"/>
          <p:cNvSpPr txBox="1"/>
          <p:nvPr/>
        </p:nvSpPr>
        <p:spPr>
          <a:xfrm>
            <a:off x="755640" y="0"/>
            <a:ext cx="720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ГАДАЙ-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емые программ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ые файл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 файл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-страниц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е файл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do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айл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(текст) программы на языках программирова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, gif, jpg, png, pd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39"/>
          <p:cNvSpPr/>
          <p:nvPr/>
        </p:nvSpPr>
        <p:spPr>
          <a:xfrm rot="3427800">
            <a:off x="1725480" y="4327200"/>
            <a:ext cx="3887640" cy="246240"/>
          </a:xfrm>
          <a:prstGeom prst="leftRightArrow">
            <a:avLst>
              <a:gd name="adj1" fmla="val 50000"/>
              <a:gd name="adj2" fmla="val 31429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40"/>
          <p:cNvSpPr/>
          <p:nvPr/>
        </p:nvSpPr>
        <p:spPr>
          <a:xfrm rot="4371600">
            <a:off x="1690560" y="3213000"/>
            <a:ext cx="4608360" cy="287280"/>
          </a:xfrm>
          <a:prstGeom prst="leftRightArrow">
            <a:avLst>
              <a:gd name="adj1" fmla="val 50000"/>
              <a:gd name="adj2" fmla="val 3193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1"/>
          <p:cNvSpPr/>
          <p:nvPr/>
        </p:nvSpPr>
        <p:spPr>
          <a:xfrm rot="3427800">
            <a:off x="1942560" y="2993760"/>
            <a:ext cx="3529080" cy="360360"/>
          </a:xfrm>
          <a:prstGeom prst="leftRightArrow">
            <a:avLst>
              <a:gd name="adj1" fmla="val 50000"/>
              <a:gd name="adj2" fmla="val 19495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42"/>
          <p:cNvSpPr/>
          <p:nvPr/>
        </p:nvSpPr>
        <p:spPr>
          <a:xfrm rot="18636600">
            <a:off x="1863000" y="2329560"/>
            <a:ext cx="3456000" cy="317520"/>
          </a:xfrm>
          <a:prstGeom prst="leftRightArrow">
            <a:avLst>
              <a:gd name="adj1" fmla="val 50000"/>
              <a:gd name="adj2" fmla="val 21667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43"/>
          <p:cNvSpPr/>
          <p:nvPr/>
        </p:nvSpPr>
        <p:spPr>
          <a:xfrm rot="19124400">
            <a:off x="2411280" y="3429000"/>
            <a:ext cx="2664000" cy="289080"/>
          </a:xfrm>
          <a:prstGeom prst="leftRightArrow">
            <a:avLst>
              <a:gd name="adj1" fmla="val 50000"/>
              <a:gd name="adj2" fmla="val 183456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44"/>
          <p:cNvSpPr/>
          <p:nvPr/>
        </p:nvSpPr>
        <p:spPr>
          <a:xfrm rot="19117200">
            <a:off x="2359080" y="4368600"/>
            <a:ext cx="2744640" cy="291960"/>
          </a:xfrm>
          <a:prstGeom prst="leftRightArrow">
            <a:avLst>
              <a:gd name="adj1" fmla="val 50000"/>
              <a:gd name="adj2" fmla="val 18714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45"/>
          <p:cNvSpPr/>
          <p:nvPr/>
        </p:nvSpPr>
        <p:spPr>
          <a:xfrm rot="17513400">
            <a:off x="2289960" y="4179960"/>
            <a:ext cx="4869000" cy="390600"/>
          </a:xfrm>
          <a:prstGeom prst="leftRightArrow">
            <a:avLst>
              <a:gd name="adj1" fmla="val 50000"/>
              <a:gd name="adj2" fmla="val 2481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файловая-система"/>
          <p:cNvPicPr/>
          <p:nvPr/>
        </p:nvPicPr>
        <p:blipFill>
          <a:blip r:embed="rId1"/>
          <a:stretch/>
        </p:blipFill>
        <p:spPr>
          <a:xfrm>
            <a:off x="1332000" y="766800"/>
            <a:ext cx="7812000" cy="5124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 rot="5400000">
            <a:off x="-1764720" y="249300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ЭРУ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"/>
          <p:cNvGrpSpPr/>
          <p:nvPr/>
        </p:nvGrpSpPr>
        <p:grpSpPr>
          <a:xfrm>
            <a:off x="250920" y="1341360"/>
            <a:ext cx="8388360" cy="3080160"/>
            <a:chOff x="250920" y="1341360"/>
            <a:chExt cx="8388360" cy="3080160"/>
          </a:xfrm>
        </p:grpSpPr>
        <p:sp>
          <p:nvSpPr>
            <p:cNvPr id="105" name="AutoShape 5"/>
            <p:cNvSpPr/>
            <p:nvPr/>
          </p:nvSpPr>
          <p:spPr>
            <a:xfrm>
              <a:off x="250920" y="1341360"/>
              <a:ext cx="8388360" cy="12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250920" y="1341360"/>
              <a:ext cx="8388360" cy="3080160"/>
            </a:xfrm>
            <a:prstGeom prst="rect">
              <a:avLst/>
            </a:prstGeom>
            <a:solidFill>
              <a:srgbClr val="e2f3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C:\Мои документы\Иванов\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Basic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.ех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C:\Мои документы\Петров\Письмо.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xt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C:\Мои документы\Петров\Рисунки\Море.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m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C:\Фильмы\Интересный фильм.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vi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24:28Z</dcterms:created>
  <dc:creator>Евгений</dc:creator>
  <dc:description/>
  <dc:language>en-US</dc:language>
  <cp:lastModifiedBy>User</cp:lastModifiedBy>
  <dcterms:modified xsi:type="dcterms:W3CDTF">2015-06-19T16:59:48Z</dcterms:modified>
  <cp:revision>3</cp:revision>
  <dc:subject/>
  <dc:title>Слайд 1</dc:title>
</cp:coreProperties>
</file>