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472-282E-4FDF-9473-9C4EA708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A36-97BB-4725-A9AA-B4B21A4C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7AF-463A-45F7-9F3A-84CF24F4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436-86D0-43DD-862C-6C2E7EDD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EBE9-DC65-4EC9-A1B8-D50728E4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3DB1-0B9E-4819-8C06-3055619A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7E5E-C2C5-42EE-BF19-775F11B1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442A-A690-4571-9729-E46F8566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6157-A110-4011-964C-AF8D456B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2682-0E50-48FF-B665-A115C823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2718-5556-4618-8E7C-C99CC377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F03-C56E-4F52-B517-36C3D098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B795-FEDB-4975-8FAA-DDE41594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857E-430C-4794-A334-D651C7DF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E515-D701-4FDC-8E26-07837123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8F49-A92C-4BD4-8AE9-7B438148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6FA3-F286-48A1-9808-F63A2828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459-9C83-4E20-B6A3-91776DB2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830-E534-4A8E-AA6A-D7DA56EC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864-12C9-45D1-B5CD-27602F67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5FA-28F3-470B-B22D-2BA97D3D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C3E-D249-4E41-A144-A853521B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699-75E1-4706-86D7-BECCBDAE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822-E5BB-40A3-8A33-3D2C624F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8f1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E068-5CD4-4160-9968-E74D390CD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8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7636-D357-48C0-8425-C218C9E075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38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Verdana"/>
              </a:rPr>
              <a:t>  </a:t>
            </a:r>
            <a:r>
              <a:rPr b="1" lang="ru-RU" sz="8000" spc="-1" strike="noStrike">
                <a:solidFill>
                  <a:srgbClr val="ffffb7"/>
                </a:solidFill>
                <a:latin typeface="Verdana"/>
              </a:rPr>
              <a:t>Фотосинтез</a:t>
            </a:r>
            <a:endParaRPr b="1" lang="en-US" sz="80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92000" y="3645000"/>
            <a:ext cx="7272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Monotype Corsiva"/>
              </a:rPr>
              <a:t>Выполнил :</a:t>
            </a:r>
            <a:r>
              <a:rPr b="1" lang="ru-RU" sz="21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Monotype Corsiva"/>
              </a:rPr>
              <a:t>Ученик МБОУ СОШ № 22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Monotype Corsiva"/>
              </a:rPr>
              <a:t>Городского округа Самара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bdb00"/>
                </a:solidFill>
                <a:latin typeface="Monotype Corsiva"/>
              </a:rPr>
              <a:t>             </a:t>
            </a:r>
            <a:r>
              <a:rPr b="1" lang="ru-RU" sz="3000" spc="-1" strike="noStrike">
                <a:solidFill>
                  <a:srgbClr val="dbdb00"/>
                </a:solidFill>
                <a:latin typeface="Monotype Corsiva"/>
              </a:rPr>
              <a:t>Саврасов  Антон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Monotype Corsiva"/>
              </a:rPr>
              <a:t>Руководитель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Monotype Corsiva"/>
              </a:rPr>
              <a:t>Учитель биологии и географи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bdb00"/>
                </a:solidFill>
                <a:latin typeface="Monotype Corsiva"/>
              </a:rPr>
              <a:t>Ларцева Ольга Вячеславовна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7" descr="rassada_10494934"/>
          <p:cNvPicPr/>
          <p:nvPr/>
        </p:nvPicPr>
        <p:blipFill>
          <a:blip r:embed="rId1"/>
          <a:stretch/>
        </p:blipFill>
        <p:spPr>
          <a:xfrm>
            <a:off x="826920" y="1916280"/>
            <a:ext cx="5158080" cy="3143160"/>
          </a:xfrm>
          <a:prstGeom prst="rect">
            <a:avLst/>
          </a:prstGeom>
          <a:ln w="76320">
            <a:solidFill>
              <a:srgbClr val="7dff7d"/>
            </a:solidFill>
            <a:miter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Заголовок 4"/>
          <p:cNvGrpSpPr/>
          <p:nvPr/>
        </p:nvGrpSpPr>
        <p:grpSpPr>
          <a:xfrm>
            <a:off x="785880" y="1139760"/>
            <a:ext cx="7645320" cy="4578480"/>
            <a:chOff x="785880" y="1139760"/>
            <a:chExt cx="7645320" cy="4578480"/>
          </a:xfrm>
        </p:grpSpPr>
        <p:pic>
          <p:nvPicPr>
            <p:cNvPr id="129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785880" y="1139760"/>
              <a:ext cx="7645320" cy="45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85880" y="1143000"/>
              <a:ext cx="7643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0" spc="-1" strike="noStrike">
                  <a:solidFill>
                    <a:srgbClr val="ffffb7"/>
                  </a:solidFill>
                  <a:latin typeface="Verdana"/>
                </a:rPr>
                <a:t> </a:t>
              </a:r>
              <a:r>
                <a:rPr b="1" lang="ru-RU" sz="8000" spc="-1" strike="noStrike">
                  <a:solidFill>
                    <a:srgbClr val="006600"/>
                  </a:solidFill>
                  <a:latin typeface="Verdana"/>
                </a:rPr>
                <a:t>Где происходит     фотосинтез? 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Фотосинтез происходит в клетках, содержащих зелёный пигмент – </a:t>
            </a:r>
            <a:r>
              <a:rPr b="1" lang="ru-RU" sz="40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хлорофилл</a:t>
            </a:r>
            <a:r>
              <a:rPr b="1" lang="ru-RU" sz="24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 - "зеленая кровь" мира растений.</a:t>
            </a:r>
            <a:br>
              <a:rPr sz="2400"/>
            </a:br>
            <a:r>
              <a:rPr b="1" lang="ru-RU" sz="24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 Хлорофилл осуществляет фотосинтез, преобразуя энергию солнечного света для формирования материи.</a:t>
            </a:r>
            <a:endParaRPr b="1" lang="en-US" sz="2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500440" y="4428720"/>
            <a:ext cx="35002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Times New Roman"/>
                <a:ea typeface="Times New Roman"/>
              </a:rPr>
              <a:t>У растений хлорофилл содержится в специальных органеллах – </a:t>
            </a:r>
            <a:r>
              <a:rPr b="1" lang="ru-RU" sz="3600" spc="-1" strike="noStrike" u="sng">
                <a:solidFill>
                  <a:srgbClr val="00cc00"/>
                </a:solidFill>
                <a:uFillTx/>
                <a:latin typeface="Times New Roman"/>
                <a:ea typeface="Times New Roman"/>
              </a:rPr>
              <a:t>Хлоропласт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2" descr="%D0%A5%D0%BB%D0%BE%D1%80%D0%BE%D0%BF%D0%BB%D0%B0%D1%81%D1%821"/>
          <p:cNvPicPr/>
          <p:nvPr/>
        </p:nvPicPr>
        <p:blipFill>
          <a:blip r:embed="rId1"/>
          <a:stretch/>
        </p:blipFill>
        <p:spPr>
          <a:xfrm>
            <a:off x="285840" y="1928880"/>
            <a:ext cx="5143320" cy="4786200"/>
          </a:xfrm>
          <a:prstGeom prst="rect">
            <a:avLst/>
          </a:prstGeom>
          <a:ln w="76320">
            <a:solidFill>
              <a:srgbClr val="004d00"/>
            </a:solidFill>
            <a:miter/>
          </a:ln>
        </p:spPr>
      </p:pic>
      <p:pic>
        <p:nvPicPr>
          <p:cNvPr id="134" name="Picture 3" descr="kholorophil_1-e1369711283603"/>
          <p:cNvPicPr/>
          <p:nvPr/>
        </p:nvPicPr>
        <p:blipFill>
          <a:blip r:embed="rId2"/>
          <a:stretch/>
        </p:blipFill>
        <p:spPr>
          <a:xfrm>
            <a:off x="5786280" y="1928880"/>
            <a:ext cx="3143520" cy="2286000"/>
          </a:xfrm>
          <a:prstGeom prst="rect">
            <a:avLst/>
          </a:prstGeom>
          <a:ln w="76320">
            <a:solidFill>
              <a:srgbClr val="004d00"/>
            </a:solidFill>
            <a:miter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Заголовок 4"/>
          <p:cNvGrpSpPr/>
          <p:nvPr/>
        </p:nvGrpSpPr>
        <p:grpSpPr>
          <a:xfrm>
            <a:off x="500040" y="1785960"/>
            <a:ext cx="8345520" cy="3571920"/>
            <a:chOff x="500040" y="1785960"/>
            <a:chExt cx="8345520" cy="3571920"/>
          </a:xfrm>
        </p:grpSpPr>
        <p:pic>
          <p:nvPicPr>
            <p:cNvPr id="136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500040" y="1785960"/>
              <a:ext cx="8345520" cy="35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00040" y="1785960"/>
              <a:ext cx="834228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400" spc="-1" strike="noStrike">
                  <a:solidFill>
                    <a:srgbClr val="005d00"/>
                  </a:solidFill>
                  <a:latin typeface="Verdana"/>
                </a:rPr>
                <a:t>Фазы фотосинтеза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%D0%A4%D0%BE%D1%82%D0%BE%D1%81%D0%B8%D0%BD%D1%82%D0%B5%D0%B7-%D0%BE%D0%B1%D1%89%D0%B0%D1%8F-%D1%81%D1%85%D0%B5%D0%BC%D0%B0-%D0%BF%D1%80%D0%BE%D1%86%D0%B5%D1%81%D1%81%D0%B0"/>
          <p:cNvPicPr/>
          <p:nvPr/>
        </p:nvPicPr>
        <p:blipFill>
          <a:blip r:embed="rId1"/>
          <a:stretch/>
        </p:blipFill>
        <p:spPr>
          <a:xfrm>
            <a:off x="928800" y="142920"/>
            <a:ext cx="7286400" cy="3500280"/>
          </a:xfrm>
          <a:prstGeom prst="rect">
            <a:avLst/>
          </a:prstGeom>
          <a:ln w="9360">
            <a:solidFill>
              <a:srgbClr val="3cff3c"/>
            </a:solidFill>
            <a:miter/>
          </a:ln>
        </p:spPr>
      </p:pic>
      <p:pic>
        <p:nvPicPr>
          <p:cNvPr id="139" name="Picture 3" descr="82e2bfb0_1a29_0131_1008_22000aa81b95"/>
          <p:cNvPicPr/>
          <p:nvPr/>
        </p:nvPicPr>
        <p:blipFill>
          <a:blip r:embed="rId2"/>
          <a:stretch/>
        </p:blipFill>
        <p:spPr>
          <a:xfrm>
            <a:off x="1571760" y="3929040"/>
            <a:ext cx="5715000" cy="2786040"/>
          </a:xfrm>
          <a:prstGeom prst="rect">
            <a:avLst/>
          </a:prstGeom>
          <a:ln w="76320">
            <a:solidFill>
              <a:srgbClr val="3cff3c"/>
            </a:solidFill>
            <a:miter/>
          </a:ln>
        </p:spPr>
      </p:pic>
      <p:sp>
        <p:nvSpPr>
          <p:cNvPr id="140" name="Выгнутая вправо стрелка 7"/>
          <p:cNvSpPr/>
          <p:nvPr/>
        </p:nvSpPr>
        <p:spPr>
          <a:xfrm>
            <a:off x="6929280" y="3571920"/>
            <a:ext cx="1143000" cy="30718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660600 h 3071880"/>
              <a:gd name="textAreaBottom" fmla="*/ 226836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93" stAng="-5400000" swAng="5400000"/>
                <a:lnTo>
                  <a:pt x="21600" y="11302"/>
                </a:lnTo>
                <a:arcTo wR="21600" hR="9293" stAng="0" swAng="3541822"/>
                <a:lnTo>
                  <a:pt x="5400" y="21305"/>
                </a:lnTo>
                <a:lnTo>
                  <a:pt x="0" y="19591"/>
                </a:lnTo>
                <a:lnTo>
                  <a:pt x="5400" y="17286"/>
                </a:lnTo>
                <a:lnTo>
                  <a:pt x="5400" y="18291"/>
                </a:lnTo>
                <a:arcTo wR="21600" hR="9293" stAng="3541822" swAng="-3381126"/>
                <a:lnTo>
                  <a:pt x="21473" y="10298"/>
                </a:lnTo>
                <a:arcTo wR="21600" hR="9293" stAng="-160696" swAng="-5239304"/>
                <a:close/>
              </a:path>
              <a:path fill="darkenLess" w="21600" h="21600">
                <a:moveTo>
                  <a:pt x="0" y="0"/>
                </a:moveTo>
                <a:arcTo wR="21600" hR="9293" stAng="-5400000" swAng="5400000"/>
                <a:lnTo>
                  <a:pt x="21600" y="11302"/>
                </a:lnTo>
                <a:arcTo wR="21600" hR="9293" stAng="0" swAng="-160696"/>
                <a:lnTo>
                  <a:pt x="21473" y="10298"/>
                </a:lnTo>
                <a:arcTo wR="21600" hR="9293" stAng="-160696" swAng="-5239304"/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Выгнутая влево стрелка 14"/>
          <p:cNvSpPr/>
          <p:nvPr/>
        </p:nvSpPr>
        <p:spPr>
          <a:xfrm>
            <a:off x="3286080" y="6286680"/>
            <a:ext cx="46080" cy="45720"/>
          </a:xfrm>
          <a:custGeom>
            <a:avLst/>
            <a:gdLst>
              <a:gd name="textAreaLeft" fmla="*/ 6120 w 46080"/>
              <a:gd name="textAreaRight" fmla="*/ 39960 w 46080"/>
              <a:gd name="textAreaTop" fmla="*/ 7200 h 45720"/>
              <a:gd name="textAreaBottom" fmla="*/ 33120 h 4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026114"/>
                <a:lnTo>
                  <a:pt x="16200" y="21386"/>
                </a:lnTo>
                <a:lnTo>
                  <a:pt x="21600" y="16200"/>
                </a:lnTo>
                <a:lnTo>
                  <a:pt x="16200" y="10586"/>
                </a:lnTo>
                <a:lnTo>
                  <a:pt x="16200" y="13286"/>
                </a:lnTo>
                <a:arcTo wR="21600" hR="6750" stAng="7773886" swAng="2560128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лево стрелка 17"/>
          <p:cNvSpPr/>
          <p:nvPr/>
        </p:nvSpPr>
        <p:spPr>
          <a:xfrm>
            <a:off x="1857240" y="3643200"/>
            <a:ext cx="1214640" cy="2857680"/>
          </a:xfrm>
          <a:custGeom>
            <a:avLst/>
            <a:gdLst>
              <a:gd name="textAreaLeft" fmla="*/ 162720 w 1214640"/>
              <a:gd name="textAreaRight" fmla="*/ 1051920 w 1214640"/>
              <a:gd name="textAreaTop" fmla="*/ 600480 h 2857680"/>
              <a:gd name="textAreaBottom" fmla="*/ 2105640 h 285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79" stAng="-5400000" swAng="-5400000"/>
                <a:lnTo>
                  <a:pt x="0" y="11375"/>
                </a:lnTo>
                <a:arcTo wR="21600" hR="9079" stAng="10800000" swAng="-3506208"/>
                <a:lnTo>
                  <a:pt x="16200" y="21312"/>
                </a:lnTo>
                <a:lnTo>
                  <a:pt x="21600" y="19305"/>
                </a:lnTo>
                <a:lnTo>
                  <a:pt x="16200" y="16722"/>
                </a:lnTo>
                <a:lnTo>
                  <a:pt x="16200" y="17869"/>
                </a:lnTo>
                <a:arcTo wR="21600" hR="9079" stAng="7293792" swAng="3322195"/>
                <a:lnTo>
                  <a:pt x="173" y="10227"/>
                </a:lnTo>
                <a:arcTo wR="21600" hR="9079" stAng="-10615988" swAng="5215988"/>
                <a:close/>
              </a:path>
              <a:path fill="darkenLess" w="21600" h="21600">
                <a:moveTo>
                  <a:pt x="21600" y="0"/>
                </a:moveTo>
                <a:arcTo wR="21600" hR="9079" stAng="-5400000" swAng="-5400000"/>
                <a:lnTo>
                  <a:pt x="0" y="9079"/>
                </a:lnTo>
                <a:arcTo wR="21600" hR="9079" stAng="10800000" swAng="-184012"/>
                <a:lnTo>
                  <a:pt x="173" y="10227"/>
                </a:lnTo>
                <a:arcTo wR="21600" hR="9079" stAng="-10615988" swAng="5215988"/>
                <a:close/>
              </a:path>
            </a:pathLst>
          </a:custGeom>
          <a:solidFill>
            <a:srgbClr val="dbdb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lide_27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76320">
            <a:solidFill>
              <a:srgbClr val="004d00"/>
            </a:solidFill>
            <a:miter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478656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b00"/>
                </a:solidFill>
                <a:latin typeface="Verdana"/>
              </a:rPr>
              <a:t>Спасибо Вам за внимание</a:t>
            </a:r>
            <a:endParaRPr b="1" lang="en-US" sz="6000" spc="-1" strike="noStrike">
              <a:solidFill>
                <a:srgbClr val="ffffb7"/>
              </a:solidFill>
              <a:latin typeface="Verdana"/>
            </a:endParaRPr>
          </a:p>
        </p:txBody>
      </p:sp>
      <p:pic>
        <p:nvPicPr>
          <p:cNvPr id="145" name="Рисунок 2" descr="http://aquan.ru/uploads/posts/2010-02/1266845157_svet-v-akvariume.jpg"/>
          <p:cNvPicPr/>
          <p:nvPr/>
        </p:nvPicPr>
        <p:blipFill>
          <a:blip r:embed="rId1"/>
          <a:stretch/>
        </p:blipFill>
        <p:spPr>
          <a:xfrm>
            <a:off x="4929120" y="714240"/>
            <a:ext cx="3929040" cy="592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42920" y="4929120"/>
            <a:ext cx="8858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4a"/>
                </a:solidFill>
                <a:uFillTx/>
                <a:latin typeface="Times New Roman"/>
                <a:ea typeface="Times New Roman"/>
              </a:rPr>
              <a:t>В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– важнейшее для живого организма вещество. С током воды растворённые в ней питательные вещества переносятся ко всем органам. Насыщенность водой придаёт растению упругость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ffff4a"/>
                </a:solidFill>
                <a:latin typeface="Times New Roman"/>
                <a:ea typeface="Times New Roman"/>
              </a:rPr>
              <a:t>Даже фотосинтез невозможен без воды.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Рисунок 11" descr="6-32_Himsostav2"/>
          <p:cNvPicPr/>
          <p:nvPr/>
        </p:nvPicPr>
        <p:blipFill>
          <a:blip r:embed="rId1"/>
          <a:stretch/>
        </p:blipFill>
        <p:spPr>
          <a:xfrm>
            <a:off x="285840" y="357120"/>
            <a:ext cx="8643960" cy="4286160"/>
          </a:xfrm>
          <a:prstGeom prst="rect">
            <a:avLst/>
          </a:prstGeom>
          <a:ln w="76320">
            <a:solidFill>
              <a:srgbClr val="00b900"/>
            </a:solidFill>
            <a:miter/>
          </a:ln>
        </p:spPr>
      </p:pic>
      <p:cxnSp>
        <p:nvCxnSpPr>
          <p:cNvPr id="103" name="Скругленная соединительная линия 14"/>
          <p:cNvCxnSpPr/>
          <p:nvPr/>
        </p:nvCxnSpPr>
        <p:spPr>
          <a:xfrm flipV="1" rot="10800000">
            <a:off x="1071000" y="4285080"/>
            <a:ext cx="2286720" cy="7153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57240">
            <a:solidFill>
              <a:srgbClr val="dbdb00"/>
            </a:solidFill>
            <a:miter/>
            <a:headEnd len="med" type="arrow" w="med"/>
            <a:tailEnd len="med" type="arrow" w="med"/>
          </a:ln>
        </p:spPr>
      </p:cxn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4200" y="244080"/>
            <a:ext cx="878688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900"/>
                </a:solidFill>
                <a:latin typeface="Times New Roman"/>
                <a:ea typeface="Times New Roman"/>
              </a:rPr>
              <a:t>Фотосинтез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– процесс превращения углекислого газа и воды в углеводы и кислород под действием энергии солнечного света. </a:t>
            </a:r>
            <a:endParaRPr b="1" lang="en-US" sz="28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5786280"/>
            <a:ext cx="84996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Образующиеся углеводы используются в качестве пищи, а кислород поступает в атмосфер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Содержимое 8" descr="фотосинтез"/>
          <p:cNvPicPr/>
          <p:nvPr/>
        </p:nvPicPr>
        <p:blipFill>
          <a:blip r:embed="rId1"/>
          <a:stretch/>
        </p:blipFill>
        <p:spPr>
          <a:xfrm>
            <a:off x="928800" y="1928880"/>
            <a:ext cx="7786440" cy="38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Заголовок 4"/>
          <p:cNvGrpSpPr/>
          <p:nvPr/>
        </p:nvGrpSpPr>
        <p:grpSpPr>
          <a:xfrm>
            <a:off x="858960" y="927000"/>
            <a:ext cx="7357680" cy="3857400"/>
            <a:chOff x="858960" y="927000"/>
            <a:chExt cx="7357680" cy="3857400"/>
          </a:xfrm>
        </p:grpSpPr>
        <p:pic>
          <p:nvPicPr>
            <p:cNvPr id="108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860400" y="927000"/>
              <a:ext cx="7356240" cy="385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58960" y="928440"/>
              <a:ext cx="7356240" cy="38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b7"/>
                  </a:solidFill>
                  <a:latin typeface="Verdana"/>
                </a:rPr>
                <a:t>   </a:t>
              </a:r>
              <a:r>
                <a:rPr b="1" lang="ru-RU" sz="9000" spc="-1" strike="noStrike">
                  <a:solidFill>
                    <a:srgbClr val="00b050"/>
                  </a:solidFill>
                  <a:latin typeface="Verdana"/>
                </a:rPr>
                <a:t>История открытия</a:t>
              </a:r>
              <a:endParaRPr b="0" lang="en-US" sz="9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ервым обнаружил, что растения выделяют кислород, английский химик </a:t>
            </a:r>
            <a:r>
              <a:rPr b="1" lang="ru-RU" sz="44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Джозеф Пристли </a:t>
            </a:r>
            <a:r>
              <a:rPr b="1" lang="ru-RU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около 1770. </a:t>
            </a:r>
            <a:endParaRPr b="1" lang="en-US" sz="3200" spc="-1" strike="noStrike">
              <a:solidFill>
                <a:srgbClr val="ffffb7"/>
              </a:solidFill>
              <a:latin typeface="Verdana"/>
            </a:endParaRPr>
          </a:p>
        </p:txBody>
      </p:sp>
      <p:pic>
        <p:nvPicPr>
          <p:cNvPr id="111" name="Содержимое 5" descr="250px-JPriestley_Portrait"/>
          <p:cNvPicPr/>
          <p:nvPr/>
        </p:nvPicPr>
        <p:blipFill>
          <a:blip r:embed="rId1"/>
          <a:stretch/>
        </p:blipFill>
        <p:spPr>
          <a:xfrm>
            <a:off x="3000240" y="2071800"/>
            <a:ext cx="3357720" cy="4572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840" y="785880"/>
            <a:ext cx="8628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1817 г. два французских химика выделили из листьев зеленое вещество и назвали его </a:t>
            </a:r>
            <a:r>
              <a:rPr b="1" lang="ru-RU" sz="4800" spc="-1" strike="noStrike">
                <a:solidFill>
                  <a:srgbClr val="00b900"/>
                </a:solidFill>
                <a:latin typeface="Times New Roman"/>
                <a:ea typeface="Times New Roman"/>
              </a:rPr>
              <a:t>хлорофиллом.</a:t>
            </a:r>
            <a:r>
              <a:rPr b="1" lang="ru-RU" sz="4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5928840"/>
            <a:ext cx="392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Пьер Жозеф Пельть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786200" y="5928840"/>
            <a:ext cx="405936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Жозеф Бьенеме Кавант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2" descr="Pelletier"/>
          <p:cNvPicPr/>
          <p:nvPr/>
        </p:nvPicPr>
        <p:blipFill>
          <a:blip r:embed="rId1"/>
          <a:stretch/>
        </p:blipFill>
        <p:spPr>
          <a:xfrm>
            <a:off x="928800" y="2071800"/>
            <a:ext cx="3071880" cy="37861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6" name="Picture 3" descr="Caventou"/>
          <p:cNvPicPr/>
          <p:nvPr/>
        </p:nvPicPr>
        <p:blipFill>
          <a:blip r:embed="rId2"/>
          <a:stretch/>
        </p:blipFill>
        <p:spPr>
          <a:xfrm>
            <a:off x="5357880" y="2000160"/>
            <a:ext cx="2714400" cy="39290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85760" y="1142640"/>
            <a:ext cx="50720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 1845 г. немецкий физик Юлиус Роберт Майер утверждал о том, что зеленые растения преобразуют энергию, солнечного света </a:t>
            </a:r>
            <a:br>
              <a:rPr sz="2600"/>
            </a:br>
            <a:r>
              <a:rPr b="1" lang="ru-RU" sz="2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 химическую энергию.</a:t>
            </a:r>
            <a:br>
              <a:rPr sz="2400"/>
            </a:br>
            <a:endParaRPr b="1" lang="en-US" sz="26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85760" y="3642840"/>
            <a:ext cx="535788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Picture 2" descr="Mayer"/>
          <p:cNvPicPr/>
          <p:nvPr/>
        </p:nvPicPr>
        <p:blipFill>
          <a:blip r:embed="rId1"/>
          <a:stretch/>
        </p:blipFill>
        <p:spPr>
          <a:xfrm>
            <a:off x="1285920" y="285840"/>
            <a:ext cx="2143080" cy="30002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20" name="Picture 3" descr="calvin"/>
          <p:cNvPicPr/>
          <p:nvPr/>
        </p:nvPicPr>
        <p:blipFill>
          <a:blip r:embed="rId2"/>
          <a:stretch/>
        </p:blipFill>
        <p:spPr>
          <a:xfrm>
            <a:off x="1285920" y="3643200"/>
            <a:ext cx="2143080" cy="30006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3786480" cy="6429600"/>
          </a:xfrm>
          <a:prstGeom prst="rect">
            <a:avLst/>
          </a:prstGeom>
          <a:solidFill>
            <a:srgbClr val="004d00"/>
          </a:solidFill>
          <a:ln w="76320">
            <a:solidFill>
              <a:srgbClr val="006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Живые организмы, 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для которых источником энергии служит солнечный свет называются </a:t>
            </a:r>
            <a:r>
              <a:rPr b="1" lang="ru-RU" sz="4400" spc="-1" strike="noStrike">
                <a:solidFill>
                  <a:srgbClr val="47ff47"/>
                </a:solidFill>
                <a:latin typeface="Times New Roman"/>
                <a:ea typeface="Times New Roman"/>
              </a:rPr>
              <a:t>«Фототрофы»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(от греческого «photos» -  свет 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«trophe»  - питание)</a:t>
            </a:r>
            <a:br>
              <a:rPr sz="32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pic>
        <p:nvPicPr>
          <p:cNvPr id="122" name="Рисунок 5" descr="403px-Diversity_of_plants_image_version_3"/>
          <p:cNvPicPr/>
          <p:nvPr/>
        </p:nvPicPr>
        <p:blipFill>
          <a:blip r:embed="rId1"/>
          <a:stretch/>
        </p:blipFill>
        <p:spPr>
          <a:xfrm>
            <a:off x="4214880" y="285840"/>
            <a:ext cx="4357800" cy="6286320"/>
          </a:xfrm>
          <a:prstGeom prst="rect">
            <a:avLst/>
          </a:prstGeom>
          <a:ln w="76320">
            <a:solidFill>
              <a:srgbClr val="006000"/>
            </a:solidFill>
            <a:miter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244080"/>
            <a:ext cx="885816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"Цианобактерии" </a:t>
            </a:r>
            <a:r>
              <a:rPr b="1" lang="ru-RU" sz="26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или, как их раньше называли, сине-зеленые водоросли, сыграли ключевую роль </a:t>
            </a:r>
            <a:br>
              <a:rPr sz="2600"/>
            </a:br>
            <a:r>
              <a:rPr b="1" lang="ru-RU" sz="26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в эволюции биосферы. </a:t>
            </a:r>
            <a:endParaRPr b="1" lang="en-US" sz="26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592920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Именно они изобрели наиболее оксигенный фотосинтез,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212400" indent="-2124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идущий с выделением кислорода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212400" indent="-2124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2" descr="Цианобактерия Synechococcus в процессе деления. Этот микроб днем фотосинтезирует, а ночью фиксирует атмосферный азот (фото с сайта www.lbl.gov)"/>
          <p:cNvPicPr/>
          <p:nvPr/>
        </p:nvPicPr>
        <p:blipFill>
          <a:blip r:embed="rId1"/>
          <a:stretch/>
        </p:blipFill>
        <p:spPr>
          <a:xfrm>
            <a:off x="214200" y="1428840"/>
            <a:ext cx="2500560" cy="211464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pic>
        <p:nvPicPr>
          <p:cNvPr id="126" name="Picture 3" descr="aqua1401"/>
          <p:cNvPicPr/>
          <p:nvPr/>
        </p:nvPicPr>
        <p:blipFill>
          <a:blip r:embed="rId2"/>
          <a:stretch/>
        </p:blipFill>
        <p:spPr>
          <a:xfrm>
            <a:off x="4143240" y="1857240"/>
            <a:ext cx="4643640" cy="357192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pic>
        <p:nvPicPr>
          <p:cNvPr id="127" name="Picture 4" descr="ANd9GcTjqknm_UZKD5BP19OeMV7zEVvZlNM-oI9mqFzK3NktFSWP9BnlSsPsBcS0"/>
          <p:cNvPicPr/>
          <p:nvPr/>
        </p:nvPicPr>
        <p:blipFill>
          <a:blip r:embed="rId3"/>
          <a:srcRect l="0" t="0" r="0" b="4047"/>
          <a:stretch/>
        </p:blipFill>
        <p:spPr>
          <a:xfrm>
            <a:off x="1143000" y="3857760"/>
            <a:ext cx="2714760" cy="203832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09:06:00Z</dcterms:created>
  <dc:creator>Anna</dc:creator>
  <dc:description/>
  <dc:language>en-US</dc:language>
  <cp:lastModifiedBy>Елена</cp:lastModifiedBy>
  <dcterms:modified xsi:type="dcterms:W3CDTF">2015-10-12T15:53:20Z</dcterms:modified>
  <cp:revision>56</cp:revision>
  <dc:subject/>
  <dc:title>Слайд 1</dc:title>
</cp:coreProperties>
</file>