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5B5-0AF5-4313-B849-57FADAEE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F6C-37D8-4BF1-99F1-808A8679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EE0-7451-4505-A7B1-C28549DB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3FE-8E58-40AD-BBBB-DC9292B4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73C-4372-465C-A966-3216BF1D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844-E6D5-46CC-8D99-EA1A231E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88B-9A05-4738-B12C-824D0BFD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92E-F538-46BA-BFC2-46E036C2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637-B3E2-4FA3-8600-EE560552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2CA-0BB3-475F-B6EC-B596C839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E0C-FAC7-4489-B2AA-934A3670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2FF-7900-48A7-95C0-9D7F4B18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131D-CFEF-4AC4-B693-4F62F986A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af.char.ru/books/_54000026758.jpg" TargetMode="External"/><Relationship Id="rId2" Type="http://schemas.openxmlformats.org/officeDocument/2006/relationships/hyperlink" Target="http://freelance.ru/img/portfolio/big/131736.jpg" TargetMode="External"/><Relationship Id="rId3" Type="http://schemas.openxmlformats.org/officeDocument/2006/relationships/hyperlink" Target="http://www.unde.ru/img.php?src=Ildviz3.jpg" TargetMode="External"/><Relationship Id="rId4" Type="http://schemas.openxmlformats.org/officeDocument/2006/relationships/hyperlink" Target="http://ddt-vmost.narod.ru/pdd/svet.jpg" TargetMode="External"/><Relationship Id="rId5" Type="http://schemas.openxmlformats.org/officeDocument/2006/relationships/hyperlink" Target="http://freelance.ru/img/portfolio/big/131738.jpg" TargetMode="External"/><Relationship Id="rId6" Type="http://schemas.openxmlformats.org/officeDocument/2006/relationships/hyperlink" Target="http://www.net-planet.ru/img/articles/129012.jpg" TargetMode="External"/><Relationship Id="rId7" Type="http://schemas.openxmlformats.org/officeDocument/2006/relationships/hyperlink" Target="http://www.avtocity.org/content/image/11378_1.jpg" TargetMode="External"/><Relationship Id="rId8" Type="http://schemas.openxmlformats.org/officeDocument/2006/relationships/hyperlink" Target="http://www.timeszp.com/public/upload/images/Kar_1/svetofor3.JPG" TargetMode="External"/><Relationship Id="rId9" Type="http://schemas.openxmlformats.org/officeDocument/2006/relationships/hyperlink" Target="http://www.etag.com.ua/img/news/normal/umnye-dorogi-v-stolice-pochti-real-nost-" TargetMode="External"/><Relationship Id="rId10" Type="http://schemas.openxmlformats.org/officeDocument/2006/relationships/hyperlink" Target="http://www.kp.ru/upimg/5a3e8f353c90697f8fa8aa939d18ebfb3dd46ab0/429022.jpg" TargetMode="External"/><Relationship Id="rId11" Type="http://schemas.openxmlformats.org/officeDocument/2006/relationships/hyperlink" Target="http://www.centrpro.ru/plakat/dou/znak/dou_5.jpg" TargetMode="External"/><Relationship Id="rId12" Type="http://schemas.openxmlformats.org/officeDocument/2006/relationships/hyperlink" Target="http://fio.novgorod.ru/projects/Project675/pic8.jpg" TargetMode="External"/><Relationship Id="rId13" Type="http://schemas.openxmlformats.org/officeDocument/2006/relationships/hyperlink" Target="http://www.kp.ru/upimg/photo/65161.jpg" TargetMode="External"/><Relationship Id="rId14" Type="http://schemas.openxmlformats.org/officeDocument/2006/relationships/hyperlink" Target="http://www.rotek-avto.ru/images/1(4)jpg" TargetMode="External"/><Relationship Id="rId15" Type="http://schemas.openxmlformats.org/officeDocument/2006/relationships/hyperlink" Target="http://freelance.ru/img/portfolio/big/131740.jpg" TargetMode="External"/><Relationship Id="rId16" Type="http://schemas.openxmlformats.org/officeDocument/2006/relationships/hyperlink" Target="http://www.unde.ru/img.php?src=Ildviz2.jpg" TargetMode="External"/><Relationship Id="rId17" Type="http://schemas.openxmlformats.org/officeDocument/2006/relationships/hyperlink" Target="http://www.dp59.ru/files/Image/title.jpg" TargetMode="External"/><Relationship Id="rId18" Type="http://schemas.openxmlformats.org/officeDocument/2006/relationships/hyperlink" Target="http://moikompas.ru/img/compas/2008-03-25/bezopasnost_deti/52149311_orig.jpg" TargetMode="External"/><Relationship Id="rId19" Type="http://schemas.openxmlformats.org/officeDocument/2006/relationships/hyperlink" Target="http://velopiter.spb.ru/club/foto/perekhod.jpg" TargetMode="External"/><Relationship Id="rId2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структаж по Правилам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57120" y="5915160"/>
            <a:ext cx="8569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Казань.Детский сад №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льданова Алия магсум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ldviz1"/>
          <p:cNvPicPr/>
          <p:nvPr/>
        </p:nvPicPr>
        <p:blipFill>
          <a:blip r:embed="rId2"/>
          <a:stretch/>
        </p:blipFill>
        <p:spPr>
          <a:xfrm>
            <a:off x="4392720" y="184464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0" y="0"/>
            <a:ext cx="91440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сылки на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f.char.ru/books/_5400002675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reelance.ru/img/portfolio/big/131736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nde.ru/img.php?src=Ildviz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dt-vmost.narod.ru/pdd/svet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reelance.ru/img/portfolio/big/13173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et-planet.ru/img/articles/12901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vtocity.org/content/image/11378_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timeszp.com/public/upload/images/Kar_1/svetofor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etag.com.ua/img/news/normal/umnye-dorogi-v-stolice-pochti-real-n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p.ru/upimg/5a3e8f353c90697f8fa8aa939d18ebfb3dd46ab0/42902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centrpro.ru/plakat/dou/znak/dou_5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io.novgorod.ru/projects/Project675/pic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kp.ru/upimg/photo/6516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rotek-avto.ru/images/1(4)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freelance.ru/img/portfolio/big/131740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unde.ru/img.php?src=Ildviz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dp59.ru/files/Image/title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moikompas.ru/img/compas/2008-03-25/bezopasnost_deti/52149311_orig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velopiter.spb.ru/club/foto/perekhod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chool9sko.narod.ru/pam/70000001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tavto.ru/pics/blog/big/0/25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cc-opt.kolasc.net.ru/projects/pr1069/images/5.jpg -2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novgorod.ru/projects/Project675/pic10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nde.ru/images/photo/Ildviz1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50920" y="260280"/>
            <a:ext cx="8713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средне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начально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MADOY 13-4</cp:lastModifiedBy>
  <dcterms:modified xsi:type="dcterms:W3CDTF">2015-10-13T10:32:04Z</dcterms:modified>
  <cp:revision>67</cp:revision>
  <dc:subject/>
  <dc:title>Слайд 1</dc:title>
</cp:coreProperties>
</file>