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BB7-9CD9-4BBD-97DA-E494F866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CB4-F4EA-4920-864C-86FFE22D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2F4-721A-4D5A-BA14-73456855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7C1-026B-4C2C-B0CC-0F2673E5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1ED-3E6B-420E-AC7B-6C7E434F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0D6-4366-4CF2-9075-070B3D77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843-0875-4682-8BF5-6E3CDE2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426-503B-414C-8C7B-F0D07535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1C4-569A-45C4-9604-8EE98C07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CD9-3C85-48AA-B3C7-9081873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AB1-E4E0-4AB8-B132-F2B6EE4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B83-1954-4440-ADB6-DA027C87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BED4-686C-47B8-BC0C-A80C5AF06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hyperlink" Target="http://moikompas.ru/img/compas/2008-03-25/bezopasnost_deti/52149311_orig.jpg" TargetMode="External"/><Relationship Id="rId19" Type="http://schemas.openxmlformats.org/officeDocument/2006/relationships/hyperlink" Target="http://velopiter.spb.ru/club/foto/perekhod.jpg" TargetMode="External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57120" y="5915160"/>
            <a:ext cx="8569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Казань.Детский сад №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льданова Алия магсум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moikompas.ru/img/compas/2008-03-25/bezopasnost_deti/52149311_orig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velopiter.spb.ru/club/foto/perekhod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MADOY 13-4</cp:lastModifiedBy>
  <dcterms:modified xsi:type="dcterms:W3CDTF">2015-10-13T10:32:04Z</dcterms:modified>
  <cp:revision>67</cp:revision>
  <dc:subject/>
  <dc:title>Слайд 1</dc:title>
</cp:coreProperties>
</file>