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360-03B6-45B0-B073-2CCCE7B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0C1-DF35-4B79-BC26-2B215C87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EC0-B3EB-4A3C-9B32-AF1F5752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4C4-7D58-44DE-B4F6-9620510F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2B4-D05D-4D70-B096-79DDB843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43B-3F3E-4197-9A08-5565F70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969-1086-43EC-A3EE-7B1E2D25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8B4-95EA-43CE-B9BA-85A11A6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205-5195-4538-9303-031625F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331-3A32-42AF-B30E-9479BA10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356-8FCD-4B3A-BA32-910D700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464-7244-4C23-B9C6-9B8A6D5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1EB6-4361-4375-9A9F-2F487D542F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информационных и коммуникационных  технологий на уроках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240" y="3885840"/>
            <a:ext cx="3505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Выполнила: студентка 2 курсаПМЦ-14 Прокаева Анаста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676520" y="220968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0 – 4 заданий, 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енка “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5 – 8 заданий, оценка “2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9 -11 заданий, оценка “3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2 –13 заданий, оценка “4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4 –15 заданий, оценка “5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 числа прави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ов в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учебни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Милауша\Рабочий стол\12.JPG"/>
          <p:cNvPicPr/>
          <p:nvPr/>
        </p:nvPicPr>
        <p:blipFill>
          <a:blip r:embed="rId2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учебник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учебник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9480" y="9907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на уроках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57200" y="533520"/>
            <a:ext cx="8153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p79_hacky.gif"/>
          <p:cNvPicPr/>
          <p:nvPr/>
        </p:nvPicPr>
        <p:blipFill>
          <a:blip r:embed="rId2"/>
          <a:stretch/>
        </p:blipFill>
        <p:spPr>
          <a:xfrm>
            <a:off x="3962520" y="37339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09480" y="213372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1) подготовка печатных раздаточных материалов(самостоятельные, контрольные работы, дидактические карто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ндивидуальной работы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2) мультимедийное сопровождение объяснения нового материала (презентации, аудиозаписи, учебные видеорол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57200" y="533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ы применения компьютерной техники на уроках матема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учебни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Милауша\Рабочий стол\Портфолио\work\scin\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4920" y="182880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1) самостоятельная подготовка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2) демонстрация учителем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3) проведение электронной аттестаци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4) подготовка материалов для проведения контрольной работы в традиционном варианте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5) подготовка учителя к занятию или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6) выполнение учащимися творческих работ под руководством учителя, а также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" y="304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ный учебник может быть использован в учебном процессе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Милауша\Рабочий стол\программа\рисунки\учебник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Милауша\Рабочий стол\1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Милауша\Рабочий стол\выступление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10-20T05:16:4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