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E0C-AD63-49FF-8F24-4F622FEB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BD2-2BB6-4A3E-BB39-5258FFA6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FB4-09FB-4699-BA73-42BE5FF7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2B1-17A7-4204-B276-3E376D21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E56-1E8A-4865-B1BA-53E21B3B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A63-23DC-4C64-AFFB-09A3F636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E29-3288-4208-907E-52F90CCD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C5E-0B5D-4304-B25A-D30BCBB0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9CF-256A-4291-91AC-62CFF1BB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6AE-BFF4-4A5B-9634-8CE571E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E77-5216-412F-BDE4-A16C4AA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9ED-0C26-4689-B35C-A35B84F7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7DE-35E5-44E2-9E83-9367D413E0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информационных и коммуникационных  технологий на уроках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240" y="3885840"/>
            <a:ext cx="3505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Выполнила: студентка 2 курсаПМЦ-14 Прокаева Анаста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676520" y="220968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0 – 4 заданий, 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енка “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5 – 8 заданий, оценка “2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9 -11 заданий, оценка “3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12 –13 заданий, оценка “4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14 –15 заданий, оценка “5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 числа прави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ов в оц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учебни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Милауша\Рабочий стол\12.JPG"/>
          <p:cNvPicPr/>
          <p:nvPr/>
        </p:nvPicPr>
        <p:blipFill>
          <a:blip r:embed="rId2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учебник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учебник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9480" y="9907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на уроках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57200" y="533520"/>
            <a:ext cx="8153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p79_hacky.gif"/>
          <p:cNvPicPr/>
          <p:nvPr/>
        </p:nvPicPr>
        <p:blipFill>
          <a:blip r:embed="rId2"/>
          <a:stretch/>
        </p:blipFill>
        <p:spPr>
          <a:xfrm>
            <a:off x="3962520" y="37339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09480" y="213372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1) подготовка печатных раздаточных материалов(самостоятельные, контрольные работы, дидактические карто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ндивидуальной работы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2) мультимедийное сопровождение объяснения нового материала (презентации, аудиозаписи, учебные видеорол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57200" y="533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собы применения компьютерной техники на уроках матема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учебни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4920" y="182880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1) самостоятельная подготовка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2) демонстрация учителем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3) проведение электронной аттестаци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4) подготовка материалов для проведения контрольной работы в традиционном варианте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5) подготовка учителя к занятию или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6) выполнение учащимися творческих работ под руководством учителя, а также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" y="304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ный учебник может быть использован в учебном процессе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Милауша\Рабочий стол\программа\рисунки\учебник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Милауша\Рабочий стол\1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Милауша\Рабочий стол\выступление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10-20T05:16:4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