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24.jpeg" ContentType="image/jpeg"/>
  <Override PartName="/ppt/media/image2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hdphoto1.wdp" ContentType="image/vnd.ms-photo"/>
  <Override PartName="/ppt/media/image16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8BA3D-5DE9-4A18-99BE-92F6E600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E091D-301A-4EA0-9C3D-9703732DA7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5D8-E860-4D9E-9CE7-15997285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498-FDA7-4F50-8130-023C3AC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AEC-92D5-4A76-A9DE-19B418F4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29E-2DE7-469C-8004-968F76E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3030-B816-4C6A-AAF9-A49FCD70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5E48-2F8C-4C65-B67E-6E75EFD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00A5-1978-44E8-8EEE-A1295DA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7A4A-A5E5-4E50-809F-86CFF22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253C-850C-4A4E-A84E-45F9D2F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AB8C-0A3C-4C3E-8A36-1B7210E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D89-1579-4485-83BE-8261084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BB1-5D75-46A2-B25B-462B1638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5EE-C978-4404-A3CD-EACFA52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6D5-2F7C-4B5D-BA12-2EFEB0C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C631-7BEA-4FE4-AB55-D0C7583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E88-987C-4B40-9712-82DA6DD4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EBE-D7A0-4839-8B9D-2FE9A27B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84FB-5011-4778-A810-C36F901F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D35C-1DBB-444E-B706-06D994B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D3DD-1A65-4E0A-B4DB-AF8EB640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034C-6CF8-4118-8007-EDF9C97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C5AB-BDE4-4609-A960-9029829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F59-435A-483E-B9F8-2B8013FB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E488-4422-478D-8546-BF45D40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1616-83C6-4B3C-B74D-FEFA1D2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789B-64EE-46C5-98E4-1B7395D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15C5-EA50-444C-BFEB-E1E73D4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79D5-218B-4022-A5B5-A498A075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657B-5ADA-4F96-AF54-E3D4D543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9A31-8B01-4092-AC32-27102ACD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453B-9A39-4F51-912F-F521100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8555-8407-4B50-85C8-04C2EB6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E9E7-6453-4056-801E-FB3848B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A6E-C4E1-447F-8D69-955432D4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C5AD-5BDF-459B-B5D9-DE2810E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2587-C800-4E51-9A31-CE86844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EFA5-10B2-4776-8FD7-3A7B8FF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ACC8-059A-4CBC-A278-09E509A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078F-720E-49FF-A474-D54591C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131B-F9C8-4ABB-8317-2722DBB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8317-3D8A-4B08-92A2-0D4077D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A221-6E34-4C91-9167-5D1FA070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2328-07E5-4342-8C93-2BC01BD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7DF2-0B68-4C91-A723-8A5E64F5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67C-EB93-4540-AFCD-41B63AC2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8900-084D-45B3-815D-ABC527D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D7B8-6F06-47A6-8A03-EE8C291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B15BB-2725-42C4-93B6-E5F03372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9889-DA86-4D83-80A7-CBD5FEC1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F2CC-553E-40F3-B018-691CC40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1FD5-7ACB-4C39-A3EB-0C6BD2F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780B-3ECC-40A4-92D2-D6AA00E2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E5B2-F521-44A9-BDC2-9E0FC1A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6E6A-7FC4-4F99-A6E9-D9398EF1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25D9-BB31-4D17-A151-FE7C2ECE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1DD-81B8-4B5B-8065-4565C731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F25D-A592-42B1-B052-F751A3D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CC3-C956-47C5-A5ED-AB2D704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786-1302-450E-91DA-21AF156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9A7-1822-4D05-AD14-85D7C8F9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73BAF4-7A37-4D13-BE91-F80D16E23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6F8FF1-0896-42AE-8F0C-20399171DD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C69634-DEB9-4AF7-B954-C89B59523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E2C4D7-E84E-46A0-BFA2-D7DE6C68D1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54344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3695400" cy="19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1066680" y="4114800"/>
            <a:ext cx="3695400" cy="19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915080" y="1981080"/>
            <a:ext cx="369540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ftr" idx="14"/>
          </p:nvPr>
        </p:nvSpPr>
        <p:spPr>
          <a:xfrm>
            <a:off x="342900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 type="sldNum" idx="15"/>
          </p:nvPr>
        </p:nvSpPr>
        <p:spPr>
          <a:xfrm>
            <a:off x="670572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70318-353E-4C51-A31E-33824DC6C5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C:/Documents%20and%20Settings/&#1054;&#1082;&#1089;&#1072;&#1085;&#1072;/&#1056;&#1072;&#1073;&#1086;&#1095;&#1080;&#1081;%20&#1089;&#1090;&#1086;&#1083;/&#1057;&#1042;.&#1074;&#1086;&#1081;&#1085;&#1072;/&#1048;&#1089;&#1090;&#1086;&#1088;&#1080;&#1103;%20&#1074;&#1086;&#1077;&#1085;&#1085;&#1086;&#1081;%20&#1087;&#1077;&#1089;&#1085;&#1080;/&#1057;&#1074;&#1103;&#1097;&#1077;&#1085;&#1085;&#1072;&#1103;%20&#1074;&#1086;&#1081;&#1085;&#1072;.mp3" TargetMode="External"/><Relationship Id="rId3" Type="http://schemas.microsoft.com/office/2007/relationships/media" Target="file:///C:/Documents%20and%20Settings/&#1054;&#1082;&#1089;&#1072;&#1085;&#1072;/&#1056;&#1072;&#1073;&#1086;&#1095;&#1080;&#1081;%20&#1089;&#1090;&#1086;&#1083;/&#1057;&#1042;.&#1074;&#1086;&#1081;&#1085;&#1072;/&#1048;&#1089;&#1090;&#1086;&#1088;&#1080;&#1103;%20&#1074;&#1086;&#1077;&#1085;&#1085;&#1086;&#1081;%20&#1087;&#1077;&#1089;&#1085;&#1080;/&#1057;&#1074;&#1103;&#1097;&#1077;&#1085;&#1085;&#1072;&#1103;%20&#1074;&#1086;&#1081;&#1085;&#1072;.mp3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0080" y="1428840"/>
            <a:ext cx="7572240" cy="2571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4400" spc="49" strike="noStrike">
                <a:solidFill>
                  <a:srgbClr val="663300"/>
                </a:solidFill>
                <a:latin typeface="Times New Roman"/>
              </a:rPr>
              <a:t>История создания песни «Священная война»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Объект 6" descr=""/>
          <p:cNvPicPr/>
          <p:nvPr/>
        </p:nvPicPr>
        <p:blipFill>
          <a:blip r:embed="rId1"/>
          <a:stretch/>
        </p:blipFill>
        <p:spPr>
          <a:xfrm>
            <a:off x="2765880" y="3575520"/>
            <a:ext cx="2734560" cy="2071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443240" y="-71280"/>
            <a:ext cx="7129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:\Users\Ирина Петровна_2\Desktop\песни ВОВ\фото для война\священная война.jpg"/>
          <p:cNvPicPr/>
          <p:nvPr/>
        </p:nvPicPr>
        <p:blipFill>
          <a:blip r:embed="rId2"/>
          <a:stretch/>
        </p:blipFill>
        <p:spPr>
          <a:xfrm>
            <a:off x="1907640" y="4256280"/>
            <a:ext cx="1643760" cy="207144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4071960" y="714240"/>
            <a:ext cx="1428480" cy="1428480"/>
          </a:xfrm>
          <a:prstGeom prst="rect">
            <a:avLst/>
          </a:prstGeom>
          <a:ln w="9525">
            <a:noFill/>
          </a:ln>
        </p:spPr>
      </p:pic>
      <p:sp>
        <p:nvSpPr>
          <p:cNvPr id="219" name="TextBox 2"/>
          <p:cNvSpPr/>
          <p:nvPr/>
        </p:nvSpPr>
        <p:spPr>
          <a:xfrm>
            <a:off x="5444640" y="4048560"/>
            <a:ext cx="36428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ученик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Маршавин Дмит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Руководитель: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Тимин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069080" y="344880"/>
            <a:ext cx="16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У РК «Р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857240" y="714240"/>
            <a:ext cx="6786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И уже на пятый день войны, 27 июня 1941 года, перед отправляющимися на фронт солдатами, на площади Белорусского вокзала, состоялась премьера «Священной войны» в исполнении Ансамбля песни и пляски Красной Армии под руководством Александрова. Отсюда, за считанные дни, зовущая к подвигам песня распространилась по всему Сою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857240" y="3429000"/>
            <a:ext cx="3357360" cy="249300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5643720" y="3137400"/>
            <a:ext cx="2571480" cy="2365560"/>
          </a:xfrm>
          <a:prstGeom prst="rect">
            <a:avLst/>
          </a:prstGeom>
          <a:ln w="9525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5357880" y="5500800"/>
            <a:ext cx="3285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мориальная доска «Священная война» на фасаде Белорусского вокз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«Священная война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08720" y="2060640"/>
            <a:ext cx="338436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.В. Александров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4" descr="Рисунок4"/>
          <p:cNvPicPr/>
          <p:nvPr/>
        </p:nvPicPr>
        <p:blipFill>
          <a:blip r:embed="rId1"/>
          <a:stretch/>
        </p:blipFill>
        <p:spPr>
          <a:xfrm>
            <a:off x="755640" y="1052640"/>
            <a:ext cx="3850920" cy="233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Рисунок5"/>
          <p:cNvPicPr/>
          <p:nvPr/>
        </p:nvPicPr>
        <p:blipFill>
          <a:blip r:embed="rId2"/>
          <a:stretch/>
        </p:blipFill>
        <p:spPr>
          <a:xfrm>
            <a:off x="4859280" y="3429000"/>
            <a:ext cx="3887280" cy="2779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SWScan00010"/>
          <p:cNvPicPr/>
          <p:nvPr/>
        </p:nvPicPr>
        <p:blipFill>
          <a:blip r:embed="rId3"/>
          <a:srcRect l="55801" t="3279" r="22989" b="76483"/>
          <a:stretch/>
        </p:blipFill>
        <p:spPr>
          <a:xfrm>
            <a:off x="2143080" y="3643200"/>
            <a:ext cx="1823760" cy="2447640"/>
          </a:xfrm>
          <a:prstGeom prst="rect">
            <a:avLst/>
          </a:prstGeom>
          <a:ln w="9525">
            <a:solidFill>
              <a:srgbClr val="cc6600"/>
            </a:solidFill>
            <a:miter/>
          </a:ln>
        </p:spPr>
      </p:pic>
      <p:sp>
        <p:nvSpPr>
          <p:cNvPr id="261" name="Text Box 27"/>
          <p:cNvSpPr/>
          <p:nvPr/>
        </p:nvSpPr>
        <p:spPr>
          <a:xfrm>
            <a:off x="1714320" y="6072120"/>
            <a:ext cx="3071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.И. Лебедев - Кум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3071880" y="642960"/>
            <a:ext cx="3815640" cy="2071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928880" y="3143160"/>
            <a:ext cx="6708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 сентябре 1941 года на экраны страны вышел короткометражный фильм-концерт режиссеров И. Трауберга и А. Медведкина "Мы ждем вас с победой". Именно они осуществили первую запись "Священной войны", пригласив для участия в фильме и исполнения этой песни оставшуюся в Москве небольшую группу хора Краснознаменного ансамб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1"/>
          <p:cNvSpPr/>
          <p:nvPr/>
        </p:nvSpPr>
        <p:spPr>
          <a:xfrm>
            <a:off x="1927440" y="4572000"/>
            <a:ext cx="82292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Объект 4" descr=""/>
          <p:cNvPicPr/>
          <p:nvPr/>
        </p:nvPicPr>
        <p:blipFill>
          <a:blip r:embed="rId1"/>
          <a:stretch/>
        </p:blipFill>
        <p:spPr>
          <a:xfrm>
            <a:off x="3429000" y="500040"/>
            <a:ext cx="2729520" cy="25963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2000160" y="3357720"/>
            <a:ext cx="6857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Звукозапись «Священной войны», сделанная для этой картины, была передана на радио и стала регулярно звучать в его передачах. В 1942 году, после возвращения из поездки на фронт основного состава ансамбля, «Священная война» была записана краснознаменцами на грампласти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-1620720" y="604692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chemeClr val="accent2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4" descr=""/>
          <p:cNvPicPr/>
          <p:nvPr/>
        </p:nvPicPr>
        <p:blipFill>
          <a:blip r:embed="rId1"/>
          <a:stretch/>
        </p:blipFill>
        <p:spPr>
          <a:xfrm>
            <a:off x="4929120" y="571320"/>
            <a:ext cx="3814200" cy="2517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857240" y="571320"/>
            <a:ext cx="3318480" cy="550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Солдаты пели, словно школьники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как солдаты, пели мы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се пели праведно и доблестно -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няня в стареньком платке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в сапогах кирзовых докторша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забывши градусник в руке..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...Разрывы слышались нам дальние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и было свято и светло..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от это все и было-Армия,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Все это Родину спасло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214960" y="3286080"/>
            <a:ext cx="35715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Так о песне "Священная война" и ее исполнении сибирскими школьниками, которые выступали с концертом перед ранеными воинами в тыловом госпитале, напишет много лет спустя участник этого концерта, поэт Евгений Евтуш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5000" p14:dur="2000"/>
    </mc:Choice>
    <mc:Fallback>
      <p:transition spd="slow" advTm="5000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285920" y="714240"/>
            <a:ext cx="7214760" cy="285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«Священная война» была взята на вооружение нашей армией, всем народом, стала музыкальной эмблемой Великой Отечественной войны. Ее пели всюду - на переднем крае, в партизанских отрядах, в тылу, где ковалось оружие для победы. Каждое утро после боя кремлевских курантов она звучала по радио. </a:t>
            </a: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071800" y="3500280"/>
            <a:ext cx="2857320" cy="215388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571480" cy="215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85920" y="642960"/>
            <a:ext cx="7214760" cy="4000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летописи Отечественной войны есть немало героических эпизодов, рассказывающих о том, как вступала в бой эта песня-гимн. Один из них относится к весне 1942 года. Небольшая группа защитников Севастополя заняла оборону в пещере, выдолбленной в скале. Гитлеровцы яростно штурмовали эту естественную крепость, забрасывали ее гранатами. Силы защитников таяли... И вдруг из глубины подземелья послышалась великая песня. Потом раздался сильный взрыв и обломки скалы завалили пещеру... Не сдались советские воины ненавистному врагу. 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3279600" cy="2207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0" y="549360"/>
            <a:ext cx="4214520" cy="172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А.В. Александров писал в своей статье «Как вошла в мою жизнь композитора Отечественная война»: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14720" y="3500280"/>
            <a:ext cx="6429240" cy="271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«Я не был никогда военным специалистом, но у меня все же оказалось могучее оружие в руках – песня. Песня так же может разить врага, как и любое оружие!»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1" descr="Рисунок7"/>
          <p:cNvPicPr/>
          <p:nvPr/>
        </p:nvPicPr>
        <p:blipFill>
          <a:blip r:embed="rId1"/>
          <a:stretch/>
        </p:blipFill>
        <p:spPr>
          <a:xfrm>
            <a:off x="1714320" y="500040"/>
            <a:ext cx="2211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бъект 2"/>
          <p:cNvSpPr/>
          <p:nvPr/>
        </p:nvSpPr>
        <p:spPr>
          <a:xfrm>
            <a:off x="1928880" y="428760"/>
            <a:ext cx="278568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тавай, страна огром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тавай на смертный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 фашистской силой темн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 проклятою ор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: Пусть ярость благор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Вскипает, как вол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Идет война народ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Свяще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ак два различных полю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о всем враждебны 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свет и мир мы борем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ни - за царство т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ип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бъект 4"/>
          <p:cNvSpPr/>
          <p:nvPr/>
        </p:nvSpPr>
        <p:spPr>
          <a:xfrm>
            <a:off x="5105520" y="428760"/>
            <a:ext cx="40381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Дадим отпор душ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ех пламенн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сильникам, грабител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учителям люд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е смеют крылья ч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д Родиной лет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ля ее прост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е смеет враг топ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нилой фашистской неч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гоним пулю в ло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требью челове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колотим крепкий гроб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йдем ломить всей сил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сем сердцем, всей ду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землю нашу мил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а наш Союз больш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Объект 6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85" name="Заголовок 1"/>
          <p:cNvSpPr/>
          <p:nvPr/>
        </p:nvSpPr>
        <p:spPr>
          <a:xfrm>
            <a:off x="-1620720" y="604692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49" strike="noStrike">
              <a:solidFill>
                <a:schemeClr val="accent2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290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64000" p14:dur="2000"/>
    </mc:Choice>
    <mc:Fallback>
      <p:transition spd="slow" advTm="64000"/>
    </mc:Fallback>
  </mc:AlternateContent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delay="0" evt="onClick">
                    <p:tgtEl>
                      <p:spTgt spid="286"/>
                    </p:tgtEl>
                  </p:cond>
                </p:stCondLst>
                <p:childTnLst>
                  <p:par>
                    <p:cTn id="208" fill="hold">
                      <p:stCondLst>
                        <p:cond delay="0"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5730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c00000"/>
                </a:solidFill>
                <a:latin typeface="Times New Roman"/>
              </a:rPr>
              <a:t>Авторы песн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70064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силий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ванови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ЛЕБЕДЕВ-КУМА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898-1949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Объект 6" descr=""/>
          <p:cNvPicPr/>
          <p:nvPr/>
        </p:nvPicPr>
        <p:blipFill>
          <a:blip r:embed="rId1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92000" y="14994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Александр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сильевич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АЛЕКСАНДРОВ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883-1946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2857320" y="3571920"/>
            <a:ext cx="4679640" cy="26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57680" cy="5071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«Музыка в бою нужна и полезна, и надобно, чтобы она была самая громкая.. 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Музыка удваивает, утраивает армию...» </a:t>
            </a:r>
            <a:br>
              <a:rPr sz="2400"/>
            </a:b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Александр Васильевич Суворов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C:\Users\Ирина Петровна_2\Desktop\песни ВОВ\фото для война\песня на войне.jpg"/>
          <p:cNvPicPr/>
          <p:nvPr/>
        </p:nvPicPr>
        <p:blipFill>
          <a:blip r:embed="rId1"/>
          <a:stretch/>
        </p:blipFill>
        <p:spPr>
          <a:xfrm>
            <a:off x="5572080" y="2428920"/>
            <a:ext cx="2999880" cy="2790720"/>
          </a:xfrm>
          <a:prstGeom prst="rect">
            <a:avLst/>
          </a:prstGeom>
          <a:ln w="9525">
            <a:noFill/>
          </a:ln>
        </p:spPr>
      </p:pic>
      <p:pic>
        <p:nvPicPr>
          <p:cNvPr id="229" name="Picture 4" descr="C:\Users\Ирина Петровна_2\Desktop\песни ВОВ\фото для война\песни военых лет.jpg"/>
          <p:cNvPicPr/>
          <p:nvPr/>
        </p:nvPicPr>
        <p:blipFill>
          <a:blip r:embed="rId2"/>
          <a:stretch/>
        </p:blipFill>
        <p:spPr>
          <a:xfrm>
            <a:off x="2214720" y="3000240"/>
            <a:ext cx="2928600" cy="29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785960" y="500040"/>
            <a:ext cx="6714720" cy="370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о время войны песни играли значительную роль. Они помогали военным собрать силы и выиграть последний бой, напоминали о родных и близких, ради которых надо было выж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C:\Users\Ирина Петровна_2\Desktop\песни ВОВ\фото для война\is brlina.jpg"/>
          <p:cNvPicPr/>
          <p:nvPr/>
        </p:nvPicPr>
        <p:blipFill>
          <a:blip r:embed="rId1"/>
          <a:stretch/>
        </p:blipFill>
        <p:spPr>
          <a:xfrm>
            <a:off x="4967640" y="3786120"/>
            <a:ext cx="3734640" cy="242856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14720" y="3714840"/>
            <a:ext cx="2142720" cy="275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1643040" y="571320"/>
            <a:ext cx="70005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ервой песней, написанной в годы Великой Отечественной войны, была «Священная война». Эта патриотическая композиция стала настоящим гимном советского народа. Перед роковым сообщением о нападении Германии на СССР поэт Василий Иванович Лебедев-Кумач просматривал кинохроники бомбардировок европейских городов, и, потрясенный увиденным, написал стихотворение, начинавшееся словами: «Вставай, страна огромная, вставай на смертный бо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C:\Users\Ирина Петровна_2\Desktop\песни ВОВ\фото для война\священная война.jpg"/>
          <p:cNvPicPr/>
          <p:nvPr/>
        </p:nvPicPr>
        <p:blipFill>
          <a:blip r:embed="rId1"/>
          <a:stretch/>
        </p:blipFill>
        <p:spPr>
          <a:xfrm>
            <a:off x="2357280" y="3855960"/>
            <a:ext cx="1999800" cy="2520360"/>
          </a:xfrm>
          <a:prstGeom prst="rect">
            <a:avLst/>
          </a:prstGeom>
          <a:ln w="9525">
            <a:noFill/>
          </a:ln>
        </p:spPr>
      </p:pic>
      <p:pic>
        <p:nvPicPr>
          <p:cNvPr id="235" name="Picture 5" descr="C:\Users\Ирина Петровна_2\Desktop\песни ВОВ\фото для война\свящ война.jpg"/>
          <p:cNvPicPr/>
          <p:nvPr/>
        </p:nvPicPr>
        <p:blipFill>
          <a:blip r:embed="rId2"/>
          <a:stretch/>
        </p:blipFill>
        <p:spPr>
          <a:xfrm>
            <a:off x="4929120" y="3857760"/>
            <a:ext cx="3534120" cy="249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rodina"/>
          <p:cNvPicPr/>
          <p:nvPr/>
        </p:nvPicPr>
        <p:blipFill>
          <a:blip r:embed="rId1"/>
          <a:stretch/>
        </p:blipFill>
        <p:spPr>
          <a:xfrm>
            <a:off x="1928880" y="1071720"/>
            <a:ext cx="3500280" cy="4624920"/>
          </a:xfrm>
          <a:prstGeom prst="rect">
            <a:avLst/>
          </a:prstGeom>
          <a:ln w="0">
            <a:noFill/>
          </a:ln>
        </p:spPr>
      </p:pic>
      <p:pic>
        <p:nvPicPr>
          <p:cNvPr id="237" name="Объект 6" descr=""/>
          <p:cNvPicPr/>
          <p:nvPr/>
        </p:nvPicPr>
        <p:blipFill>
          <a:blip r:embed="rId2"/>
          <a:stretch/>
        </p:blipFill>
        <p:spPr>
          <a:xfrm>
            <a:off x="7596360" y="548640"/>
            <a:ext cx="1040400" cy="788040"/>
          </a:xfrm>
          <a:prstGeom prst="rect">
            <a:avLst/>
          </a:prstGeom>
          <a:ln w="0">
            <a:noFill/>
          </a:ln>
        </p:spPr>
      </p:pic>
      <p:sp>
        <p:nvSpPr>
          <p:cNvPr id="238" name="Объект 4"/>
          <p:cNvSpPr/>
          <p:nvPr/>
        </p:nvSpPr>
        <p:spPr>
          <a:xfrm>
            <a:off x="5357880" y="1428840"/>
            <a:ext cx="332856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Стихи В. И. Лебедева-Кумача призывным набатом прогремели на всю страну и отозвались в сердцах миллионов советских людей гневом и ненавистью к фашизму, решимостью и готовностью защитить с оружием в руках любимую Отчиз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1927440" y="60213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428840" y="428760"/>
            <a:ext cx="7043400" cy="292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Мог ли автор думать тогда, что стихотворение, напечатанное в первом военном номере, станет главной песней Великой Отечественной войны? Что миллионы советских людей пойдут с нею в бой, что прозвучит она призывным набатом и даже клятвой по всем городам и весям страны! Что ее будут слушать стоя, как слушают Гимн.</a:t>
            </a: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IMG_NEW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857320" y="3143160"/>
            <a:ext cx="3757320" cy="3130920"/>
          </a:xfrm>
          <a:prstGeom prst="rect">
            <a:avLst/>
          </a:prstGeom>
          <a:ln w="0">
            <a:noFill/>
          </a:ln>
        </p:spPr>
      </p:pic>
      <p:sp>
        <p:nvSpPr>
          <p:cNvPr id="242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ервые публикаци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7098840" y="357120"/>
            <a:ext cx="1697040" cy="128556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1"/>
          <p:cNvSpPr/>
          <p:nvPr/>
        </p:nvSpPr>
        <p:spPr>
          <a:xfrm>
            <a:off x="1927440" y="6007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49" strike="noStrike">
                <a:solidFill>
                  <a:srgbClr val="ff0000"/>
                </a:solidFill>
                <a:latin typeface="Times New Roman"/>
              </a:rPr>
              <a:t>История создания песни «Свящ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Объект 16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">
                    <a14:imgEffect>
                      <a14:brightnessContrast bright="-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857240" y="1714320"/>
            <a:ext cx="4285800" cy="3785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640" y="2428920"/>
            <a:ext cx="2950920" cy="379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6215040" y="1785960"/>
            <a:ext cx="26427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24 июня 1941 года их прочитал по радио знаменитый актер Малого театра Александр Остуж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 тот же день стихотворение одновременно опубликовали газеты «Известия» и «Красная звезд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6000" p14:dur="2000"/>
    </mc:Choice>
    <mc:Fallback>
      <p:transition spd="slow" advTm="6000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785960" y="714240"/>
            <a:ext cx="6892560" cy="670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тихотворение «Священная война»  в газете прочитал руководитель Краснознамённого ансамбля песни и пляски Красной Армии Александр Васильевич Александров. Оно произвело на него такое сильное впечатление,  что он сразу сел за роль. На другой день, придя на репетицию, композитор объяв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Будем разучивать новую песню – «Священная вой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ечатать слова и ноты не было времени, и Александров написал их мелом на доске, а певцы и музыканты переписали их в свои тетради. </a:t>
            </a:r>
            <a:r>
              <a:rPr b="0" i="1" lang="ru-RU" sz="2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78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143080" y="714240"/>
            <a:ext cx="22546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6364080" y="500040"/>
            <a:ext cx="1581840" cy="228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9 мая_02">
  <a:themeElements>
    <a:clrScheme name="Оформление по умолчанию 14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800000"/>
      </a:hlink>
      <a:folHlink>
        <a:srgbClr val="ffcc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9 мая_02</Template>
  <TotalTime>548</TotalTime>
  <Application>LibreOffice/7.4.7.2$Linux_X86_64 LibreOffice_project/40$Build-2</Application>
  <AppVersion>15.0000</AppVersion>
  <Words>974</Words>
  <Paragraphs>9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3:38:09Z</dcterms:created>
  <dc:creator>User</dc:creator>
  <dc:description/>
  <dc:language>en-US</dc:language>
  <cp:lastModifiedBy>Oksana</cp:lastModifiedBy>
  <dcterms:modified xsi:type="dcterms:W3CDTF">2015-10-20T09:15:54Z</dcterms:modified>
  <cp:revision>61</cp:revision>
  <dc:subject/>
  <dc:title>История создания песни «Священная вой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8</vt:r8>
  </property>
</Properties>
</file>