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24.jpeg" ContentType="image/jpeg"/>
  <Override PartName="/ppt/media/image2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jpeg" ContentType="image/jpeg"/>
  <Override PartName="/ppt/media/hdphoto1.wdp" ContentType="image/vnd.ms-photo"/>
  <Override PartName="/ppt/media/image16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03DD37-F8F6-4E80-A456-894EA8D7C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78FB8-16B3-4B5B-9A0A-FB1A173105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F53-5FD4-4617-B2FF-DBCAFA5D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7A3-D133-4F08-9D75-63BAC0A0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BA2-1A71-4450-AEBE-D8050018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554-A5E7-4ADF-9B5A-385AB2CA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C86D-2B6E-4BA1-BE83-CD5B270B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6DF6-9E64-483F-985D-E15E8AC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881F-9C86-4105-AD21-1E01420E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6BA6-FE03-4E32-941A-496FE749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3EE4-4F27-4168-B31B-8FAAC7EB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5B7B-09C1-4D5A-8C6B-8BD4346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F4B9-1F64-43FF-BE26-118763E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2DD-8992-413E-AD22-65ACBD8A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ECB-51CD-4140-9D90-76B1FD7B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2926-83F8-4FBB-B2EF-3A81286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353B-8B5F-42BF-A389-EF4B4CD2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80C1-B9B6-4FE0-AB6C-ED70B715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DD1D-BA84-4433-AD9F-44AE8649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5505-EB80-4370-9C1F-145B1EAD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6819-A234-48C2-A880-1279911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CAF8-54C6-41F0-96BE-878020D9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256C-F60F-4853-BB93-663C7AD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7397-6BD2-43E5-B354-70A9F64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2E1-1D75-4F07-AFBF-DA87D16E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EC08-F18F-4699-A320-E902679B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005C-5541-41FC-8521-40F9220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5FC4-1F89-437F-80D6-7459999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303E-4362-4E76-8F57-ACC6FC5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1917-C5B9-475C-BD90-85B3166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4331-2C69-487C-AB12-766B9132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796E-E988-42CA-BD56-1374191F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201C-AE69-4661-A340-4AB84E8F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B0A1-A4C9-4EB5-ADFB-A4D153F3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5984-477F-4373-A9BA-38C6F077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7B5-5B48-4947-A616-49135DC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DDBE-ED5F-49F5-BA0A-1FDE6E4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049B-BE9B-47F7-A51D-47CB63C5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3F35-DF71-418B-88B4-F390332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1478-C997-4327-907B-356FA22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32E5-F037-43DD-A715-F601979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E039-FBBF-4C9D-B25B-776155DB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56CA-B204-4712-9C0F-6F4819EA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773D-BD78-426F-A9F6-85EA3532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17AF-3942-4EE7-A184-C26B7898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EA00-8319-4FB5-973C-16CBD446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662-4732-434A-B11B-1D7F8F6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45638-ED75-463C-880F-D97DC3CA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7793-2AFD-4C2D-B99C-6B768FFC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CA6E-52D3-4441-98BC-6443A84B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5C37-889D-4FA7-BE3E-98AD05F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A9C5-43CF-4345-95E6-152CBCEB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967F1-0071-4695-84CD-5733A4C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5647-BF49-4CC7-B4E6-7C6D439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7EFA-E4B6-4003-8417-7097BAE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FAF1-87E2-439A-B918-84240FB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0EF7-E3F9-4637-89BF-FE564D9E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E14-68CA-4EA7-AF4C-7D88607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25A7-C564-42F8-9D46-F88AD2DF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0A4-2D75-4629-95DD-E1ECE50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FC2-61D4-4B06-97AA-ECD9496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389-F003-4B56-82C4-12DC7D0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A3ED41-DBB2-42B1-82DA-27A49FDE2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DAC8A9-EE44-47C0-88B2-F833C16FC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896A82-6F46-40EE-ABB3-100ECD778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307AA6-0940-4EF6-A353-24EB8B9BA0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54344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3695400" cy="19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1066680" y="4114800"/>
            <a:ext cx="3695400" cy="19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915080" y="1981080"/>
            <a:ext cx="369540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ftr" idx="14"/>
          </p:nvPr>
        </p:nvSpPr>
        <p:spPr>
          <a:xfrm>
            <a:off x="342900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 type="sldNum" idx="15"/>
          </p:nvPr>
        </p:nvSpPr>
        <p:spPr>
          <a:xfrm>
            <a:off x="670572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257AFF-7E49-4C48-9C89-4A00E11D12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C:/Documents%20and%20Settings/&#1054;&#1082;&#1089;&#1072;&#1085;&#1072;/&#1056;&#1072;&#1073;&#1086;&#1095;&#1080;&#1081;%20&#1089;&#1090;&#1086;&#1083;/&#1057;&#1042;.&#1074;&#1086;&#1081;&#1085;&#1072;/&#1048;&#1089;&#1090;&#1086;&#1088;&#1080;&#1103;%20&#1074;&#1086;&#1077;&#1085;&#1085;&#1086;&#1081;%20&#1087;&#1077;&#1089;&#1085;&#1080;/&#1057;&#1074;&#1103;&#1097;&#1077;&#1085;&#1085;&#1072;&#1103;%20&#1074;&#1086;&#1081;&#1085;&#1072;.mp3" TargetMode="External"/><Relationship Id="rId3" Type="http://schemas.microsoft.com/office/2007/relationships/media" Target="file:///C:/Documents%20and%20Settings/&#1054;&#1082;&#1089;&#1072;&#1085;&#1072;/&#1056;&#1072;&#1073;&#1086;&#1095;&#1080;&#1081;%20&#1089;&#1090;&#1086;&#1083;/&#1057;&#1042;.&#1074;&#1086;&#1081;&#1085;&#1072;/&#1048;&#1089;&#1090;&#1086;&#1088;&#1080;&#1103;%20&#1074;&#1086;&#1077;&#1085;&#1085;&#1086;&#1081;%20&#1087;&#1077;&#1089;&#1085;&#1080;/&#1057;&#1074;&#1103;&#1097;&#1077;&#1085;&#1085;&#1072;&#1103;%20&#1074;&#1086;&#1081;&#1085;&#1072;.mp3" TargetMode="Externa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0080" y="1428840"/>
            <a:ext cx="7572240" cy="2571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4400" spc="49" strike="noStrike">
                <a:solidFill>
                  <a:srgbClr val="663300"/>
                </a:solidFill>
                <a:latin typeface="Times New Roman"/>
              </a:rPr>
              <a:t>История создания песни «Священная война»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Объект 6" descr=""/>
          <p:cNvPicPr/>
          <p:nvPr/>
        </p:nvPicPr>
        <p:blipFill>
          <a:blip r:embed="rId1"/>
          <a:stretch/>
        </p:blipFill>
        <p:spPr>
          <a:xfrm>
            <a:off x="2765880" y="3575520"/>
            <a:ext cx="2734560" cy="2071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443240" y="-71280"/>
            <a:ext cx="71290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:\Users\Ирина Петровна_2\Desktop\песни ВОВ\фото для война\священная война.jpg"/>
          <p:cNvPicPr/>
          <p:nvPr/>
        </p:nvPicPr>
        <p:blipFill>
          <a:blip r:embed="rId2"/>
          <a:stretch/>
        </p:blipFill>
        <p:spPr>
          <a:xfrm>
            <a:off x="1907640" y="4256280"/>
            <a:ext cx="1643760" cy="207144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4071960" y="714240"/>
            <a:ext cx="1428480" cy="1428480"/>
          </a:xfrm>
          <a:prstGeom prst="rect">
            <a:avLst/>
          </a:prstGeom>
          <a:ln w="9525">
            <a:noFill/>
          </a:ln>
        </p:spPr>
      </p:pic>
      <p:sp>
        <p:nvSpPr>
          <p:cNvPr id="219" name="TextBox 2"/>
          <p:cNvSpPr/>
          <p:nvPr/>
        </p:nvSpPr>
        <p:spPr>
          <a:xfrm>
            <a:off x="5444640" y="4048560"/>
            <a:ext cx="36428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ученик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Маршавин Дмит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Руководитель: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Тимин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4069080" y="344880"/>
            <a:ext cx="169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У РК «Р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857240" y="714240"/>
            <a:ext cx="6786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И уже на пятый день войны, 27 июня 1941 года, перед отправляющимися на фронт солдатами, на площади Белорусского вокзала, состоялась премьера «Священной войны» в исполнении Ансамбля песни и пляски Красной Армии под руководством Александрова. Отсюда, за считанные дни, зовущая к подвигам песня распространилась по всему Сою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857240" y="3429000"/>
            <a:ext cx="3357360" cy="249300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5643720" y="3137400"/>
            <a:ext cx="2571480" cy="2365560"/>
          </a:xfrm>
          <a:prstGeom prst="rect">
            <a:avLst/>
          </a:prstGeom>
          <a:ln w="9525">
            <a:noFill/>
          </a:ln>
        </p:spPr>
      </p:pic>
      <p:sp>
        <p:nvSpPr>
          <p:cNvPr id="255" name="Прямоугольник 4"/>
          <p:cNvSpPr/>
          <p:nvPr/>
        </p:nvSpPr>
        <p:spPr>
          <a:xfrm>
            <a:off x="5357880" y="5500800"/>
            <a:ext cx="3285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мориальная доска «Священная война» на фасаде Белорусского вокз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4800" spc="-1" strike="noStrike" u="sng">
                <a:solidFill>
                  <a:srgbClr val="990000"/>
                </a:solidFill>
                <a:uFillTx/>
                <a:latin typeface="Arial"/>
              </a:rPr>
              <a:t>«Священная война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08720" y="2060640"/>
            <a:ext cx="338436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.В. Александров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4" descr="Рисунок4"/>
          <p:cNvPicPr/>
          <p:nvPr/>
        </p:nvPicPr>
        <p:blipFill>
          <a:blip r:embed="rId1"/>
          <a:stretch/>
        </p:blipFill>
        <p:spPr>
          <a:xfrm>
            <a:off x="755640" y="1052640"/>
            <a:ext cx="3850920" cy="2339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Рисунок5"/>
          <p:cNvPicPr/>
          <p:nvPr/>
        </p:nvPicPr>
        <p:blipFill>
          <a:blip r:embed="rId2"/>
          <a:stretch/>
        </p:blipFill>
        <p:spPr>
          <a:xfrm>
            <a:off x="4859280" y="3429000"/>
            <a:ext cx="3887280" cy="2779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SWScan00010"/>
          <p:cNvPicPr/>
          <p:nvPr/>
        </p:nvPicPr>
        <p:blipFill>
          <a:blip r:embed="rId3"/>
          <a:srcRect l="55801" t="3279" r="22989" b="76483"/>
          <a:stretch/>
        </p:blipFill>
        <p:spPr>
          <a:xfrm>
            <a:off x="2143080" y="3643200"/>
            <a:ext cx="1823760" cy="2447640"/>
          </a:xfrm>
          <a:prstGeom prst="rect">
            <a:avLst/>
          </a:prstGeom>
          <a:ln w="9525">
            <a:solidFill>
              <a:srgbClr val="cc6600"/>
            </a:solidFill>
            <a:miter/>
          </a:ln>
        </p:spPr>
      </p:pic>
      <p:sp>
        <p:nvSpPr>
          <p:cNvPr id="261" name="Text Box 27"/>
          <p:cNvSpPr/>
          <p:nvPr/>
        </p:nvSpPr>
        <p:spPr>
          <a:xfrm>
            <a:off x="1714320" y="6072120"/>
            <a:ext cx="3071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.И. Лебедев - Кум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3071880" y="642960"/>
            <a:ext cx="3815640" cy="20714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928880" y="3143160"/>
            <a:ext cx="67082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В сентябре 1941 года на экраны страны вышел короткометражный фильм-концерт режиссеров И. Трауберга и А. Медведкина "Мы ждем вас с победой". Именно они осуществили первую запись "Священной войны", пригласив для участия в фильме и исполнения этой песни оставшуюся в Москве небольшую группу хора Краснознаменного ансамб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Объект 6" descr=""/>
          <p:cNvPicPr/>
          <p:nvPr/>
        </p:nvPicPr>
        <p:blipFill>
          <a:blip r:embed="rId2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1"/>
          <p:cNvSpPr/>
          <p:nvPr/>
        </p:nvSpPr>
        <p:spPr>
          <a:xfrm>
            <a:off x="1927440" y="4572000"/>
            <a:ext cx="822924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10000" p14:dur="2000"/>
    </mc:Choice>
    <mc:Fallback>
      <p:transition spd="slow" advTm="10000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Объект 4" descr=""/>
          <p:cNvPicPr/>
          <p:nvPr/>
        </p:nvPicPr>
        <p:blipFill>
          <a:blip r:embed="rId1"/>
          <a:stretch/>
        </p:blipFill>
        <p:spPr>
          <a:xfrm>
            <a:off x="3429000" y="500040"/>
            <a:ext cx="2729520" cy="25963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2000160" y="3357720"/>
            <a:ext cx="6857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Звукозапись «Священной войны», сделанная для этой картины, была передана на радио и стала регулярно звучать в его передачах. В 1942 году, после возвращения из поездки на фронт основного состава ансамбля, «Священная война» была записана краснознаменцами на грампласти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Объект 6" descr=""/>
          <p:cNvPicPr/>
          <p:nvPr/>
        </p:nvPicPr>
        <p:blipFill>
          <a:blip r:embed="rId2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-1620720" y="604692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chemeClr val="accent2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4" descr=""/>
          <p:cNvPicPr/>
          <p:nvPr/>
        </p:nvPicPr>
        <p:blipFill>
          <a:blip r:embed="rId1"/>
          <a:stretch/>
        </p:blipFill>
        <p:spPr>
          <a:xfrm>
            <a:off x="4929120" y="571320"/>
            <a:ext cx="3814200" cy="2517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857240" y="571320"/>
            <a:ext cx="3318480" cy="550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Солдаты пели, словно школьники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как солдаты, пели мы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Все пели праведно и доблестно -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няня в стареньком платке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в сапогах кирзовых докторша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забывши градусник в руке..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...Разрывы слышались нам дальние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было свято и светло..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Вот это все и было-Армия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Все это Родину спасло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214960" y="3286080"/>
            <a:ext cx="35715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Так о песне "Священная война" и ее исполнении сибирскими школьниками, которые выступали с концертом перед ранеными воинами в тыловом госпитале, напишет много лет спустя участник этого концерта, поэт Евгений Евтуш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5000" p14:dur="2000"/>
    </mc:Choice>
    <mc:Fallback>
      <p:transition spd="slow" advTm="5000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285920" y="714240"/>
            <a:ext cx="7214760" cy="285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«Священная война» была взята на вооружение нашей армией, всем народом, стала музыкальной эмблемой Великой Отечественной войны. Ее пели всюду - на переднем крае, в партизанских отрядах, в тылу, где ковалось оружие для победы. Каждое утро после боя кремлевских курантов она звучала по радио. </a:t>
            </a: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071800" y="3500280"/>
            <a:ext cx="2857320" cy="2153880"/>
          </a:xfrm>
          <a:prstGeom prst="rect">
            <a:avLst/>
          </a:prstGeom>
          <a:ln w="9525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2571480" cy="215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85920" y="642960"/>
            <a:ext cx="7214760" cy="4000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летописи Отечественной войны есть немало героических эпизодов, рассказывающих о том, как вступала в бой эта песня-гимн. Один из них относится к весне 1942 года. Небольшая группа защитников Севастополя заняла оборону в пещере, выдолбленной в скале. Гитлеровцы яростно штурмовали эту естественную крепость, забрасывали ее гранатами. Силы защитников таяли... И вдруг из глубины подземелья послышалась великая песня. Потом раздался сильный взрыв и обломки скалы завалили пещеру... Не сдались советские воины ненавистному врагу. 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3279600" cy="2207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0" y="549360"/>
            <a:ext cx="4214520" cy="172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А.В. Александров писал в своей статье «Как вошла в мою жизнь композитора Отечественная война»: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14720" y="3500280"/>
            <a:ext cx="6429240" cy="271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«Я не был никогда военным специалистом, но у меня все же оказалось могучее оружие в руках – песня. Песня так же может разить врага, как и любое оружие!»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1" descr="Рисунок7"/>
          <p:cNvPicPr/>
          <p:nvPr/>
        </p:nvPicPr>
        <p:blipFill>
          <a:blip r:embed="rId1"/>
          <a:stretch/>
        </p:blipFill>
        <p:spPr>
          <a:xfrm>
            <a:off x="1714320" y="500040"/>
            <a:ext cx="22111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бъект 2"/>
          <p:cNvSpPr/>
          <p:nvPr/>
        </p:nvSpPr>
        <p:spPr>
          <a:xfrm>
            <a:off x="1928880" y="428760"/>
            <a:ext cx="278568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тавай, страна огром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тавай на смертный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 фашистской силой темн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 проклятою ор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Припев: Пусть ярость благор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Вскипает, как вол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Идет война народ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Священная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ак два различных полю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о всем враждебны 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 свет и мир мы борем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ни - за царство т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ип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бъект 4"/>
          <p:cNvSpPr/>
          <p:nvPr/>
        </p:nvSpPr>
        <p:spPr>
          <a:xfrm>
            <a:off x="5105520" y="428760"/>
            <a:ext cx="40381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Дадим отпор душ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ех пламенн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сильникам, грабител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учителям люд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е смеют крылья ч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д Родиной лет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ля ее прост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е смеет враг топт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нилой фашистской неч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гоним пулю в ло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требью челове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колотим крепкий гроб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йдем ломить всей сил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ем сердцем, всей ду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 землю нашу мил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 наш Союз больш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Объект 6" descr=""/>
          <p:cNvPicPr/>
          <p:nvPr/>
        </p:nvPicPr>
        <p:blipFill>
          <a:blip r:embed="rId1"/>
          <a:stretch/>
        </p:blipFill>
        <p:spPr>
          <a:xfrm>
            <a:off x="7858080" y="2858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85" name="Заголовок 1"/>
          <p:cNvSpPr/>
          <p:nvPr/>
        </p:nvSpPr>
        <p:spPr>
          <a:xfrm>
            <a:off x="-1620720" y="604692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chemeClr val="accent2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290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4000" p14:dur="2000"/>
    </mc:Choice>
    <mc:Fallback>
      <p:transition spd="slow" advTm="64000"/>
    </mc:Fallback>
  </mc:AlternateContent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delay="0" evt="onClick">
                    <p:tgtEl>
                      <p:spTgt spid="286"/>
                    </p:tgtEl>
                  </p:cond>
                </p:stCondLst>
                <p:childTnLst>
                  <p:par>
                    <p:cTn id="208" fill="hold">
                      <p:stCondLst>
                        <p:cond delay="0"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5730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c00000"/>
                </a:solidFill>
                <a:latin typeface="Times New Roman"/>
              </a:rPr>
              <a:t>Авторы песн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70064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силий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ванович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ЛЕБЕДЕВ-КУМАЧ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898-1949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Объект 6" descr=""/>
          <p:cNvPicPr/>
          <p:nvPr/>
        </p:nvPicPr>
        <p:blipFill>
          <a:blip r:embed="rId1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92000" y="14994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Александр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сильевич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АЛЕКСАНДРОВ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883-1946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2857320" y="3571920"/>
            <a:ext cx="4679640" cy="26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0" p14:dur="2000"/>
    </mc:Choice>
    <mc:Fallback>
      <p:transition spd="slow" advTm="10000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57680" cy="5071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«Музыка в бою нужна и полезна, и надобно, чтобы она была самая громкая.. 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Музыка удваивает, утраивает армию...» </a:t>
            </a:r>
            <a:br>
              <a:rPr sz="2400"/>
            </a:b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Александр Васильевич Суворов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C:\Users\Ирина Петровна_2\Desktop\песни ВОВ\фото для война\песня на войне.jpg"/>
          <p:cNvPicPr/>
          <p:nvPr/>
        </p:nvPicPr>
        <p:blipFill>
          <a:blip r:embed="rId1"/>
          <a:stretch/>
        </p:blipFill>
        <p:spPr>
          <a:xfrm>
            <a:off x="5572080" y="2428920"/>
            <a:ext cx="2999880" cy="2790720"/>
          </a:xfrm>
          <a:prstGeom prst="rect">
            <a:avLst/>
          </a:prstGeom>
          <a:ln w="9525">
            <a:noFill/>
          </a:ln>
        </p:spPr>
      </p:pic>
      <p:pic>
        <p:nvPicPr>
          <p:cNvPr id="229" name="Picture 4" descr="C:\Users\Ирина Петровна_2\Desktop\песни ВОВ\фото для война\песни военых лет.jpg"/>
          <p:cNvPicPr/>
          <p:nvPr/>
        </p:nvPicPr>
        <p:blipFill>
          <a:blip r:embed="rId2"/>
          <a:stretch/>
        </p:blipFill>
        <p:spPr>
          <a:xfrm>
            <a:off x="2214720" y="3000240"/>
            <a:ext cx="2928600" cy="29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785960" y="500040"/>
            <a:ext cx="6714720" cy="370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о время войны песни играли значительную роль. Они помогали военным собрать силы и выиграть последний бой, напоминали о родных и близких, ради которых надо было выж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C:\Users\Ирина Петровна_2\Desktop\песни ВОВ\фото для война\is brlina.jpg"/>
          <p:cNvPicPr/>
          <p:nvPr/>
        </p:nvPicPr>
        <p:blipFill>
          <a:blip r:embed="rId1"/>
          <a:stretch/>
        </p:blipFill>
        <p:spPr>
          <a:xfrm>
            <a:off x="4967640" y="3786120"/>
            <a:ext cx="3734640" cy="242856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2214720" y="3714840"/>
            <a:ext cx="2142720" cy="275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3"/>
          <p:cNvSpPr/>
          <p:nvPr/>
        </p:nvSpPr>
        <p:spPr>
          <a:xfrm>
            <a:off x="1643040" y="571320"/>
            <a:ext cx="70005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ервой песней, написанной в годы Великой Отечественной войны, была «Священная война». Эта патриотическая композиция стала настоящим гимном советского народа. Перед роковым сообщением о нападении Германии на СССР поэт Василий Иванович Лебедев-Кумач просматривал кинохроники бомбардировок европейских городов, и, потрясенный увиденным, написал стихотворение, начинавшееся словами: «Вставай, страна огромная, вставай на смертный бо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C:\Users\Ирина Петровна_2\Desktop\песни ВОВ\фото для война\священная война.jpg"/>
          <p:cNvPicPr/>
          <p:nvPr/>
        </p:nvPicPr>
        <p:blipFill>
          <a:blip r:embed="rId1"/>
          <a:stretch/>
        </p:blipFill>
        <p:spPr>
          <a:xfrm>
            <a:off x="2357280" y="3855960"/>
            <a:ext cx="1999800" cy="2520360"/>
          </a:xfrm>
          <a:prstGeom prst="rect">
            <a:avLst/>
          </a:prstGeom>
          <a:ln w="9525">
            <a:noFill/>
          </a:ln>
        </p:spPr>
      </p:pic>
      <p:pic>
        <p:nvPicPr>
          <p:cNvPr id="235" name="Picture 5" descr="C:\Users\Ирина Петровна_2\Desktop\песни ВОВ\фото для война\свящ война.jpg"/>
          <p:cNvPicPr/>
          <p:nvPr/>
        </p:nvPicPr>
        <p:blipFill>
          <a:blip r:embed="rId2"/>
          <a:stretch/>
        </p:blipFill>
        <p:spPr>
          <a:xfrm>
            <a:off x="4929120" y="3857760"/>
            <a:ext cx="3534120" cy="249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rodina"/>
          <p:cNvPicPr/>
          <p:nvPr/>
        </p:nvPicPr>
        <p:blipFill>
          <a:blip r:embed="rId1"/>
          <a:stretch/>
        </p:blipFill>
        <p:spPr>
          <a:xfrm>
            <a:off x="1928880" y="1071720"/>
            <a:ext cx="3500280" cy="4624920"/>
          </a:xfrm>
          <a:prstGeom prst="rect">
            <a:avLst/>
          </a:prstGeom>
          <a:ln w="0">
            <a:noFill/>
          </a:ln>
        </p:spPr>
      </p:pic>
      <p:pic>
        <p:nvPicPr>
          <p:cNvPr id="237" name="Объект 6" descr=""/>
          <p:cNvPicPr/>
          <p:nvPr/>
        </p:nvPicPr>
        <p:blipFill>
          <a:blip r:embed="rId2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38" name="Объект 4"/>
          <p:cNvSpPr/>
          <p:nvPr/>
        </p:nvSpPr>
        <p:spPr>
          <a:xfrm>
            <a:off x="5357880" y="1428840"/>
            <a:ext cx="332856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Стихи В. И. Лебедева-Кумача призывным набатом прогремели на всю страну и отозвались в сердцах миллионов советских людей гневом и ненавистью к фашизму, решимостью и готовностью защитить с оружием в руках любимую Отчиз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1927440" y="60213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0000" p14:dur="2000"/>
    </mc:Choice>
    <mc:Fallback>
      <p:transition spd="slow" advTm="10000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428840" y="428760"/>
            <a:ext cx="7043400" cy="292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Мог ли автор думать тогда, что стихотворение, напечатанное в первом военном номере, станет главной песней Великой Отечественной войны? Что миллионы советских людей пойдут с нею в бой, что прозвучит она призывным набатом и даже клятвой по всем городам и весям страны! Что ее будут слушать стоя, как слушают Гимн.</a:t>
            </a: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IMG_NEW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857320" y="3143160"/>
            <a:ext cx="3757320" cy="3130920"/>
          </a:xfrm>
          <a:prstGeom prst="rect">
            <a:avLst/>
          </a:prstGeom>
          <a:ln w="0">
            <a:noFill/>
          </a:ln>
        </p:spPr>
      </p:pic>
      <p:sp>
        <p:nvSpPr>
          <p:cNvPr id="242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ервые публикаци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7098840" y="357120"/>
            <a:ext cx="1697040" cy="1285560"/>
          </a:xfrm>
          <a:prstGeom prst="rect">
            <a:avLst/>
          </a:prstGeom>
          <a:ln w="0">
            <a:noFill/>
          </a:ln>
        </p:spPr>
      </p:pic>
      <p:sp>
        <p:nvSpPr>
          <p:cNvPr id="245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Объект 16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">
                    <a14:imgEffect>
                      <a14:brightnessContrast bright="-2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857240" y="1714320"/>
            <a:ext cx="4285800" cy="3785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640" y="2428920"/>
            <a:ext cx="2950920" cy="379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6215040" y="1785960"/>
            <a:ext cx="26427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24 июня 1941 года их прочитал по радио знаменитый актер Малого театра Александр Остуж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В тот же день стихотворение одновременно опубликовали газеты «Известия» и «Красная звезд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6000" p14:dur="2000"/>
    </mc:Choice>
    <mc:Fallback>
      <p:transition spd="slow" advTm="6000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785960" y="714240"/>
            <a:ext cx="6892560" cy="670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тихотворение «Священная война»  в газете прочитал руководитель Краснознамённого ансамбля песни и пляски Красной Армии Александр Васильевич Александров. Оно произвело на него такое сильное впечатление,  что он сразу сел за роль. На другой день, придя на репетицию, композитор объяв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Будем разучивать новую песню – «Священная войн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ечатать слова и ноты не было времени, и Александров написал их мелом на доске, а певцы и музыканты переписали их в свои тетради. </a:t>
            </a:r>
            <a:r>
              <a:rPr b="0" i="1" lang="ru-RU" sz="2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143080" y="714240"/>
            <a:ext cx="22546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6364080" y="500040"/>
            <a:ext cx="1581840" cy="228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9 мая_02</Template>
  <TotalTime>548</TotalTime>
  <Application>LibreOffice/7.4.7.2$Linux_X86_64 LibreOffice_project/40$Build-2</Application>
  <AppVersion>15.0000</AppVersion>
  <Words>974</Words>
  <Paragraphs>9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3:38:09Z</dcterms:created>
  <dc:creator>User</dc:creator>
  <dc:description/>
  <dc:language>en-US</dc:language>
  <cp:lastModifiedBy>Oksana</cp:lastModifiedBy>
  <dcterms:modified xsi:type="dcterms:W3CDTF">2015-10-20T09:15:54Z</dcterms:modified>
  <cp:revision>61</cp:revision>
  <dc:subject/>
  <dc:title>История создания песни «Священная вой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8</vt:r8>
  </property>
</Properties>
</file>