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67D-6797-46EB-8E5F-C5A635C2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43D-084D-410C-AA28-12B7B67F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CCE-28A9-4EB0-A972-3EEA777A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690-4C6D-4507-9D76-49EB4662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32F-E44D-4C47-A647-53F67486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A57D-D3AB-4526-9B49-BE795CCB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E37-61EA-433C-BE2A-FD119495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9248-B97A-4F36-9C9F-3A0D68DD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0385-6ED5-4582-8732-00390D9D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978-E35A-4F23-94BB-5D4EC398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6A1-B7FB-4162-A9F0-C94C50BA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194-BEFC-40D4-9478-CDC49D84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C3A7-15DC-45B5-8720-DC241F7BDD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VEExport.0001.mpg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68360" y="62064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К «Начальная школа 21 ве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900000" y="2637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971640" y="1916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611280" y="2637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324000" y="4797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«Гриб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95280" y="436572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00000" y="3429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9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900000" y="1413000"/>
            <a:ext cx="73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Гри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 слова к вопро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71640" y="5013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?                                    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00000" y="357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делают?                             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50920" y="40464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«Царства природ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2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0" y="1555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Узнал, что  грибы – ни растения и ни животны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.   Узнал, что  у многих  грибов есть шляпка, ножка, грибни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Узнал, что  грибы бывают съедобные и ядовит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4.  Многое знал и лишь уточнил свои зн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7">
            <a:hlinkClick r:id="" action="ppaction://hlinkshowjump?jump=endshow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8532720" y="3573360"/>
            <a:ext cx="358920" cy="3272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"/>
          <p:cNvSpPr/>
          <p:nvPr/>
        </p:nvSpPr>
        <p:spPr>
          <a:xfrm>
            <a:off x="8532720" y="5084640"/>
            <a:ext cx="358920" cy="328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274680"/>
            <a:ext cx="8532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л   сам и в группе, доволен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л   сам и  соглашался с работой группы,   доволен соб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ался работать сам и в паре, но не всё получилось.  Не совсем доволен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ти не работал, недоволен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520" y="2462040"/>
            <a:ext cx="29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0" y="3923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27406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8532720" y="2133720"/>
            <a:ext cx="3589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"/>
          <p:cNvSpPr/>
          <p:nvPr/>
        </p:nvSpPr>
        <p:spPr>
          <a:xfrm>
            <a:off x="8532720" y="907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1835280" y="69228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 У.с. 24 – 28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 задание               У.с 2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   Т.с.8 № 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116000" y="522936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Нас   ждёт  другое цар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Homepage"/>
          <p:cNvSpPr/>
          <p:nvPr/>
        </p:nvSpPr>
        <p:spPr>
          <a:xfrm>
            <a:off x="250920" y="333360"/>
            <a:ext cx="1361880" cy="1876320"/>
          </a:xfrm>
          <a:custGeom>
            <a:avLst/>
            <a:gdLst>
              <a:gd name="textAreaLeft" fmla="*/ 63000 w 1361880"/>
              <a:gd name="textAreaRight" fmla="*/ 1312560 w 1361880"/>
              <a:gd name="textAreaTop" fmla="*/ 1057680 h 1876320"/>
              <a:gd name="textAreaBottom" fmla="*/ 1489680 h 187632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5251" y="7101"/>
                </a:moveTo>
                <a:lnTo>
                  <a:pt x="5251" y="11160"/>
                </a:lnTo>
                <a:lnTo>
                  <a:pt x="16306" y="11160"/>
                </a:lnTo>
                <a:lnTo>
                  <a:pt x="16306" y="7052"/>
                </a:lnTo>
                <a:lnTo>
                  <a:pt x="16901" y="6561"/>
                </a:lnTo>
                <a:lnTo>
                  <a:pt x="15264" y="5236"/>
                </a:lnTo>
                <a:lnTo>
                  <a:pt x="15264" y="1636"/>
                </a:lnTo>
                <a:lnTo>
                  <a:pt x="13478" y="1636"/>
                </a:lnTo>
                <a:lnTo>
                  <a:pt x="13478" y="3698"/>
                </a:lnTo>
                <a:lnTo>
                  <a:pt x="11182" y="1669"/>
                </a:lnTo>
                <a:lnTo>
                  <a:pt x="4847" y="6561"/>
                </a:lnTo>
                <a:lnTo>
                  <a:pt x="5251" y="7101"/>
                </a:lnTo>
                <a:close/>
              </a:path>
              <a:path w="21600" h="21600">
                <a:moveTo>
                  <a:pt x="9396" y="11160"/>
                </a:moveTo>
                <a:lnTo>
                  <a:pt x="9396" y="7772"/>
                </a:lnTo>
                <a:lnTo>
                  <a:pt x="11820" y="7772"/>
                </a:lnTo>
                <a:lnTo>
                  <a:pt x="11820" y="11160"/>
                </a:lnTo>
                <a:lnTo>
                  <a:pt x="9396" y="1116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5651640" y="1197000"/>
            <a:ext cx="834840" cy="7192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2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542880" y="2708280"/>
            <a:ext cx="15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лё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5520960" y="3357720"/>
            <a:ext cx="34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видимое глаз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>
            <a:hlinkClick r:id="rId1" action="ppaction://hlinksldjump"/>
          </p:cNvPr>
          <p:cNvSpPr/>
          <p:nvPr/>
        </p:nvSpPr>
        <p:spPr>
          <a:xfrm>
            <a:off x="4716360" y="414972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1426320" y="476280"/>
            <a:ext cx="59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«Царства живой природ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ая со стрелкой 12" descr=""/>
          <p:cNvPicPr/>
          <p:nvPr/>
        </p:nvPicPr>
        <p:blipFill>
          <a:blip r:embed="rId2"/>
          <a:stretch/>
        </p:blipFill>
        <p:spPr>
          <a:xfrm>
            <a:off x="1322280" y="1530360"/>
            <a:ext cx="1255680" cy="10368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ая со стрелкой 14" descr=""/>
          <p:cNvPicPr/>
          <p:nvPr/>
        </p:nvPicPr>
        <p:blipFill>
          <a:blip r:embed="rId3"/>
          <a:stretch/>
        </p:blipFill>
        <p:spPr>
          <a:xfrm>
            <a:off x="2620800" y="1743120"/>
            <a:ext cx="897120" cy="29876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ая со стрелкой 16" descr=""/>
          <p:cNvPicPr/>
          <p:nvPr/>
        </p:nvPicPr>
        <p:blipFill>
          <a:blip r:embed="rId4"/>
          <a:stretch/>
        </p:blipFill>
        <p:spPr>
          <a:xfrm>
            <a:off x="4035600" y="1603440"/>
            <a:ext cx="682560" cy="290808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ая со стрелкой 17" descr=""/>
          <p:cNvPicPr/>
          <p:nvPr/>
        </p:nvPicPr>
        <p:blipFill>
          <a:blip r:embed="rId5"/>
          <a:stretch/>
        </p:blipFill>
        <p:spPr>
          <a:xfrm>
            <a:off x="5048280" y="1670040"/>
            <a:ext cx="1249200" cy="1463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20"/>
          <p:cNvSpPr/>
          <p:nvPr/>
        </p:nvSpPr>
        <p:spPr>
          <a:xfrm>
            <a:off x="5720040" y="4221000"/>
            <a:ext cx="17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бак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259200" y="35002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3"/>
          <p:cNvSpPr/>
          <p:nvPr/>
        </p:nvSpPr>
        <p:spPr>
          <a:xfrm>
            <a:off x="1337400" y="5445000"/>
            <a:ext cx="19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4"/>
          <p:cNvSpPr/>
          <p:nvPr/>
        </p:nvSpPr>
        <p:spPr>
          <a:xfrm>
            <a:off x="539640" y="4653000"/>
            <a:ext cx="34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зкое к челове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5"/>
          <p:cNvSpPr/>
          <p:nvPr/>
        </p:nvSpPr>
        <p:spPr>
          <a:xfrm>
            <a:off x="4284720" y="5373720"/>
            <a:ext cx="183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2916360" y="836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«Гриб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269800" y="4653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341440" y="5229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8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55640" y="981000"/>
            <a:ext cx="15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788000" y="2565360"/>
            <a:ext cx="41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 ещё встречаю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932360" y="4005360"/>
            <a:ext cx="32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особен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003640" y="501336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бывают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2" descr="Fungi collage.jpg"/>
          <p:cNvPicPr/>
          <p:nvPr/>
        </p:nvPicPr>
        <p:blipFill>
          <a:blip r:embed="rId2"/>
          <a:stretch/>
        </p:blipFill>
        <p:spPr>
          <a:xfrm>
            <a:off x="250920" y="2421000"/>
            <a:ext cx="39574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0"/>
          <p:cNvSpPr/>
          <p:nvPr/>
        </p:nvSpPr>
        <p:spPr>
          <a:xfrm>
            <a:off x="468360" y="54936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итай У.с.2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ди с товарищем и  скажи, где ещё встречаются гриб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179280" y="242100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ибы встречаются  в пище, на растениях, в лесу, на камн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рожжи,       чайный гриб,       плесень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1" descr="200px-Dry_yeast"/>
          <p:cNvPicPr/>
          <p:nvPr/>
        </p:nvPicPr>
        <p:blipFill>
          <a:blip r:embed="rId1"/>
          <a:stretch/>
        </p:blipFill>
        <p:spPr>
          <a:xfrm>
            <a:off x="684360" y="4221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220px-Mouldonliquidsurface"/>
          <p:cNvPicPr/>
          <p:nvPr/>
        </p:nvPicPr>
        <p:blipFill>
          <a:blip r:embed="rId2"/>
          <a:stretch/>
        </p:blipFill>
        <p:spPr>
          <a:xfrm>
            <a:off x="6443640" y="422100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220px-Kombucha_jar"/>
          <p:cNvPicPr/>
          <p:nvPr/>
        </p:nvPicPr>
        <p:blipFill>
          <a:blip r:embed="rId3"/>
          <a:stretch/>
        </p:blipFill>
        <p:spPr>
          <a:xfrm>
            <a:off x="3492360" y="4149720"/>
            <a:ext cx="209556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68360" y="62064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текст  У.с.23,   рубрика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ди с товарищем и  скажи,  чем особенны гриб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900000" y="2637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971640" y="1916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611280" y="2637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50920" y="335772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б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ни растения, ни животны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95280" y="436572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900000" y="3429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9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042920" y="69228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900000" y="476280"/>
            <a:ext cx="705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текст   Рассмотри схему  У.с.2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ди с товарищем и ответь,  какой он гриб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84360" y="31417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042920" y="357336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Гриб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ют шляпку, тело и грибницу.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042920" y="450864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187280" y="508464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 задание в Т.с.9 №  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042920" y="76500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Users\User\Desktop\Раскрась грибы.jpg"/>
          <p:cNvPicPr/>
          <p:nvPr/>
        </p:nvPicPr>
        <p:blipFill>
          <a:blip r:embed="rId1"/>
          <a:stretch/>
        </p:blipFill>
        <p:spPr>
          <a:xfrm>
            <a:off x="2627280" y="1844640"/>
            <a:ext cx="3533760" cy="374508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126160" y="220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6230880" y="306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212616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189360" y="580536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иб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348000" y="5805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ляп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6442920" y="5877000"/>
            <a:ext cx="11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2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6 0.02035 L -0.33472 -0.54602 E">
                                      <p:cBhvr>
                                        <p:cTn id="9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-0.05319 L 0.02309 -0.42021 E">
                                      <p:cBhvr>
                                        <p:cTn id="9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5296 L -0.00382 -0.26295 E">
                                      <p:cBhvr>
                                        <p:cTn id="10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539640" y="299736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текст У.с.26-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ди с товарищем и скажи, для чего нужны ядовитые гриб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71640" y="620640"/>
            <a:ext cx="70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Шляпочные гри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ъедобные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дови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042920" y="522936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00000" y="4869000"/>
            <a:ext cx="70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довитые грибы – лекарства для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бирай только знакомые грибы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2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250920" y="1569960"/>
            <a:ext cx="727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речаются во многих места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Ни растения и ни живот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Бывают съедобные и ядовит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7743960" y="1628640"/>
            <a:ext cx="44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2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2:16:36Z</dcterms:created>
  <dc:creator>User</dc:creator>
  <dc:description/>
  <dc:language>en-US</dc:language>
  <cp:lastModifiedBy>User</cp:lastModifiedBy>
  <dcterms:modified xsi:type="dcterms:W3CDTF">2013-02-28T12:09:14Z</dcterms:modified>
  <cp:revision>55</cp:revision>
  <dc:subject/>
  <dc:title>Слайд 1</dc:title>
</cp:coreProperties>
</file>