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124-7F7B-4F8C-8794-CAB90802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D8D-208E-439F-846E-B5FBB133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A1C-5892-4B11-BC5E-DF1ACF5B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712-FE10-4E9C-9AF4-10B8B90E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B82-5E92-4A3C-86BE-B612DF6C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762-0B3D-4A82-ACA6-2FD18981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CAC-302F-4655-BB32-8E07A8C8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815-8669-483D-9953-3816BFB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711-9D73-4D25-A878-964EEB44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777-AEA9-4A08-A106-AD80F47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901-C52F-4FFF-8770-78AD3A2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878-5A5E-4FF1-9C80-ADA5EBE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5877-774C-40B9-A7E3-584E71514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VEExport.0001.mpg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62064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К «Начальная школа 21 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2637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971640" y="1916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11280" y="263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24000" y="479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«Гриб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95280" y="4365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00000" y="342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9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900000" y="1413000"/>
            <a:ext cx="73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 слова к вопро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5013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?                                    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00000" y="35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елают?                             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50920" y="404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Царства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155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знал, что  грибы – ни растения и ни живот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  Узнал, что  у многих  грибов есть шляпка, ножка, грибн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знал, что  грибы бывают съедобные и ядовит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.  Многое знал и лишь уточнил свои зн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7">
            <a:hlinkClick r:id="" action="ppaction://hlinkshowjump?jump=endshow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8532720" y="3573360"/>
            <a:ext cx="358920" cy="327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"/>
          <p:cNvSpPr/>
          <p:nvPr/>
        </p:nvSpPr>
        <p:spPr>
          <a:xfrm>
            <a:off x="8532720" y="5084640"/>
            <a:ext cx="358920" cy="328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274680"/>
            <a:ext cx="85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л   сам и в группе, доволен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л   сам и  соглашался с работой группы,   доволен с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ался работать сам и в паре, но не всё получилось.  Не совсем доволен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ти не работал, недоволен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20" y="2462040"/>
            <a:ext cx="29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3923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2740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8532720" y="2133720"/>
            <a:ext cx="3589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8532720" y="907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835280" y="6922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 У.с. 24 – 2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 задание               У.с 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   Т.с.8 №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116000" y="5229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с   ждёт  другое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omepage"/>
          <p:cNvSpPr/>
          <p:nvPr/>
        </p:nvSpPr>
        <p:spPr>
          <a:xfrm>
            <a:off x="250920" y="333360"/>
            <a:ext cx="1361880" cy="1876320"/>
          </a:xfrm>
          <a:custGeom>
            <a:avLst/>
            <a:gdLst>
              <a:gd name="textAreaLeft" fmla="*/ 63000 w 1361880"/>
              <a:gd name="textAreaRight" fmla="*/ 1312560 w 1361880"/>
              <a:gd name="textAreaTop" fmla="*/ 1057680 h 1876320"/>
              <a:gd name="textAreaBottom" fmla="*/ 1489680 h 18763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83484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542880" y="270828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520960" y="335772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идимое глаз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>
            <a:hlinkClick r:id="rId1" action="ppaction://hlinksldjump"/>
          </p:cNvPr>
          <p:cNvSpPr/>
          <p:nvPr/>
        </p:nvSpPr>
        <p:spPr>
          <a:xfrm>
            <a:off x="4716360" y="41497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426320" y="476280"/>
            <a:ext cx="59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Царства живой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1322280" y="1530360"/>
            <a:ext cx="125568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2620800" y="1743120"/>
            <a:ext cx="897120" cy="29876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4035600" y="1603440"/>
            <a:ext cx="682560" cy="29080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17" descr=""/>
          <p:cNvPicPr/>
          <p:nvPr/>
        </p:nvPicPr>
        <p:blipFill>
          <a:blip r:embed="rId5"/>
          <a:stretch/>
        </p:blipFill>
        <p:spPr>
          <a:xfrm>
            <a:off x="5048280" y="1670040"/>
            <a:ext cx="1249200" cy="1463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0"/>
          <p:cNvSpPr/>
          <p:nvPr/>
        </p:nvSpPr>
        <p:spPr>
          <a:xfrm>
            <a:off x="5720040" y="4221000"/>
            <a:ext cx="17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ак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59200" y="35002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1337400" y="5445000"/>
            <a:ext cx="19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539640" y="4653000"/>
            <a:ext cx="34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к челове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4284720" y="5373720"/>
            <a:ext cx="183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916360" y="836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«Гриб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269800" y="465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341440" y="522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981000"/>
            <a:ext cx="15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788000" y="256536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 ещё встреч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400536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собен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003640" y="5013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Fungi collage.jpg"/>
          <p:cNvPicPr/>
          <p:nvPr/>
        </p:nvPicPr>
        <p:blipFill>
          <a:blip r:embed="rId2"/>
          <a:stretch/>
        </p:blipFill>
        <p:spPr>
          <a:xfrm>
            <a:off x="250920" y="2421000"/>
            <a:ext cx="39574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"/>
          <p:cNvSpPr/>
          <p:nvPr/>
        </p:nvSpPr>
        <p:spPr>
          <a:xfrm>
            <a:off x="468360" y="549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итай У.с.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 скажи, где ещё встречаются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179280" y="2421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ы встречаются  в пище, на растениях, в лесу, на камн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рожжи,       чайный гриб,       плесен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1" descr="200px-Dry_yeast"/>
          <p:cNvPicPr/>
          <p:nvPr/>
        </p:nvPicPr>
        <p:blipFill>
          <a:blip r:embed="rId1"/>
          <a:stretch/>
        </p:blipFill>
        <p:spPr>
          <a:xfrm>
            <a:off x="684360" y="422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220px-Mouldonliquidsurface"/>
          <p:cNvPicPr/>
          <p:nvPr/>
        </p:nvPicPr>
        <p:blipFill>
          <a:blip r:embed="rId2"/>
          <a:stretch/>
        </p:blipFill>
        <p:spPr>
          <a:xfrm>
            <a:off x="6443640" y="42210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220px-Kombucha_jar"/>
          <p:cNvPicPr/>
          <p:nvPr/>
        </p:nvPicPr>
        <p:blipFill>
          <a:blip r:embed="rId3"/>
          <a:stretch/>
        </p:blipFill>
        <p:spPr>
          <a:xfrm>
            <a:off x="3492360" y="4149720"/>
            <a:ext cx="209556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8360" y="620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 У.с.23,   рубрика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 скажи,  чем особенны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00000" y="2637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971640" y="1916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11280" y="263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50920" y="3357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б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ни растения, ни животны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95280" y="4365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900000" y="342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9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042920" y="69228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00000" y="476280"/>
            <a:ext cx="70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  Рассмотри схему  У.с.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ответь,  какой он гри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4360" y="31417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042920" y="3573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Гриб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шляпку, тело и грибницу.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042920" y="4508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87280" y="5084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 задание в Т.с.9 № 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42920" y="76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User\Desktop\Раскрась грибы.jpg"/>
          <p:cNvPicPr/>
          <p:nvPr/>
        </p:nvPicPr>
        <p:blipFill>
          <a:blip r:embed="rId1"/>
          <a:stretch/>
        </p:blipFill>
        <p:spPr>
          <a:xfrm>
            <a:off x="2627280" y="1844640"/>
            <a:ext cx="3533760" cy="3745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12616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623088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12616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89360" y="580536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348000" y="5805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6442920" y="587700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0.02035 L -0.33472 -0.54602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-0.05319 L 0.02309 -0.42021 E">
                                      <p:cBhvr>
                                        <p:cTn id="9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5296 L -0.00382 -0.26295 E">
                                      <p:cBhvr>
                                        <p:cTn id="10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39640" y="2997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У.с.26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скажи, для чего нужны ядовитые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71640" y="620640"/>
            <a:ext cx="70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Шляпочные 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ъедобные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дови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42920" y="52293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00000" y="486900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довитые грибы – лекарства для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ирай только знакомые грибы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50920" y="156996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речаются во многих мест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и растения и ни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ывают съедобные и ядовит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7743960" y="1628640"/>
            <a:ext cx="44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2:16:36Z</dcterms:created>
  <dc:creator>User</dc:creator>
  <dc:description/>
  <dc:language>en-US</dc:language>
  <cp:lastModifiedBy>User</cp:lastModifiedBy>
  <dcterms:modified xsi:type="dcterms:W3CDTF">2013-02-28T12:09:14Z</dcterms:modified>
  <cp:revision>55</cp:revision>
  <dc:subject/>
  <dc:title>Слайд 1</dc:title>
</cp:coreProperties>
</file>