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62F-A1DA-4CE5-B1DB-F34EDCEDD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81f02"/>
                </a:solidFill>
                <a:latin typeface="Calibri"/>
              </a:rPr>
              <a:t>Наглядные</a:t>
            </a:r>
            <a:r>
              <a:rPr b="1" lang="ru-RU" sz="1400" spc="-1" strike="noStrike">
                <a:solidFill>
                  <a:srgbClr val="881f02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-</a:t>
            </a:r>
            <a:r>
              <a:rPr b="0" lang="ru-RU" sz="1200" spc="-1" strike="noStrike">
                <a:solidFill>
                  <a:srgbClr val="881f0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организация 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- демонстрация иллюстраций, картин, предмета, маке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просмотр видеофиль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81f02"/>
                </a:solidFill>
                <a:latin typeface="Calibri"/>
              </a:rPr>
              <a:t>Иг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дидактические игры-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театрализован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сюжетно-рол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и др. виды игр с речевым содерж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81f02"/>
                </a:solidFill>
                <a:latin typeface="Calibri"/>
              </a:rPr>
              <a:t>Словес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- речевой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пов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81f02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с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ис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реп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881f02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1f02"/>
                </a:solidFill>
                <a:latin typeface="Monotype Corsiva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 сопровождаются словом, а в словесных используются наглядные приемы. Практические методы также связаны и со словом, и с наглядным материалом. Причисление одних методов и приемов к наглядным, других к словесным или практическим зависит от преобладания наглядности, слова или действий как источника и основы высказы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глядные методы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в детском саду ча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есные методы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ом саду применяются реже: это чтение и рассказывание художественных произведений, заучивание наизусть, пересказ, обобщающая беседа, рас­сказывание без опоры на наглядный материал. Во всех словесных методах используются наглядные приемы: показ предметов, игрушек, картин, рассматривание иллюстраций,поскольку возрастные особенности маленьких детей и природа самого слова требуют нагля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ие методы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ы на применение речевых навыков и умений и их совершенствование. К практическим методам относятся различные дидактические игры, игры-драматизации, инсценировки, дидактические упражнения, пластические этюды, хороводные игры. Они используются для решения всех речев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ие приемы развития речи традиционно делятся на три основные группы: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, наглядные и игро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есные приемы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им относятся речевой образец, повторное проговаривание, объяснение, указания, оценка детской речи, во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чевой образ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равильная, предварительно продуманная речевая деятельность педагога, предназначенная для подражания детьми и их ориент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глядные приемы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каз иллюстративного материала, показ положения органов артикуляции при обучении правильному звукопроизнош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ые приемы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ловесными и наглядными. Они возбуждают у ребенка интерес к деятельности, обогащают мотивы речи, создают положительный эмоциональный фон процесса обучения и тем самым повышают речевую активность детей и результативность занятий. Игровые приемы отвечают возрастным особенностям детей и поэтому занимают важное место на занятиях по родному языку в детском са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9BD-86B3-426F-B6C6-A541BDC6F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. Д. Ушинский пис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немотехн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 переводе с греческого - «искусство запоминания». Это система методов и приемов, обеспечивающих успешное запоминание, сохранение и воспроизведение информации, знаний об особенностях объектов природы, об окружающем мире, эффективное запоминание структуры рассказа, и, конечно, 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AAD-53DC-41A9-8B3E-1A060A7B3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Использование метода мнемотехники позволяет значительно повысить уровень развития речи у детей и одновременно решает задачи, направленные на развитие основных психических процессов, а это в свою очередь позволяет в достаточной степени подготовить детей к обучению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2B1-53DD-46A5-A318-7D0CE475F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ADB-8483-4E3E-9BB9-C59AC5CE4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D805-45B7-4BE3-8C3A-43BE544E6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немотехникой можно начинать заниматься с раннего возра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рациональнее вводить ее в занятия с 4-5 л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гда у них накоплен основной словарный зап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  работа  с   простейших 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немоквадра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немотехникой можно начинать заниматься с раннего возра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рациональнее вводить ее в занятия с 4-5 л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гда у них накоплен основной словарный зап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  работа  с   простейших 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немоквадра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зже - к   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немотаблиц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5828-9215-47B3-9BFC-8DE4F1F06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9EE-217E-468C-879F-7D9C85DE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0B4-3C30-4228-8F8B-61525F6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697-88C3-4CA5-95F3-FECD876F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45C-22FF-4DC5-B012-A39BF270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E59-7557-4546-9126-6C3E4D12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5C2-02A8-4FD9-9034-198ED3E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A37-9A6F-4ECF-9EE8-B3C9B35B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0D5-5C47-4CDD-9BAD-3E6C3448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779-BC4F-46B5-806C-D61F06FE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784-7112-42B4-A7D7-A4BCBDF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A7F-BF13-4C7A-B05A-E5451AB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D1C-EE0A-4378-9791-17A30EE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F84-196E-45C5-85BA-D4ABCB7916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187280" y="54000"/>
            <a:ext cx="66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автономное образовательное учреждение среднего профессионально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урский педагогиче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859280" y="4549680"/>
            <a:ext cx="459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ая Виктория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50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уппа 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68360" y="1989000"/>
            <a:ext cx="835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емотехника - один из эффективных методов и прием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чевом развитии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Группа 7" descr=""/>
          <p:cNvPicPr/>
          <p:nvPr/>
        </p:nvPicPr>
        <p:blipFill>
          <a:blip r:embed="rId1"/>
          <a:stretch/>
        </p:blipFill>
        <p:spPr>
          <a:xfrm>
            <a:off x="768240" y="5894280"/>
            <a:ext cx="8064720" cy="54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 развития речи у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5" descr=""/>
          <p:cNvPicPr/>
          <p:nvPr/>
        </p:nvPicPr>
        <p:blipFill>
          <a:blip r:embed="rId2"/>
          <a:stretch/>
        </p:blipFill>
        <p:spPr>
          <a:xfrm>
            <a:off x="517680" y="1401840"/>
            <a:ext cx="8291520" cy="4505400"/>
          </a:xfrm>
          <a:prstGeom prst="rect">
            <a:avLst/>
          </a:prstGeom>
          <a:ln w="0">
            <a:noFill/>
          </a:ln>
        </p:spPr>
      </p:pic>
      <p:sp>
        <p:nvSpPr>
          <p:cNvPr id="54" name="Овал 10"/>
          <p:cNvSpPr/>
          <p:nvPr/>
        </p:nvSpPr>
        <p:spPr>
          <a:xfrm>
            <a:off x="279360" y="5732640"/>
            <a:ext cx="544680" cy="528480"/>
          </a:xfrm>
          <a:prstGeom prst="ellipse">
            <a:avLst/>
          </a:prstGeom>
          <a:gradFill rotWithShape="0">
            <a:gsLst>
              <a:gs pos="0">
                <a:srgbClr val="cdcdcd"/>
              </a:gs>
              <a:gs pos="100000">
                <a:srgbClr val="f1f1f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2" descr=""/>
          <p:cNvPicPr/>
          <p:nvPr/>
        </p:nvPicPr>
        <p:blipFill>
          <a:blip r:embed="rId3"/>
          <a:stretch/>
        </p:blipFill>
        <p:spPr>
          <a:xfrm>
            <a:off x="219240" y="5681520"/>
            <a:ext cx="664920" cy="633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5" descr=""/>
          <p:cNvPicPr/>
          <p:nvPr/>
        </p:nvPicPr>
        <p:blipFill>
          <a:blip r:embed="rId1"/>
          <a:stretch/>
        </p:blipFill>
        <p:spPr>
          <a:xfrm>
            <a:off x="0" y="3357720"/>
            <a:ext cx="4773600" cy="3157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2"/>
          <a:stretch/>
        </p:blipFill>
        <p:spPr>
          <a:xfrm>
            <a:off x="4805280" y="0"/>
            <a:ext cx="433872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3"/>
          <a:stretch/>
        </p:blipFill>
        <p:spPr>
          <a:xfrm>
            <a:off x="4773600" y="3357720"/>
            <a:ext cx="4351320" cy="3157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"/>
          <p:cNvPicPr/>
          <p:nvPr/>
        </p:nvPicPr>
        <p:blipFill>
          <a:blip r:embed="rId4"/>
          <a:stretch/>
        </p:blipFill>
        <p:spPr>
          <a:xfrm>
            <a:off x="0" y="0"/>
            <a:ext cx="4805280" cy="3371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0840" y="188640"/>
            <a:ext cx="87487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новные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пособствовать формированию связной речи у  детей дошкольного возраста, как способа формирования социальных навыков и привычек, необходимых для взаимодействия с окружающими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формировать навыки в применении простейших форм символизации, условного обозначения объектов при выполнении заданий на составление описательных рассказов, загадок о том или ином объекте, явл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развивать умения детей с помощью заместителей выделять самые главные события, последовательность из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развивать умения детей точно, последовательно, связно и грамматически правильно пересказывать рассказы, сказки, опираясь на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1249200" y="1547640"/>
            <a:ext cx="7834320" cy="4853160"/>
          </a:xfrm>
          <a:prstGeom prst="rect">
            <a:avLst/>
          </a:prstGeom>
          <a:ln w="0">
            <a:noFill/>
          </a:ln>
        </p:spPr>
      </p:pic>
      <p:grpSp>
        <p:nvGrpSpPr>
          <p:cNvPr id="62" name="Прямоугольник 8"/>
          <p:cNvGrpSpPr/>
          <p:nvPr/>
        </p:nvGrpSpPr>
        <p:grpSpPr>
          <a:xfrm>
            <a:off x="811080" y="249120"/>
            <a:ext cx="7570800" cy="1116000"/>
            <a:chOff x="811080" y="249120"/>
            <a:chExt cx="7570800" cy="1116000"/>
          </a:xfrm>
        </p:grpSpPr>
        <p:pic>
          <p:nvPicPr>
            <p:cNvPr id="6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1080" y="249120"/>
              <a:ext cx="7570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26920" y="271440"/>
              <a:ext cx="7540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112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емы служат своеобразным зрительным планом для создания монологов, помогают детям выстраивать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Рисунок 1" descr=""/>
          <p:cNvPicPr/>
          <p:nvPr/>
        </p:nvPicPr>
        <p:blipFill>
          <a:blip r:embed="rId3"/>
          <a:stretch/>
        </p:blipFill>
        <p:spPr>
          <a:xfrm>
            <a:off x="1182600" y="1841400"/>
            <a:ext cx="1451160" cy="1395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4"/>
          <a:stretch/>
        </p:blipFill>
        <p:spPr>
          <a:xfrm>
            <a:off x="1182600" y="1908000"/>
            <a:ext cx="1451160" cy="140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стейшие символы в мнемотех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2500200" y="1785960"/>
            <a:ext cx="145440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4357800" y="1785960"/>
            <a:ext cx="1674720" cy="21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картинки\Детсад\Новая папка\chiromancy.jpg"/>
          <p:cNvPicPr/>
          <p:nvPr/>
        </p:nvPicPr>
        <p:blipFill>
          <a:blip r:embed="rId4"/>
          <a:stretch/>
        </p:blipFill>
        <p:spPr>
          <a:xfrm>
            <a:off x="6516720" y="182880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картинки\Детсад\Новая папка\091a84a733ed2f05c97bdb518796828d.jpeg"/>
          <p:cNvPicPr/>
          <p:nvPr/>
        </p:nvPicPr>
        <p:blipFill>
          <a:blip r:embed="rId5"/>
          <a:stretch/>
        </p:blipFill>
        <p:spPr>
          <a:xfrm>
            <a:off x="7126200" y="4468680"/>
            <a:ext cx="1714680" cy="128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:\картинки\Детсад\Новая папка\ухо.jpeg"/>
          <p:cNvPicPr/>
          <p:nvPr/>
        </p:nvPicPr>
        <p:blipFill>
          <a:blip r:embed="rId6"/>
          <a:stretch/>
        </p:blipFill>
        <p:spPr>
          <a:xfrm>
            <a:off x="2990880" y="4614840"/>
            <a:ext cx="963720" cy="121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:\картинки\Детсад\Новая папка\96203.jpg"/>
          <p:cNvPicPr/>
          <p:nvPr/>
        </p:nvPicPr>
        <p:blipFill>
          <a:blip r:embed="rId7"/>
          <a:stretch/>
        </p:blipFill>
        <p:spPr>
          <a:xfrm>
            <a:off x="668160" y="4792680"/>
            <a:ext cx="1360800" cy="906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речь\мнемотехника\схемы\для схем\2-3.jpg"/>
          <p:cNvPicPr/>
          <p:nvPr/>
        </p:nvPicPr>
        <p:blipFill>
          <a:blip r:embed="rId8"/>
          <a:stretch/>
        </p:blipFill>
        <p:spPr>
          <a:xfrm>
            <a:off x="4538520" y="4468680"/>
            <a:ext cx="20242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6624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по использованию мнемотаб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280" y="1988640"/>
            <a:ext cx="86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таблицы и разбор того, что на ней изображ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ерекодирование информации, т.е. преобразование из абстрактных символов в об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ерекодирования осуществляется пересказ сказки или рассказ по задан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ладших группах с помощью воспитателя, в старших – дети должны уметь самостоятельно (более подробно описано у Назаровой И. И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DSC00441"/>
          <p:cNvPicPr/>
          <p:nvPr/>
        </p:nvPicPr>
        <p:blipFill>
          <a:blip r:embed="rId1"/>
          <a:stretch/>
        </p:blipFill>
        <p:spPr>
          <a:xfrm>
            <a:off x="6991200" y="4694400"/>
            <a:ext cx="2159280" cy="192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00_1545"/>
          <p:cNvPicPr/>
          <p:nvPr/>
        </p:nvPicPr>
        <p:blipFill>
          <a:blip r:embed="rId2"/>
          <a:stretch/>
        </p:blipFill>
        <p:spPr>
          <a:xfrm>
            <a:off x="-19080" y="4694400"/>
            <a:ext cx="23544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7600" y="4248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юбая работа, мнемотехника строится от простого к сложно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-55440" y="1695600"/>
            <a:ext cx="2152440" cy="231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mg1"/>
          <p:cNvPicPr/>
          <p:nvPr/>
        </p:nvPicPr>
        <p:blipFill>
          <a:blip r:embed="rId2"/>
          <a:stretch/>
        </p:blipFill>
        <p:spPr>
          <a:xfrm>
            <a:off x="2084400" y="1695600"/>
            <a:ext cx="2133720" cy="231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4522680" y="1695600"/>
            <a:ext cx="2311560" cy="2315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mg2"/>
          <p:cNvPicPr/>
          <p:nvPr/>
        </p:nvPicPr>
        <p:blipFill>
          <a:blip r:embed="rId4"/>
          <a:stretch/>
        </p:blipFill>
        <p:spPr>
          <a:xfrm>
            <a:off x="77760" y="4489560"/>
            <a:ext cx="6031080" cy="2023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591280" y="1308240"/>
            <a:ext cx="2225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квад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094480" y="41878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доро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mg3"/>
          <p:cNvPicPr/>
          <p:nvPr/>
        </p:nvPicPr>
        <p:blipFill>
          <a:blip r:embed="rId5"/>
          <a:stretch/>
        </p:blipFill>
        <p:spPr>
          <a:xfrm>
            <a:off x="6083280" y="4478400"/>
            <a:ext cx="3060720" cy="2006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6756480" y="4172040"/>
            <a:ext cx="2125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ё</cp:lastModifiedBy>
  <dcterms:modified xsi:type="dcterms:W3CDTF">2015-10-20T11:21:56Z</dcterms:modified>
  <cp:revision>753</cp:revision>
  <dc:subject/>
  <dc:title>Diapositiva 1</dc:title>
</cp:coreProperties>
</file>